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BED-15D1-4821-AD45-C73A24A3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47C-2E14-45F1-90D4-B139195B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D5D-F4AF-47A6-83B2-899C4EC5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BB1-444A-40D7-8661-3599A736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6C4-238A-47CD-A455-20679903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F13-D02E-4576-A404-35CAE88F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387-872A-418A-90F6-2A0A3BE0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786-EB7B-428E-82F0-E7982391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365-15A0-4D1A-A701-789770E9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BB4-DF86-4677-8FC8-3CC2B9C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BD1-9EA2-4B85-8251-2BF2AACA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D87-3D48-4CB3-8178-FCECF643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0784-9C85-46C7-840C-A2C88F2CBD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222000" y="1357200"/>
            <a:ext cx="4546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222000" y="2428920"/>
            <a:ext cx="454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3997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855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283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497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428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5690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997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712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5718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497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355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712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426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06900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0-30T09:46:43Z</dcterms:modified>
  <cp:revision>41</cp:revision>
  <dc:subject/>
  <dc:title>幻灯片 1</dc:title>
</cp:coreProperties>
</file>