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069F-4756-41D1-8E37-8C6B88CB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456-5A7D-438E-9B8E-6FB47846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F6E-E993-496D-93A1-2ECDD466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86E-0C75-4269-91EE-2C4D937E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0B8-8FE4-4724-9DC4-05C294C9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C8D-0838-4D82-9CFC-716FC955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D09-316B-45B6-BDD6-84794EEF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4369-F646-4898-A36B-0D879AC2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A17-F37C-484F-91DE-43348012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4F0E-F9A5-4991-9CDB-9CB8D1C9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1B2-72FA-41FE-852D-20CC9A9A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8E1-3079-4296-B03B-A942D5B9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4EB8-25BD-4EF0-AA39-6F7D6A0487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286280" y="1285920"/>
            <a:ext cx="1642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702440" y="437112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175120" y="135720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222000" y="1357200"/>
            <a:ext cx="4546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长素材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222000" y="2428920"/>
            <a:ext cx="4546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212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1783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1425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3997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6855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28364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2497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142884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35690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997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6712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571840" y="1785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497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3550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783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1783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6712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569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783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426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306900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42836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5855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28548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6569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1568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0-30T09:46:43Z</dcterms:modified>
  <cp:revision>41</cp:revision>
  <dc:subject/>
  <dc:title>幻灯片 1</dc:title>
</cp:coreProperties>
</file>