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7.png" ContentType="image/png"/>
  <Override PartName="/ppt/media/image30.jpeg" ContentType="image/jpe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9.png" ContentType="image/png"/>
  <Override PartName="/ppt/media/image112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137.png" ContentType="image/png"/>
  <Override PartName="/ppt/media/image132.png" ContentType="image/png"/>
  <Override PartName="/ppt/media/image46.png" ContentType="image/png"/>
  <Override PartName="/ppt/media/image50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143.png" ContentType="image/png"/>
  <Override PartName="/ppt/media/image51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42.png" ContentType="image/png"/>
  <Override PartName="/ppt/media/image56.png" ContentType="image/png"/>
  <Override PartName="/ppt/media/image40.jpeg" ContentType="image/jpeg"/>
  <Override PartName="/ppt/media/image44.png" ContentType="image/png"/>
  <Override PartName="/ppt/media/image130.png" ContentType="image/png"/>
  <Override PartName="/ppt/media/image79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24.jpeg" ContentType="image/jpeg"/>
  <Override PartName="/ppt/media/image27.png" ContentType="image/png"/>
  <Override PartName="/ppt/media/image95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B12-2717-4C00-A0A6-AD58F4B6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175-0DF7-42CD-808F-BAAD150D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64129-9219-4911-9B1E-63EFFEA2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4AC6B-A906-49CC-BA62-F4EA252B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78D25-42C2-4AC8-B326-CA4BF6F9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2B9C3-A6FF-4287-B57B-BC585715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0A6D4-49EE-4322-8FED-9D5F3EC0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C76B6-485E-4D50-885D-04F4D2EA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87860-8258-4020-9877-23B148AE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6C253-CED1-479D-8950-2A119120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1F942-311F-4310-AC3F-FEAA4906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207C7-4549-49EA-820A-442F6B1D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9F1-D18B-4062-8DDB-79741BCF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C0A02-D7AF-47FE-9D65-76C3FD2C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8B4CB-F766-42BF-9586-05A2ADD3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B2D69-7F1D-44FE-AD24-768232F9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BCE7D-6BF9-4E99-9AF4-8733AC0D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5FD6B-4886-42A0-A7CC-1E664C8A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7056C-1B81-4218-AF0B-19BBF24B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79B30-9242-49F8-B3EA-086A125F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1D34A-5230-41E1-93D2-4B856603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49252-588E-46B1-A188-2D44D043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927F2-1C8E-4E98-BCAF-3598E5EE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DE5-017D-41D2-9A51-685ABE0B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6202A-DEB4-416E-BB82-4E8D7859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180D1-A871-496A-81BC-DBEE14ED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2C154-4B13-40D4-AD67-38FFE47E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AA821-741D-4CF8-B043-F2F448C5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4EBC0-5D87-4B84-8A87-F05549A7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A945B-B2BC-4341-8D41-25D4872E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D6333-F67E-42F9-A1FC-B581E11E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5896A-1BEC-472C-B94E-04470257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FB6E4-90A7-4EC5-8B42-C5E88919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52A4E-5719-4C66-9CFE-9BC6DC46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6CDC-ABD7-47E4-8B4F-FDE3D65B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B9DBA-6CCE-4CAD-897B-46AB6E27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8D8CB-915D-4AE7-B1A9-640A11D9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13406-4215-4395-91F4-11064B1E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E6FB5-7AEC-4001-89C8-AADE9FCA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E91CD-46E4-4FBB-958E-9F1EC4E0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13FD6-DCBB-435E-AD84-66D9C562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EF77A-DFF7-4C22-ADCD-B9C2D0D8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7CCF6-2B0F-4F53-962C-A48EF963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48D56-4A3A-4CB7-810F-22772B9C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2E929-9DB2-4319-BD92-40DB5775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7ED6-72AA-4260-8AFB-1169F8B7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97334-DE1F-45D2-A90B-C970BDC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A89F5-998B-415A-9450-F8A76CF1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A85C7-5F61-4BA4-A22A-D496AD05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023F2-539A-41EE-8D4C-989ECB3A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F810B-42A8-490B-ADB1-FCDE7F00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D7612-016E-4DF8-9AB1-8D3179B4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B1633-C725-445D-BBAD-B5D379FA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23CBC-9CEC-4AE6-9757-69D09748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CF089-9D07-41EB-A19A-11E4C6E0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2CDB5-5CF5-4B3D-908E-446F0042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3F2F-DFD9-4074-9A3E-A9F904F9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BA64F-0C9C-419E-A632-02925334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E087C-3472-4B60-8D95-D043458E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6E793-55CE-4D61-8B3C-7FF92C0A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7AD2B-2FA9-4862-944F-87E9A492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D3696-568B-475C-B283-9D18C2E1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AB7DC-7312-4900-B200-2ABD1956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F6F42-AD21-4D56-9328-9D3B06E5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D240C-AABC-4D1E-8E08-49F71FF7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56F30-D495-4ACD-843E-D5A15E21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E7B08-E2C5-4C6C-9CA9-5C7DA828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A9CC-A3F7-4FC0-AB03-05D61C7C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9DDFC-9095-48DB-92BD-ACD81206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EF5FD-A04E-4116-AFA3-843C9A28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28B57-AFF0-4EB7-B19F-938FD8DD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E8BFE-4D74-47F0-B5A2-920BD4D8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FF135-7589-44B5-95A1-E5C2B092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2CB7F-78C2-481A-B0F7-14945468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3C1E8-F6D2-459E-80CE-91172EB2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D73B2-C7A2-4EF0-A8A7-1F3538F6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ED1CC-767E-46C2-8239-E19A6D84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535A-1F6D-4507-B48F-CB7A466B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C860-56EE-485D-B8CD-041D1DD9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BAAE-28ED-4287-A5C5-E399CF64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59C-6297-4B8D-A54C-DBC721D1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E643-DDF7-4335-9151-0AFA6D99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A2EC-C811-4344-83F2-F79B30B7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4001-8C1A-4D17-B387-3D5518A8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7A13-18EE-4208-ADEC-739A8262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F7A5-C11B-411E-89B8-23791742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868D6-3420-4729-BE39-E17993EF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135B-3C2E-48C0-AA18-7F9F08C3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F910-AC63-4305-BC88-226A0C53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2B7B3-B30A-41CE-8CF4-9B858558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DB2DC-136E-4A57-89DA-46CB9741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57E-B470-4426-AB39-27E6C2F8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84E80-BEC7-43E0-A44A-12DB312D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330F-0571-4D51-97E5-AA93C0D8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95D6-906C-4E9C-9C6B-A66E24CB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9493-2FC3-460B-AB67-353F5FEE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D98CF-A4F6-4062-9A85-B1E2D763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3848-0DFC-4552-AC46-B50FED8C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B7A0-A00F-429C-95C6-60FA07DD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6E721-9E30-4C31-989B-9947BB44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DCB91-A4C1-405B-B46F-90079735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7F46E-49AE-4B74-8180-0E10D861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A73-CE0E-4C60-A2DF-C9AB31E7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D4A0C-F954-4D45-BCE4-90E7A279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A207B-0585-4BC0-B2D5-CB7E982B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0AF64-3BA7-4127-A11A-F9EA69C7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A631F-6DD2-4193-83AF-6CFA8A71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A3BA-1824-4C7E-A2FC-E4D5E594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A1D3-1605-4CC6-B306-6AF106D8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D4580-A3E6-4FF1-908A-FB120E68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26205-3979-40FE-B096-1DA248C7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2AA5-93B2-420D-8E96-31C6E074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0C1F5-9A5D-4F97-9181-21D8DAA8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23B-3BD2-4DA4-A3C4-5962EB56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BBA2-F012-44F0-9614-8FF07517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754CD-C904-4417-B2B9-DCB50F01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06D2D-1F6C-43E8-81D2-19639DF0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ADBE7-6CF0-4377-9C5A-81E70424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376D7-E4B3-431D-9B2F-F642310C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94BD9-8804-4AEC-BD7E-F5776A9C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2AEF8-D42D-4986-9D9A-A138BCB0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2123E-1B49-433F-B907-84B509C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E1221-64B9-43F5-89FF-DB67917F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16E2C-CE5A-47CE-A2EE-104D975D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B48-3AE7-4A4B-B547-B9709CF0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A699A-CC0F-4C7C-BC04-8EDBD170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F3417-DC83-424F-827D-B75492E2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E5F57-DC09-46B1-A662-F952A44B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2C3A9-46EB-4B21-8B84-D99D1725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FD0F5-C247-401E-9AD4-781F1057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2D8DD-FC0B-43BC-83E5-27A53D1A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347EA-76A8-409C-B80C-2E8377E3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D5EF4-FBB9-43DB-9EF4-633ECE9E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8B893-19B5-44DF-844E-8F5D64F9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594D2-A5F3-4B93-A78B-3AC12154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1A0-FD11-459A-9C7C-4294AC6A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32EA0-6945-4D55-9930-027567DA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C1D5F-276D-4786-95D9-28BA4A98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586C8-2003-4B1C-A63F-2EAF3557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0880E-88AD-4FBF-A584-7D9AEAB4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45AC0-0C5D-4AAE-BC2C-330BC03D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B0EE-1911-4ED3-9E22-5D65365A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991EB-8531-4D1E-879C-C0144F7F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934A9-B9CD-4891-B0A9-944DA9EF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1D823-AA72-4473-83B8-970C6D50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EAC9A-79AA-4417-9FF7-FE4E0363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C0A-FF5F-49F5-AB35-B6E5C2ED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C66FE-891B-49DC-83C3-BACAB17C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8A996-360E-45F4-97C5-6D9DA189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5DB6C-AC06-41F3-A4C5-E7FB9BE3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CC9C1-5040-40C1-895C-BE198A2A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9A54-7355-435F-A9BE-BA627336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6102E-14BA-43A1-A932-BD25CB82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6C9C5-D86A-497C-8AF7-E5E50828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0D02F-4BA7-4387-B396-E640615B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12ECF-E9F6-4CE8-8D5F-0EB6E06F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7CEF2-4A37-4076-86B6-B817B5F3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E17-6D78-4596-BAAE-58FB6D5C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FB356-CFD9-4CB0-9C23-341333FB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065AD-0110-484C-80FF-77CC3CA0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AFEE1-335D-421D-A165-D78641D5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39052-7012-4F9F-B8B5-4242FF4F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B5801-AA1A-4EB1-81A5-C8361318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FC843-9F10-473D-AFBE-C1D1334D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797F3-7B80-46E0-94E6-9F36981D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38E15-6D06-4D95-9322-79EB57B3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3E483-1E64-433B-A803-4A49BC30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BE7A4-09CC-407F-8BE5-411190C3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6583-AEFB-429D-B5FA-DD62096B80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6ECE-9E95-4C0C-BFD6-7744273A6C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F7F2-B485-42A7-8BFB-A808E275FF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23CE-B6C5-4A23-A65F-21613E5D1E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B2E1-D259-45E9-B180-05CF02B3D8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7DF4-1FDB-4305-9989-6990DFB784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7DEF-0EEA-4A13-92CF-135A0CC5A1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06D5-90E3-4B6A-96F7-C5C291D745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7517-8EAE-4DAF-97A3-77D30D2599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EFEA-AC08-49E8-9D39-97EAD5D459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63C1-8C3E-45D5-A798-DFF7175AB1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8653-EF4C-4141-9BD1-8C997425C1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0A73-62A6-4B97-8FFB-7D69491407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9425-B136-468B-A7B6-D0D139C1AD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image" Target="../media/image58.png"/><Relationship Id="rId15" Type="http://schemas.openxmlformats.org/officeDocument/2006/relationships/image" Target="../media/image59.png"/><Relationship Id="rId16" Type="http://schemas.openxmlformats.org/officeDocument/2006/relationships/image" Target="../media/image60.png"/><Relationship Id="rId17" Type="http://schemas.openxmlformats.org/officeDocument/2006/relationships/image" Target="../media/image61.png"/><Relationship Id="rId18" Type="http://schemas.openxmlformats.org/officeDocument/2006/relationships/image" Target="../media/image62.png"/><Relationship Id="rId19" Type="http://schemas.openxmlformats.org/officeDocument/2006/relationships/image" Target="../media/image63.png"/><Relationship Id="rId20" Type="http://schemas.openxmlformats.org/officeDocument/2006/relationships/image" Target="../media/image64.png"/><Relationship Id="rId21" Type="http://schemas.openxmlformats.org/officeDocument/2006/relationships/image" Target="../media/image65.png"/><Relationship Id="rId22" Type="http://schemas.openxmlformats.org/officeDocument/2006/relationships/image" Target="../media/image66.png"/><Relationship Id="rId23" Type="http://schemas.openxmlformats.org/officeDocument/2006/relationships/image" Target="../media/image67.png"/><Relationship Id="rId24" Type="http://schemas.openxmlformats.org/officeDocument/2006/relationships/image" Target="../media/image68.png"/><Relationship Id="rId25" Type="http://schemas.openxmlformats.org/officeDocument/2006/relationships/image" Target="../media/image69.png"/><Relationship Id="rId26" Type="http://schemas.openxmlformats.org/officeDocument/2006/relationships/image" Target="../media/image70.png"/><Relationship Id="rId27" Type="http://schemas.openxmlformats.org/officeDocument/2006/relationships/image" Target="../media/image71.png"/><Relationship Id="rId28" Type="http://schemas.openxmlformats.org/officeDocument/2006/relationships/image" Target="../media/image72.png"/><Relationship Id="rId29" Type="http://schemas.openxmlformats.org/officeDocument/2006/relationships/image" Target="../media/image73.png"/><Relationship Id="rId30" Type="http://schemas.openxmlformats.org/officeDocument/2006/relationships/image" Target="../media/image74.png"/><Relationship Id="rId31" Type="http://schemas.openxmlformats.org/officeDocument/2006/relationships/image" Target="../media/image75.png"/><Relationship Id="rId32" Type="http://schemas.openxmlformats.org/officeDocument/2006/relationships/image" Target="../media/image76.png"/><Relationship Id="rId33" Type="http://schemas.openxmlformats.org/officeDocument/2006/relationships/image" Target="../media/image77.png"/><Relationship Id="rId34" Type="http://schemas.openxmlformats.org/officeDocument/2006/relationships/image" Target="../media/image78.png"/><Relationship Id="rId35" Type="http://schemas.openxmlformats.org/officeDocument/2006/relationships/image" Target="../media/image79.png"/><Relationship Id="rId36" Type="http://schemas.openxmlformats.org/officeDocument/2006/relationships/image" Target="../media/image80.png"/><Relationship Id="rId37" Type="http://schemas.openxmlformats.org/officeDocument/2006/relationships/image" Target="../media/image81.png"/><Relationship Id="rId38" Type="http://schemas.openxmlformats.org/officeDocument/2006/relationships/image" Target="../media/image82.png"/><Relationship Id="rId39" Type="http://schemas.openxmlformats.org/officeDocument/2006/relationships/image" Target="../media/image83.png"/><Relationship Id="rId40" Type="http://schemas.openxmlformats.org/officeDocument/2006/relationships/image" Target="../media/image84.png"/><Relationship Id="rId41" Type="http://schemas.openxmlformats.org/officeDocument/2006/relationships/image" Target="../media/image85.png"/><Relationship Id="rId42" Type="http://schemas.openxmlformats.org/officeDocument/2006/relationships/image" Target="../media/image86.png"/><Relationship Id="rId43" Type="http://schemas.openxmlformats.org/officeDocument/2006/relationships/image" Target="../media/image87.png"/><Relationship Id="rId44" Type="http://schemas.openxmlformats.org/officeDocument/2006/relationships/image" Target="../media/image88.png"/><Relationship Id="rId45" Type="http://schemas.openxmlformats.org/officeDocument/2006/relationships/image" Target="../media/image89.png"/><Relationship Id="rId46" Type="http://schemas.openxmlformats.org/officeDocument/2006/relationships/image" Target="../media/image90.png"/><Relationship Id="rId47" Type="http://schemas.openxmlformats.org/officeDocument/2006/relationships/image" Target="../media/image91.png"/><Relationship Id="rId48" Type="http://schemas.openxmlformats.org/officeDocument/2006/relationships/image" Target="../media/image92.png"/><Relationship Id="rId49" Type="http://schemas.openxmlformats.org/officeDocument/2006/relationships/image" Target="../media/image93.png"/><Relationship Id="rId50" Type="http://schemas.openxmlformats.org/officeDocument/2006/relationships/image" Target="../media/image94.png"/><Relationship Id="rId51" Type="http://schemas.openxmlformats.org/officeDocument/2006/relationships/image" Target="../media/image95.png"/><Relationship Id="rId52" Type="http://schemas.openxmlformats.org/officeDocument/2006/relationships/image" Target="../media/image96.png"/><Relationship Id="rId53" Type="http://schemas.openxmlformats.org/officeDocument/2006/relationships/image" Target="../media/image97.png"/><Relationship Id="rId54" Type="http://schemas.openxmlformats.org/officeDocument/2006/relationships/image" Target="../media/image98.png"/><Relationship Id="rId55" Type="http://schemas.openxmlformats.org/officeDocument/2006/relationships/image" Target="../media/image99.png"/><Relationship Id="rId56" Type="http://schemas.openxmlformats.org/officeDocument/2006/relationships/image" Target="../media/image100.png"/><Relationship Id="rId57" Type="http://schemas.openxmlformats.org/officeDocument/2006/relationships/image" Target="../media/image101.png"/><Relationship Id="rId58" Type="http://schemas.openxmlformats.org/officeDocument/2006/relationships/image" Target="../media/image102.png"/><Relationship Id="rId59" Type="http://schemas.openxmlformats.org/officeDocument/2006/relationships/image" Target="../media/image103.png"/><Relationship Id="rId60" Type="http://schemas.openxmlformats.org/officeDocument/2006/relationships/image" Target="../media/image104.png"/><Relationship Id="rId61" Type="http://schemas.openxmlformats.org/officeDocument/2006/relationships/image" Target="../media/image105.png"/><Relationship Id="rId62" Type="http://schemas.openxmlformats.org/officeDocument/2006/relationships/image" Target="../media/image106.png"/><Relationship Id="rId63" Type="http://schemas.openxmlformats.org/officeDocument/2006/relationships/image" Target="../media/image107.png"/><Relationship Id="rId64" Type="http://schemas.openxmlformats.org/officeDocument/2006/relationships/image" Target="../media/image108.png"/><Relationship Id="rId65" Type="http://schemas.openxmlformats.org/officeDocument/2006/relationships/image" Target="../media/image109.png"/><Relationship Id="rId66" Type="http://schemas.openxmlformats.org/officeDocument/2006/relationships/image" Target="../media/image110.png"/><Relationship Id="rId67" Type="http://schemas.openxmlformats.org/officeDocument/2006/relationships/image" Target="../media/image111.png"/><Relationship Id="rId68" Type="http://schemas.openxmlformats.org/officeDocument/2006/relationships/image" Target="../media/image112.png"/><Relationship Id="rId69" Type="http://schemas.openxmlformats.org/officeDocument/2006/relationships/image" Target="../media/image113.png"/><Relationship Id="rId70" Type="http://schemas.openxmlformats.org/officeDocument/2006/relationships/image" Target="../media/image114.png"/><Relationship Id="rId71" Type="http://schemas.openxmlformats.org/officeDocument/2006/relationships/image" Target="../media/image115.png"/><Relationship Id="rId72" Type="http://schemas.openxmlformats.org/officeDocument/2006/relationships/image" Target="../media/image116.png"/><Relationship Id="rId73" Type="http://schemas.openxmlformats.org/officeDocument/2006/relationships/image" Target="../media/image117.png"/><Relationship Id="rId74" Type="http://schemas.openxmlformats.org/officeDocument/2006/relationships/image" Target="../media/image118.png"/><Relationship Id="rId75" Type="http://schemas.openxmlformats.org/officeDocument/2006/relationships/image" Target="../media/image119.png"/><Relationship Id="rId76" Type="http://schemas.openxmlformats.org/officeDocument/2006/relationships/image" Target="../media/image120.png"/><Relationship Id="rId77" Type="http://schemas.openxmlformats.org/officeDocument/2006/relationships/image" Target="../media/image121.png"/><Relationship Id="rId78" Type="http://schemas.openxmlformats.org/officeDocument/2006/relationships/image" Target="../media/image122.png"/><Relationship Id="rId79" Type="http://schemas.openxmlformats.org/officeDocument/2006/relationships/image" Target="../media/image123.png"/><Relationship Id="rId80" Type="http://schemas.openxmlformats.org/officeDocument/2006/relationships/image" Target="../media/image124.png"/><Relationship Id="rId81" Type="http://schemas.openxmlformats.org/officeDocument/2006/relationships/image" Target="../media/image125.png"/><Relationship Id="rId82" Type="http://schemas.openxmlformats.org/officeDocument/2006/relationships/image" Target="../media/image126.png"/><Relationship Id="rId83" Type="http://schemas.openxmlformats.org/officeDocument/2006/relationships/image" Target="../media/image127.png"/><Relationship Id="rId84" Type="http://schemas.openxmlformats.org/officeDocument/2006/relationships/image" Target="../media/image128.png"/><Relationship Id="rId85" Type="http://schemas.openxmlformats.org/officeDocument/2006/relationships/image" Target="../media/image129.png"/><Relationship Id="rId86" Type="http://schemas.openxmlformats.org/officeDocument/2006/relationships/image" Target="../media/image130.png"/><Relationship Id="rId87" Type="http://schemas.openxmlformats.org/officeDocument/2006/relationships/image" Target="../media/image131.png"/><Relationship Id="rId88" Type="http://schemas.openxmlformats.org/officeDocument/2006/relationships/image" Target="../media/image132.png"/><Relationship Id="rId89" Type="http://schemas.openxmlformats.org/officeDocument/2006/relationships/image" Target="../media/image133.png"/><Relationship Id="rId90" Type="http://schemas.openxmlformats.org/officeDocument/2006/relationships/image" Target="../media/image134.png"/><Relationship Id="rId91" Type="http://schemas.openxmlformats.org/officeDocument/2006/relationships/image" Target="../media/image135.png"/><Relationship Id="rId92" Type="http://schemas.openxmlformats.org/officeDocument/2006/relationships/image" Target="../media/image136.png"/><Relationship Id="rId93" Type="http://schemas.openxmlformats.org/officeDocument/2006/relationships/image" Target="../media/image137.png"/><Relationship Id="rId94" Type="http://schemas.openxmlformats.org/officeDocument/2006/relationships/image" Target="../media/image138.png"/><Relationship Id="rId95" Type="http://schemas.openxmlformats.org/officeDocument/2006/relationships/image" Target="../media/image139.png"/><Relationship Id="rId96" Type="http://schemas.openxmlformats.org/officeDocument/2006/relationships/image" Target="../media/image140.png"/><Relationship Id="rId97" Type="http://schemas.openxmlformats.org/officeDocument/2006/relationships/image" Target="../media/image141.png"/><Relationship Id="rId98" Type="http://schemas.openxmlformats.org/officeDocument/2006/relationships/image" Target="../media/image142.png"/><Relationship Id="rId99" Type="http://schemas.openxmlformats.org/officeDocument/2006/relationships/image" Target="../media/image143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9283320" y="433404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商融资 项目推广 项目介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图片 2" descr=""/>
          <p:cNvPicPr/>
          <p:nvPr/>
        </p:nvPicPr>
        <p:blipFill>
          <a:blip r:embed="rId1"/>
          <a:stretch/>
        </p:blipFill>
        <p:spPr>
          <a:xfrm>
            <a:off x="255600" y="249120"/>
            <a:ext cx="15001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9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0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1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5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6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0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1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3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4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5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6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8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0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1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3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4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5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6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7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4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6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7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1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2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4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3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4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5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7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9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0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1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2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5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8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1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8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69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0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2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4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5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7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8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79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0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2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4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5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7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89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0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2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3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7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8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3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2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7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7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8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49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5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6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7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7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9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3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4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6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7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9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0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1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4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6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7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8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0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1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4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5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7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8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1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2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4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6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7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199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9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5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7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8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3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6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4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5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1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2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3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5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6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7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8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0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1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2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3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5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7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8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0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1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2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3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5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6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5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6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7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9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0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2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3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8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5" name="Shape 21"/>
          <p:cNvCxnSpPr>
            <a:stCxn id="1374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6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7" name="Shape 11"/>
          <p:cNvCxnSpPr>
            <a:stCxn id="1376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8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9" name="Shape 16"/>
          <p:cNvCxnSpPr>
            <a:stCxn id="1378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0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1" name="Shape 19"/>
          <p:cNvCxnSpPr>
            <a:stCxn id="1380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2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1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3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5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09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3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4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6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7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7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8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1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2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3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7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8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2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3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7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8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0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8"/>
          <p:cNvSpPr/>
          <p:nvPr/>
        </p:nvSpPr>
        <p:spPr>
          <a:xfrm>
            <a:off x="9769320" y="39337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 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3" name="图片 8" descr=""/>
          <p:cNvPicPr/>
          <p:nvPr/>
        </p:nvPicPr>
        <p:blipFill>
          <a:blip r:embed="rId1"/>
          <a:stretch/>
        </p:blipFill>
        <p:spPr>
          <a:xfrm>
            <a:off x="255600" y="249120"/>
            <a:ext cx="15001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5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8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49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0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4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0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1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2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4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5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69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1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2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5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6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7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9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0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1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2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5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6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1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2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3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4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6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0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1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3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4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09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0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1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2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7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18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19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0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2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3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5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6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7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1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2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5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6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9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0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1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2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7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48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49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1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2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3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58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9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0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1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3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4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5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6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8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69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0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1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2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3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4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5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6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7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79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3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4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5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8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89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0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1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5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6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98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99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6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79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1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5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6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7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8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6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7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8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1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4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6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6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8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799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1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2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5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6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3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大侠素材铺</dc:creator>
  <dc:description>大侠素材铺
淘宝店：https://dxpu.taobao.com/</dc:description>
  <cp:keywords>大侠素材铺</cp:keywords>
  <dc:language>en-US</dc:language>
  <cp:lastModifiedBy>微软用户</cp:lastModifiedBy>
  <dcterms:modified xsi:type="dcterms:W3CDTF">2016-11-04T03:27:43Z</dcterms:modified>
  <cp:revision>124</cp:revision>
  <dc:subject>大侠素材铺</dc:subject>
  <dc:title>大侠素材铺</dc:title>
</cp:coreProperties>
</file>