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B67-C618-43D2-8ABE-3724131B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73F-160B-4B7C-882D-ABE89053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66E-3F44-4044-858C-E41AF1D0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021-D23B-43DB-B364-AE365BC7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4C4-95F0-4CAF-BF84-666F0918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F7E-97FF-49FF-BD4C-D482ACB0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185-E20E-4136-8963-E48F97BD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C32-10FD-49E1-AB00-52D98FEC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AE4-FC1A-4AA9-861D-1E3D1822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5A70-82BB-41AB-975D-ABEC2AD6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ECC-A4BF-445D-A8CB-D1A3B3D9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C34B-02BF-46D4-90F9-90668187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143D-3E74-4396-8E10-395FD866DB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046560" y="1500120"/>
            <a:ext cx="15210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345720" y="428364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81840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9486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28600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39265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643040" y="282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3426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283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926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926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6283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97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201996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428920" y="5000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56408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640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94868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1714680" y="45007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355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2120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209160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7121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83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25689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9882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643120" y="3500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140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997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22024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6406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7121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2019960" y="282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4283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16405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0T03:40:37Z</dcterms:modified>
  <cp:revision>33</cp:revision>
  <dc:subject/>
  <dc:title>幻灯片 1</dc:title>
</cp:coreProperties>
</file>