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0A1-83D1-4418-9EDB-07170075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EA1-98CD-4B61-8F7A-E1FD1956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A47-1BF8-4A91-A3B1-4A0EA95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49C-C6A8-46C2-8C00-110781AD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C9CF-7B97-4683-A8A5-802A5B08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ADFB-F932-4EC7-AB1B-C1732B7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7464-AD9A-49BB-BD0B-5ED85BEA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01D5-3BDE-43A4-B7A3-DC4718BF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9446-1F89-4E5E-9E19-650DF61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4F71-7CD6-4081-914B-8AF09C4C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69B8-EC40-4DB2-BDF6-99EFE5E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225A-5F60-46A4-B5A9-4D3A9B7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A37D-E5A7-4C2F-8191-6753D956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20F9-6CC5-48CA-BF5B-06A82AE2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1BE0-3B2A-458D-9239-067113C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64BF-4087-45FA-B8E4-E386B1A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FA09-8961-4ABB-9E49-579F341D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B0A3C-DA09-4848-8C55-09251BE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E74-33F8-4734-9597-8D3F54CF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D943-1808-4320-AA29-1B8234C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F7BE-A66B-430D-BC96-A98425A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BE42-F7D5-4227-AC18-DE9F8FE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06C6-F2FA-463B-9BAE-B42B5BA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E0CA-63C1-43BF-8D23-33560F3B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13D3-6DF3-4542-9828-3884A57A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74D-A901-4D55-8369-AC9C3B1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6CC21-E184-49DC-A216-00368CB54EE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C9440-445D-4196-A0D1-FC7EF6EBCA3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24D4F-F098-4C1C-896A-33D4A491B0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FFA-EC10-4F75-A5E0-612A117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DF98F0-EF82-4991-B62A-DC50F73BD2C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7A461-4F58-43B4-83F0-2F9010DDC8C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33D49-7FE7-4796-97B8-65C76BE3EE2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0E852-0DB7-4CE1-9F96-7E0E1085D6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7A443-1F8D-44AE-A6FA-5DDAE4F714F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C9C42-77EC-4976-B88B-352B7A58518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4F841-A16E-4542-A4A7-49C2E7930C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E1DC97-1604-4E4C-9447-C9392242D1A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61C84-9013-47A0-A3E8-97769BC74E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6DA9-4794-4922-B842-6DA726E8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360-C8E1-42CA-B535-2B7D14F2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8A43-D4BF-4774-ADAE-E89FADFF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6D18-C226-4761-8772-7B59982D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06251-3DDB-45DE-B84B-47446CD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390C-2F27-419F-85D2-FD81A70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F27B-89C9-41BB-AD8C-CBF8442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46AD-B900-4DC8-A217-8CA61E8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BE59-9502-4888-90D1-55A67E4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366F-9D4E-44C9-B598-457AFF9B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0E63-442E-4CBC-803D-20902FCC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2860-A9B7-4205-968F-53710E31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F7BF-000F-4B25-9AAE-B76804A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5017-0FA0-4818-A651-BE592DA2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B04D-53F5-4EF2-8067-45EDAF5C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781-0E1A-4D9A-B0D1-8001221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1B0-B05B-46C2-A578-8AFCF1E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856-B718-4EF0-B530-7FCF2BD4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28C-35CE-45DD-81F6-3B35694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1C0-B428-423C-A436-1825FD2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E3B-F39D-4667-9C4E-5BDFC82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341-BB8E-48C3-B368-CBE49AEEDE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F0CD-7E35-42D4-BF76-19A1953302CC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D2A6-FE89-4F92-A131-BAE392431387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9C5-06EA-4304-A7C8-253B96CAFC81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B7F-643B-49A8-BA32-95FB6B5A6854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320" y="6245280"/>
            <a:ext cx="326520" cy="326520"/>
            <a:chOff x="11380320" y="6245280"/>
            <a:chExt cx="326520" cy="32652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560" y="6292440"/>
              <a:ext cx="2300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788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5000" y="6244920"/>
            <a:ext cx="327960" cy="327600"/>
            <a:chOff x="10485000" y="6244920"/>
            <a:chExt cx="327960" cy="32760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2880" y="6292800"/>
              <a:ext cx="2318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476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35B-B7E1-47F6-9C4F-118004CF9156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DF5-BE74-464F-B533-DD6178F3CA81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AF5-33A9-4F6C-832C-5EE0B71D5931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5700-DE70-4D43-8733-9A98C30B0457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E13-81AB-4051-8960-55DE43A97F28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1D68-FAA5-4EFB-A3A0-183C2946E3A6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>
              <a:gd name="textAreaLeft" fmla="*/ 0 w 960480"/>
              <a:gd name="textAreaRight" fmla="*/ 960840 w 960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349920"/>
                  <a:gd name="textAreaBottom" fmla="*/ 350280 h 349920"/>
                </a:gdLst>
                <a:ahLst/>
                <a:rect l="textAreaLeft" t="textAreaTop" r="textAreaRight" b="textAreaBottom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>
                  <a:gd name="textAreaLeft" fmla="*/ 0 w 519840"/>
                  <a:gd name="textAreaRight" fmla="*/ 520200 w 51984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>
                  <a:gd name="textAreaLeft" fmla="*/ 0 w 966240"/>
                  <a:gd name="textAreaRight" fmla="*/ 966600 w 966240"/>
                  <a:gd name="textAreaTop" fmla="*/ 0 h 561960"/>
                  <a:gd name="textAreaBottom" fmla="*/ 561960 h 561960"/>
                </a:gdLst>
                <a:ahLst/>
                <a:rect l="textAreaLeft" t="textAreaTop" r="textAreaRight" b="textAreaBottom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>
                  <a:gd name="textAreaLeft" fmla="*/ 0 w 575280"/>
                  <a:gd name="textAreaRight" fmla="*/ 575640 w 575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>
                  <a:gd name="textAreaLeft" fmla="*/ 0 w 458640"/>
                  <a:gd name="textAreaRight" fmla="*/ 459000 w 45864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>
                  <a:gd name="textAreaLeft" fmla="*/ 0 w 876960"/>
                  <a:gd name="textAreaRight" fmla="*/ 877320 w 87696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548640"/>
                  <a:gd name="textAreaBottom" fmla="*/ 549000 h 548640"/>
                </a:gdLst>
                <a:ahLst/>
                <a:rect l="textAreaLeft" t="textAreaTop" r="textAreaRight" b="textAreaBottom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>
                  <a:gd name="textAreaLeft" fmla="*/ 0 w 494280"/>
                  <a:gd name="textAreaRight" fmla="*/ 494640 w 4942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>
                  <a:gd name="textAreaLeft" fmla="*/ 0 w 2877120"/>
                  <a:gd name="textAreaRight" fmla="*/ 2877480 w 2877120"/>
                  <a:gd name="textAreaTop" fmla="*/ 0 h 2353320"/>
                  <a:gd name="textAreaBottom" fmla="*/ 2353680 h 2353320"/>
                </a:gdLst>
                <a:ahLst/>
                <a:rect l="textAreaLeft" t="textAreaTop" r="textAreaRight" b="textAreaBottom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>
                  <a:gd name="textAreaLeft" fmla="*/ 0 w 3035880"/>
                  <a:gd name="textAreaRight" fmla="*/ 3036240 w 3035880"/>
                  <a:gd name="textAreaTop" fmla="*/ 0 h 1852200"/>
                  <a:gd name="textAreaBottom" fmla="*/ 1852560 h 1852200"/>
                </a:gdLst>
                <a:ahLst/>
                <a:rect l="textAreaLeft" t="textAreaTop" r="textAreaRight" b="textAreaBottom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>
                  <a:gd name="textAreaLeft" fmla="*/ 0 w 2896920"/>
                  <a:gd name="textAreaRight" fmla="*/ 2897280 w 289692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213920"/>
                  <a:gd name="textAreaBottom" fmla="*/ 1214280 h 1213920"/>
                </a:gdLst>
                <a:ahLst/>
                <a:rect l="textAreaLeft" t="textAreaTop" r="textAreaRight" b="textAreaBottom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>
                  <a:gd name="textAreaLeft" fmla="*/ 0 w 136800"/>
                  <a:gd name="textAreaRight" fmla="*/ 136800 w 1368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748080"/>
                  <a:gd name="textAreaBottom" fmla="*/ 748440 h 748080"/>
                </a:gdLst>
                <a:ahLst/>
                <a:rect l="textAreaLeft" t="textAreaTop" r="textAreaRight" b="textAreaBottom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>
                  <a:gd name="textAreaLeft" fmla="*/ 0 w 890640"/>
                  <a:gd name="textAreaRight" fmla="*/ 891000 w 890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>
                  <a:gd name="textAreaLeft" fmla="*/ 0 w 1301760"/>
                  <a:gd name="textAreaRight" fmla="*/ 1302120 w 130176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>
                  <a:gd name="textAreaLeft" fmla="*/ 0 w 966600"/>
                  <a:gd name="textAreaRight" fmla="*/ 966960 w 96660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>
                  <a:gd name="textAreaLeft" fmla="*/ 0 w 492480"/>
                  <a:gd name="textAreaRight" fmla="*/ 492840 w 4924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2120"/>
                  <a:gd name="textAreaBottom" fmla="*/ 672480 h 672120"/>
                </a:gdLst>
                <a:ahLst/>
                <a:rect l="textAreaLeft" t="textAreaTop" r="textAreaRight" b="textAreaBottom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705960"/>
                  <a:gd name="textAreaBottom" fmla="*/ 706320 h 705960"/>
                </a:gdLst>
                <a:ahLst/>
                <a:rect l="textAreaLeft" t="textAreaTop" r="textAreaRight" b="textAreaBottom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521280"/>
                  <a:gd name="textAreaBottom" fmla="*/ 521280 h 521280"/>
                </a:gdLst>
                <a:ahLst/>
                <a:rect l="textAreaLeft" t="textAreaTop" r="textAreaRight" b="textAreaBottom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>
                  <a:gd name="textAreaLeft" fmla="*/ 0 w 1131120"/>
                  <a:gd name="textAreaRight" fmla="*/ 1131120 w 113112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856440"/>
                  <a:gd name="textAreaBottom" fmla="*/ 856800 h 856440"/>
                </a:gdLst>
                <a:ahLst/>
                <a:rect l="textAreaLeft" t="textAreaTop" r="textAreaRight" b="textAreaBottom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>
                  <a:gd name="textAreaLeft" fmla="*/ 0 w 595800"/>
                  <a:gd name="textAreaRight" fmla="*/ 596160 w 59580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862920"/>
                  <a:gd name="textAreaBottom" fmla="*/ 863280 h 8629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870480"/>
                  <a:gd name="textAreaBottom" fmla="*/ 870840 h 8704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876960"/>
            <a:chOff x="1522440" y="3360600"/>
            <a:chExt cx="3325680" cy="87696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876600"/>
            <a:chOff x="1522440" y="2082960"/>
            <a:chExt cx="3325680" cy="87660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876960"/>
            <a:chOff x="1511280" y="4727520"/>
            <a:chExt cx="3327480" cy="87696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>
              <a:gd name="textAreaLeft" fmla="*/ 0 w 268560"/>
              <a:gd name="textAreaRight" fmla="*/ 268920 w 2685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>
              <a:gd name="textAreaLeft" fmla="*/ 0 w 177840"/>
              <a:gd name="textAreaRight" fmla="*/ 178200 w 1778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>
              <a:gd name="textAreaLeft" fmla="*/ 0 w 530280"/>
              <a:gd name="textAreaRight" fmla="*/ 530640 w 5302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>
              <a:gd name="textAreaLeft" fmla="*/ 0 w 466560"/>
              <a:gd name="textAreaRight" fmla="*/ 466920 w 466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>
              <a:gd name="textAreaLeft" fmla="*/ 0 w 522000"/>
              <a:gd name="textAreaRight" fmla="*/ 522360 w 5220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>
              <a:gd name="textAreaLeft" fmla="*/ 0 w 385560"/>
              <a:gd name="textAreaRight" fmla="*/ 385920 w 3855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>
                <a:gd name="textAreaLeft" fmla="*/ 0 w 3194640"/>
                <a:gd name="textAreaRight" fmla="*/ 3195000 w 3194640"/>
                <a:gd name="textAreaTop" fmla="*/ 0 h 3195000"/>
                <a:gd name="textAreaBottom" fmla="*/ 3195360 h 3195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设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>
                <a:gd name="textAreaLeft" fmla="*/ -360 w 4105080"/>
                <a:gd name="textAreaRight" fmla="*/ 4105080 w 4105080"/>
                <a:gd name="textAreaTop" fmla="*/ 0 h 4106880"/>
                <a:gd name="textAreaBottom" fmla="*/ 4107240 h 4106880"/>
              </a:gdLst>
              <a:ahLst/>
              <a:rect l="textAreaLeft" t="textAreaTop" r="textAreaRight" b="textAreaBottom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>
              <a:gd name="textAreaLeft" fmla="*/ 0 w 2579760"/>
              <a:gd name="textAreaRight" fmla="*/ 2580120 w 2579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>
              <a:gd name="textAreaLeft" fmla="*/ 0 w 403560"/>
              <a:gd name="textAreaRight" fmla="*/ 403920 w 40356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>
              <a:gd name="textAreaLeft" fmla="*/ 0 w 403200"/>
              <a:gd name="textAreaRight" fmla="*/ 403560 w 403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>
              <a:gd name="textAreaLeft" fmla="*/ 0 w 403200"/>
              <a:gd name="textAreaRight" fmla="*/ 403560 w 4032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>
              <a:gd name="textAreaLeft" fmla="*/ 0 w 477720"/>
              <a:gd name="textAreaRight" fmla="*/ 478080 w 477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>
              <a:gd name="textAreaLeft" fmla="*/ 0 w 2125800"/>
              <a:gd name="textAreaRight" fmla="*/ 2126160 w 212580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>
              <a:gd name="textAreaLeft" fmla="*/ 0 w 1719360"/>
              <a:gd name="textAreaRight" fmla="*/ 1719720 w 1719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>
              <a:gd name="textAreaLeft" fmla="*/ 0 w 1405080"/>
              <a:gd name="textAreaRight" fmla="*/ 1405080 w 14050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>
                <a:gd name="textAreaLeft" fmla="*/ 0 w 5626440"/>
                <a:gd name="textAreaRight" fmla="*/ 5626800 w 5626440"/>
                <a:gd name="textAreaTop" fmla="*/ 0 h 5818320"/>
                <a:gd name="textAreaBottom" fmla="*/ 5818680 h 5818320"/>
              </a:gdLst>
              <a:ahLst/>
              <a:rect l="textAreaLeft" t="textAreaTop" r="textAreaRight" b="textAreaBottom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>
                <a:gd name="textAreaLeft" fmla="*/ 0 w 4106880"/>
                <a:gd name="textAreaRight" fmla="*/ 4107240 w 4106880"/>
                <a:gd name="textAreaTop" fmla="*/ 0 h 3987360"/>
                <a:gd name="textAreaBottom" fmla="*/ 3987720 h 3987360"/>
              </a:gdLst>
              <a:ahLst/>
              <a:rect l="textAreaLeft" t="textAreaTop" r="textAreaRight" b="textAreaBottom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7320"/>
            <a:chOff x="992160" y="4162320"/>
            <a:chExt cx="2057400" cy="87732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7320"/>
            <a:chOff x="3743280" y="4162320"/>
            <a:chExt cx="2057400" cy="87732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7320"/>
            <a:chOff x="6494400" y="4162320"/>
            <a:chExt cx="2057400" cy="87732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7320"/>
            <a:chOff x="9245520" y="4162320"/>
            <a:chExt cx="2057400" cy="87732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>
                <a:gd name="textAreaLeft" fmla="*/ 0 w 2909880"/>
                <a:gd name="textAreaRight" fmla="*/ 2910240 w 2909880"/>
                <a:gd name="textAreaTop" fmla="*/ 0 h 4132440"/>
                <a:gd name="textAreaBottom" fmla="*/ 4132800 h 4132440"/>
              </a:gdLst>
              <a:ahLst/>
              <a:rect l="textAreaLeft" t="textAreaTop" r="textAreaRight" b="textAreaBottom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>
                <a:gd name="textAreaLeft" fmla="*/ 0 w 2878560"/>
                <a:gd name="textAreaRight" fmla="*/ 2878920 w 2878560"/>
                <a:gd name="textAreaTop" fmla="*/ 0 h 4101120"/>
                <a:gd name="textAreaBottom" fmla="*/ 4101480 h 4101120"/>
              </a:gdLst>
              <a:ahLst/>
              <a:rect l="textAreaLeft" t="textAreaTop" r="textAreaRight" b="textAreaBottom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>
                <a:gd name="textAreaLeft" fmla="*/ 0 w 4751640"/>
                <a:gd name="textAreaRight" fmla="*/ 4752000 w 4751640"/>
                <a:gd name="textAreaTop" fmla="*/ 0 h 3256200"/>
                <a:gd name="textAreaBottom" fmla="*/ 3256560 h 3256200"/>
              </a:gdLst>
              <a:ahLst/>
              <a:rect l="textAreaLeft" t="textAreaTop" r="textAreaRight" b="textAreaBottom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>
              <a:gd name="textAreaLeft" fmla="*/ 0 w 528840"/>
              <a:gd name="textAreaRight" fmla="*/ 528840 w 5288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>
              <a:gd name="textAreaLeft" fmla="*/ 0 w 520560"/>
              <a:gd name="textAreaRight" fmla="*/ 520920 w 5205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>
              <a:gd name="textAreaLeft" fmla="*/ 0 w 376200"/>
              <a:gd name="textAreaRight" fmla="*/ 376560 w 3762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>
              <a:gd name="textAreaLeft" fmla="*/ 0 w 520560"/>
              <a:gd name="textAreaRight" fmla="*/ 520920 w 5205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>
                <a:gd name="textAreaLeft" fmla="*/ 0 w 3824640"/>
                <a:gd name="textAreaRight" fmla="*/ 3825000 w 3824640"/>
                <a:gd name="textAreaTop" fmla="*/ 0 h 3823560"/>
                <a:gd name="textAreaBottom" fmla="*/ 3823920 h 3823560"/>
              </a:gdLst>
              <a:ahLst/>
              <a:rect l="textAreaLeft" t="textAreaTop" r="textAreaRight" b="textAreaBottom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>
                <a:gd name="textAreaLeft" fmla="*/ 0 w 3823560"/>
                <a:gd name="textAreaRight" fmla="*/ 3823920 w 3823560"/>
                <a:gd name="textAreaTop" fmla="*/ 0 h 3824640"/>
                <a:gd name="textAreaBottom" fmla="*/ 3825000 h 3824640"/>
              </a:gdLst>
              <a:ahLst/>
              <a:rect l="textAreaLeft" t="textAreaTop" r="textAreaRight" b="textAreaBottom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>
                  <a:gd name="textAreaLeft" fmla="*/ 0 w 3824640"/>
                  <a:gd name="textAreaRight" fmla="*/ 3825000 w 3824640"/>
                  <a:gd name="textAreaTop" fmla="*/ 0 h 3823560"/>
                  <a:gd name="textAreaBottom" fmla="*/ 3823920 h 3823560"/>
                </a:gdLst>
                <a:ahLst/>
                <a:rect l="textAreaLeft" t="textAreaTop" r="textAreaRight" b="textAreaBottom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>
                    <a:gd name="textAreaLeft" fmla="*/ 0 w 3823560"/>
                    <a:gd name="textAreaRight" fmla="*/ 3823920 w 3823560"/>
                    <a:gd name="textAreaTop" fmla="*/ 0 h 3824640"/>
                    <a:gd name="textAreaBottom" fmla="*/ 3825000 h 3824640"/>
                  </a:gdLst>
                  <a:ahLst/>
                  <a:rect l="textAreaLeft" t="textAreaTop" r="textAreaRight" b="textAreaBottom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>
              <a:gd name="textAreaLeft" fmla="*/ 0 w 824040"/>
              <a:gd name="textAreaRight" fmla="*/ 824400 w 824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>
                <a:gd name="textAreaLeft" fmla="*/ -360 w 1388520"/>
                <a:gd name="textAreaRight" fmla="*/ 1388520 w 13885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>
                <a:gd name="textAreaLeft" fmla="*/ 360 w 1312560"/>
                <a:gd name="textAreaRight" fmla="*/ 1313280 w 13125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>
                  <a:gd name="textAreaLeft" fmla="*/ 360 w 1229040"/>
                  <a:gd name="textAreaRight" fmla="*/ 1229760 w 122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>
                    <a:gd name="textAreaLeft" fmla="*/ 360 w 532800"/>
                    <a:gd name="textAreaRight" fmla="*/ 533520 w 53280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>
                    <a:gd name="textAreaLeft" fmla="*/ 360 w 534240"/>
                    <a:gd name="textAreaRight" fmla="*/ 534960 w 53424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admin</cp:lastModifiedBy>
  <dcterms:modified xsi:type="dcterms:W3CDTF">2016-06-03T00:44:08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