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B23-B738-4A7D-8657-CB398A81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ABD-FF9B-4740-A861-299879AC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B63-E409-4CAB-87B5-9AA04279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D76-5494-4D8B-AA4F-ACB24711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AE5-1169-4256-BEA4-30DD34B0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B093-97F7-493C-ADB7-463436D8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D784-44C8-4834-A17A-39C5F2AC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75F-5A49-47CC-BA1E-8EAF91A2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7C2-1A65-455B-BCD3-E409B75E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05A-A705-411A-85DE-0FE06006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3D23-E8E3-4AD0-AEF1-D507AFF2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210-8D19-4BED-A2C2-BB9CBA4B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F3AB-F76D-4DF8-9B27-6F45FAD15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2636640"/>
            <a:ext cx="230508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时尚中黑简体"/>
              </a:rPr>
              <a:t>印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60720" y="3500280"/>
            <a:ext cx="27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Corbel"/>
                <a:ea typeface="时尚中黑简体"/>
              </a:rPr>
              <a:t>TRAVEL AL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89080" y="3573360"/>
            <a:ext cx="367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mp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360" y="593640"/>
            <a:ext cx="91314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940360" y="34369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安徽之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78080" y="365904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ANHUI ZHI 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508720" y="3427560"/>
            <a:ext cx="565200" cy="43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65164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360" y="400536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周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来过未曾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508720" y="400356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51640" y="39988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423540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ZHOU ZHUANG,LAI GUO WEI CENG LI K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508720" y="457992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51640" y="4575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2421000"/>
            <a:ext cx="99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时尚中黑简体"/>
              </a:rPr>
              <a:t>目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360" y="457524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ityWalk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寻梦青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48099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CITYWALKS XUN MENG QING 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5508720" y="515628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53080" y="5151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515160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读湘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53863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JIE DU XIANG X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30240" y="571680"/>
            <a:ext cx="913608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57360" y="1268280"/>
            <a:ext cx="7444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时尚中黑简体"/>
              </a:rPr>
              <a:t>青岛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30636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0" y="52236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46760" y="1557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aed8"/>
                </a:solidFill>
                <a:latin typeface="微软雅黑"/>
                <a:ea typeface="微软雅黑"/>
              </a:rPr>
              <a:t>岛域旧志 海岛风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62200" y="188604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4949"/>
                </a:solidFill>
                <a:latin typeface="Candara"/>
              </a:rPr>
              <a:t>MY TRAVEL MY CITYWAL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20350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4949"/>
                </a:solidFill>
                <a:latin typeface="Candara"/>
              </a:rPr>
              <a:t>DAO YU JIU ZHI HAI DAO FENG Q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6360" y="2781360"/>
            <a:ext cx="7210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晚上，各位暴走团的朋友都背着厚厚的旅行包在鼓楼公园门口集合。旅行车还没到之前，各位同志都被暴站在路边，又热又闷，但是还是抵挡不了大家激动的心情呀。直到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，大家总算坐上了车出发了，一路上，领头的在前面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K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歌，各个座位上的小情侣们有说有唱的，我和我们家的马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sir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两人也是各种吃，从果冻到薯片，从薯片到糖果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没少折腾，抵达青岛要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8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个小时左右，中途在南京六合停（为了等后面的鲨鱼队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队），在某服务站停靠了一下（主要是很多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GG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MM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要尿尿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真的没法睡，坐七八个小时的车程真的受不了，屁股难受，想睡也没法睡，压根就没一个好的姿势让自己能入睡。于是拿着导航仪在那与大巴做同步，一路北上，经过宿迁、日照等等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124880" y="3141720"/>
            <a:ext cx="88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kzidenz-Grotesk BQ Light with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sus</dc:creator>
  <dc:description/>
  <dc:language>en-US</dc:language>
  <cp:lastModifiedBy/>
  <dcterms:modified xsi:type="dcterms:W3CDTF">2014-07-19T06:49:3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