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1A9-4D68-4A4A-9B1F-1B06D344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BD0-5B92-4168-8CBB-1EC363BE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009-98C1-460C-B17B-71C99E39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705-60AA-4AA1-94FC-FF7E11A5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3D8-429D-484E-BA58-983A43B4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6BD-DE8B-414E-84C1-D37795BF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71F-6EB2-4124-A44A-334670AE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78E-08F2-4CC2-8DFF-9E9242DF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83B-A2CA-4C44-9BB5-F28994F9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1B8-F93C-4514-89BD-EC34BCC8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B94-7052-4198-A40F-90F1C546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0FB-95F6-4AFF-AFEA-FD74E70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72D7-8C58-4340-BF44-89C15AB623CE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4555-46E8-43E4-BBA9-B6C6B628145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b013129"/>
          <p:cNvPicPr/>
          <p:nvPr/>
        </p:nvPicPr>
        <p:blipFill>
          <a:blip r:embed="rId1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0FDF-A4C3-404F-AC2B-FE12B16C88F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82C8-609D-49C8-9D8A-95289F061E9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3D10-98DF-49D0-87FD-D6657B60B4A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E43C-C798-4352-9BC5-E91B7266997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B78-9BDA-450E-A31A-7ED26C16218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23A8-E5EA-4713-915F-207E4033B9B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1C03-F112-45FF-ACDC-FF251C886ED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15C2-AB0F-45FD-BCA7-2F8E6760E13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CFDD-3A8E-4892-B0AF-CDF4E38CECD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9DE3-ECFA-4328-946D-99C6F20FCA5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55F7-25A7-4A53-9D11-9D361AE9E78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4A33-BED3-4244-B049-A1B36CD39DE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35E-7BC4-48CE-ABD6-A4D51248417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B3B2-3D73-4F80-9413-63E2581BA11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1909-4EAF-42DA-83DF-2346D1B5779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D128-ED51-4DCA-8C98-896275FD9A9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7444-BBC0-4B90-83B1-B3653BFE326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C02B-CE5A-40DE-AFAD-AFFFC6394EF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680E-1E19-4B59-9450-821585BC792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C22D-CCEB-47D6-B344-6371F41FEB9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51A3-08B5-4A4B-8CE2-605A564C5A1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DC24-1AAB-4AD4-8667-2369B9A7852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3015-5787-42BA-935E-35F1C02B3BA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01C-FE3F-4C29-ABB5-BA0217E1A66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6C97-00EE-432E-A760-074532354CF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C17B-D1C1-4E2F-829D-E741F49EE88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2:02Z</dcterms:modified>
  <cp:revision>2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