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C0A-2857-465B-85B1-A57BFFC5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E23E-0346-4E85-8374-A902CB4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86F14-6313-48A5-963E-ABFA32B9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64047-B277-46B7-883E-CE5A3AF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6ACA8-FFD4-4AA0-991C-2A61AA98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EFFD4-DDA1-4A0B-AE63-FE56F68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9A384-7652-410A-967A-83F5EF61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C41E2-819E-45ED-871D-55C54965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17E36-9B78-4793-9C68-91B0809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96A90-AC70-4E8B-8DA8-0C190FBF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E094D-90B1-4B20-AC66-F9044644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20B15-672D-41B5-B043-41E7C99C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8A6-E1BD-429D-A80B-AA8C9A69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C526C-F189-4646-A7AC-0BCB2D54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7426E-5F0C-48A1-AD8B-70E88635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04FD7-987D-4E38-8662-FCDCC5B8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72037-DECF-4743-B457-8B6EEF28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F2A7B-CEB2-4AB5-BB0F-2309BDE7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C8FBA-5E66-40B6-9A03-F7DA9C11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4915C-F97D-4704-8D06-1C7C0A86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2CDCC-208D-4A62-937D-607C2F85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0FE53-77D5-4C49-B6E7-AD1CF440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8FD5-7BFC-48CB-8C1B-04BDB22B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5F67-D5C0-4138-9472-8140D624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F7294-3EB5-4AC9-A3D4-AD4024DC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B252E-7CB3-4DD1-885F-4FA33C78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1397C-04E5-4B54-A399-74C7AF23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814B1-10B0-4BD8-BE3F-C4866E5B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05391-A3E0-48A8-9654-0CBF6A5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3B742-0F57-45C8-B893-E3A95EEA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50C58-96B7-49D6-A6B0-46486E3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0A6AA-6EDE-4FBE-B019-16D68B9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2EC8A-D42C-4DEF-A3CE-EAA17C4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23328-7DBF-4103-8529-D89FEF8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378-B6F3-466F-BDB2-B00F31E6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971F8-1261-472F-821F-766736B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8EBCBA-9F24-4514-BEEA-67F58DC4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E8D35-C58C-4E8E-A616-48E2A1A3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C986C-8F18-4659-9162-A1C6005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8FEA4-D3C5-4562-8426-07384BB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D88D9-0063-49A7-A8CD-AA88D9DB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2329E-9965-4D31-A375-8809517A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12EE1-D144-49C7-9A43-6BA7E7C7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BA7CC-D769-4A0C-AB0F-D41EA05D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9F5A0-C7AE-4019-9997-9F54FEAD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873-B1CE-40E5-B424-A0A6F4B2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A9FFE-8E56-4B8E-8704-1E8E76F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F2580-9A2A-44B9-AC78-5F9A63F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F248C-9A41-4526-BFE2-7ADA9F1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CA3AD-4EC8-433C-A65E-B1646B2D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2E146-4591-404A-A02F-12E26ACD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134F0-96F2-40B5-B117-D62A43CC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450FB-462B-4038-9559-514C7E6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823B5-7C95-4080-A18A-B2D0BA1D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ABD67-DC1A-4507-87D7-A9DE56EB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415B-0C2A-4D7B-B538-C6A15CF9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2BE-72D3-4B5B-8726-47BE2AB6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3F419-FED9-48BE-BE80-48A4242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6C54F-4A6F-4AAC-A5CD-D5F6210B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4DFF0-E19F-4AF1-8B67-02E315D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C3C90-43A3-439C-BB08-A8EF8592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6F361-4B86-4929-82DA-D56B7E83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4A1C9-D4D9-41CC-B62F-78D14EBF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5A0D59-9B76-47DF-8E08-6830709C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830986-3601-4AA0-BDAB-9E732AC2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8672C-D419-4B5E-A63C-19895140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3F3CD-081E-4ABE-AE07-FC6B711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6F1E-69AE-4295-B29E-0F55E283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C65F7-560E-4C62-B74C-17EF96EE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10202A-AD82-41E6-80A7-90C4B836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2C043-1867-4356-BF0C-271F6E75A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06CCE-1A70-49C8-A02D-323DAFE4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CCCBD7-919A-4D1A-8FCC-F1DE4B8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37EE5-6604-46F0-A122-2D01B3AB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35FDD-D911-4550-B41C-976EFB4F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2F6D4-1FF5-4509-9565-12EEC6FE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9246C-8ECD-4771-94B0-B41DBDB1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C164-97D4-4669-8539-3E51E1DE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02D3-2CBA-48D2-B21E-B490F5F2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9E34-5E0A-4992-AFEB-6F260A70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7E2-9D6F-477B-8ADB-FB2A5235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811F-E7FF-44E5-828E-AD550325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B5B-6532-414E-9D38-0FDE068F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1B0D-0D46-4776-A94A-C462D2F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3263-7698-47F9-AD6B-C2F932EA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12F8-569A-4D00-BFB7-A746F08A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6E3F-8630-41D5-949C-6C572C4E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845C8-C768-4662-BC4E-E4ADA330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63A1-69C4-43CD-A470-1EA67614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874A2-5A22-4A7D-8CA4-940CEDC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9D81-0745-47A7-A8AB-AC1C845F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54F-E172-4A51-A252-350F04FA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BFCF-00DC-46FD-8C5B-93A70FDB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0ECC-97FF-48C2-A9B4-38A5F3C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EA35-A147-4D3D-81EA-BE119BB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032DA-C8FD-4EFC-860B-0AD79C2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16564-6B3D-4065-B83F-BC78E49A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23E4-90B2-4BCE-89B7-E509D623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CEF41-2C95-4EBC-A30A-DB9D4CCC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9230-B289-4341-9426-38ABF71C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DFF6-885F-4DBA-BDE2-9166F9F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F6B9E-0F54-409C-857C-62BEA312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467-4531-43B9-ACD5-93DCC96B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4AF56-7255-42B5-8DC5-926B03FA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CFAAA-D965-4879-BA5F-1145CFDC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725D-F243-4D40-B0F9-039972F5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2B9DB-2B85-4B55-824F-A0FA947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40A1-F52E-44BB-B910-00AB1B6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6C8B-CD6D-4C77-B226-A29B519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D3E4-409A-43F8-8E50-C9570290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7B0DB-09C4-4C49-8BB6-D906C0A6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B19C5-6C61-4557-A7E8-77F64532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1DA31-2778-4152-BC3B-EF44118A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17B-0BEB-4E86-A5E6-6CF376B8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4EFF1-E94D-4353-9758-2546CE4A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BE21B-CD51-456B-9F28-8EE4BCBD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CB378-33D9-4986-82EF-C9FE756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8F94A-841E-4D4A-8DB5-B826F2D7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D7A6-BDA1-4D98-B5B0-B77B30B4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53D3-5EDB-4E42-BA46-87B06C34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A533C-8138-45EF-8FCE-0D5E183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FE810-8795-45FB-B14B-AC3A53C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5E0E7-2CC1-4385-B76C-3D1E738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5EC9-21D8-4E28-A3E0-9E84059C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6F7A-5625-49A8-A775-46EC58C4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146A6-691E-4A22-8712-C8C6CEEC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AD94A-6C59-4AAE-8E73-F44519A2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E4FA6-C03A-4680-B0FF-57B4853E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4D91A-F478-4B0C-AD38-2A1F089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7C33A-8ABD-497F-BB3D-85C1FAB7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EE4EE-FF5F-4B75-8F8B-904E469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96ECC-1540-471D-B227-8F3BDBCA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4E247-BC37-45F0-B131-8C1E64AC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3F40-E4F4-4F39-A0C5-AEBBF499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9CD7B-D37A-439F-ADFE-EFB5AED5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E257-B218-4A90-AACE-60B8E317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44440-7554-4587-BF86-986C69CE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93BA-41D8-41E8-9700-4A491372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7C640-2078-448C-9861-7B631D28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F27F2-F982-43D8-89E7-2CDCECD2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92F0-4F95-4E4C-A69F-27928DAF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DFAF4-88FF-4B62-83F6-A4F687F5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B28C9-AB15-4EDB-9336-17168DD6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853A-03C5-4CE9-B202-30E112DF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75097-5F53-4DE5-899B-595DBCD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D287-2CDC-40FA-83E9-F59CE2D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14DD-A097-4575-AFF9-7EC2F004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7320-ADFC-4FC2-8B6A-0B58F7AC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2ADBE-37CA-4794-9128-D3B93BE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31CB2-F40F-4409-9535-3B88B70F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80C77-A273-4D9E-A518-F60FE96F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E6D6-1988-43E1-A01C-0A5CFE9A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65D1D-5930-4AD4-AFC8-50A32920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44B7B-B5A2-49E6-A44F-16F629A3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0E926-A554-4894-BF8F-46CFDC4A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1431-ABB1-40F5-87EA-1F7727B0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ECDE0-26DE-4AA1-9CCC-CF60A97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799-8D39-45E0-943C-1BAB898C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F9AD6-E310-4B7A-9692-8CC9A33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7C03-66B9-4359-8229-804A34A9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32317-B042-4505-B5CF-887EF62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09C0-B948-41E2-973D-3F5B6A38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2365B-9A1F-4126-B17D-0F2F054A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F8AE9-588D-465E-B334-6E2E91A76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1AF3-2859-47D7-9D74-4F26DFB7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6FD44-8573-420C-BC75-8921F944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42F62-FFBE-4418-B785-5DC78B2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F34C0-3F53-458F-8984-5AA66121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DEA9-48EF-4CD3-87DD-42ECF90AE9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1FD0-F186-4CE2-8383-BCF38FBCF3B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C2B-621B-4FBE-916A-D22A3D3CF5A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928-49E1-4AE9-8C57-712256D0535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361-3B48-458D-89B4-2FEBAEDA34F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BB5-AEED-4FD8-9C8F-BD1B09F9DA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3A23-5DF1-49DD-A7C2-E23756F98F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78B2-2763-4D04-876B-7C04C163A36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9F28-C45A-4737-BF56-4A6AD31A3A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73BA-B2CC-4F2C-AD22-5CEEAE503BF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770-8DB2-441F-B6E1-F7D996839D2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55D8-6669-465F-A137-AEECE755494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4E97-78C2-417F-BDE2-F6B243A1D73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8965800" y="4844880"/>
            <a:ext cx="3225960" cy="2013120"/>
            <a:chOff x="8965800" y="4844880"/>
            <a:chExt cx="3225960" cy="2013120"/>
          </a:xfrm>
        </p:grpSpPr>
        <p:pic>
          <p:nvPicPr>
            <p:cNvPr id="84" name="图片 8" descr=""/>
            <p:cNvPicPr/>
            <p:nvPr/>
          </p:nvPicPr>
          <p:blipFill>
            <a:blip r:embed="rId3"/>
            <a:srcRect l="39601" t="35249" r="1382" b="0"/>
            <a:stretch/>
          </p:blipFill>
          <p:spPr>
            <a:xfrm flipH="1">
              <a:off x="8965800" y="4844880"/>
              <a:ext cx="3225960" cy="20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5"/>
            <p:cNvGrpSpPr/>
            <p:nvPr/>
          </p:nvGrpSpPr>
          <p:grpSpPr>
            <a:xfrm>
              <a:off x="10802880" y="4852440"/>
              <a:ext cx="1228680" cy="1032840"/>
              <a:chOff x="10802880" y="4852440"/>
              <a:chExt cx="1228680" cy="1032840"/>
            </a:xfrm>
          </p:grpSpPr>
          <p:sp>
            <p:nvSpPr>
              <p:cNvPr id="86" name="等腰三角形 7"/>
              <p:cNvSpPr/>
              <p:nvPr/>
            </p:nvSpPr>
            <p:spPr>
              <a:xfrm flipH="1" rot="21036000">
                <a:off x="11190600" y="4908960"/>
                <a:ext cx="770760" cy="919080"/>
              </a:xfrm>
              <a:custGeom>
                <a:avLst/>
                <a:gdLst/>
                <a:ahLst/>
                <a:rect l="l" t="t" r="r" b="b"/>
                <a:pathLst>
                  <a:path w="1917445" h="2261578">
                    <a:moveTo>
                      <a:pt x="0" y="2261578"/>
                    </a:moveTo>
                    <a:lnTo>
                      <a:pt x="1111164" y="0"/>
                    </a:lnTo>
                    <a:lnTo>
                      <a:pt x="1917445" y="2111215"/>
                    </a:lnTo>
                    <a:lnTo>
                      <a:pt x="0" y="2261578"/>
                    </a:lnTo>
                    <a:close/>
                  </a:path>
                </a:pathLst>
              </a:cu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等腰三角形 11"/>
              <p:cNvSpPr/>
              <p:nvPr/>
            </p:nvSpPr>
            <p:spPr>
              <a:xfrm flipH="1" flipV="1" rot="19035000">
                <a:off x="10992240" y="5113080"/>
                <a:ext cx="727200" cy="526680"/>
              </a:xfrm>
              <a:prstGeom prst="triangle">
                <a:avLst>
                  <a:gd name="adj" fmla="val 99361"/>
                </a:avLst>
              </a:prstGeom>
              <a:solidFill>
                <a:srgbClr val="ffffff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等腰三角形 9"/>
              <p:cNvSpPr/>
              <p:nvPr/>
            </p:nvSpPr>
            <p:spPr>
              <a:xfrm flipH="1" flipV="1" rot="16795200">
                <a:off x="10895400" y="5376240"/>
                <a:ext cx="352080" cy="484920"/>
              </a:xfrm>
              <a:custGeom>
                <a:avLst/>
                <a:gdLst/>
                <a:ahLst/>
                <a:rect l="l" t="t" r="r" b="b"/>
                <a:pathLst>
                  <a:path w="864980" h="1174242">
                    <a:moveTo>
                      <a:pt x="0" y="1068232"/>
                    </a:moveTo>
                    <a:lnTo>
                      <a:pt x="846930" y="0"/>
                    </a:lnTo>
                    <a:cubicBezTo>
                      <a:pt x="848678" y="339796"/>
                      <a:pt x="863232" y="834446"/>
                      <a:pt x="864980" y="1174242"/>
                    </a:cubicBezTo>
                    <a:lnTo>
                      <a:pt x="0" y="1068232"/>
                    </a:lnTo>
                    <a:close/>
                  </a:path>
                </a:pathLst>
              </a:custGeom>
              <a:solidFill>
                <a:srgbClr val="ffffff">
                  <a:alpha val="2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9" name="Group 9"/>
          <p:cNvGrpSpPr/>
          <p:nvPr/>
        </p:nvGrpSpPr>
        <p:grpSpPr>
          <a:xfrm>
            <a:off x="166320" y="-205920"/>
            <a:ext cx="1432440" cy="1438200"/>
            <a:chOff x="166320" y="-205920"/>
            <a:chExt cx="1432440" cy="1438200"/>
          </a:xfrm>
        </p:grpSpPr>
        <p:pic>
          <p:nvPicPr>
            <p:cNvPr id="90" name="图片 14" descr=""/>
            <p:cNvPicPr/>
            <p:nvPr/>
          </p:nvPicPr>
          <p:blipFill>
            <a:blip r:embed="rId4"/>
            <a:srcRect l="64198" t="0" r="9510" b="56272"/>
            <a:stretch/>
          </p:blipFill>
          <p:spPr>
            <a:xfrm rot="13699200">
              <a:off x="357120" y="21960"/>
              <a:ext cx="1050840" cy="98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等腰三角形 14"/>
            <p:cNvSpPr/>
            <p:nvPr/>
          </p:nvSpPr>
          <p:spPr>
            <a:xfrm flipH="1" rot="7105800">
              <a:off x="457920" y="259560"/>
              <a:ext cx="382680" cy="67104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1FEA-938E-4E07-9281-D8D6369C1AC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4680-527B-4D89-A95B-ECECDC3177E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402E-B8E9-407B-875B-9A4CC97C40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DCF5-50AD-4F0A-AD08-7B0DFAC4F4D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ABE-528D-41B5-B861-F52155A056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D68-1F46-4111-8DF1-7DF38B733FB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94C7-B6D3-4B41-9849-7A3D9B3B623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7B06-C009-424D-BD91-2325C677941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7AC-DA91-4F89-8BD6-59344D7B024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2BC-F204-4585-8081-5B020ABE0CF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99D-1F34-45DD-BBA1-D8A1896C07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A73-D78A-41FF-896D-5BC8D1CE7AD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ED1E-B07E-4DCC-A9CC-BEB37E14D5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586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589" name="文本框 17"/>
          <p:cNvSpPr/>
          <p:nvPr/>
        </p:nvSpPr>
        <p:spPr>
          <a:xfrm>
            <a:off x="5823000" y="2021040"/>
            <a:ext cx="6280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</a:t>
            </a:r>
            <a:r>
              <a:rPr b="1" lang="en-US" sz="6600" spc="-1" strike="noStrike">
                <a:solidFill>
                  <a:srgbClr val="2b8c74"/>
                </a:solidFill>
                <a:latin typeface="微软雅黑"/>
                <a:ea typeface="微软雅黑"/>
              </a:rPr>
              <a:t>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8"/>
          <p:cNvSpPr/>
          <p:nvPr/>
        </p:nvSpPr>
        <p:spPr>
          <a:xfrm>
            <a:off x="7480440" y="324180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20"/>
          <p:cNvSpPr/>
          <p:nvPr/>
        </p:nvSpPr>
        <p:spPr>
          <a:xfrm>
            <a:off x="5994360" y="3129120"/>
            <a:ext cx="5759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594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5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596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7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598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01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5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泪滴形 4"/>
          <p:cNvSpPr/>
          <p:nvPr/>
        </p:nvSpPr>
        <p:spPr>
          <a:xfrm rot="8100000">
            <a:off x="8512920" y="1906200"/>
            <a:ext cx="25606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图片 5" descr=""/>
          <p:cNvPicPr/>
          <p:nvPr/>
        </p:nvPicPr>
        <p:blipFill>
          <a:blip r:embed="rId2"/>
          <a:stretch/>
        </p:blipFill>
        <p:spPr>
          <a:xfrm>
            <a:off x="8675640" y="2109960"/>
            <a:ext cx="2238480" cy="2201760"/>
          </a:xfrm>
          <a:prstGeom prst="rect">
            <a:avLst/>
          </a:prstGeom>
          <a:ln w="0">
            <a:noFill/>
          </a:ln>
        </p:spPr>
      </p:pic>
      <p:sp>
        <p:nvSpPr>
          <p:cNvPr id="761" name="泪滴形 7"/>
          <p:cNvSpPr/>
          <p:nvPr/>
        </p:nvSpPr>
        <p:spPr>
          <a:xfrm rot="8100000">
            <a:off x="3405240" y="1905840"/>
            <a:ext cx="2558880" cy="2560680"/>
          </a:xfrm>
          <a:custGeom>
            <a:avLst/>
            <a:gdLst/>
            <a:ahLst/>
            <a:rect l="l" t="t" r="r" b="b"/>
            <a:pathLst>
              <a:path w="2560320" h="2560320">
                <a:moveTo>
                  <a:pt x="0" y="1280160"/>
                </a:moveTo>
                <a:cubicBezTo>
                  <a:pt x="0" y="573147"/>
                  <a:pt x="573147" y="0"/>
                  <a:pt x="1280160" y="0"/>
                </a:cubicBezTo>
                <a:lnTo>
                  <a:pt x="2560320" y="0"/>
                </a:lnTo>
                <a:lnTo>
                  <a:pt x="2560320" y="1280160"/>
                </a:lnTo>
                <a:cubicBezTo>
                  <a:pt x="2560320" y="1987173"/>
                  <a:pt x="1987173" y="2560320"/>
                  <a:pt x="1280160" y="2560320"/>
                </a:cubicBezTo>
                <a:cubicBezTo>
                  <a:pt x="573147" y="2560320"/>
                  <a:pt x="0" y="1987173"/>
                  <a:pt x="0" y="1280160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2" name="图片 8" descr=""/>
          <p:cNvPicPr/>
          <p:nvPr/>
        </p:nvPicPr>
        <p:blipFill>
          <a:blip r:embed="rId3"/>
          <a:stretch/>
        </p:blipFill>
        <p:spPr>
          <a:xfrm>
            <a:off x="3587760" y="2128680"/>
            <a:ext cx="2193840" cy="2183040"/>
          </a:xfrm>
          <a:prstGeom prst="rect">
            <a:avLst/>
          </a:prstGeom>
          <a:ln w="0">
            <a:noFill/>
          </a:ln>
        </p:spPr>
      </p:pic>
      <p:sp>
        <p:nvSpPr>
          <p:cNvPr id="763" name="文本框 9"/>
          <p:cNvSpPr/>
          <p:nvPr/>
        </p:nvSpPr>
        <p:spPr>
          <a:xfrm>
            <a:off x="6099120" y="244476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10"/>
          <p:cNvSpPr/>
          <p:nvPr/>
        </p:nvSpPr>
        <p:spPr>
          <a:xfrm>
            <a:off x="6099120" y="2925720"/>
            <a:ext cx="22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11"/>
          <p:cNvSpPr/>
          <p:nvPr/>
        </p:nvSpPr>
        <p:spPr>
          <a:xfrm>
            <a:off x="1042920" y="24447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10"/>
          <p:cNvSpPr/>
          <p:nvPr/>
        </p:nvSpPr>
        <p:spPr>
          <a:xfrm>
            <a:off x="1042920" y="2925720"/>
            <a:ext cx="227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泪滴形 3"/>
          <p:cNvSpPr/>
          <p:nvPr/>
        </p:nvSpPr>
        <p:spPr>
          <a:xfrm rot="2700000">
            <a:off x="2745360" y="1433880"/>
            <a:ext cx="127620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泪滴形 4"/>
          <p:cNvSpPr/>
          <p:nvPr/>
        </p:nvSpPr>
        <p:spPr>
          <a:xfrm rot="2700000">
            <a:off x="2746080" y="311148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泪滴形 5"/>
          <p:cNvSpPr/>
          <p:nvPr/>
        </p:nvSpPr>
        <p:spPr>
          <a:xfrm rot="2700000">
            <a:off x="2746080" y="4788000"/>
            <a:ext cx="1274760" cy="1274760"/>
          </a:xfrm>
          <a:custGeom>
            <a:avLst/>
            <a:gdLst/>
            <a:ahLst/>
            <a:rect l="l" t="t" r="r" b="b"/>
            <a:pathLst>
              <a:path w="1275488" h="1275488">
                <a:moveTo>
                  <a:pt x="0" y="637744"/>
                </a:moveTo>
                <a:cubicBezTo>
                  <a:pt x="0" y="285528"/>
                  <a:pt x="285528" y="0"/>
                  <a:pt x="637744" y="0"/>
                </a:cubicBezTo>
                <a:lnTo>
                  <a:pt x="1275488" y="0"/>
                </a:lnTo>
                <a:lnTo>
                  <a:pt x="1275488" y="637744"/>
                </a:lnTo>
                <a:cubicBezTo>
                  <a:pt x="1275488" y="989960"/>
                  <a:pt x="989960" y="1275488"/>
                  <a:pt x="637744" y="1275488"/>
                </a:cubicBezTo>
                <a:cubicBezTo>
                  <a:pt x="285528" y="1275488"/>
                  <a:pt x="0" y="989960"/>
                  <a:pt x="0" y="637744"/>
                </a:cubicBez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"/>
          <p:cNvSpPr/>
          <p:nvPr/>
        </p:nvSpPr>
        <p:spPr>
          <a:xfrm>
            <a:off x="4491000" y="1170000"/>
            <a:ext cx="0" cy="515772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椭圆 7"/>
          <p:cNvSpPr/>
          <p:nvPr/>
        </p:nvSpPr>
        <p:spPr>
          <a:xfrm>
            <a:off x="4424400" y="2006640"/>
            <a:ext cx="128520" cy="1299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椭圆 8"/>
          <p:cNvSpPr/>
          <p:nvPr/>
        </p:nvSpPr>
        <p:spPr>
          <a:xfrm>
            <a:off x="4424400" y="368460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椭圆 9"/>
          <p:cNvSpPr/>
          <p:nvPr/>
        </p:nvSpPr>
        <p:spPr>
          <a:xfrm>
            <a:off x="4424400" y="5361120"/>
            <a:ext cx="128520" cy="1285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文本框 10"/>
          <p:cNvSpPr/>
          <p:nvPr/>
        </p:nvSpPr>
        <p:spPr>
          <a:xfrm>
            <a:off x="3075120" y="1871640"/>
            <a:ext cx="8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文本框 11"/>
          <p:cNvSpPr/>
          <p:nvPr/>
        </p:nvSpPr>
        <p:spPr>
          <a:xfrm>
            <a:off x="3078000" y="354816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078000" y="5224320"/>
            <a:ext cx="8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13"/>
          <p:cNvSpPr/>
          <p:nvPr/>
        </p:nvSpPr>
        <p:spPr>
          <a:xfrm>
            <a:off x="4878360" y="1654200"/>
            <a:ext cx="2730600" cy="37764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759200" y="21081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17"/>
          <p:cNvSpPr/>
          <p:nvPr/>
        </p:nvSpPr>
        <p:spPr>
          <a:xfrm>
            <a:off x="4878360" y="341640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10"/>
          <p:cNvSpPr/>
          <p:nvPr/>
        </p:nvSpPr>
        <p:spPr>
          <a:xfrm>
            <a:off x="4759200" y="386856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矩形 19"/>
          <p:cNvSpPr/>
          <p:nvPr/>
        </p:nvSpPr>
        <p:spPr>
          <a:xfrm>
            <a:off x="4878360" y="5037120"/>
            <a:ext cx="2730600" cy="37620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您的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10"/>
          <p:cNvSpPr/>
          <p:nvPr/>
        </p:nvSpPr>
        <p:spPr>
          <a:xfrm>
            <a:off x="4759200" y="5489640"/>
            <a:ext cx="480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8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六边形 77"/>
          <p:cNvSpPr/>
          <p:nvPr/>
        </p:nvSpPr>
        <p:spPr>
          <a:xfrm>
            <a:off x="4321080" y="2022480"/>
            <a:ext cx="3457800" cy="29811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六边形 10"/>
          <p:cNvSpPr/>
          <p:nvPr/>
        </p:nvSpPr>
        <p:spPr>
          <a:xfrm>
            <a:off x="2994120" y="2249640"/>
            <a:ext cx="16272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六边形 10"/>
          <p:cNvSpPr/>
          <p:nvPr/>
        </p:nvSpPr>
        <p:spPr>
          <a:xfrm rot="10800000">
            <a:off x="7478280" y="2249640"/>
            <a:ext cx="1629000" cy="2519280"/>
          </a:xfrm>
          <a:custGeom>
            <a:avLst/>
            <a:gdLst/>
            <a:ahLst/>
            <a:rect l="l" t="t" r="r" b="b"/>
            <a:pathLst>
              <a:path w="1126614" h="1744451">
                <a:moveTo>
                  <a:pt x="0" y="867896"/>
                </a:moveTo>
                <a:lnTo>
                  <a:pt x="417177" y="0"/>
                </a:lnTo>
                <a:lnTo>
                  <a:pt x="1126614" y="15148"/>
                </a:lnTo>
                <a:lnTo>
                  <a:pt x="707308" y="881964"/>
                </a:lnTo>
                <a:lnTo>
                  <a:pt x="1120124" y="1744451"/>
                </a:lnTo>
                <a:lnTo>
                  <a:pt x="487516" y="1744451"/>
                </a:lnTo>
                <a:lnTo>
                  <a:pt x="0" y="867896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0" name="Group 7"/>
          <p:cNvGrpSpPr/>
          <p:nvPr/>
        </p:nvGrpSpPr>
        <p:grpSpPr>
          <a:xfrm>
            <a:off x="4967280" y="2513160"/>
            <a:ext cx="2166840" cy="829080"/>
            <a:chOff x="4967280" y="2513160"/>
            <a:chExt cx="2166840" cy="829080"/>
          </a:xfrm>
        </p:grpSpPr>
        <p:sp>
          <p:nvSpPr>
            <p:cNvPr id="791" name="TextBox 10"/>
            <p:cNvSpPr/>
            <p:nvPr/>
          </p:nvSpPr>
          <p:spPr>
            <a:xfrm>
              <a:off x="4967280" y="3065760"/>
              <a:ext cx="216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文本框 82"/>
            <p:cNvSpPr/>
            <p:nvPr/>
          </p:nvSpPr>
          <p:spPr>
            <a:xfrm>
              <a:off x="546444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Group 10"/>
          <p:cNvGrpSpPr/>
          <p:nvPr/>
        </p:nvGrpSpPr>
        <p:grpSpPr>
          <a:xfrm>
            <a:off x="695160" y="2513160"/>
            <a:ext cx="1952640" cy="676800"/>
            <a:chOff x="695160" y="2513160"/>
            <a:chExt cx="1952640" cy="676800"/>
          </a:xfrm>
        </p:grpSpPr>
        <p:sp>
          <p:nvSpPr>
            <p:cNvPr id="794" name="TextBox 10"/>
            <p:cNvSpPr/>
            <p:nvPr/>
          </p:nvSpPr>
          <p:spPr>
            <a:xfrm>
              <a:off x="695160" y="2913480"/>
              <a:ext cx="195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文本框 85"/>
            <p:cNvSpPr/>
            <p:nvPr/>
          </p:nvSpPr>
          <p:spPr>
            <a:xfrm>
              <a:off x="695160" y="2513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Group 13"/>
          <p:cNvGrpSpPr/>
          <p:nvPr/>
        </p:nvGrpSpPr>
        <p:grpSpPr>
          <a:xfrm>
            <a:off x="9453600" y="2481120"/>
            <a:ext cx="1950840" cy="676800"/>
            <a:chOff x="9453600" y="2481120"/>
            <a:chExt cx="1950840" cy="676800"/>
          </a:xfrm>
        </p:grpSpPr>
        <p:sp>
          <p:nvSpPr>
            <p:cNvPr id="797" name="TextBox 10"/>
            <p:cNvSpPr/>
            <p:nvPr/>
          </p:nvSpPr>
          <p:spPr>
            <a:xfrm>
              <a:off x="9453600" y="2881440"/>
              <a:ext cx="195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文本框 88"/>
            <p:cNvSpPr/>
            <p:nvPr/>
          </p:nvSpPr>
          <p:spPr>
            <a:xfrm>
              <a:off x="9453600" y="2481120"/>
              <a:ext cx="117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0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4"/>
          <p:cNvGrpSpPr/>
          <p:nvPr/>
        </p:nvGrpSpPr>
        <p:grpSpPr>
          <a:xfrm>
            <a:off x="2171880" y="1306440"/>
            <a:ext cx="2255760" cy="3294000"/>
            <a:chOff x="2171880" y="1306440"/>
            <a:chExt cx="2255760" cy="3294000"/>
          </a:xfrm>
        </p:grpSpPr>
        <p:pic>
          <p:nvPicPr>
            <p:cNvPr id="802" name="图片 4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2171880" y="1845720"/>
              <a:ext cx="22557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矩形 5"/>
            <p:cNvSpPr/>
            <p:nvPr/>
          </p:nvSpPr>
          <p:spPr>
            <a:xfrm>
              <a:off x="2171880" y="1306440"/>
              <a:ext cx="22557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Group 7"/>
          <p:cNvGrpSpPr/>
          <p:nvPr/>
        </p:nvGrpSpPr>
        <p:grpSpPr>
          <a:xfrm>
            <a:off x="4937040" y="1306440"/>
            <a:ext cx="2254320" cy="3294000"/>
            <a:chOff x="4937040" y="1306440"/>
            <a:chExt cx="2254320" cy="3294000"/>
          </a:xfrm>
        </p:grpSpPr>
        <p:pic>
          <p:nvPicPr>
            <p:cNvPr id="805" name="图片 7" descr=""/>
            <p:cNvPicPr/>
            <p:nvPr/>
          </p:nvPicPr>
          <p:blipFill>
            <a:blip r:embed="rId3">
              <a:alphaModFix amt="36000"/>
            </a:blip>
            <a:stretch/>
          </p:blipFill>
          <p:spPr>
            <a:xfrm>
              <a:off x="4938840" y="1845720"/>
              <a:ext cx="225252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矩形 8"/>
            <p:cNvSpPr/>
            <p:nvPr/>
          </p:nvSpPr>
          <p:spPr>
            <a:xfrm>
              <a:off x="4937040" y="1306440"/>
              <a:ext cx="225432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Group 10"/>
          <p:cNvGrpSpPr/>
          <p:nvPr/>
        </p:nvGrpSpPr>
        <p:grpSpPr>
          <a:xfrm>
            <a:off x="7702560" y="1306440"/>
            <a:ext cx="2257560" cy="3294000"/>
            <a:chOff x="7702560" y="1306440"/>
            <a:chExt cx="2257560" cy="3294000"/>
          </a:xfrm>
        </p:grpSpPr>
        <p:pic>
          <p:nvPicPr>
            <p:cNvPr id="808" name="图片 10" descr=""/>
            <p:cNvPicPr/>
            <p:nvPr/>
          </p:nvPicPr>
          <p:blipFill>
            <a:blip r:embed="rId4">
              <a:alphaModFix amt="36000"/>
            </a:blip>
            <a:stretch/>
          </p:blipFill>
          <p:spPr>
            <a:xfrm>
              <a:off x="7702560" y="1845720"/>
              <a:ext cx="2257560" cy="275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矩形 11"/>
            <p:cNvSpPr/>
            <p:nvPr/>
          </p:nvSpPr>
          <p:spPr>
            <a:xfrm>
              <a:off x="7702560" y="1306440"/>
              <a:ext cx="2257560" cy="5392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TextBox 10"/>
          <p:cNvSpPr/>
          <p:nvPr/>
        </p:nvSpPr>
        <p:spPr>
          <a:xfrm>
            <a:off x="217188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10"/>
          <p:cNvSpPr/>
          <p:nvPr/>
        </p:nvSpPr>
        <p:spPr>
          <a:xfrm>
            <a:off x="497052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10"/>
          <p:cNvSpPr/>
          <p:nvPr/>
        </p:nvSpPr>
        <p:spPr>
          <a:xfrm>
            <a:off x="7769160" y="4851360"/>
            <a:ext cx="222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1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椭圆 3"/>
          <p:cNvSpPr/>
          <p:nvPr/>
        </p:nvSpPr>
        <p:spPr>
          <a:xfrm>
            <a:off x="1514520" y="175896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椭圆 4"/>
          <p:cNvSpPr/>
          <p:nvPr/>
        </p:nvSpPr>
        <p:spPr>
          <a:xfrm>
            <a:off x="310032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5"/>
          <p:cNvSpPr/>
          <p:nvPr/>
        </p:nvSpPr>
        <p:spPr>
          <a:xfrm>
            <a:off x="4684680" y="175896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椭圆 6"/>
          <p:cNvSpPr/>
          <p:nvPr/>
        </p:nvSpPr>
        <p:spPr>
          <a:xfrm>
            <a:off x="1514520" y="3832200"/>
            <a:ext cx="128268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椭圆 7"/>
          <p:cNvSpPr/>
          <p:nvPr/>
        </p:nvSpPr>
        <p:spPr>
          <a:xfrm>
            <a:off x="310032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椭圆 8"/>
          <p:cNvSpPr/>
          <p:nvPr/>
        </p:nvSpPr>
        <p:spPr>
          <a:xfrm>
            <a:off x="4684680" y="3832200"/>
            <a:ext cx="1281240" cy="128268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文本框 9"/>
          <p:cNvSpPr/>
          <p:nvPr/>
        </p:nvSpPr>
        <p:spPr>
          <a:xfrm>
            <a:off x="158112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0"/>
          <p:cNvSpPr/>
          <p:nvPr/>
        </p:nvSpPr>
        <p:spPr>
          <a:xfrm>
            <a:off x="3209760" y="30672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文本框 11"/>
          <p:cNvSpPr/>
          <p:nvPr/>
        </p:nvSpPr>
        <p:spPr>
          <a:xfrm>
            <a:off x="4838760" y="3067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12"/>
          <p:cNvSpPr/>
          <p:nvPr/>
        </p:nvSpPr>
        <p:spPr>
          <a:xfrm>
            <a:off x="158112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13"/>
          <p:cNvSpPr/>
          <p:nvPr/>
        </p:nvSpPr>
        <p:spPr>
          <a:xfrm>
            <a:off x="3209760" y="514044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15"/>
          <p:cNvSpPr/>
          <p:nvPr/>
        </p:nvSpPr>
        <p:spPr>
          <a:xfrm>
            <a:off x="4838760" y="51404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图片 17" descr=""/>
          <p:cNvPicPr/>
          <p:nvPr/>
        </p:nvPicPr>
        <p:blipFill>
          <a:blip r:embed="rId2"/>
          <a:stretch/>
        </p:blipFill>
        <p:spPr>
          <a:xfrm>
            <a:off x="177480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8" descr=""/>
          <p:cNvPicPr/>
          <p:nvPr/>
        </p:nvPicPr>
        <p:blipFill>
          <a:blip r:embed="rId3"/>
          <a:stretch/>
        </p:blipFill>
        <p:spPr>
          <a:xfrm>
            <a:off x="3359160" y="4092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9" descr=""/>
          <p:cNvPicPr/>
          <p:nvPr/>
        </p:nvPicPr>
        <p:blipFill>
          <a:blip r:embed="rId4"/>
          <a:stretch/>
        </p:blipFill>
        <p:spPr>
          <a:xfrm>
            <a:off x="4943520" y="414972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20" descr=""/>
          <p:cNvPicPr/>
          <p:nvPr/>
        </p:nvPicPr>
        <p:blipFill>
          <a:blip r:embed="rId5"/>
          <a:stretch/>
        </p:blipFill>
        <p:spPr>
          <a:xfrm>
            <a:off x="1749600" y="2016000"/>
            <a:ext cx="761760" cy="7686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1" descr=""/>
          <p:cNvPicPr/>
          <p:nvPr/>
        </p:nvPicPr>
        <p:blipFill>
          <a:blip r:embed="rId6"/>
          <a:stretch/>
        </p:blipFill>
        <p:spPr>
          <a:xfrm>
            <a:off x="3359160" y="2019240"/>
            <a:ext cx="768240" cy="7621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22" descr=""/>
          <p:cNvPicPr/>
          <p:nvPr/>
        </p:nvPicPr>
        <p:blipFill>
          <a:blip r:embed="rId7"/>
          <a:stretch/>
        </p:blipFill>
        <p:spPr>
          <a:xfrm>
            <a:off x="4962600" y="201924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22"/>
          <p:cNvGrpSpPr/>
          <p:nvPr/>
        </p:nvGrpSpPr>
        <p:grpSpPr>
          <a:xfrm>
            <a:off x="7078680" y="1922400"/>
            <a:ext cx="3654360" cy="661680"/>
            <a:chOff x="7078680" y="1922400"/>
            <a:chExt cx="3654360" cy="661680"/>
          </a:xfrm>
        </p:grpSpPr>
        <p:sp>
          <p:nvSpPr>
            <p:cNvPr id="834" name="TextBox 10"/>
            <p:cNvSpPr/>
            <p:nvPr/>
          </p:nvSpPr>
          <p:spPr>
            <a:xfrm>
              <a:off x="7078680" y="232272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文本框 25"/>
            <p:cNvSpPr/>
            <p:nvPr/>
          </p:nvSpPr>
          <p:spPr>
            <a:xfrm>
              <a:off x="7078680" y="192240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6" name="Group 25"/>
          <p:cNvGrpSpPr/>
          <p:nvPr/>
        </p:nvGrpSpPr>
        <p:grpSpPr>
          <a:xfrm>
            <a:off x="7078680" y="3114720"/>
            <a:ext cx="3654360" cy="661680"/>
            <a:chOff x="7078680" y="3114720"/>
            <a:chExt cx="3654360" cy="661680"/>
          </a:xfrm>
        </p:grpSpPr>
        <p:sp>
          <p:nvSpPr>
            <p:cNvPr id="837" name="TextBox 10"/>
            <p:cNvSpPr/>
            <p:nvPr/>
          </p:nvSpPr>
          <p:spPr>
            <a:xfrm>
              <a:off x="7078680" y="3515040"/>
              <a:ext cx="3654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文本框 28"/>
            <p:cNvSpPr/>
            <p:nvPr/>
          </p:nvSpPr>
          <p:spPr>
            <a:xfrm>
              <a:off x="7078680" y="311472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9" name="Group 28"/>
          <p:cNvGrpSpPr/>
          <p:nvPr/>
        </p:nvGrpSpPr>
        <p:grpSpPr>
          <a:xfrm>
            <a:off x="7078680" y="4340160"/>
            <a:ext cx="3654360" cy="829440"/>
            <a:chOff x="7078680" y="4340160"/>
            <a:chExt cx="3654360" cy="829440"/>
          </a:xfrm>
        </p:grpSpPr>
        <p:sp>
          <p:nvSpPr>
            <p:cNvPr id="840" name="TextBox 10"/>
            <p:cNvSpPr/>
            <p:nvPr/>
          </p:nvSpPr>
          <p:spPr>
            <a:xfrm>
              <a:off x="7078680" y="4740840"/>
              <a:ext cx="365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新闻，每天为广大培训行业从业者以及学习爱好者传播有关培训经验、培训知识、管理智慧等及时资讯！给您一个订阅的理由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文本框 31"/>
            <p:cNvSpPr/>
            <p:nvPr/>
          </p:nvSpPr>
          <p:spPr>
            <a:xfrm>
              <a:off x="7078680" y="4340160"/>
              <a:ext cx="117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84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Group 4"/>
          <p:cNvGrpSpPr/>
          <p:nvPr/>
        </p:nvGrpSpPr>
        <p:grpSpPr>
          <a:xfrm>
            <a:off x="1110600" y="2034360"/>
            <a:ext cx="4578480" cy="2688840"/>
            <a:chOff x="1110600" y="2034360"/>
            <a:chExt cx="4578480" cy="2688840"/>
          </a:xfrm>
        </p:grpSpPr>
        <p:sp>
          <p:nvSpPr>
            <p:cNvPr id="845" name="矩形 4"/>
            <p:cNvSpPr/>
            <p:nvPr/>
          </p:nvSpPr>
          <p:spPr>
            <a:xfrm rot="2734200">
              <a:off x="1363320" y="22874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矩形 5"/>
            <p:cNvSpPr/>
            <p:nvPr/>
          </p:nvSpPr>
          <p:spPr>
            <a:xfrm rot="2734200">
              <a:off x="2282040" y="323784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矩形 6"/>
            <p:cNvSpPr/>
            <p:nvPr/>
          </p:nvSpPr>
          <p:spPr>
            <a:xfrm rot="2734200">
              <a:off x="3263400" y="229752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矩形 7"/>
            <p:cNvSpPr/>
            <p:nvPr/>
          </p:nvSpPr>
          <p:spPr>
            <a:xfrm rot="2734200">
              <a:off x="4213440" y="3248280"/>
              <a:ext cx="1222200" cy="122184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9" name="文本框 8"/>
          <p:cNvSpPr/>
          <p:nvPr/>
        </p:nvSpPr>
        <p:spPr>
          <a:xfrm>
            <a:off x="6480000" y="246384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图片 9" descr=""/>
          <p:cNvPicPr/>
          <p:nvPr/>
        </p:nvPicPr>
        <p:blipFill>
          <a:blip r:embed="rId2"/>
          <a:stretch/>
        </p:blipFill>
        <p:spPr>
          <a:xfrm>
            <a:off x="1782720" y="2425680"/>
            <a:ext cx="382680" cy="38088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10" descr=""/>
          <p:cNvPicPr/>
          <p:nvPr/>
        </p:nvPicPr>
        <p:blipFill>
          <a:blip r:embed="rId3"/>
          <a:stretch/>
        </p:blipFill>
        <p:spPr>
          <a:xfrm>
            <a:off x="3627360" y="2374920"/>
            <a:ext cx="459000" cy="45864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11" descr=""/>
          <p:cNvPicPr/>
          <p:nvPr/>
        </p:nvPicPr>
        <p:blipFill>
          <a:blip r:embed="rId4"/>
          <a:stretch/>
        </p:blipFill>
        <p:spPr>
          <a:xfrm>
            <a:off x="2622600" y="3319560"/>
            <a:ext cx="565200" cy="5634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2" descr=""/>
          <p:cNvPicPr/>
          <p:nvPr/>
        </p:nvPicPr>
        <p:blipFill>
          <a:blip r:embed="rId5"/>
          <a:stretch/>
        </p:blipFill>
        <p:spPr>
          <a:xfrm>
            <a:off x="4532400" y="3297240"/>
            <a:ext cx="608040" cy="608040"/>
          </a:xfrm>
          <a:prstGeom prst="rect">
            <a:avLst/>
          </a:prstGeom>
          <a:ln w="0">
            <a:noFill/>
          </a:ln>
        </p:spPr>
      </p:pic>
      <p:sp>
        <p:nvSpPr>
          <p:cNvPr id="854" name="文本框 13"/>
          <p:cNvSpPr/>
          <p:nvPr/>
        </p:nvSpPr>
        <p:spPr>
          <a:xfrm>
            <a:off x="350532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文本框 15"/>
          <p:cNvSpPr/>
          <p:nvPr/>
        </p:nvSpPr>
        <p:spPr>
          <a:xfrm>
            <a:off x="4516560" y="3979800"/>
            <a:ext cx="7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文本框 17"/>
          <p:cNvSpPr/>
          <p:nvPr/>
        </p:nvSpPr>
        <p:spPr>
          <a:xfrm>
            <a:off x="2550960" y="397980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8"/>
          <p:cNvSpPr/>
          <p:nvPr/>
        </p:nvSpPr>
        <p:spPr>
          <a:xfrm>
            <a:off x="1612800" y="29955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文本框 19"/>
          <p:cNvSpPr/>
          <p:nvPr/>
        </p:nvSpPr>
        <p:spPr>
          <a:xfrm>
            <a:off x="6480000" y="20559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20"/>
          <p:cNvSpPr/>
          <p:nvPr/>
        </p:nvSpPr>
        <p:spPr>
          <a:xfrm>
            <a:off x="6480000" y="3979800"/>
            <a:ext cx="432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文本框 21"/>
          <p:cNvSpPr/>
          <p:nvPr/>
        </p:nvSpPr>
        <p:spPr>
          <a:xfrm>
            <a:off x="6480000" y="35701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2" name="Group 3"/>
          <p:cNvGrpSpPr/>
          <p:nvPr/>
        </p:nvGrpSpPr>
        <p:grpSpPr>
          <a:xfrm>
            <a:off x="9389880" y="-390240"/>
            <a:ext cx="2464200" cy="2473920"/>
            <a:chOff x="9389880" y="-390240"/>
            <a:chExt cx="2464200" cy="2473920"/>
          </a:xfrm>
        </p:grpSpPr>
        <p:pic>
          <p:nvPicPr>
            <p:cNvPr id="863" name="图片 13" descr=""/>
            <p:cNvPicPr/>
            <p:nvPr/>
          </p:nvPicPr>
          <p:blipFill>
            <a:blip r:embed="rId2"/>
            <a:srcRect l="64197" t="0" r="9510" b="56265"/>
            <a:stretch/>
          </p:blipFill>
          <p:spPr>
            <a:xfrm rot="13699200">
              <a:off x="9718200" y="1080"/>
              <a:ext cx="1806840" cy="16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等腰三角形 14"/>
            <p:cNvSpPr/>
            <p:nvPr/>
          </p:nvSpPr>
          <p:spPr>
            <a:xfrm flipH="1" rot="7105800">
              <a:off x="9892800" y="411840"/>
              <a:ext cx="658440" cy="1153800"/>
            </a:xfrm>
            <a:custGeom>
              <a:avLst/>
              <a:gdLst/>
              <a:ahLst/>
              <a:rect l="l" t="t" r="r" b="b"/>
              <a:pathLst>
                <a:path w="658366" h="1153545">
                  <a:moveTo>
                    <a:pt x="0" y="1069139"/>
                  </a:moveTo>
                  <a:lnTo>
                    <a:pt x="80269" y="0"/>
                  </a:lnTo>
                  <a:lnTo>
                    <a:pt x="658366" y="1153545"/>
                  </a:lnTo>
                  <a:lnTo>
                    <a:pt x="0" y="1069139"/>
                  </a:lnTo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5" name="图片 16" descr=""/>
          <p:cNvPicPr/>
          <p:nvPr/>
        </p:nvPicPr>
        <p:blipFill>
          <a:blip r:embed="rId3"/>
          <a:srcRect l="50883" t="59343" r="35144" b="22086"/>
          <a:stretch/>
        </p:blipFill>
        <p:spPr>
          <a:xfrm rot="11829600">
            <a:off x="8438760" y="149040"/>
            <a:ext cx="1405080" cy="1050840"/>
          </a:xfrm>
          <a:prstGeom prst="rect">
            <a:avLst/>
          </a:prstGeom>
          <a:ln w="0">
            <a:noFill/>
          </a:ln>
        </p:spPr>
      </p:pic>
      <p:sp>
        <p:nvSpPr>
          <p:cNvPr id="866" name="文本框 17"/>
          <p:cNvSpPr/>
          <p:nvPr/>
        </p:nvSpPr>
        <p:spPr>
          <a:xfrm>
            <a:off x="7826400" y="2011320"/>
            <a:ext cx="400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2766f"/>
                </a:solidFill>
                <a:latin typeface="方正兰亭特黑_GBK"/>
                <a:ea typeface="方正兰亭特黑_GBK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18"/>
          <p:cNvSpPr/>
          <p:nvPr/>
        </p:nvSpPr>
        <p:spPr>
          <a:xfrm>
            <a:off x="7893000" y="3238560"/>
            <a:ext cx="35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计划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总结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述职报告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20"/>
          <p:cNvSpPr/>
          <p:nvPr/>
        </p:nvSpPr>
        <p:spPr>
          <a:xfrm>
            <a:off x="7826400" y="3129120"/>
            <a:ext cx="392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9" name="文本框 21" descr=""/>
          <p:cNvPicPr/>
          <p:nvPr/>
        </p:nvPicPr>
        <p:blipFill>
          <a:blip r:embed="rId4"/>
          <a:stretch/>
        </p:blipFill>
        <p:spPr>
          <a:xfrm>
            <a:off x="-4680" y="5907240"/>
            <a:ext cx="18889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1"/>
          <p:cNvGrpSpPr/>
          <p:nvPr/>
        </p:nvGrpSpPr>
        <p:grpSpPr>
          <a:xfrm>
            <a:off x="0" y="1932120"/>
            <a:ext cx="10829160" cy="4952880"/>
            <a:chOff x="0" y="1932120"/>
            <a:chExt cx="10829160" cy="4952880"/>
          </a:xfrm>
        </p:grpSpPr>
        <p:pic>
          <p:nvPicPr>
            <p:cNvPr id="871" name="图片 6" descr=""/>
            <p:cNvPicPr/>
            <p:nvPr/>
          </p:nvPicPr>
          <p:blipFill>
            <a:blip r:embed="rId5"/>
            <a:srcRect l="64045" t="0" r="0" b="13348"/>
            <a:stretch/>
          </p:blipFill>
          <p:spPr>
            <a:xfrm flipH="1" rot="16200000">
              <a:off x="6641640" y="2670120"/>
              <a:ext cx="2764440" cy="561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2" name="Group 13"/>
            <p:cNvGrpSpPr/>
            <p:nvPr/>
          </p:nvGrpSpPr>
          <p:grpSpPr>
            <a:xfrm>
              <a:off x="0" y="1932120"/>
              <a:ext cx="8024760" cy="4952880"/>
              <a:chOff x="0" y="1932120"/>
              <a:chExt cx="8024760" cy="4952880"/>
            </a:xfrm>
          </p:grpSpPr>
          <p:pic>
            <p:nvPicPr>
              <p:cNvPr id="873" name="图片 5" descr=""/>
              <p:cNvPicPr/>
              <p:nvPr/>
            </p:nvPicPr>
            <p:blipFill>
              <a:blip r:embed="rId6"/>
              <a:srcRect l="39597" t="35245" r="1382" b="0"/>
              <a:stretch/>
            </p:blipFill>
            <p:spPr>
              <a:xfrm>
                <a:off x="0" y="1932120"/>
                <a:ext cx="8024760" cy="4952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5"/>
              <p:cNvGrpSpPr/>
              <p:nvPr/>
            </p:nvGrpSpPr>
            <p:grpSpPr>
              <a:xfrm>
                <a:off x="401760" y="1949040"/>
                <a:ext cx="3039480" cy="2544480"/>
                <a:chOff x="401760" y="1949040"/>
                <a:chExt cx="3039480" cy="2544480"/>
              </a:xfrm>
            </p:grpSpPr>
            <p:sp>
              <p:nvSpPr>
                <p:cNvPr id="875" name="等腰三角形 7"/>
                <p:cNvSpPr/>
                <p:nvPr/>
              </p:nvSpPr>
              <p:spPr>
                <a:xfrm rot="564000">
                  <a:off x="573480" y="2090160"/>
                  <a:ext cx="1917360" cy="2261520"/>
                </a:xfrm>
                <a:custGeom>
                  <a:avLst/>
                  <a:gdLst/>
                  <a:ahLst/>
                  <a:rect l="l" t="t" r="r" b="b"/>
                  <a:pathLst>
                    <a:path w="1917445" h="2261578">
                      <a:moveTo>
                        <a:pt x="0" y="2261578"/>
                      </a:moveTo>
                      <a:lnTo>
                        <a:pt x="1111164" y="0"/>
                      </a:lnTo>
                      <a:lnTo>
                        <a:pt x="1917445" y="2111215"/>
                      </a:lnTo>
                      <a:lnTo>
                        <a:pt x="0" y="2261578"/>
                      </a:lnTo>
                      <a:close/>
                    </a:path>
                  </a:pathLst>
                </a:cu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6" name="等腰三角形 8"/>
                <p:cNvSpPr/>
                <p:nvPr/>
              </p:nvSpPr>
              <p:spPr>
                <a:xfrm flipV="1" rot="2565000">
                  <a:off x="1192680" y="2583720"/>
                  <a:ext cx="1798920" cy="1296720"/>
                </a:xfrm>
                <a:custGeom>
                  <a:avLst/>
                  <a:gdLst/>
                  <a:ahLst/>
                  <a:rect l="l" t="t" r="r" b="b"/>
                  <a:pathLst>
                    <a:path w="1799049" h="1296852">
                      <a:moveTo>
                        <a:pt x="0" y="1296852"/>
                      </a:moveTo>
                      <a:lnTo>
                        <a:pt x="1799049" y="0"/>
                      </a:lnTo>
                      <a:lnTo>
                        <a:pt x="1627060" y="1294425"/>
                      </a:lnTo>
                      <a:lnTo>
                        <a:pt x="0" y="1296852"/>
                      </a:lnTo>
                      <a:close/>
                    </a:path>
                  </a:pathLst>
                </a:custGeom>
                <a:solidFill>
                  <a:srgbClr val="ffffff">
                    <a:alpha val="3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77" name="等腰三角形 9"/>
                <p:cNvSpPr/>
                <p:nvPr/>
              </p:nvSpPr>
              <p:spPr>
                <a:xfrm flipV="1" rot="4804800">
                  <a:off x="2264040" y="3182400"/>
                  <a:ext cx="994320" cy="1206000"/>
                </a:xfrm>
                <a:custGeom>
                  <a:avLst/>
                  <a:gdLst/>
                  <a:ahLst/>
                  <a:rect l="l" t="t" r="r" b="b"/>
                  <a:pathLst>
                    <a:path w="993581" h="1174242">
                      <a:moveTo>
                        <a:pt x="0" y="968770"/>
                      </a:moveTo>
                      <a:lnTo>
                        <a:pt x="975531" y="0"/>
                      </a:lnTo>
                      <a:cubicBezTo>
                        <a:pt x="977279" y="339796"/>
                        <a:pt x="991833" y="834446"/>
                        <a:pt x="993581" y="1174242"/>
                      </a:cubicBezTo>
                      <a:lnTo>
                        <a:pt x="0" y="968770"/>
                      </a:lnTo>
                      <a:close/>
                    </a:path>
                  </a:pathLst>
                </a:custGeom>
                <a:solidFill>
                  <a:srgbClr val="ffffff">
                    <a:alpha val="2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878" name="等腰三角形 22"/>
            <p:cNvSpPr/>
            <p:nvPr/>
          </p:nvSpPr>
          <p:spPr>
            <a:xfrm rot="2255400">
              <a:off x="6716160" y="4896720"/>
              <a:ext cx="2388960" cy="198000"/>
            </a:xfrm>
            <a:custGeom>
              <a:avLst/>
              <a:gdLst/>
              <a:ahLst/>
              <a:rect l="l" t="t" r="r" b="b"/>
              <a:pathLst>
                <a:path w="2388970" h="197980">
                  <a:moveTo>
                    <a:pt x="289686" y="158079"/>
                  </a:moveTo>
                  <a:lnTo>
                    <a:pt x="0" y="0"/>
                  </a:lnTo>
                  <a:lnTo>
                    <a:pt x="2388970" y="197980"/>
                  </a:lnTo>
                  <a:lnTo>
                    <a:pt x="289686" y="158079"/>
                  </a:lnTo>
                  <a:close/>
                </a:path>
              </a:pathLst>
            </a:cu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03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文本框 68" descr=""/>
          <p:cNvPicPr/>
          <p:nvPr/>
        </p:nvPicPr>
        <p:blipFill>
          <a:blip r:embed="rId2"/>
          <a:stretch/>
        </p:blipFill>
        <p:spPr>
          <a:xfrm>
            <a:off x="1109520" y="1079640"/>
            <a:ext cx="5089680" cy="638172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5"/>
          <p:cNvGrpSpPr/>
          <p:nvPr/>
        </p:nvGrpSpPr>
        <p:grpSpPr>
          <a:xfrm>
            <a:off x="1459440" y="1662120"/>
            <a:ext cx="4353840" cy="4353480"/>
            <a:chOff x="1459440" y="1662120"/>
            <a:chExt cx="4353840" cy="4353480"/>
          </a:xfrm>
        </p:grpSpPr>
        <p:sp>
          <p:nvSpPr>
            <p:cNvPr id="606" name="空心弧 70"/>
            <p:cNvSpPr/>
            <p:nvPr/>
          </p:nvSpPr>
          <p:spPr>
            <a:xfrm rot="4927200">
              <a:off x="1706040" y="1908360"/>
              <a:ext cx="3860640" cy="3861000"/>
            </a:xfrm>
            <a:custGeom>
              <a:avLst/>
              <a:gdLst/>
              <a:ahLst/>
              <a:rect l="l" t="t" r="r" b="b"/>
              <a:pathLst>
                <a:path w="3860471" h="3860471">
                  <a:moveTo>
                    <a:pt x="95233" y="1331424"/>
                  </a:moveTo>
                  <a:cubicBezTo>
                    <a:pt x="384873" y="443850"/>
                    <a:pt x="1268251" y="-109192"/>
                    <a:pt x="2193185" y="17994"/>
                  </a:cubicBezTo>
                  <a:cubicBezTo>
                    <a:pt x="3118119" y="145180"/>
                    <a:pt x="3819437" y="916131"/>
                    <a:pt x="3858759" y="1848940"/>
                  </a:cubicBezTo>
                  <a:lnTo>
                    <a:pt x="3812011" y="1850910"/>
                  </a:lnTo>
                  <a:cubicBezTo>
                    <a:pt x="3773642" y="940712"/>
                    <a:pt x="3089323" y="188449"/>
                    <a:pt x="2186810" y="64346"/>
                  </a:cubicBezTo>
                  <a:cubicBezTo>
                    <a:pt x="1284297" y="-59757"/>
                    <a:pt x="422331" y="479880"/>
                    <a:pt x="139713" y="1345939"/>
                  </a:cubicBezTo>
                  <a:lnTo>
                    <a:pt x="95233" y="1331424"/>
                  </a:lnTo>
                  <a:close/>
                </a:path>
              </a:pathLst>
            </a:cu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等腰三角形 71"/>
            <p:cNvSpPr/>
            <p:nvPr/>
          </p:nvSpPr>
          <p:spPr>
            <a:xfrm rot="17497200">
              <a:off x="3825720" y="1838160"/>
              <a:ext cx="239400" cy="20628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椭圆 72"/>
          <p:cNvSpPr/>
          <p:nvPr/>
        </p:nvSpPr>
        <p:spPr>
          <a:xfrm>
            <a:off x="4740120" y="481644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73"/>
          <p:cNvSpPr/>
          <p:nvPr/>
        </p:nvSpPr>
        <p:spPr>
          <a:xfrm>
            <a:off x="5234040" y="3487680"/>
            <a:ext cx="5792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74"/>
          <p:cNvSpPr/>
          <p:nvPr/>
        </p:nvSpPr>
        <p:spPr>
          <a:xfrm>
            <a:off x="4740120" y="2158920"/>
            <a:ext cx="581040" cy="5796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任意多边形 75"/>
          <p:cNvSpPr/>
          <p:nvPr/>
        </p:nvSpPr>
        <p:spPr>
          <a:xfrm>
            <a:off x="5321160" y="21160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任意多边形 76"/>
          <p:cNvSpPr/>
          <p:nvPr/>
        </p:nvSpPr>
        <p:spPr>
          <a:xfrm>
            <a:off x="5778360" y="3467160"/>
            <a:ext cx="3362400" cy="59832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任意多边形 77"/>
          <p:cNvSpPr/>
          <p:nvPr/>
        </p:nvSpPr>
        <p:spPr>
          <a:xfrm>
            <a:off x="5321160" y="4859280"/>
            <a:ext cx="3360960" cy="598680"/>
          </a:xfrm>
          <a:custGeom>
            <a:avLst/>
            <a:gdLst/>
            <a:ahLst/>
            <a:rect l="l" t="t" r="r" b="b"/>
            <a:pathLst>
              <a:path w="3361875" h="598750">
                <a:moveTo>
                  <a:pt x="2128" y="0"/>
                </a:moveTo>
                <a:lnTo>
                  <a:pt x="3062500" y="0"/>
                </a:lnTo>
                <a:cubicBezTo>
                  <a:pt x="3227840" y="0"/>
                  <a:pt x="3361875" y="134035"/>
                  <a:pt x="3361875" y="299375"/>
                </a:cubicBezTo>
                <a:cubicBezTo>
                  <a:pt x="3361875" y="464715"/>
                  <a:pt x="3227840" y="598750"/>
                  <a:pt x="3062500" y="598750"/>
                </a:cubicBezTo>
                <a:lnTo>
                  <a:pt x="0" y="598750"/>
                </a:lnTo>
                <a:lnTo>
                  <a:pt x="18422" y="583550"/>
                </a:lnTo>
                <a:cubicBezTo>
                  <a:pt x="91374" y="510599"/>
                  <a:pt x="136495" y="409817"/>
                  <a:pt x="136495" y="298497"/>
                </a:cubicBezTo>
                <a:cubicBezTo>
                  <a:pt x="136495" y="187177"/>
                  <a:pt x="91374" y="86396"/>
                  <a:pt x="18422" y="13444"/>
                </a:cubicBezTo>
                <a:lnTo>
                  <a:pt x="2128" y="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0"/>
          <p:cNvSpPr/>
          <p:nvPr/>
        </p:nvSpPr>
        <p:spPr>
          <a:xfrm>
            <a:off x="5440320" y="22082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TextBox 10"/>
          <p:cNvSpPr/>
          <p:nvPr/>
        </p:nvSpPr>
        <p:spPr>
          <a:xfrm>
            <a:off x="5899320" y="35701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10"/>
          <p:cNvSpPr/>
          <p:nvPr/>
        </p:nvSpPr>
        <p:spPr>
          <a:xfrm>
            <a:off x="5440320" y="4951440"/>
            <a:ext cx="32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梯形 3"/>
          <p:cNvSpPr/>
          <p:nvPr/>
        </p:nvSpPr>
        <p:spPr>
          <a:xfrm rot="5400000">
            <a:off x="192564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梯形 4"/>
          <p:cNvSpPr/>
          <p:nvPr/>
        </p:nvSpPr>
        <p:spPr>
          <a:xfrm rot="5400000">
            <a:off x="391140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梯形 5"/>
          <p:cNvSpPr/>
          <p:nvPr/>
        </p:nvSpPr>
        <p:spPr>
          <a:xfrm rot="5400000">
            <a:off x="5897520" y="1715760"/>
            <a:ext cx="1896840" cy="149400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梯形 6"/>
          <p:cNvSpPr/>
          <p:nvPr/>
        </p:nvSpPr>
        <p:spPr>
          <a:xfrm rot="5400000">
            <a:off x="7883280" y="1716120"/>
            <a:ext cx="1896840" cy="1493640"/>
          </a:xfrm>
          <a:custGeom>
            <a:avLst/>
            <a:gdLst/>
            <a:ahLst/>
            <a:rect l="l" t="t" r="r" b="b"/>
            <a:pathLst>
              <a:path w="1896406" h="1493235">
                <a:moveTo>
                  <a:pt x="0" y="1493235"/>
                </a:moveTo>
                <a:lnTo>
                  <a:pt x="403173" y="0"/>
                </a:lnTo>
                <a:lnTo>
                  <a:pt x="1493233" y="0"/>
                </a:lnTo>
                <a:lnTo>
                  <a:pt x="1896406" y="1493235"/>
                </a:lnTo>
                <a:lnTo>
                  <a:pt x="0" y="1493235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流程图: 过程 7"/>
          <p:cNvSpPr/>
          <p:nvPr/>
        </p:nvSpPr>
        <p:spPr>
          <a:xfrm>
            <a:off x="144360" y="3886200"/>
            <a:ext cx="7923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流程图: 过程 8"/>
          <p:cNvSpPr/>
          <p:nvPr/>
        </p:nvSpPr>
        <p:spPr>
          <a:xfrm>
            <a:off x="11193480" y="3886200"/>
            <a:ext cx="790560" cy="979560"/>
          </a:xfrm>
          <a:prstGeom prst="flowChartProcess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0"/>
          <p:cNvSpPr/>
          <p:nvPr/>
        </p:nvSpPr>
        <p:spPr>
          <a:xfrm>
            <a:off x="2127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0"/>
          <p:cNvSpPr/>
          <p:nvPr/>
        </p:nvSpPr>
        <p:spPr>
          <a:xfrm>
            <a:off x="411336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0"/>
          <p:cNvSpPr/>
          <p:nvPr/>
        </p:nvSpPr>
        <p:spPr>
          <a:xfrm>
            <a:off x="6099120" y="3568680"/>
            <a:ext cx="16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Box 10"/>
          <p:cNvSpPr/>
          <p:nvPr/>
        </p:nvSpPr>
        <p:spPr>
          <a:xfrm>
            <a:off x="8085240" y="3568680"/>
            <a:ext cx="1671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13"/>
          <p:cNvSpPr/>
          <p:nvPr/>
        </p:nvSpPr>
        <p:spPr>
          <a:xfrm>
            <a:off x="2289240" y="22780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文本框 15"/>
          <p:cNvSpPr/>
          <p:nvPr/>
        </p:nvSpPr>
        <p:spPr>
          <a:xfrm>
            <a:off x="4275000" y="227808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文本框 17"/>
          <p:cNvSpPr/>
          <p:nvPr/>
        </p:nvSpPr>
        <p:spPr>
          <a:xfrm>
            <a:off x="6259680" y="22780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文本框 18"/>
          <p:cNvSpPr/>
          <p:nvPr/>
        </p:nvSpPr>
        <p:spPr>
          <a:xfrm>
            <a:off x="8334360" y="227808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5" name="Group 4"/>
          <p:cNvGrpSpPr/>
          <p:nvPr/>
        </p:nvGrpSpPr>
        <p:grpSpPr>
          <a:xfrm>
            <a:off x="0" y="1714680"/>
            <a:ext cx="6276960" cy="3836880"/>
            <a:chOff x="0" y="1714680"/>
            <a:chExt cx="6276960" cy="3836880"/>
          </a:xfrm>
        </p:grpSpPr>
        <p:pic>
          <p:nvPicPr>
            <p:cNvPr id="636" name="图片 4" descr=""/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6276960" cy="38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图片 5" descr=""/>
            <p:cNvPicPr/>
            <p:nvPr/>
          </p:nvPicPr>
          <p:blipFill>
            <a:blip r:embed="rId3"/>
            <a:stretch/>
          </p:blipFill>
          <p:spPr>
            <a:xfrm>
              <a:off x="1032840" y="2043720"/>
              <a:ext cx="4192560" cy="235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8" name="椭圆 6"/>
          <p:cNvSpPr/>
          <p:nvPr/>
        </p:nvSpPr>
        <p:spPr>
          <a:xfrm>
            <a:off x="6156360" y="267984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椭圆 7"/>
          <p:cNvSpPr/>
          <p:nvPr/>
        </p:nvSpPr>
        <p:spPr>
          <a:xfrm>
            <a:off x="6156360" y="3814920"/>
            <a:ext cx="563400" cy="563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椭圆 8"/>
          <p:cNvSpPr/>
          <p:nvPr/>
        </p:nvSpPr>
        <p:spPr>
          <a:xfrm>
            <a:off x="6156360" y="4948200"/>
            <a:ext cx="563400" cy="565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0"/>
          <p:cNvSpPr/>
          <p:nvPr/>
        </p:nvSpPr>
        <p:spPr>
          <a:xfrm>
            <a:off x="6727680" y="301320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10"/>
          <p:cNvSpPr/>
          <p:nvPr/>
        </p:nvSpPr>
        <p:spPr>
          <a:xfrm>
            <a:off x="6719760" y="25970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10"/>
          <p:cNvSpPr/>
          <p:nvPr/>
        </p:nvSpPr>
        <p:spPr>
          <a:xfrm>
            <a:off x="6748560" y="411156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2"/>
          <p:cNvSpPr/>
          <p:nvPr/>
        </p:nvSpPr>
        <p:spPr>
          <a:xfrm>
            <a:off x="6740640" y="3697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0"/>
          <p:cNvSpPr/>
          <p:nvPr/>
        </p:nvSpPr>
        <p:spPr>
          <a:xfrm>
            <a:off x="6769080" y="5211720"/>
            <a:ext cx="3859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文本框 15"/>
          <p:cNvSpPr/>
          <p:nvPr/>
        </p:nvSpPr>
        <p:spPr>
          <a:xfrm>
            <a:off x="6762600" y="4795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文本框 17"/>
          <p:cNvSpPr/>
          <p:nvPr/>
        </p:nvSpPr>
        <p:spPr>
          <a:xfrm>
            <a:off x="6156360" y="124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0"/>
          <p:cNvSpPr/>
          <p:nvPr/>
        </p:nvSpPr>
        <p:spPr>
          <a:xfrm>
            <a:off x="6194520" y="1660680"/>
            <a:ext cx="535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50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3"/>
          <p:cNvSpPr/>
          <p:nvPr/>
        </p:nvSpPr>
        <p:spPr>
          <a:xfrm>
            <a:off x="4905360" y="1596960"/>
            <a:ext cx="2538360" cy="2538360"/>
          </a:xfrm>
          <a:prstGeom prst="ellipse">
            <a:avLst/>
          </a:prstGeom>
          <a:noFill/>
          <a:ln w="38160">
            <a:solidFill>
              <a:srgbClr val="ffffff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4"/>
          <p:cNvSpPr/>
          <p:nvPr/>
        </p:nvSpPr>
        <p:spPr>
          <a:xfrm>
            <a:off x="4237200" y="2363760"/>
            <a:ext cx="117144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5"/>
          <p:cNvSpPr/>
          <p:nvPr/>
        </p:nvSpPr>
        <p:spPr>
          <a:xfrm>
            <a:off x="6940440" y="2363760"/>
            <a:ext cx="1171800" cy="1171440"/>
          </a:xfrm>
          <a:prstGeom prst="ellipse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文本框 6"/>
          <p:cNvSpPr/>
          <p:nvPr/>
        </p:nvSpPr>
        <p:spPr>
          <a:xfrm>
            <a:off x="5815080" y="2533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085240" y="2292480"/>
            <a:ext cx="988920" cy="1311120"/>
            <a:chOff x="8085240" y="2292480"/>
            <a:chExt cx="988920" cy="1311120"/>
          </a:xfrm>
        </p:grpSpPr>
        <p:sp>
          <p:nvSpPr>
            <p:cNvPr id="656" name="直接连接符 8"/>
            <p:cNvSpPr/>
            <p:nvPr/>
          </p:nvSpPr>
          <p:spPr>
            <a:xfrm flipV="1">
              <a:off x="8085240" y="2292480"/>
              <a:ext cx="988920" cy="725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直接连接符 9"/>
            <p:cNvSpPr/>
            <p:nvPr/>
          </p:nvSpPr>
          <p:spPr>
            <a:xfrm>
              <a:off x="8085240" y="3018240"/>
              <a:ext cx="988920" cy="5853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Group 11"/>
          <p:cNvGrpSpPr/>
          <p:nvPr/>
        </p:nvGrpSpPr>
        <p:grpSpPr>
          <a:xfrm>
            <a:off x="3278160" y="2257200"/>
            <a:ext cx="959040" cy="1432080"/>
            <a:chOff x="3278160" y="2257200"/>
            <a:chExt cx="959040" cy="1432080"/>
          </a:xfrm>
        </p:grpSpPr>
        <p:sp>
          <p:nvSpPr>
            <p:cNvPr id="659" name="直接连接符 11"/>
            <p:cNvSpPr/>
            <p:nvPr/>
          </p:nvSpPr>
          <p:spPr>
            <a:xfrm flipH="1" flipV="1">
              <a:off x="3278160" y="2257200"/>
              <a:ext cx="959040" cy="71604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直接连接符 12"/>
            <p:cNvSpPr/>
            <p:nvPr/>
          </p:nvSpPr>
          <p:spPr>
            <a:xfrm flipH="1">
              <a:off x="3278160" y="2973600"/>
              <a:ext cx="959040" cy="71568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1" name="椭圆 13"/>
          <p:cNvSpPr/>
          <p:nvPr/>
        </p:nvSpPr>
        <p:spPr>
          <a:xfrm>
            <a:off x="2533680" y="1714680"/>
            <a:ext cx="7891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5"/>
          <p:cNvSpPr/>
          <p:nvPr/>
        </p:nvSpPr>
        <p:spPr>
          <a:xfrm>
            <a:off x="2513160" y="3395520"/>
            <a:ext cx="78876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7"/>
          <p:cNvSpPr/>
          <p:nvPr/>
        </p:nvSpPr>
        <p:spPr>
          <a:xfrm>
            <a:off x="9036000" y="1714680"/>
            <a:ext cx="787320" cy="788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8"/>
          <p:cNvSpPr/>
          <p:nvPr/>
        </p:nvSpPr>
        <p:spPr>
          <a:xfrm>
            <a:off x="9047160" y="3395520"/>
            <a:ext cx="789120" cy="78912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流程图: 可选过程 19"/>
          <p:cNvSpPr/>
          <p:nvPr/>
        </p:nvSpPr>
        <p:spPr>
          <a:xfrm>
            <a:off x="2944800" y="5108400"/>
            <a:ext cx="1301760" cy="4114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10"/>
          <p:cNvSpPr/>
          <p:nvPr/>
        </p:nvSpPr>
        <p:spPr>
          <a:xfrm>
            <a:off x="3057480" y="5499000"/>
            <a:ext cx="677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68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五边形 25"/>
          <p:cNvSpPr/>
          <p:nvPr/>
        </p:nvSpPr>
        <p:spPr>
          <a:xfrm rot="5400000">
            <a:off x="2621160" y="2599560"/>
            <a:ext cx="1022400" cy="126180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1800"/>
              <a:gd name="textAreaBottom" fmla="*/ 1262160 h 12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五边形 26"/>
          <p:cNvSpPr/>
          <p:nvPr/>
        </p:nvSpPr>
        <p:spPr>
          <a:xfrm rot="5400000">
            <a:off x="4501440" y="2599560"/>
            <a:ext cx="1022400" cy="12621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2160"/>
              <a:gd name="textAreaBottom" fmla="*/ 1262520 h 12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五边形 27"/>
          <p:cNvSpPr/>
          <p:nvPr/>
        </p:nvSpPr>
        <p:spPr>
          <a:xfrm rot="5400000">
            <a:off x="637812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五边形 28"/>
          <p:cNvSpPr/>
          <p:nvPr/>
        </p:nvSpPr>
        <p:spPr>
          <a:xfrm rot="5400000">
            <a:off x="8257680" y="2600280"/>
            <a:ext cx="1022400" cy="126036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7" y="0"/>
                </a:lnTo>
                <a:lnTo>
                  <a:pt x="21600" y="10800"/>
                </a:lnTo>
                <a:lnTo>
                  <a:pt x="1388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10"/>
          <p:cNvSpPr/>
          <p:nvPr/>
        </p:nvSpPr>
        <p:spPr>
          <a:xfrm>
            <a:off x="2405160" y="4275000"/>
            <a:ext cx="148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10"/>
          <p:cNvSpPr/>
          <p:nvPr/>
        </p:nvSpPr>
        <p:spPr>
          <a:xfrm>
            <a:off x="4272120" y="4275000"/>
            <a:ext cx="1481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0"/>
          <p:cNvSpPr/>
          <p:nvPr/>
        </p:nvSpPr>
        <p:spPr>
          <a:xfrm>
            <a:off x="802944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0"/>
          <p:cNvSpPr/>
          <p:nvPr/>
        </p:nvSpPr>
        <p:spPr>
          <a:xfrm>
            <a:off x="6149880" y="4275000"/>
            <a:ext cx="148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文本框 33"/>
          <p:cNvSpPr/>
          <p:nvPr/>
        </p:nvSpPr>
        <p:spPr>
          <a:xfrm>
            <a:off x="240516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34"/>
          <p:cNvSpPr/>
          <p:nvPr/>
        </p:nvSpPr>
        <p:spPr>
          <a:xfrm>
            <a:off x="4272120" y="39146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35"/>
          <p:cNvSpPr/>
          <p:nvPr/>
        </p:nvSpPr>
        <p:spPr>
          <a:xfrm>
            <a:off x="6149880" y="39146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文本框 36"/>
          <p:cNvSpPr/>
          <p:nvPr/>
        </p:nvSpPr>
        <p:spPr>
          <a:xfrm>
            <a:off x="8029440" y="391464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16"/>
          <p:cNvGrpSpPr/>
          <p:nvPr/>
        </p:nvGrpSpPr>
        <p:grpSpPr>
          <a:xfrm>
            <a:off x="3133800" y="2371680"/>
            <a:ext cx="1877760" cy="347760"/>
            <a:chOff x="3133800" y="2371680"/>
            <a:chExt cx="1877760" cy="347760"/>
          </a:xfrm>
        </p:grpSpPr>
        <p:sp>
          <p:nvSpPr>
            <p:cNvPr id="682" name="直接连接符 38"/>
            <p:cNvSpPr/>
            <p:nvPr/>
          </p:nvSpPr>
          <p:spPr>
            <a:xfrm>
              <a:off x="313380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直接连接符 39"/>
            <p:cNvSpPr/>
            <p:nvPr/>
          </p:nvSpPr>
          <p:spPr>
            <a:xfrm>
              <a:off x="5011560" y="237168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直接连接符 40"/>
            <p:cNvSpPr/>
            <p:nvPr/>
          </p:nvSpPr>
          <p:spPr>
            <a:xfrm>
              <a:off x="3133800" y="237168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5" name="Group 20"/>
          <p:cNvGrpSpPr/>
          <p:nvPr/>
        </p:nvGrpSpPr>
        <p:grpSpPr>
          <a:xfrm>
            <a:off x="6891480" y="2365200"/>
            <a:ext cx="1877760" cy="347760"/>
            <a:chOff x="6891480" y="2365200"/>
            <a:chExt cx="1877760" cy="347760"/>
          </a:xfrm>
        </p:grpSpPr>
        <p:sp>
          <p:nvSpPr>
            <p:cNvPr id="686" name="直接连接符 42"/>
            <p:cNvSpPr/>
            <p:nvPr/>
          </p:nvSpPr>
          <p:spPr>
            <a:xfrm>
              <a:off x="689148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直接连接符 43"/>
            <p:cNvSpPr/>
            <p:nvPr/>
          </p:nvSpPr>
          <p:spPr>
            <a:xfrm>
              <a:off x="8769240" y="2365200"/>
              <a:ext cx="0" cy="3477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直接连接符 44"/>
            <p:cNvSpPr/>
            <p:nvPr/>
          </p:nvSpPr>
          <p:spPr>
            <a:xfrm>
              <a:off x="6891480" y="2365200"/>
              <a:ext cx="187776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9" name="文本框 45"/>
          <p:cNvSpPr/>
          <p:nvPr/>
        </p:nvSpPr>
        <p:spPr>
          <a:xfrm>
            <a:off x="3292560" y="192096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文本框 46"/>
          <p:cNvSpPr/>
          <p:nvPr/>
        </p:nvSpPr>
        <p:spPr>
          <a:xfrm>
            <a:off x="7050240" y="1957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47"/>
          <p:cNvSpPr/>
          <p:nvPr/>
        </p:nvSpPr>
        <p:spPr>
          <a:xfrm>
            <a:off x="2841480" y="2965320"/>
            <a:ext cx="7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5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48"/>
          <p:cNvSpPr/>
          <p:nvPr/>
        </p:nvSpPr>
        <p:spPr>
          <a:xfrm>
            <a:off x="475920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6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文本框 49"/>
          <p:cNvSpPr/>
          <p:nvPr/>
        </p:nvSpPr>
        <p:spPr>
          <a:xfrm>
            <a:off x="6537240" y="296532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文本框 50"/>
          <p:cNvSpPr/>
          <p:nvPr/>
        </p:nvSpPr>
        <p:spPr>
          <a:xfrm>
            <a:off x="8437680" y="2965320"/>
            <a:ext cx="7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1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696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图片 3" descr=""/>
          <p:cNvPicPr/>
          <p:nvPr/>
        </p:nvPicPr>
        <p:blipFill>
          <a:blip r:embed="rId2"/>
          <a:srcRect l="3771" t="0" r="3271" b="7008"/>
          <a:stretch/>
        </p:blipFill>
        <p:spPr>
          <a:xfrm>
            <a:off x="1627200" y="1898640"/>
            <a:ext cx="3100320" cy="34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98" name="矩形 5"/>
          <p:cNvSpPr/>
          <p:nvPr/>
        </p:nvSpPr>
        <p:spPr>
          <a:xfrm>
            <a:off x="5692680" y="16542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直接连接符 6"/>
          <p:cNvSpPr/>
          <p:nvPr/>
        </p:nvSpPr>
        <p:spPr>
          <a:xfrm>
            <a:off x="7456320" y="2079720"/>
            <a:ext cx="307836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TextBox 10"/>
          <p:cNvSpPr/>
          <p:nvPr/>
        </p:nvSpPr>
        <p:spPr>
          <a:xfrm>
            <a:off x="5600880" y="21985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椭圆 9"/>
          <p:cNvSpPr/>
          <p:nvPr/>
        </p:nvSpPr>
        <p:spPr>
          <a:xfrm>
            <a:off x="587376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10"/>
          <p:cNvSpPr/>
          <p:nvPr/>
        </p:nvSpPr>
        <p:spPr>
          <a:xfrm>
            <a:off x="599292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2"/>
          <p:cNvSpPr/>
          <p:nvPr/>
        </p:nvSpPr>
        <p:spPr>
          <a:xfrm>
            <a:off x="7631280" y="3284640"/>
            <a:ext cx="90612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文本框 13"/>
          <p:cNvSpPr/>
          <p:nvPr/>
        </p:nvSpPr>
        <p:spPr>
          <a:xfrm>
            <a:off x="775008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椭圆 17"/>
          <p:cNvSpPr/>
          <p:nvPr/>
        </p:nvSpPr>
        <p:spPr>
          <a:xfrm>
            <a:off x="9388440" y="3284640"/>
            <a:ext cx="906480" cy="906480"/>
          </a:xfrm>
          <a:prstGeom prst="ellipse">
            <a:avLst/>
          </a:prstGeom>
          <a:noFill/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文本框 18"/>
          <p:cNvSpPr/>
          <p:nvPr/>
        </p:nvSpPr>
        <p:spPr>
          <a:xfrm>
            <a:off x="9507600" y="355140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20"/>
          <p:cNvSpPr/>
          <p:nvPr/>
        </p:nvSpPr>
        <p:spPr>
          <a:xfrm>
            <a:off x="5700600" y="4330800"/>
            <a:ext cx="1919520" cy="438120"/>
          </a:xfrm>
          <a:prstGeom prst="rect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直接连接符 21"/>
          <p:cNvSpPr/>
          <p:nvPr/>
        </p:nvSpPr>
        <p:spPr>
          <a:xfrm>
            <a:off x="7464600" y="4754520"/>
            <a:ext cx="307800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10"/>
          <p:cNvSpPr/>
          <p:nvPr/>
        </p:nvSpPr>
        <p:spPr>
          <a:xfrm>
            <a:off x="5608800" y="4875120"/>
            <a:ext cx="4701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1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2" name="Group 4"/>
          <p:cNvGrpSpPr/>
          <p:nvPr/>
        </p:nvGrpSpPr>
        <p:grpSpPr>
          <a:xfrm>
            <a:off x="1368360" y="1635120"/>
            <a:ext cx="2573280" cy="3846600"/>
            <a:chOff x="1368360" y="1635120"/>
            <a:chExt cx="2573280" cy="3846600"/>
          </a:xfrm>
        </p:grpSpPr>
        <p:sp>
          <p:nvSpPr>
            <p:cNvPr id="713" name="六边形 4"/>
            <p:cNvSpPr/>
            <p:nvPr/>
          </p:nvSpPr>
          <p:spPr>
            <a:xfrm>
              <a:off x="2518920" y="2946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六边形 5"/>
            <p:cNvSpPr/>
            <p:nvPr/>
          </p:nvSpPr>
          <p:spPr>
            <a:xfrm>
              <a:off x="2488680" y="425556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六边形 6"/>
            <p:cNvSpPr/>
            <p:nvPr/>
          </p:nvSpPr>
          <p:spPr>
            <a:xfrm>
              <a:off x="1368360" y="36007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六边形 7"/>
            <p:cNvSpPr/>
            <p:nvPr/>
          </p:nvSpPr>
          <p:spPr>
            <a:xfrm>
              <a:off x="1380960" y="229824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六边形 8"/>
            <p:cNvSpPr/>
            <p:nvPr/>
          </p:nvSpPr>
          <p:spPr>
            <a:xfrm>
              <a:off x="2518920" y="1635120"/>
              <a:ext cx="1422720" cy="1226160"/>
            </a:xfrm>
            <a:prstGeom prst="hexagon">
              <a:avLst>
                <a:gd name="adj" fmla="val 29206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8" name="Group 10"/>
          <p:cNvGrpSpPr/>
          <p:nvPr/>
        </p:nvGrpSpPr>
        <p:grpSpPr>
          <a:xfrm>
            <a:off x="2079720" y="1212840"/>
            <a:ext cx="3375000" cy="1084320"/>
            <a:chOff x="2079720" y="1212840"/>
            <a:chExt cx="3375000" cy="1084320"/>
          </a:xfrm>
        </p:grpSpPr>
        <p:sp>
          <p:nvSpPr>
            <p:cNvPr id="719" name="直接连接符 10"/>
            <p:cNvSpPr/>
            <p:nvPr/>
          </p:nvSpPr>
          <p:spPr>
            <a:xfrm flipV="1">
              <a:off x="2079720" y="1212840"/>
              <a:ext cx="653400" cy="108432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直接连接符 11"/>
            <p:cNvSpPr/>
            <p:nvPr/>
          </p:nvSpPr>
          <p:spPr>
            <a:xfrm>
              <a:off x="2720520" y="121284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1" name="直接连接符 12"/>
          <p:cNvSpPr/>
          <p:nvPr/>
        </p:nvSpPr>
        <p:spPr>
          <a:xfrm>
            <a:off x="3941640" y="2247840"/>
            <a:ext cx="172728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直接连接符 13"/>
          <p:cNvSpPr/>
          <p:nvPr/>
        </p:nvSpPr>
        <p:spPr>
          <a:xfrm>
            <a:off x="3941640" y="3551400"/>
            <a:ext cx="219564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直接连接符 15"/>
          <p:cNvSpPr/>
          <p:nvPr/>
        </p:nvSpPr>
        <p:spPr>
          <a:xfrm>
            <a:off x="3911760" y="4862520"/>
            <a:ext cx="1726920" cy="0"/>
          </a:xfrm>
          <a:prstGeom prst="line">
            <a:avLst/>
          </a:prstGeom>
          <a:ln w="6480">
            <a:solidFill>
              <a:srgbClr val="ffffff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4" name="Group 16"/>
          <p:cNvGrpSpPr/>
          <p:nvPr/>
        </p:nvGrpSpPr>
        <p:grpSpPr>
          <a:xfrm>
            <a:off x="2079720" y="4827600"/>
            <a:ext cx="3375000" cy="1073160"/>
            <a:chOff x="2079720" y="4827600"/>
            <a:chExt cx="3375000" cy="1073160"/>
          </a:xfrm>
        </p:grpSpPr>
        <p:sp>
          <p:nvSpPr>
            <p:cNvPr id="725" name="直接连接符 18"/>
            <p:cNvSpPr/>
            <p:nvPr/>
          </p:nvSpPr>
          <p:spPr>
            <a:xfrm>
              <a:off x="2079720" y="4827600"/>
              <a:ext cx="653400" cy="107316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接连接符 19"/>
            <p:cNvSpPr/>
            <p:nvPr/>
          </p:nvSpPr>
          <p:spPr>
            <a:xfrm>
              <a:off x="2720520" y="5900400"/>
              <a:ext cx="2734200" cy="0"/>
            </a:xfrm>
            <a:prstGeom prst="line">
              <a:avLst/>
            </a:prstGeom>
            <a:ln w="6480">
              <a:solidFill>
                <a:srgbClr val="ffffff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7" name="文本框 20"/>
          <p:cNvSpPr/>
          <p:nvPr/>
        </p:nvSpPr>
        <p:spPr>
          <a:xfrm>
            <a:off x="2670120" y="20606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文本框 21"/>
          <p:cNvSpPr/>
          <p:nvPr/>
        </p:nvSpPr>
        <p:spPr>
          <a:xfrm>
            <a:off x="2679840" y="3373560"/>
            <a:ext cx="114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文本框 22"/>
          <p:cNvSpPr/>
          <p:nvPr/>
        </p:nvSpPr>
        <p:spPr>
          <a:xfrm>
            <a:off x="2657520" y="466884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文本框 23"/>
          <p:cNvSpPr/>
          <p:nvPr/>
        </p:nvSpPr>
        <p:spPr>
          <a:xfrm>
            <a:off x="1533600" y="271476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文本框 24"/>
          <p:cNvSpPr/>
          <p:nvPr/>
        </p:nvSpPr>
        <p:spPr>
          <a:xfrm>
            <a:off x="1506600" y="402912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椭圆 25"/>
          <p:cNvSpPr/>
          <p:nvPr/>
        </p:nvSpPr>
        <p:spPr>
          <a:xfrm>
            <a:off x="5681520" y="9669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26"/>
          <p:cNvSpPr/>
          <p:nvPr/>
        </p:nvSpPr>
        <p:spPr>
          <a:xfrm>
            <a:off x="5794200" y="2060640"/>
            <a:ext cx="457200" cy="4554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27"/>
          <p:cNvSpPr/>
          <p:nvPr/>
        </p:nvSpPr>
        <p:spPr>
          <a:xfrm>
            <a:off x="6251400" y="3371760"/>
            <a:ext cx="455760" cy="45720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椭圆 28"/>
          <p:cNvSpPr/>
          <p:nvPr/>
        </p:nvSpPr>
        <p:spPr>
          <a:xfrm>
            <a:off x="5681520" y="462600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椭圆 29"/>
          <p:cNvSpPr/>
          <p:nvPr/>
        </p:nvSpPr>
        <p:spPr>
          <a:xfrm>
            <a:off x="5506920" y="5680080"/>
            <a:ext cx="455760" cy="455760"/>
          </a:xfrm>
          <a:prstGeom prst="ellipse">
            <a:avLst/>
          </a:prstGeom>
          <a:solidFill>
            <a:srgbClr val="fffff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9"/>
          <p:cNvGrpSpPr/>
          <p:nvPr/>
        </p:nvGrpSpPr>
        <p:grpSpPr>
          <a:xfrm>
            <a:off x="7805880" y="1658880"/>
            <a:ext cx="2724120" cy="4021200"/>
            <a:chOff x="7805880" y="1658880"/>
            <a:chExt cx="2724120" cy="4021200"/>
          </a:xfrm>
        </p:grpSpPr>
        <p:pic>
          <p:nvPicPr>
            <p:cNvPr id="738" name="图片 31" descr=""/>
            <p:cNvPicPr/>
            <p:nvPr/>
          </p:nvPicPr>
          <p:blipFill>
            <a:blip r:embed="rId2">
              <a:alphaModFix amt="36000"/>
            </a:blip>
            <a:stretch/>
          </p:blipFill>
          <p:spPr>
            <a:xfrm>
              <a:off x="7805880" y="2078640"/>
              <a:ext cx="2724120" cy="36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2"/>
            <p:cNvSpPr/>
            <p:nvPr/>
          </p:nvSpPr>
          <p:spPr>
            <a:xfrm>
              <a:off x="7805880" y="1658880"/>
              <a:ext cx="2724120" cy="43272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信息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文本框 14" descr=""/>
          <p:cNvPicPr/>
          <p:nvPr/>
        </p:nvPicPr>
        <p:blipFill>
          <a:blip r:embed="rId1"/>
          <a:stretch/>
        </p:blipFill>
        <p:spPr>
          <a:xfrm>
            <a:off x="10674360" y="6072120"/>
            <a:ext cx="1541520" cy="901800"/>
          </a:xfrm>
          <a:prstGeom prst="rect">
            <a:avLst/>
          </a:prstGeom>
          <a:ln w="0">
            <a:noFill/>
          </a:ln>
        </p:spPr>
      </p:pic>
      <p:sp>
        <p:nvSpPr>
          <p:cNvPr id="741" name="文本框 16"/>
          <p:cNvSpPr/>
          <p:nvPr/>
        </p:nvSpPr>
        <p:spPr>
          <a:xfrm>
            <a:off x="1514520" y="2998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字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2" name="Group 4"/>
          <p:cNvGrpSpPr/>
          <p:nvPr/>
        </p:nvGrpSpPr>
        <p:grpSpPr>
          <a:xfrm>
            <a:off x="1925640" y="1003320"/>
            <a:ext cx="7773840" cy="5130720"/>
            <a:chOff x="1925640" y="1003320"/>
            <a:chExt cx="7773840" cy="5130720"/>
          </a:xfrm>
        </p:grpSpPr>
        <p:grpSp>
          <p:nvGrpSpPr>
            <p:cNvPr id="743" name="Group 5"/>
            <p:cNvGrpSpPr/>
            <p:nvPr/>
          </p:nvGrpSpPr>
          <p:grpSpPr>
            <a:xfrm>
              <a:off x="2486160" y="1561680"/>
              <a:ext cx="6657840" cy="4023000"/>
              <a:chOff x="2486160" y="1561680"/>
              <a:chExt cx="6657840" cy="4023000"/>
            </a:xfrm>
          </p:grpSpPr>
          <p:sp>
            <p:nvSpPr>
              <p:cNvPr id="744" name="任意多边形 9"/>
              <p:cNvSpPr/>
              <p:nvPr/>
            </p:nvSpPr>
            <p:spPr>
              <a:xfrm>
                <a:off x="2486160" y="1561680"/>
                <a:ext cx="6657840" cy="3101040"/>
              </a:xfrm>
              <a:custGeom>
                <a:avLst/>
                <a:gdLst/>
                <a:ahLst/>
                <a:rect l="l" t="t" r="r" b="b"/>
                <a:pathLst>
                  <a:path w="5718220" h="2987899">
                    <a:moveTo>
                      <a:pt x="0" y="0"/>
                    </a:moveTo>
                    <a:lnTo>
                      <a:pt x="5718220" y="0"/>
                    </a:lnTo>
                    <a:lnTo>
                      <a:pt x="5718220" y="2485623"/>
                    </a:lnTo>
                    <a:lnTo>
                      <a:pt x="3181082" y="2485623"/>
                    </a:lnTo>
                    <a:lnTo>
                      <a:pt x="2859110" y="2987899"/>
                    </a:lnTo>
                    <a:lnTo>
                      <a:pt x="2537138" y="2485623"/>
                    </a:lnTo>
                    <a:lnTo>
                      <a:pt x="0" y="24856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任意多边形 10"/>
              <p:cNvSpPr/>
              <p:nvPr/>
            </p:nvSpPr>
            <p:spPr>
              <a:xfrm>
                <a:off x="2486160" y="4274640"/>
                <a:ext cx="326880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任意多边形 11"/>
              <p:cNvSpPr/>
              <p:nvPr/>
            </p:nvSpPr>
            <p:spPr>
              <a:xfrm flipV="1" rot="10800000">
                <a:off x="5882400" y="4260240"/>
                <a:ext cx="3261240" cy="1310040"/>
              </a:xfrm>
              <a:custGeom>
                <a:avLst/>
                <a:gdLst/>
                <a:ahLst/>
                <a:rect l="l" t="t" r="r" b="b"/>
                <a:pathLst>
                  <a:path w="2871990" h="1262405">
                    <a:moveTo>
                      <a:pt x="0" y="0"/>
                    </a:moveTo>
                    <a:lnTo>
                      <a:pt x="2566250" y="0"/>
                    </a:lnTo>
                    <a:lnTo>
                      <a:pt x="2871990" y="469076"/>
                    </a:lnTo>
                    <a:lnTo>
                      <a:pt x="2871990" y="1262405"/>
                    </a:lnTo>
                    <a:lnTo>
                      <a:pt x="0" y="12624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3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7" name="矩形 5"/>
            <p:cNvSpPr/>
            <p:nvPr/>
          </p:nvSpPr>
          <p:spPr>
            <a:xfrm>
              <a:off x="1925640" y="100332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6"/>
            <p:cNvSpPr/>
            <p:nvPr/>
          </p:nvSpPr>
          <p:spPr>
            <a:xfrm>
              <a:off x="9126360" y="5560560"/>
              <a:ext cx="573120" cy="57348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7"/>
            <p:cNvSpPr/>
            <p:nvPr/>
          </p:nvSpPr>
          <p:spPr>
            <a:xfrm>
              <a:off x="9126360" y="114552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8"/>
            <p:cNvSpPr/>
            <p:nvPr/>
          </p:nvSpPr>
          <p:spPr>
            <a:xfrm>
              <a:off x="2080800" y="5573880"/>
              <a:ext cx="417960" cy="417960"/>
            </a:xfrm>
            <a:prstGeom prst="rect">
              <a:avLst/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文本框 78"/>
          <p:cNvSpPr/>
          <p:nvPr/>
        </p:nvSpPr>
        <p:spPr>
          <a:xfrm>
            <a:off x="2806560" y="2166840"/>
            <a:ext cx="6016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新闻，每天为广大培训行业从业者以及学习爱好者传播有关培训经验、培训知识、管理智慧等及时资讯！给您一个订阅的理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53"/>
          <p:cNvSpPr/>
          <p:nvPr/>
        </p:nvSpPr>
        <p:spPr>
          <a:xfrm>
            <a:off x="2664000" y="181620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您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图片 15" descr=""/>
          <p:cNvPicPr/>
          <p:nvPr/>
        </p:nvPicPr>
        <p:blipFill>
          <a:blip r:embed="rId2"/>
          <a:stretch/>
        </p:blipFill>
        <p:spPr>
          <a:xfrm>
            <a:off x="2664000" y="4591080"/>
            <a:ext cx="612720" cy="612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7" descr=""/>
          <p:cNvPicPr/>
          <p:nvPr/>
        </p:nvPicPr>
        <p:blipFill>
          <a:blip r:embed="rId3"/>
          <a:stretch/>
        </p:blipFill>
        <p:spPr>
          <a:xfrm>
            <a:off x="6367320" y="4579920"/>
            <a:ext cx="613080" cy="612720"/>
          </a:xfrm>
          <a:prstGeom prst="rect">
            <a:avLst/>
          </a:prstGeom>
          <a:ln w="0">
            <a:noFill/>
          </a:ln>
        </p:spPr>
      </p:pic>
      <p:sp>
        <p:nvSpPr>
          <p:cNvPr id="755" name="TextBox 53"/>
          <p:cNvSpPr/>
          <p:nvPr/>
        </p:nvSpPr>
        <p:spPr>
          <a:xfrm>
            <a:off x="3181320" y="470304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53"/>
          <p:cNvSpPr/>
          <p:nvPr/>
        </p:nvSpPr>
        <p:spPr>
          <a:xfrm>
            <a:off x="6970680" y="4743360"/>
            <a:ext cx="13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2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2T13:53:01Z</dcterms:created>
  <dc:creator/>
  <dc:description/>
  <dc:language>en-US</dc:language>
  <cp:lastModifiedBy>Administrator</cp:lastModifiedBy>
  <dcterms:modified xsi:type="dcterms:W3CDTF">2016-05-02T14:03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