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C4F0-873F-48AA-938D-7B979CF3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F624-4451-4198-9930-C6D75481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1602-9417-4F78-8952-A87A36DE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5BEE-8BDF-4908-A992-B11E74B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CF7C-57F2-49F6-85CB-9D6F5E60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B473-7023-4DA7-9598-DEFD066E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FB36-5A73-4E6E-AFB8-0A295155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6105-9075-4F98-A05F-330E2649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7995-2B31-445A-B7AA-D5815DCC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B0767-C4A2-4EAD-B1D5-EA85B55C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93EBF-8314-45ED-8B9E-9D74E429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5EDA-BBCC-444D-A621-27446B96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C546-CF4B-4F5C-AAB1-A21D10B9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B8A61-722E-440D-A9BA-660212EB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63FB-AFAE-4715-936E-7F3D9B06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336B-BE66-4C91-BC16-051D708A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6BFA-2E9B-4FB2-95A5-23E3B894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A530-3C79-4AB2-9D58-E859174B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5B7F-B8CD-4609-982E-79BE41FB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AAF41-CBE5-448A-B200-303317D7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D4B74-EB31-4AD0-B40E-1B917CAA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536E8-0B60-4D1F-B4E2-CB69E7DC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296F9-7FFC-4968-971B-9541EF2F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A7FBF-FDB9-4CAC-A458-F412DA52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187F-5466-4155-8ED9-8FECCC8B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A55EA-BD3A-434A-902B-8EDC0114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90009-287F-4E83-94E0-C785A59F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67EB-14F7-443D-B0B8-BFCD1ECB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F1B90-11AF-4133-BCE1-4E72DC7C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EB710-6DFA-4D78-A474-06830574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23245-0B26-4EE0-A3BA-EBB86C58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2D2E4-FFAA-4E10-AFC0-BCBAC30C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AB8EA-097E-478C-B678-02AA83EF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79567-6C1C-4A24-84ED-8B249D02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1EA5F-79B4-430B-B697-4B1DC1BF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E963A-72FB-401C-B1CF-3B91CF7A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90BFA-43D9-4ECA-9816-144B5788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BEBD4-6571-4574-925C-434F8469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6E645-44B6-44C1-A620-9F82C9ED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A1CFE-7439-4ADE-AED6-C963721E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6A80A-B4D7-48C6-8E9B-4B3F4DAC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046A1-8B21-450D-ABC8-9D5F5C4F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E7409-6251-4C9C-BF4A-5E5983F4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C5DBB-14B7-468D-8FF4-9BFBC461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5FC6E-593B-417D-BED0-0124DCD8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C641E-3415-4932-92E7-3447BDAF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A2754-C7C9-419E-96F0-8CE12FBD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A9935-6D7F-4638-826D-FAA3DA77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FCC68-0C0F-4CB5-BDB0-346FFF3D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B24BF-3218-416F-9F31-25F67892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D8A51-3E6B-404B-9749-68CEBA4C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7ADBD-DDFA-4C29-9266-B49F3E09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83044-ACE1-4D56-B914-7A621658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4AE02-FC92-48B6-9BDE-1B52530D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E987D-DFF8-4A33-8EEE-00AB808F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E4765-6D1B-444F-B29B-C023A6D2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66D65-2666-4989-A7DE-45DE5664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48866-038F-45CE-94F1-EA3350B1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AB81D-8819-44FB-B25B-FDE9C236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CEB73-B9F4-4B1B-8949-4654C3A5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9411B-882B-4CF0-B4A2-5BD74433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B94D3-73E6-4828-BBEA-21CF3C90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A0199-9BF2-4CAA-B82A-9E5AC5AA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3A2EC-D3E1-428C-A604-4FE9DFD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07DB8-97BB-4CDE-92FB-F02B5C9B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96421-D65E-41BA-BBDC-CD1465CD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052F9-5BD0-421D-B2EE-0DA37BF3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4BBCF-BC63-4EFF-B1BE-613CE59D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F8E5D-FD9C-4B9E-8CF3-2C087187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EDD00-0BD3-4514-90EE-94088DC6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6CA66-CA84-46BF-8CA7-772C266A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FEA79-AD54-4B76-9C44-E1D9CB7E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10B82-5934-4516-A7DD-64EA5D19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0D9F8-AF82-4709-9803-07EBB8C7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A5050-9503-4AD2-A20E-667EB4CA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5A0C7-594C-462E-B295-A1D39533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3E1DC-8876-4019-8E0D-1CB5069B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5786B-E02F-4FE1-80CF-B29598AE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80679-FEDA-4B43-8BDD-5ECC7C89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60B5D-61F5-4222-8FEA-878FBFBF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5B3F0-694B-44C2-82BD-F606F7E2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314-834E-4E26-8CAB-13FED4C2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078-B55B-443E-9DC2-FAF1A6AC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4B2-6A1A-4738-A38B-7183D823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A62-4929-46EF-A785-53BDC6DB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0C1-5A43-4FEC-9016-5E8A8E24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BAB-CEE7-41D0-89EC-2352C0F1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8F7-C10C-447C-BA7B-0E99ACFC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03B-97AA-4A5B-B7C1-A6793D25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0A2-5F5B-46D6-92F4-9CB2BE57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68E-6662-4247-86EF-3EECDF52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7E3-F236-4696-9E23-B30DAA4B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311-B7FC-4330-AED1-8A5C7FA9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8537-09EB-4A98-81C5-A2EAE4F2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0127-B38C-4EAD-AB11-4403EA27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2B60-5061-468E-BCFF-8AB0183C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7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ftr" idx="8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9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84287642-D500-457A-B9CD-020F0873E7B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dt" idx="10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11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2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EFD5A639-E4C7-413A-807A-9AE09CD2CAC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14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5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CB6B7F7-682F-4C2E-893F-4F275C0CEA3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16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7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8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6925B5DA-E552-4212-8F92-E52777BC5A4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19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20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B51EC96-898A-4314-9811-7A98476E608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22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23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4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07B34D9C-1564-43C9-AF1E-B668FDA8ED6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93516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70572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936936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3900960" y="117360"/>
            <a:ext cx="171684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6740280" y="117360"/>
            <a:ext cx="210996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9366120" y="117360"/>
            <a:ext cx="200016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3907440" y="117360"/>
            <a:ext cx="143352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6712560" y="117360"/>
            <a:ext cx="157500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9401760" y="117360"/>
            <a:ext cx="164808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4132D4F4-58B0-48BD-875B-67843E4596C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4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5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6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7B15EBDD-0B7A-45C7-9198-C136A3B9E9E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18"/>
          <p:cNvSpPr/>
          <p:nvPr/>
        </p:nvSpPr>
        <p:spPr>
          <a:xfrm>
            <a:off x="-27000" y="4680"/>
            <a:ext cx="1219212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C:\Documents and Settings\Administrator\桌面\PPT配图\公司宣传PPT图片\240490-1306030Q53886.jpg"/>
          <p:cNvPicPr/>
          <p:nvPr/>
        </p:nvPicPr>
        <p:blipFill>
          <a:blip r:embed="rId2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595" name="矩形 19"/>
          <p:cNvSpPr/>
          <p:nvPr/>
        </p:nvSpPr>
        <p:spPr>
          <a:xfrm>
            <a:off x="-122400" y="6149880"/>
            <a:ext cx="1259856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0" descr="C:\Documents and Settings\Administrator\桌面\PPT配图\公司宣传PPT图片\235103-13051209221830.jpg"/>
          <p:cNvPicPr/>
          <p:nvPr/>
        </p:nvPicPr>
        <p:blipFill>
          <a:blip r:embed="rId3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0"/>
          <p:cNvSpPr/>
          <p:nvPr/>
        </p:nvSpPr>
        <p:spPr>
          <a:xfrm>
            <a:off x="7015680" y="1125360"/>
            <a:ext cx="31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我们为您提供</a:t>
            </a:r>
            <a:r>
              <a:rPr b="1" lang="en-US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</a:t>
            </a: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自多年的积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22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00"/>
                            </p:stCondLst>
                            <p:childTnLst>
                              <p:par>
                                <p:cTn id="3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7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7"/>
          <p:cNvSpPr/>
          <p:nvPr/>
        </p:nvSpPr>
        <p:spPr>
          <a:xfrm>
            <a:off x="4541760" y="3944880"/>
            <a:ext cx="3168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xxxxx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"/>
          <p:cNvSpPr/>
          <p:nvPr/>
        </p:nvSpPr>
        <p:spPr>
          <a:xfrm>
            <a:off x="3952080" y="2965320"/>
            <a:ext cx="55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xxxxxxx</a:t>
            </a:r>
            <a:r>
              <a:rPr b="1" lang="zh-CN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，    我们更专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75"/>
          <p:cNvSpPr/>
          <p:nvPr/>
        </p:nvSpPr>
        <p:spPr>
          <a:xfrm>
            <a:off x="-136440" y="0"/>
            <a:ext cx="13030200" cy="6859440"/>
          </a:xfrm>
          <a:prstGeom prst="rect">
            <a:avLst/>
          </a:pr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19"/>
          <p:cNvSpPr/>
          <p:nvPr/>
        </p:nvSpPr>
        <p:spPr>
          <a:xfrm rot="10800000">
            <a:off x="-308160" y="-23760"/>
            <a:ext cx="12598200" cy="8618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07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10" name="椭圆 34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13" name="椭圆 37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16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19" name="椭圆 32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22" name="椭圆 35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25" name="椭圆 33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28" name="椭圆 36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3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38" name="椭圆 5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41" name="椭圆 6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4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47" name="椭圆 8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50" name="椭圆 9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53" name="椭圆 10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56" name="椭圆 11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32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669" name="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670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673" name="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676" name="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8" name="Picture 2" descr="F:\03图片下载\Z自然风景\1253332070679.jpg"/>
          <p:cNvPicPr/>
          <p:nvPr/>
        </p:nvPicPr>
        <p:blipFill>
          <a:blip r:embed="rId5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5" dur="5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72" dur="193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680" name="Freeform 11" descr=""/>
            <p:cNvPicPr/>
            <p:nvPr/>
          </p:nvPicPr>
          <p:blipFill>
            <a:blip r:embed="rId2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683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5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7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689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1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2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4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696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699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1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703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706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709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712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715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718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721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724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727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730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733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736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739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742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4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748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751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3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32" descr=""/>
          <p:cNvPicPr/>
          <p:nvPr/>
        </p:nvPicPr>
        <p:blipFill>
          <a:blip r:embed="rId3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772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774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7" name="Picture 2" descr="坐在飞机上的人图片"/>
          <p:cNvPicPr/>
          <p:nvPr/>
        </p:nvPicPr>
        <p:blipFill>
          <a:blip r:embed="rId4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779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783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787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791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794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797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00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03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06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09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13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817" name="Picture 25" descr=""/>
            <p:cNvPicPr/>
            <p:nvPr/>
          </p:nvPicPr>
          <p:blipFill>
            <a:blip r:embed="rId2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820" name="Picture 24" descr=""/>
            <p:cNvPicPr/>
            <p:nvPr/>
          </p:nvPicPr>
          <p:blipFill>
            <a:blip r:embed="rId3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823" name="Picture 27" descr=""/>
            <p:cNvPicPr/>
            <p:nvPr/>
          </p:nvPicPr>
          <p:blipFill>
            <a:blip r:embed="rId4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826" name="Picture 28" descr=""/>
            <p:cNvPicPr/>
            <p:nvPr/>
          </p:nvPicPr>
          <p:blipFill>
            <a:blip r:embed="rId5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829" name="Picture 30" descr=""/>
            <p:cNvPicPr/>
            <p:nvPr/>
          </p:nvPicPr>
          <p:blipFill>
            <a:blip r:embed="rId6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832" name="Picture 21" descr=""/>
            <p:cNvPicPr/>
            <p:nvPr/>
          </p:nvPicPr>
          <p:blipFill>
            <a:blip r:embed="rId7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835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6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图片 89" descr="16-10.png"/>
          <p:cNvPicPr/>
          <p:nvPr/>
        </p:nvPicPr>
        <p:blipFill>
          <a:blip r:embed="rId9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90" descr="16-10.png"/>
          <p:cNvPicPr/>
          <p:nvPr/>
        </p:nvPicPr>
        <p:blipFill>
          <a:blip r:embed="rId10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91" descr="16-10.png"/>
          <p:cNvPicPr/>
          <p:nvPr/>
        </p:nvPicPr>
        <p:blipFill>
          <a:blip r:embed="rId11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92" descr="16-10.png"/>
          <p:cNvPicPr/>
          <p:nvPr/>
        </p:nvPicPr>
        <p:blipFill>
          <a:blip r:embed="rId12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93" descr="16-10.png"/>
          <p:cNvPicPr/>
          <p:nvPr/>
        </p:nvPicPr>
        <p:blipFill>
          <a:blip r:embed="rId13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94" descr="16-10.png"/>
          <p:cNvPicPr/>
          <p:nvPr/>
        </p:nvPicPr>
        <p:blipFill>
          <a:blip r:embed="rId14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95" descr="16-10.png"/>
          <p:cNvPicPr/>
          <p:nvPr/>
        </p:nvPicPr>
        <p:blipFill>
          <a:blip r:embed="rId15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"/>
                            </p:stCondLst>
                            <p:childTnLst>
                              <p:par>
                                <p:cTn id="4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200"/>
                            </p:stCondLst>
                            <p:childTnLst>
                              <p:par>
                                <p:cTn id="5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700"/>
                            </p:stCondLst>
                            <p:childTnLst>
                              <p:par>
                                <p:cTn id="5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84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48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51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5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57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60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63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67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63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空心弧 5" descr=""/>
          <p:cNvPicPr/>
          <p:nvPr/>
        </p:nvPicPr>
        <p:blipFill>
          <a:blip r:embed="rId2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0" name="空心弧 6" descr=""/>
          <p:cNvPicPr/>
          <p:nvPr/>
        </p:nvPicPr>
        <p:blipFill>
          <a:blip r:embed="rId3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871" name="空心弧 7" descr=""/>
          <p:cNvPicPr/>
          <p:nvPr/>
        </p:nvPicPr>
        <p:blipFill>
          <a:blip r:embed="rId4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2" name="空心弧 8" descr=""/>
          <p:cNvPicPr/>
          <p:nvPr/>
        </p:nvPicPr>
        <p:blipFill>
          <a:blip r:embed="rId5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873" name="空心弧 9" descr=""/>
          <p:cNvPicPr/>
          <p:nvPr/>
        </p:nvPicPr>
        <p:blipFill>
          <a:blip r:embed="rId6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874" name="空心弧 10" descr=""/>
          <p:cNvPicPr/>
          <p:nvPr/>
        </p:nvPicPr>
        <p:blipFill>
          <a:blip r:embed="rId7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875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1" name="任意多边形 11" descr=""/>
          <p:cNvPicPr/>
          <p:nvPr/>
        </p:nvPicPr>
        <p:blipFill>
          <a:blip r:embed="rId8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882" name="任意多边形 12" descr=""/>
          <p:cNvPicPr/>
          <p:nvPr/>
        </p:nvPicPr>
        <p:blipFill>
          <a:blip r:embed="rId9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3" name="任意多边形 13" descr=""/>
          <p:cNvPicPr/>
          <p:nvPr/>
        </p:nvPicPr>
        <p:blipFill>
          <a:blip r:embed="rId10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884" name="任意多边形 14" descr=""/>
          <p:cNvPicPr/>
          <p:nvPr/>
        </p:nvPicPr>
        <p:blipFill>
          <a:blip r:embed="rId11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5" name="任意多边形 15" descr=""/>
          <p:cNvPicPr/>
          <p:nvPr/>
        </p:nvPicPr>
        <p:blipFill>
          <a:blip r:embed="rId12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6" name="任意多边形 16" descr=""/>
          <p:cNvPicPr/>
          <p:nvPr/>
        </p:nvPicPr>
        <p:blipFill>
          <a:blip r:embed="rId13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7" name="任意多边形 17" descr=""/>
          <p:cNvPicPr/>
          <p:nvPr/>
        </p:nvPicPr>
        <p:blipFill>
          <a:blip r:embed="rId14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>Administrator</dc:creator>
  <dc:description/>
  <dc:language>en-US</dc:language>
  <cp:lastModifiedBy>微软用户</cp:lastModifiedBy>
  <dcterms:modified xsi:type="dcterms:W3CDTF">2014-08-23T15:32:34Z</dcterms:modified>
  <cp:revision>2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