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27.jpeg" ContentType="image/jpe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1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12196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7024-260C-4096-A077-02B2A878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2463-8D5F-4B6E-957B-9AF42F75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9254-8151-420E-81E8-30DC3329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9C13-0114-4428-897D-CC5BED9A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2DFA-B811-49FA-BDAC-9238E818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8B90-39E1-400C-BF5D-975F5A0E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C2AB-4101-4E85-A047-9546F122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6F67-0529-469A-8174-E9BF352BA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EA6A-172A-4D21-A562-F4111AF9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71DD3-1940-49C8-BC42-C260BD9C1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AA2B8-4520-4717-A244-C26906D5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E80CB-BD8F-4BF7-9DC2-02A9A08A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F583D-97C9-42A4-9F26-D5760CC1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3B1FE-4ABF-48BB-A267-22F14B6E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2F912-27E9-45A1-9B8A-811F0B25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A4496-1BEE-4B76-8EB5-90C3AAE4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CBA9F-1CBF-4572-8ED9-1486DF0B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BCEE1-7FC2-4FA3-A915-8F78D9DB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7DB84-58AE-4CE9-802C-978A7EAC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F0EBE-5429-4162-817C-F541C8220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B1D0B-44FC-4E55-8E68-395A5C87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89671-3FCA-4418-9D4E-662EF2284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F78CF-EABC-442E-BCC0-5B8BD446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73635-60DE-441C-95BE-C2A7F4B7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2F3DA-AE75-4286-90DD-61564926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39CA1-E278-470F-A5B8-9C96D319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980E5-7D66-4712-9B37-27E445D2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D28E9-DF62-4379-9900-57D0225F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E6C30-F4A3-4026-A1CA-0D92B370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62545-661C-43E5-AFE2-F7466353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ACB17-A6B0-46F8-A125-14447469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92D83-9A15-441D-9A70-58B92ED4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B9DAB-1215-4AAD-A53E-9D53C71B0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2DC82-33EF-45E6-8A04-9902F53F2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4857C-CD68-4190-AB93-F75B675A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13C9E-AD14-4DC6-8E3F-C65B44B9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C7A3F-14C8-4D0C-8BF2-B9EC8E82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FBF0B-ED3E-4A6C-9C6A-88A27458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D6271-7366-437E-8D63-C78F97BA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2BE93-930B-4263-AAD2-7B49299B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78C83-58D1-4330-8ACA-6E88A173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12AEE-B5D1-4FAD-8883-C44E7F06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E38A0-BFEF-4A17-91BA-182A4205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534A4-DFCA-49D2-B7E5-6A7630B7F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A926D-4FA6-4461-A837-3601EFE6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39953-9FD8-4A34-A0E6-CC173F3D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E3B2A-070F-4A9B-B1CF-E1E93800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1AF7D-6395-4CE4-A0F4-CDA12460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1F4AB-F11D-4B26-BC59-DF8BB677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DFFB9-D716-42ED-B45E-71E70989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079D0-B921-451F-97FB-8BA889C1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79B87-88E3-497A-A583-CFB9E35D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59609-4E8E-4DF0-A580-6E4C30D9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852E2-C7E2-4851-A77A-70E2795F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F1EE6-830B-4A6F-8F40-B30E87A2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44503-7679-457B-8C39-EE87AA5D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BA9BC-5998-4E74-AA2E-CFE6E2047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A8698-277A-4D7C-ABB6-849ADA52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1305E-2BB9-4C4D-B3EA-86004584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CE95E-7CFF-44A6-B5A5-305D09B2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ABCE6-4351-4F5A-B72B-EFFA9719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E942B-A83F-440D-ABAC-CA139744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B4122-CE07-469D-8033-8FA71539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EB024-B77F-4BBE-9204-77360080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BC5BD-580D-4360-BDEF-C3E50B70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4767F-29EA-456D-BBB3-A34D9F94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6DB19-F59C-4CAE-9877-0538FE97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5B923-738B-40B1-B4D0-229FB675C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9A9D9-44F7-4B07-BAC2-15E8CEAE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FA8B1-DBF6-4FD8-95BF-0CB2945E9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79487-525F-4956-851E-3D573308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14E4D-7257-4B80-90BD-A4A8895E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98CFB-BEFC-4330-A62C-D697CF2C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BE5A7-157D-4336-B60E-F02B1A83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2AEAD-5763-499C-812E-CC25F86E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695B4-4B5F-4B63-84EF-B089164E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84CEE-AD21-4FA5-83EB-90C7DE41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B2A88-8816-4A3E-91CB-FF6DACE6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A7D28-FDD1-43F0-BE2F-48D7A26F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027F8-69B1-4C3B-B92A-087B88DEB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C5B53-367F-41B9-B561-4014FD920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727B-85F2-442B-9A1F-AF3D48D4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DC9A-7EAE-4FB3-8F4E-A2E7B32B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56F2-EC3E-457E-BBFE-A412E7E7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D238-74FD-48F5-A0EF-99651710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34F4-E42A-436A-9E84-B9E86A9E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C720-3BCC-4793-B8ED-DDD11152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279C-991F-4AF2-A2EF-D45A1063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053A-445A-4A67-8CB2-4010A58E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92B1-B19C-4AE7-8F68-429F785C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8A4E-1FAA-48A0-9F46-1E9592D4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42BE-06FC-45E9-B0CA-5A0C9F1F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8F31-83DE-4367-8E98-FBB0C42C3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D215-661E-44E7-A67F-102D24393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FE00-FE37-4483-8B65-8697C359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493A-F7BA-451F-A947-E66F773C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dt" idx="7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ftr" idx="8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sldNum" idx="9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642C7BF9-FBB7-49FF-8C2F-E0CA1B11B0B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dt" idx="10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ftr" idx="11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sldNum" idx="12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0629887A-E4A0-42D9-863D-8B33F4B2DC8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body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7880" indent="-4078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884160" indent="-3394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2" marL="1360440" indent="-2714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90512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dt" idx="13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ftr" idx="14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Num" idx="15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2310D3CC-B985-4DC6-BED0-85AFBB01FB6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dt" idx="16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ftr" idx="17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18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F672DE86-E980-45AC-B40A-62A2A972F3C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dt" idx="19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ftr" idx="20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21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B4D7DCB4-42B2-44BC-988F-A88814403A1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dt" idx="22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ftr" idx="23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sldNum" idx="24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039F30CE-4F74-4373-8C77-C38256F75F4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3935160" y="117360"/>
            <a:ext cx="1802160" cy="414000"/>
          </a:xfrm>
          <a:prstGeom prst="rect">
            <a:avLst/>
          </a:prstGeom>
          <a:solidFill>
            <a:srgbClr val="288f20"/>
          </a:solidFill>
          <a:ln w="9360">
            <a:solidFill>
              <a:srgbClr val="288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6705720" y="117360"/>
            <a:ext cx="185868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9369360" y="117360"/>
            <a:ext cx="185868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3"/>
          <p:cNvSpPr/>
          <p:nvPr/>
        </p:nvSpPr>
        <p:spPr>
          <a:xfrm>
            <a:off x="3900960" y="117360"/>
            <a:ext cx="171684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6740280" y="117360"/>
            <a:ext cx="2109960" cy="414000"/>
          </a:xfrm>
          <a:prstGeom prst="rect">
            <a:avLst/>
          </a:prstGeom>
          <a:solidFill>
            <a:srgbClr val="39a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5"/>
          <p:cNvSpPr/>
          <p:nvPr/>
        </p:nvSpPr>
        <p:spPr>
          <a:xfrm>
            <a:off x="9366120" y="117360"/>
            <a:ext cx="200016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3"/>
          <p:cNvSpPr/>
          <p:nvPr/>
        </p:nvSpPr>
        <p:spPr>
          <a:xfrm>
            <a:off x="3907440" y="117360"/>
            <a:ext cx="143352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6712560" y="117360"/>
            <a:ext cx="157500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5"/>
          <p:cNvSpPr/>
          <p:nvPr/>
        </p:nvSpPr>
        <p:spPr>
          <a:xfrm>
            <a:off x="9401760" y="117360"/>
            <a:ext cx="1648080" cy="414000"/>
          </a:xfrm>
          <a:prstGeom prst="rect">
            <a:avLst/>
          </a:prstGeom>
          <a:solidFill>
            <a:srgbClr val="39a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6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dt" idx="1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ftr" idx="2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3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51613F52-D681-4D6D-9C4B-DBA39BEFE8F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dt" idx="4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5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6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CE220ED9-FB1B-4F23-A1C9-66D740D55D1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image" Target="../media/image33.png"/><Relationship Id="rId14" Type="http://schemas.openxmlformats.org/officeDocument/2006/relationships/image" Target="../media/image33.png"/><Relationship Id="rId15" Type="http://schemas.openxmlformats.org/officeDocument/2006/relationships/image" Target="../media/image35.png"/><Relationship Id="rId1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image" Target="../media/image46.png"/><Relationship Id="rId13" Type="http://schemas.openxmlformats.org/officeDocument/2006/relationships/image" Target="../media/image47.png"/><Relationship Id="rId14" Type="http://schemas.openxmlformats.org/officeDocument/2006/relationships/image" Target="../media/image48.png"/><Relationship Id="rId1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矩形 18"/>
          <p:cNvSpPr/>
          <p:nvPr/>
        </p:nvSpPr>
        <p:spPr>
          <a:xfrm>
            <a:off x="-27000" y="4680"/>
            <a:ext cx="12192120" cy="685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4" name="Picture 4" descr="C:\Documents and Settings\Administrator\桌面\PPT配图\公司宣传PPT图片\240490-1306030Q53886.jpg"/>
          <p:cNvPicPr/>
          <p:nvPr/>
        </p:nvPicPr>
        <p:blipFill>
          <a:blip r:embed="rId2"/>
          <a:stretch/>
        </p:blipFill>
        <p:spPr>
          <a:xfrm>
            <a:off x="552600" y="765000"/>
            <a:ext cx="5184720" cy="5185080"/>
          </a:xfrm>
          <a:prstGeom prst="rect">
            <a:avLst/>
          </a:prstGeom>
          <a:ln w="0">
            <a:noFill/>
          </a:ln>
        </p:spPr>
      </p:pic>
      <p:sp>
        <p:nvSpPr>
          <p:cNvPr id="595" name="矩形 19"/>
          <p:cNvSpPr/>
          <p:nvPr/>
        </p:nvSpPr>
        <p:spPr>
          <a:xfrm>
            <a:off x="-122400" y="6149880"/>
            <a:ext cx="12598560" cy="70956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Box 28"/>
          <p:cNvSpPr/>
          <p:nvPr/>
        </p:nvSpPr>
        <p:spPr>
          <a:xfrm>
            <a:off x="6382800" y="386244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通过</a:t>
            </a:r>
            <a:r>
              <a:rPr b="0" lang="en-US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29"/>
          <p:cNvSpPr/>
          <p:nvPr/>
        </p:nvSpPr>
        <p:spPr>
          <a:xfrm>
            <a:off x="7189920" y="4365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达到减少二氧化碳排放的目的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Box 30"/>
          <p:cNvSpPr/>
          <p:nvPr/>
        </p:nvSpPr>
        <p:spPr>
          <a:xfrm>
            <a:off x="9164520" y="48704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减缓全球气候变暖，改善人类的生活环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Picture 10" descr="C:\Documents and Settings\Administrator\桌面\PPT配图\公司宣传PPT图片\235103-13051209221830.jpg"/>
          <p:cNvPicPr/>
          <p:nvPr/>
        </p:nvPicPr>
        <p:blipFill>
          <a:blip r:embed="rId3"/>
          <a:stretch/>
        </p:blipFill>
        <p:spPr>
          <a:xfrm>
            <a:off x="5665680" y="1630440"/>
            <a:ext cx="2808360" cy="2158920"/>
          </a:xfrm>
          <a:prstGeom prst="rect">
            <a:avLst/>
          </a:prstGeom>
          <a:ln w="0">
            <a:noFill/>
          </a:ln>
        </p:spPr>
      </p:pic>
      <p:sp>
        <p:nvSpPr>
          <p:cNvPr id="600" name="TextBox 20"/>
          <p:cNvSpPr/>
          <p:nvPr/>
        </p:nvSpPr>
        <p:spPr>
          <a:xfrm>
            <a:off x="7015680" y="1125360"/>
            <a:ext cx="313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200" spc="-1" strike="noStrike">
                <a:solidFill>
                  <a:srgbClr val="288f20"/>
                </a:solidFill>
                <a:latin typeface="微软雅黑"/>
                <a:ea typeface="微软雅黑"/>
              </a:rPr>
              <a:t>我们为您提供</a:t>
            </a:r>
            <a:r>
              <a:rPr b="1" lang="en-US" sz="2200" spc="-1" strike="noStrike">
                <a:solidFill>
                  <a:srgbClr val="288f20"/>
                </a:solidFill>
                <a:latin typeface="微软雅黑"/>
                <a:ea typeface="微软雅黑"/>
              </a:rPr>
              <a:t>xxxxx</a:t>
            </a:r>
            <a:r>
              <a:rPr b="1" lang="zh-CN" sz="2200" spc="-1" strike="noStrike">
                <a:solidFill>
                  <a:srgbClr val="288f20"/>
                </a:solidFill>
                <a:latin typeface="微软雅黑"/>
                <a:ea typeface="微软雅黑"/>
              </a:rPr>
              <a:t>自多年的积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21"/>
          <p:cNvSpPr/>
          <p:nvPr/>
        </p:nvSpPr>
        <p:spPr>
          <a:xfrm>
            <a:off x="6535800" y="2460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使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Box 2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87926 -3.44126E-006 L -4.00989E-006 -3.44126E-006 E">
                                      <p:cBhvr>
                                        <p:cTn id="22" dur="5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2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700"/>
                            </p:stCondLst>
                            <p:childTnLst>
                              <p:par>
                                <p:cTn id="3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200"/>
                            </p:stCondLst>
                            <p:childTnLst>
                              <p:par>
                                <p:cTn id="3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7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7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17"/>
          <p:cNvSpPr/>
          <p:nvPr/>
        </p:nvSpPr>
        <p:spPr>
          <a:xfrm>
            <a:off x="4541760" y="3944880"/>
            <a:ext cx="3168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www.xxxxx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Box 1"/>
          <p:cNvSpPr/>
          <p:nvPr/>
        </p:nvSpPr>
        <p:spPr>
          <a:xfrm>
            <a:off x="3952080" y="2965320"/>
            <a:ext cx="550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4400" spc="-1" strike="noStrike">
                <a:solidFill>
                  <a:srgbClr val="2ca7e0"/>
                </a:solidFill>
                <a:latin typeface="微软雅黑"/>
                <a:ea typeface="微软雅黑"/>
              </a:rPr>
              <a:t>xxxxxxx</a:t>
            </a:r>
            <a:r>
              <a:rPr b="1" lang="zh-CN" sz="4400" spc="-1" strike="noStrike">
                <a:solidFill>
                  <a:srgbClr val="2ca7e0"/>
                </a:solidFill>
                <a:latin typeface="微软雅黑"/>
                <a:ea typeface="微软雅黑"/>
              </a:rPr>
              <a:t>，    我们更专业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矩形 75"/>
          <p:cNvSpPr/>
          <p:nvPr/>
        </p:nvSpPr>
        <p:spPr>
          <a:xfrm>
            <a:off x="-136440" y="0"/>
            <a:ext cx="13030200" cy="6859440"/>
          </a:xfrm>
          <a:prstGeom prst="rect">
            <a:avLst/>
          </a:prstGeom>
          <a:solidFill>
            <a:srgbClr val="f2f2f2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8000">
    <p:fade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矩形 19"/>
          <p:cNvSpPr/>
          <p:nvPr/>
        </p:nvSpPr>
        <p:spPr>
          <a:xfrm rot="10800000">
            <a:off x="-308160" y="-23760"/>
            <a:ext cx="12598200" cy="8618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直接连接符 23"/>
          <p:cNvSpPr/>
          <p:nvPr/>
        </p:nvSpPr>
        <p:spPr>
          <a:xfrm>
            <a:off x="0" y="1486080"/>
            <a:ext cx="5019840" cy="0"/>
          </a:xfrm>
          <a:prstGeom prst="line">
            <a:avLst/>
          </a:prstGeom>
          <a:ln w="63360">
            <a:solidFill>
              <a:srgbClr val="f2f2f2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矩形 30"/>
          <p:cNvSpPr/>
          <p:nvPr/>
        </p:nvSpPr>
        <p:spPr>
          <a:xfrm>
            <a:off x="1633680" y="1413000"/>
            <a:ext cx="10345680" cy="5375160"/>
          </a:xfrm>
          <a:custGeom>
            <a:avLst/>
            <a:gdLst/>
            <a:ahLst/>
            <a:rect l="l" t="t" r="r" b="b"/>
            <a:pathLst>
              <a:path w="12195175" h="5475046">
                <a:moveTo>
                  <a:pt x="3991429" y="0"/>
                </a:moveTo>
                <a:lnTo>
                  <a:pt x="12195175" y="29028"/>
                </a:lnTo>
                <a:lnTo>
                  <a:pt x="12195175" y="5475046"/>
                </a:lnTo>
                <a:lnTo>
                  <a:pt x="0" y="5475046"/>
                </a:lnTo>
                <a:lnTo>
                  <a:pt x="3991429" y="0"/>
                </a:lnTo>
                <a:close/>
              </a:path>
            </a:pathLst>
          </a:custGeom>
          <a:solidFill>
            <a:srgbClr val="f2f2f2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7710840" y="2890080"/>
            <a:ext cx="1891800" cy="931680"/>
            <a:chOff x="7710840" y="2890080"/>
            <a:chExt cx="1891800" cy="931680"/>
          </a:xfrm>
        </p:grpSpPr>
        <p:pic>
          <p:nvPicPr>
            <p:cNvPr id="607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7750080" y="2938320"/>
              <a:ext cx="18115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 rot="959400">
              <a:off x="7736040" y="3134880"/>
              <a:ext cx="18414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8978760" y="2925720"/>
            <a:ext cx="1798560" cy="1798560"/>
            <a:chOff x="8978760" y="2925720"/>
            <a:chExt cx="1798560" cy="1798560"/>
          </a:xfrm>
        </p:grpSpPr>
        <p:pic>
          <p:nvPicPr>
            <p:cNvPr id="610" name="椭圆 34" descr=""/>
            <p:cNvPicPr/>
            <p:nvPr/>
          </p:nvPicPr>
          <p:blipFill>
            <a:blip r:embed="rId3"/>
            <a:stretch/>
          </p:blipFill>
          <p:spPr>
            <a:xfrm>
              <a:off x="8978760" y="2925720"/>
              <a:ext cx="179856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9240840" y="3189240"/>
              <a:ext cx="127296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9193320" y="3139920"/>
            <a:ext cx="1371600" cy="1371600"/>
            <a:chOff x="9193320" y="3139920"/>
            <a:chExt cx="1371600" cy="1371600"/>
          </a:xfrm>
        </p:grpSpPr>
        <p:pic>
          <p:nvPicPr>
            <p:cNvPr id="613" name="椭圆 37" descr=""/>
            <p:cNvPicPr/>
            <p:nvPr/>
          </p:nvPicPr>
          <p:blipFill>
            <a:blip r:embed="rId4"/>
            <a:stretch/>
          </p:blipFill>
          <p:spPr>
            <a:xfrm>
              <a:off x="9193320" y="31399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9394920" y="3341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178960" y="3124080"/>
            <a:ext cx="1645200" cy="1254960"/>
            <a:chOff x="5178960" y="3124080"/>
            <a:chExt cx="1645200" cy="1254960"/>
          </a:xfrm>
        </p:grpSpPr>
        <p:pic>
          <p:nvPicPr>
            <p:cNvPr id="616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5261760" y="3157560"/>
              <a:ext cx="148176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 rot="8880600">
              <a:off x="5168880" y="3531600"/>
              <a:ext cx="1665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3718080" y="3498840"/>
            <a:ext cx="2017440" cy="2017800"/>
            <a:chOff x="3718080" y="3498840"/>
            <a:chExt cx="2017440" cy="2017800"/>
          </a:xfrm>
        </p:grpSpPr>
        <p:pic>
          <p:nvPicPr>
            <p:cNvPr id="619" name="椭圆 32" descr=""/>
            <p:cNvPicPr/>
            <p:nvPr/>
          </p:nvPicPr>
          <p:blipFill>
            <a:blip r:embed="rId6"/>
            <a:stretch/>
          </p:blipFill>
          <p:spPr>
            <a:xfrm>
              <a:off x="3718080" y="349884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4016160" y="379728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4084560" y="3790800"/>
            <a:ext cx="1438200" cy="1440000"/>
            <a:chOff x="4084560" y="3790800"/>
            <a:chExt cx="1438200" cy="1440000"/>
          </a:xfrm>
        </p:grpSpPr>
        <p:pic>
          <p:nvPicPr>
            <p:cNvPr id="622" name="椭圆 35" descr=""/>
            <p:cNvPicPr/>
            <p:nvPr/>
          </p:nvPicPr>
          <p:blipFill>
            <a:blip r:embed="rId7"/>
            <a:stretch/>
          </p:blipFill>
          <p:spPr>
            <a:xfrm>
              <a:off x="4084560" y="3790800"/>
              <a:ext cx="14382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4292640" y="4000320"/>
              <a:ext cx="101736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6242040" y="2206800"/>
            <a:ext cx="2017800" cy="2017440"/>
            <a:chOff x="6242040" y="2206800"/>
            <a:chExt cx="2017800" cy="2017440"/>
          </a:xfrm>
        </p:grpSpPr>
        <p:pic>
          <p:nvPicPr>
            <p:cNvPr id="625" name="椭圆 33" descr=""/>
            <p:cNvPicPr/>
            <p:nvPr/>
          </p:nvPicPr>
          <p:blipFill>
            <a:blip r:embed="rId8"/>
            <a:stretch/>
          </p:blipFill>
          <p:spPr>
            <a:xfrm>
              <a:off x="6242040" y="2206800"/>
              <a:ext cx="2017800" cy="20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537240" y="2500200"/>
              <a:ext cx="1425600" cy="14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6456240" y="2567160"/>
            <a:ext cx="1371600" cy="1365120"/>
            <a:chOff x="6456240" y="2567160"/>
            <a:chExt cx="1371600" cy="1365120"/>
          </a:xfrm>
        </p:grpSpPr>
        <p:pic>
          <p:nvPicPr>
            <p:cNvPr id="628" name="椭圆 36" descr=""/>
            <p:cNvPicPr/>
            <p:nvPr/>
          </p:nvPicPr>
          <p:blipFill>
            <a:blip r:embed="rId9"/>
            <a:stretch/>
          </p:blipFill>
          <p:spPr>
            <a:xfrm>
              <a:off x="64562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6657840" y="2765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0" name="TextBox 46"/>
          <p:cNvSpPr/>
          <p:nvPr/>
        </p:nvSpPr>
        <p:spPr>
          <a:xfrm>
            <a:off x="1206720" y="909720"/>
            <a:ext cx="33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3200" spc="-1" strike="noStrike">
                <a:solidFill>
                  <a:srgbClr val="288f20"/>
                </a:solidFill>
                <a:latin typeface="微软雅黑"/>
                <a:ea typeface="微软雅黑"/>
              </a:rPr>
              <a:t>xxxx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他   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报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push dir="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直接连接符 2"/>
          <p:cNvSpPr/>
          <p:nvPr/>
        </p:nvSpPr>
        <p:spPr>
          <a:xfrm>
            <a:off x="0" y="1846440"/>
            <a:ext cx="4729320" cy="0"/>
          </a:xfrm>
          <a:prstGeom prst="line">
            <a:avLst/>
          </a:prstGeom>
          <a:ln w="63360">
            <a:solidFill>
              <a:srgbClr val="f2f2f2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矩形 30"/>
          <p:cNvSpPr/>
          <p:nvPr/>
        </p:nvSpPr>
        <p:spPr>
          <a:xfrm>
            <a:off x="1633680" y="1413000"/>
            <a:ext cx="10345680" cy="5375160"/>
          </a:xfrm>
          <a:custGeom>
            <a:avLst/>
            <a:gdLst/>
            <a:ahLst/>
            <a:rect l="l" t="t" r="r" b="b"/>
            <a:pathLst>
              <a:path w="12195175" h="5475046">
                <a:moveTo>
                  <a:pt x="3991429" y="0"/>
                </a:moveTo>
                <a:lnTo>
                  <a:pt x="12195175" y="29028"/>
                </a:lnTo>
                <a:lnTo>
                  <a:pt x="12195175" y="5475046"/>
                </a:lnTo>
                <a:lnTo>
                  <a:pt x="0" y="5475046"/>
                </a:lnTo>
                <a:lnTo>
                  <a:pt x="3991429" y="0"/>
                </a:lnTo>
                <a:close/>
              </a:path>
            </a:pathLst>
          </a:custGeom>
          <a:solidFill>
            <a:srgbClr val="f2f2f2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7710840" y="2890080"/>
            <a:ext cx="1891800" cy="931680"/>
            <a:chOff x="7710840" y="2890080"/>
            <a:chExt cx="1891800" cy="931680"/>
          </a:xfrm>
        </p:grpSpPr>
        <p:pic>
          <p:nvPicPr>
            <p:cNvPr id="635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7750080" y="2938320"/>
              <a:ext cx="18115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 rot="959400">
              <a:off x="7736040" y="3134880"/>
              <a:ext cx="18414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8978760" y="2925720"/>
            <a:ext cx="1798560" cy="1798560"/>
            <a:chOff x="8978760" y="2925720"/>
            <a:chExt cx="1798560" cy="1798560"/>
          </a:xfrm>
        </p:grpSpPr>
        <p:pic>
          <p:nvPicPr>
            <p:cNvPr id="638" name="椭圆 5" descr=""/>
            <p:cNvPicPr/>
            <p:nvPr/>
          </p:nvPicPr>
          <p:blipFill>
            <a:blip r:embed="rId3"/>
            <a:stretch/>
          </p:blipFill>
          <p:spPr>
            <a:xfrm>
              <a:off x="8978760" y="2925720"/>
              <a:ext cx="179856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9240840" y="3189240"/>
              <a:ext cx="127296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9193320" y="3139920"/>
            <a:ext cx="1371600" cy="1371600"/>
            <a:chOff x="9193320" y="3139920"/>
            <a:chExt cx="1371600" cy="1371600"/>
          </a:xfrm>
        </p:grpSpPr>
        <p:pic>
          <p:nvPicPr>
            <p:cNvPr id="641" name="椭圆 6" descr=""/>
            <p:cNvPicPr/>
            <p:nvPr/>
          </p:nvPicPr>
          <p:blipFill>
            <a:blip r:embed="rId4"/>
            <a:stretch/>
          </p:blipFill>
          <p:spPr>
            <a:xfrm>
              <a:off x="9193320" y="31399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9394920" y="3341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5178960" y="3124080"/>
            <a:ext cx="1645200" cy="1254960"/>
            <a:chOff x="5178960" y="3124080"/>
            <a:chExt cx="1645200" cy="1254960"/>
          </a:xfrm>
        </p:grpSpPr>
        <p:pic>
          <p:nvPicPr>
            <p:cNvPr id="644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5261760" y="3157560"/>
              <a:ext cx="148176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 rot="8880600">
              <a:off x="5168880" y="3531600"/>
              <a:ext cx="1665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3718080" y="3498840"/>
            <a:ext cx="2017440" cy="2017800"/>
            <a:chOff x="3718080" y="3498840"/>
            <a:chExt cx="2017440" cy="2017800"/>
          </a:xfrm>
        </p:grpSpPr>
        <p:pic>
          <p:nvPicPr>
            <p:cNvPr id="647" name="椭圆 8" descr=""/>
            <p:cNvPicPr/>
            <p:nvPr/>
          </p:nvPicPr>
          <p:blipFill>
            <a:blip r:embed="rId6"/>
            <a:stretch/>
          </p:blipFill>
          <p:spPr>
            <a:xfrm>
              <a:off x="3718080" y="349884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4016160" y="379728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084560" y="3790800"/>
            <a:ext cx="1438200" cy="1440000"/>
            <a:chOff x="4084560" y="3790800"/>
            <a:chExt cx="1438200" cy="1440000"/>
          </a:xfrm>
        </p:grpSpPr>
        <p:pic>
          <p:nvPicPr>
            <p:cNvPr id="650" name="椭圆 9" descr=""/>
            <p:cNvPicPr/>
            <p:nvPr/>
          </p:nvPicPr>
          <p:blipFill>
            <a:blip r:embed="rId7"/>
            <a:stretch/>
          </p:blipFill>
          <p:spPr>
            <a:xfrm>
              <a:off x="4084560" y="3790800"/>
              <a:ext cx="14382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4292640" y="4000320"/>
              <a:ext cx="101736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242040" y="2206800"/>
            <a:ext cx="2017800" cy="2017440"/>
            <a:chOff x="6242040" y="2206800"/>
            <a:chExt cx="2017800" cy="2017440"/>
          </a:xfrm>
        </p:grpSpPr>
        <p:pic>
          <p:nvPicPr>
            <p:cNvPr id="653" name="椭圆 10" descr=""/>
            <p:cNvPicPr/>
            <p:nvPr/>
          </p:nvPicPr>
          <p:blipFill>
            <a:blip r:embed="rId8"/>
            <a:stretch/>
          </p:blipFill>
          <p:spPr>
            <a:xfrm>
              <a:off x="6242040" y="2206800"/>
              <a:ext cx="2017800" cy="20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6537240" y="2500200"/>
              <a:ext cx="1425600" cy="14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456240" y="2567160"/>
            <a:ext cx="1371600" cy="1365120"/>
            <a:chOff x="6456240" y="2567160"/>
            <a:chExt cx="1371600" cy="1365120"/>
          </a:xfrm>
        </p:grpSpPr>
        <p:pic>
          <p:nvPicPr>
            <p:cNvPr id="656" name="椭圆 11" descr=""/>
            <p:cNvPicPr/>
            <p:nvPr/>
          </p:nvPicPr>
          <p:blipFill>
            <a:blip r:embed="rId9"/>
            <a:stretch/>
          </p:blipFill>
          <p:spPr>
            <a:xfrm>
              <a:off x="64562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"/>
            <p:cNvSpPr/>
            <p:nvPr/>
          </p:nvSpPr>
          <p:spPr>
            <a:xfrm>
              <a:off x="6657840" y="2765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8" name="TextBox 12"/>
          <p:cNvSpPr/>
          <p:nvPr/>
        </p:nvSpPr>
        <p:spPr>
          <a:xfrm>
            <a:off x="1650960" y="1198440"/>
            <a:ext cx="23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3200" spc="-1" strike="noStrike">
                <a:solidFill>
                  <a:srgbClr val="288f20"/>
                </a:solidFill>
                <a:latin typeface="微软雅黑"/>
                <a:ea typeface="微软雅黑"/>
              </a:rPr>
              <a:t>节能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他   实业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报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Box 13"/>
          <p:cNvSpPr/>
          <p:nvPr/>
        </p:nvSpPr>
        <p:spPr>
          <a:xfrm>
            <a:off x="138060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矩形 19"/>
          <p:cNvSpPr/>
          <p:nvPr/>
        </p:nvSpPr>
        <p:spPr>
          <a:xfrm rot="10800000">
            <a:off x="-360" y="0"/>
            <a:ext cx="12434760" cy="1054080"/>
          </a:xfrm>
          <a:custGeom>
            <a:avLst/>
            <a:gdLst/>
            <a:ahLst/>
            <a:rect l="l" t="t" r="r" b="b"/>
            <a:pathLst>
              <a:path w="122967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431410" y="-16801"/>
                  <a:pt x="12285863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0.00023 L -0.12995 -0.00023 C -0.18815 -0.00023 -0.25977 -0.14775 -0.25977 -0.26775 L -0.25977 -0.53457 E">
                                      <p:cBhvr>
                                        <p:cTn id="132" dur="2000" fill="hold"/>
                                        <p:tgtEl>
                                          <p:spTgt spid="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Box 1"/>
          <p:cNvSpPr/>
          <p:nvPr/>
        </p:nvSpPr>
        <p:spPr>
          <a:xfrm>
            <a:off x="140508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矩形 7"/>
          <p:cNvSpPr/>
          <p:nvPr/>
        </p:nvSpPr>
        <p:spPr>
          <a:xfrm>
            <a:off x="888840" y="2916360"/>
            <a:ext cx="52088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公司商业，已删除</a:t>
            </a: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矩形 7"/>
          <p:cNvSpPr/>
          <p:nvPr/>
        </p:nvSpPr>
        <p:spPr>
          <a:xfrm>
            <a:off x="6145200" y="2916360"/>
            <a:ext cx="52084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已删除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7081920" y="4678200"/>
            <a:ext cx="2303280" cy="3373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精神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9"/>
          <p:cNvSpPr/>
          <p:nvPr/>
        </p:nvSpPr>
        <p:spPr>
          <a:xfrm>
            <a:off x="1524960" y="2349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4657680" y="1125360"/>
            <a:ext cx="7207200" cy="936720"/>
            <a:chOff x="4657680" y="1125360"/>
            <a:chExt cx="7207200" cy="936720"/>
          </a:xfrm>
        </p:grpSpPr>
        <p:grpSp>
          <p:nvGrpSpPr>
            <p:cNvPr id="669" name=""/>
            <p:cNvGrpSpPr/>
            <p:nvPr/>
          </p:nvGrpSpPr>
          <p:grpSpPr>
            <a:xfrm>
              <a:off x="4657680" y="1125360"/>
              <a:ext cx="2340000" cy="936720"/>
              <a:chOff x="4657680" y="1125360"/>
              <a:chExt cx="2340000" cy="936720"/>
            </a:xfrm>
          </p:grpSpPr>
          <p:pic>
            <p:nvPicPr>
              <p:cNvPr id="670" name="矩形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46576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1" name="TextBox 10"/>
              <p:cNvSpPr/>
              <p:nvPr/>
            </p:nvSpPr>
            <p:spPr>
              <a:xfrm>
                <a:off x="5244840" y="1125360"/>
                <a:ext cx="10036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言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行一致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7091280" y="1125360"/>
              <a:ext cx="2340000" cy="936720"/>
              <a:chOff x="7091280" y="1125360"/>
              <a:chExt cx="2340000" cy="936720"/>
            </a:xfrm>
          </p:grpSpPr>
          <p:pic>
            <p:nvPicPr>
              <p:cNvPr id="673" name="矩形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70912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4" name="TextBox 15"/>
              <p:cNvSpPr/>
              <p:nvPr/>
            </p:nvSpPr>
            <p:spPr>
              <a:xfrm>
                <a:off x="7496640" y="1125360"/>
                <a:ext cx="1369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厚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德载物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9524880" y="1125360"/>
              <a:ext cx="2340000" cy="936720"/>
              <a:chOff x="9524880" y="1125360"/>
              <a:chExt cx="2340000" cy="936720"/>
            </a:xfrm>
          </p:grpSpPr>
          <p:pic>
            <p:nvPicPr>
              <p:cNvPr id="676" name="矩形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5248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7" name="TextBox 18"/>
              <p:cNvSpPr/>
              <p:nvPr/>
            </p:nvSpPr>
            <p:spPr>
              <a:xfrm>
                <a:off x="9931320" y="1125360"/>
                <a:ext cx="1369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自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强不息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678" name="Picture 2" descr="F:\03图片下载\Z自然风景\1253332070679.jpg"/>
          <p:cNvPicPr/>
          <p:nvPr/>
        </p:nvPicPr>
        <p:blipFill>
          <a:blip r:embed="rId5"/>
          <a:srcRect l="0" t="69513" r="10781" b="7083"/>
          <a:stretch/>
        </p:blipFill>
        <p:spPr>
          <a:xfrm>
            <a:off x="0" y="1106640"/>
            <a:ext cx="16316280" cy="12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926 -3.44126E-006 L -4.00989E-006 -3.44126E-006 E">
                                      <p:cBhvr>
                                        <p:cTn id="155" dur="500" fill="hold"/>
                                        <p:tgtEl>
                                          <p:spTgt spid="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1991E-006 -1.48148E-006 L -1.55386 -1.48148E-006 E">
                                      <p:cBhvr>
                                        <p:cTn id="172" dur="19300" fill="hold"/>
                                        <p:tgtEl>
                                          <p:spTgt spid="6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"/>
          <p:cNvGrpSpPr/>
          <p:nvPr/>
        </p:nvGrpSpPr>
        <p:grpSpPr>
          <a:xfrm>
            <a:off x="2045160" y="544680"/>
            <a:ext cx="7163640" cy="7956360"/>
            <a:chOff x="2045160" y="544680"/>
            <a:chExt cx="7163640" cy="7956360"/>
          </a:xfrm>
        </p:grpSpPr>
        <p:pic>
          <p:nvPicPr>
            <p:cNvPr id="680" name="Freeform 11" descr=""/>
            <p:cNvPicPr/>
            <p:nvPr/>
          </p:nvPicPr>
          <p:blipFill>
            <a:blip r:embed="rId2"/>
            <a:stretch/>
          </p:blipFill>
          <p:spPr>
            <a:xfrm>
              <a:off x="2174760" y="544680"/>
              <a:ext cx="7034040" cy="795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1" name=""/>
            <p:cNvGrpSpPr/>
            <p:nvPr/>
          </p:nvGrpSpPr>
          <p:grpSpPr>
            <a:xfrm>
              <a:off x="2045160" y="3260880"/>
              <a:ext cx="6675480" cy="2715840"/>
              <a:chOff x="2045160" y="3260880"/>
              <a:chExt cx="6675480" cy="2715840"/>
            </a:xfrm>
          </p:grpSpPr>
          <p:grpSp>
            <p:nvGrpSpPr>
              <p:cNvPr id="682" name=""/>
              <p:cNvGrpSpPr/>
              <p:nvPr/>
            </p:nvGrpSpPr>
            <p:grpSpPr>
              <a:xfrm>
                <a:off x="2045160" y="3260880"/>
                <a:ext cx="6316920" cy="2111040"/>
                <a:chOff x="2045160" y="3260880"/>
                <a:chExt cx="6316920" cy="2111040"/>
              </a:xfrm>
            </p:grpSpPr>
            <p:sp>
              <p:nvSpPr>
                <p:cNvPr id="683" name="直接连接符 143"/>
                <p:cNvSpPr/>
                <p:nvPr/>
              </p:nvSpPr>
              <p:spPr>
                <a:xfrm flipV="1">
                  <a:off x="2045160" y="4525200"/>
                  <a:ext cx="2220480" cy="84672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4" name="直接连接符 150"/>
                <p:cNvSpPr/>
                <p:nvPr/>
              </p:nvSpPr>
              <p:spPr>
                <a:xfrm>
                  <a:off x="4506480" y="4339800"/>
                  <a:ext cx="813240" cy="3024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5" name="直接连接符 151"/>
                <p:cNvSpPr/>
                <p:nvPr/>
              </p:nvSpPr>
              <p:spPr>
                <a:xfrm flipV="1">
                  <a:off x="5536080" y="3797640"/>
                  <a:ext cx="1053360" cy="4017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6" name="直接连接符 152"/>
                <p:cNvSpPr/>
                <p:nvPr/>
              </p:nvSpPr>
              <p:spPr>
                <a:xfrm>
                  <a:off x="6923520" y="3650760"/>
                  <a:ext cx="487080" cy="3492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7" name="直接连接符 153"/>
                <p:cNvSpPr/>
                <p:nvPr/>
              </p:nvSpPr>
              <p:spPr>
                <a:xfrm flipV="1">
                  <a:off x="7688520" y="3260880"/>
                  <a:ext cx="673560" cy="2703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2310840" y="3537360"/>
                <a:ext cx="6409800" cy="2439360"/>
                <a:chOff x="2310840" y="3537360"/>
                <a:chExt cx="6409800" cy="2439360"/>
              </a:xfrm>
            </p:grpSpPr>
            <p:sp>
              <p:nvSpPr>
                <p:cNvPr id="689" name="直接连接符 138"/>
                <p:cNvSpPr/>
                <p:nvPr/>
              </p:nvSpPr>
              <p:spPr>
                <a:xfrm flipV="1">
                  <a:off x="2310840" y="5047560"/>
                  <a:ext cx="2314440" cy="9291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0" name="直接连接符 139"/>
                <p:cNvSpPr/>
                <p:nvPr/>
              </p:nvSpPr>
              <p:spPr>
                <a:xfrm flipV="1">
                  <a:off x="4721760" y="4836600"/>
                  <a:ext cx="812160" cy="1224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1" name="直接连接符 140"/>
                <p:cNvSpPr/>
                <p:nvPr/>
              </p:nvSpPr>
              <p:spPr>
                <a:xfrm flipV="1">
                  <a:off x="5754240" y="4204080"/>
                  <a:ext cx="1150200" cy="48528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2" name="直接连接符 141"/>
                <p:cNvSpPr/>
                <p:nvPr/>
              </p:nvSpPr>
              <p:spPr>
                <a:xfrm>
                  <a:off x="7072920" y="4049640"/>
                  <a:ext cx="584640" cy="219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3" name="直接连接符 142"/>
                <p:cNvSpPr/>
                <p:nvPr/>
              </p:nvSpPr>
              <p:spPr>
                <a:xfrm flipV="1">
                  <a:off x="7806960" y="3537360"/>
                  <a:ext cx="913680" cy="4233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94" name="TextBox 1"/>
          <p:cNvSpPr/>
          <p:nvPr/>
        </p:nvSpPr>
        <p:spPr>
          <a:xfrm>
            <a:off x="140508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历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1941480" y="2862360"/>
            <a:ext cx="1090800" cy="2249280"/>
            <a:chOff x="1941480" y="2862360"/>
            <a:chExt cx="1090800" cy="2249280"/>
          </a:xfrm>
        </p:grpSpPr>
        <p:sp>
          <p:nvSpPr>
            <p:cNvPr id="696" name="直接连接符 83"/>
            <p:cNvSpPr/>
            <p:nvPr/>
          </p:nvSpPr>
          <p:spPr>
            <a:xfrm flipV="1">
              <a:off x="2600280" y="4025880"/>
              <a:ext cx="0" cy="10857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TextBox 17"/>
            <p:cNvSpPr/>
            <p:nvPr/>
          </p:nvSpPr>
          <p:spPr>
            <a:xfrm>
              <a:off x="1941480" y="2862360"/>
              <a:ext cx="1090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2531880" y="3941280"/>
              <a:ext cx="144360" cy="144360"/>
              <a:chOff x="2531880" y="3941280"/>
              <a:chExt cx="144360" cy="144360"/>
            </a:xfrm>
          </p:grpSpPr>
          <p:sp>
            <p:nvSpPr>
              <p:cNvPr id="699" name="椭圆 86"/>
              <p:cNvSpPr/>
              <p:nvPr/>
            </p:nvSpPr>
            <p:spPr>
              <a:xfrm>
                <a:off x="2531880" y="39412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椭圆 87"/>
              <p:cNvSpPr/>
              <p:nvPr/>
            </p:nvSpPr>
            <p:spPr>
              <a:xfrm>
                <a:off x="2557080" y="39664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01" name="直接连接符 22"/>
          <p:cNvSpPr/>
          <p:nvPr/>
        </p:nvSpPr>
        <p:spPr>
          <a:xfrm flipV="1">
            <a:off x="4889520" y="4512960"/>
            <a:ext cx="785880" cy="21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2859120" y="2133720"/>
            <a:ext cx="896760" cy="2985480"/>
            <a:chOff x="2859120" y="2133720"/>
            <a:chExt cx="896760" cy="2985480"/>
          </a:xfrm>
        </p:grpSpPr>
        <p:sp>
          <p:nvSpPr>
            <p:cNvPr id="703" name="直接连接符 98"/>
            <p:cNvSpPr/>
            <p:nvPr/>
          </p:nvSpPr>
          <p:spPr>
            <a:xfrm flipV="1">
              <a:off x="3246480" y="3401640"/>
              <a:ext cx="0" cy="1717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TextBox 18"/>
            <p:cNvSpPr/>
            <p:nvPr/>
          </p:nvSpPr>
          <p:spPr>
            <a:xfrm>
              <a:off x="2859120" y="2133720"/>
              <a:ext cx="896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3174840" y="3299040"/>
              <a:ext cx="144360" cy="144360"/>
              <a:chOff x="3174840" y="3299040"/>
              <a:chExt cx="144360" cy="144360"/>
            </a:xfrm>
          </p:grpSpPr>
          <p:sp>
            <p:nvSpPr>
              <p:cNvPr id="706" name="椭圆 101"/>
              <p:cNvSpPr/>
              <p:nvPr/>
            </p:nvSpPr>
            <p:spPr>
              <a:xfrm>
                <a:off x="3174840" y="329904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7" name="椭圆 102"/>
              <p:cNvSpPr/>
              <p:nvPr/>
            </p:nvSpPr>
            <p:spPr>
              <a:xfrm>
                <a:off x="3200040" y="332424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8" name=""/>
          <p:cNvGrpSpPr/>
          <p:nvPr/>
        </p:nvGrpSpPr>
        <p:grpSpPr>
          <a:xfrm>
            <a:off x="3930480" y="2060640"/>
            <a:ext cx="833760" cy="2771280"/>
            <a:chOff x="3930480" y="2060640"/>
            <a:chExt cx="833760" cy="2771280"/>
          </a:xfrm>
        </p:grpSpPr>
        <p:sp>
          <p:nvSpPr>
            <p:cNvPr id="709" name="直接连接符 104"/>
            <p:cNvSpPr/>
            <p:nvPr/>
          </p:nvSpPr>
          <p:spPr>
            <a:xfrm flipV="1">
              <a:off x="4322880" y="3115800"/>
              <a:ext cx="0" cy="17161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TextBox 25"/>
            <p:cNvSpPr/>
            <p:nvPr/>
          </p:nvSpPr>
          <p:spPr>
            <a:xfrm>
              <a:off x="3930480" y="2060640"/>
              <a:ext cx="833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4246200" y="3012480"/>
              <a:ext cx="144360" cy="144360"/>
              <a:chOff x="4246200" y="3012480"/>
              <a:chExt cx="144360" cy="144360"/>
            </a:xfrm>
          </p:grpSpPr>
          <p:sp>
            <p:nvSpPr>
              <p:cNvPr id="712" name="椭圆 107"/>
              <p:cNvSpPr/>
              <p:nvPr/>
            </p:nvSpPr>
            <p:spPr>
              <a:xfrm>
                <a:off x="4246200" y="30124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椭圆 108"/>
              <p:cNvSpPr/>
              <p:nvPr/>
            </p:nvSpPr>
            <p:spPr>
              <a:xfrm>
                <a:off x="4271400" y="30376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14" name=""/>
          <p:cNvGrpSpPr/>
          <p:nvPr/>
        </p:nvGrpSpPr>
        <p:grpSpPr>
          <a:xfrm>
            <a:off x="4748040" y="1773360"/>
            <a:ext cx="947880" cy="2837880"/>
            <a:chOff x="4748040" y="1773360"/>
            <a:chExt cx="947880" cy="2837880"/>
          </a:xfrm>
        </p:grpSpPr>
        <p:sp>
          <p:nvSpPr>
            <p:cNvPr id="715" name="直接连接符 110"/>
            <p:cNvSpPr/>
            <p:nvPr/>
          </p:nvSpPr>
          <p:spPr>
            <a:xfrm flipV="1">
              <a:off x="5175000" y="2893680"/>
              <a:ext cx="0" cy="1717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TextBox 27"/>
            <p:cNvSpPr/>
            <p:nvPr/>
          </p:nvSpPr>
          <p:spPr>
            <a:xfrm>
              <a:off x="4748040" y="1773360"/>
              <a:ext cx="947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17" name=""/>
            <p:cNvGrpSpPr/>
            <p:nvPr/>
          </p:nvGrpSpPr>
          <p:grpSpPr>
            <a:xfrm>
              <a:off x="5103000" y="2816280"/>
              <a:ext cx="144360" cy="144360"/>
              <a:chOff x="5103000" y="2816280"/>
              <a:chExt cx="144360" cy="144360"/>
            </a:xfrm>
          </p:grpSpPr>
          <p:sp>
            <p:nvSpPr>
              <p:cNvPr id="718" name="椭圆 113"/>
              <p:cNvSpPr/>
              <p:nvPr/>
            </p:nvSpPr>
            <p:spPr>
              <a:xfrm>
                <a:off x="5103000" y="28162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椭圆 114"/>
              <p:cNvSpPr/>
              <p:nvPr/>
            </p:nvSpPr>
            <p:spPr>
              <a:xfrm>
                <a:off x="5137200" y="2841480"/>
                <a:ext cx="7596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20" name=""/>
          <p:cNvGrpSpPr/>
          <p:nvPr/>
        </p:nvGrpSpPr>
        <p:grpSpPr>
          <a:xfrm>
            <a:off x="5952960" y="1773360"/>
            <a:ext cx="1130400" cy="2412360"/>
            <a:chOff x="5952960" y="1773360"/>
            <a:chExt cx="1130400" cy="2412360"/>
          </a:xfrm>
        </p:grpSpPr>
        <p:sp>
          <p:nvSpPr>
            <p:cNvPr id="721" name="直接连接符 116"/>
            <p:cNvSpPr/>
            <p:nvPr/>
          </p:nvSpPr>
          <p:spPr>
            <a:xfrm flipH="1" flipV="1">
              <a:off x="6529320" y="2538000"/>
              <a:ext cx="17280" cy="1647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TextBox 29"/>
            <p:cNvSpPr/>
            <p:nvPr/>
          </p:nvSpPr>
          <p:spPr>
            <a:xfrm>
              <a:off x="5952960" y="1773360"/>
              <a:ext cx="1130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7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6456960" y="2421360"/>
              <a:ext cx="144360" cy="142920"/>
              <a:chOff x="6456960" y="2421360"/>
              <a:chExt cx="144360" cy="142920"/>
            </a:xfrm>
          </p:grpSpPr>
          <p:sp>
            <p:nvSpPr>
              <p:cNvPr id="724" name="椭圆 119"/>
              <p:cNvSpPr/>
              <p:nvPr/>
            </p:nvSpPr>
            <p:spPr>
              <a:xfrm>
                <a:off x="6456960" y="2421360"/>
                <a:ext cx="144360" cy="14292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5" name="椭圆 120"/>
              <p:cNvSpPr/>
              <p:nvPr/>
            </p:nvSpPr>
            <p:spPr>
              <a:xfrm>
                <a:off x="6482160" y="2446560"/>
                <a:ext cx="93600" cy="9216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26" name=""/>
          <p:cNvGrpSpPr/>
          <p:nvPr/>
        </p:nvGrpSpPr>
        <p:grpSpPr>
          <a:xfrm>
            <a:off x="9360000" y="1268280"/>
            <a:ext cx="996840" cy="1958760"/>
            <a:chOff x="9360000" y="1268280"/>
            <a:chExt cx="996840" cy="1958760"/>
          </a:xfrm>
        </p:grpSpPr>
        <p:sp>
          <p:nvSpPr>
            <p:cNvPr id="727" name="直接连接符 122"/>
            <p:cNvSpPr/>
            <p:nvPr/>
          </p:nvSpPr>
          <p:spPr>
            <a:xfrm flipV="1">
              <a:off x="9785520" y="2387160"/>
              <a:ext cx="0" cy="8398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TextBox 69"/>
            <p:cNvSpPr/>
            <p:nvPr/>
          </p:nvSpPr>
          <p:spPr>
            <a:xfrm>
              <a:off x="9360000" y="1268280"/>
              <a:ext cx="996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1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9713880" y="2243160"/>
              <a:ext cx="144360" cy="144360"/>
              <a:chOff x="9713880" y="2243160"/>
              <a:chExt cx="144360" cy="144360"/>
            </a:xfrm>
          </p:grpSpPr>
          <p:sp>
            <p:nvSpPr>
              <p:cNvPr id="730" name="椭圆 125"/>
              <p:cNvSpPr/>
              <p:nvPr/>
            </p:nvSpPr>
            <p:spPr>
              <a:xfrm>
                <a:off x="9713880" y="224316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椭圆 126"/>
              <p:cNvSpPr/>
              <p:nvPr/>
            </p:nvSpPr>
            <p:spPr>
              <a:xfrm>
                <a:off x="9739080" y="226836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32" name=""/>
          <p:cNvGrpSpPr/>
          <p:nvPr/>
        </p:nvGrpSpPr>
        <p:grpSpPr>
          <a:xfrm>
            <a:off x="1247760" y="3632040"/>
            <a:ext cx="1090800" cy="1807920"/>
            <a:chOff x="1247760" y="3632040"/>
            <a:chExt cx="1090800" cy="1807920"/>
          </a:xfrm>
        </p:grpSpPr>
        <p:sp>
          <p:nvSpPr>
            <p:cNvPr id="733" name="直接连接符 130"/>
            <p:cNvSpPr/>
            <p:nvPr/>
          </p:nvSpPr>
          <p:spPr>
            <a:xfrm flipV="1">
              <a:off x="1541520" y="4353840"/>
              <a:ext cx="0" cy="10861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TextBox 17"/>
            <p:cNvSpPr/>
            <p:nvPr/>
          </p:nvSpPr>
          <p:spPr>
            <a:xfrm>
              <a:off x="1247760" y="3632040"/>
              <a:ext cx="1090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成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1472760" y="4269600"/>
              <a:ext cx="144360" cy="144360"/>
              <a:chOff x="1472760" y="4269600"/>
              <a:chExt cx="144360" cy="144360"/>
            </a:xfrm>
          </p:grpSpPr>
          <p:sp>
            <p:nvSpPr>
              <p:cNvPr id="736" name="椭圆 133"/>
              <p:cNvSpPr/>
              <p:nvPr/>
            </p:nvSpPr>
            <p:spPr>
              <a:xfrm>
                <a:off x="1472760" y="426960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7" name="椭圆 134"/>
              <p:cNvSpPr/>
              <p:nvPr/>
            </p:nvSpPr>
            <p:spPr>
              <a:xfrm>
                <a:off x="1497960" y="429480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7031160" y="1297080"/>
            <a:ext cx="1023840" cy="2650680"/>
            <a:chOff x="7031160" y="1297080"/>
            <a:chExt cx="1023840" cy="2650680"/>
          </a:xfrm>
        </p:grpSpPr>
        <p:sp>
          <p:nvSpPr>
            <p:cNvPr id="739" name="直接连接符 145"/>
            <p:cNvSpPr/>
            <p:nvPr/>
          </p:nvSpPr>
          <p:spPr>
            <a:xfrm flipV="1">
              <a:off x="7461360" y="2563560"/>
              <a:ext cx="0" cy="138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TextBox 32"/>
            <p:cNvSpPr/>
            <p:nvPr/>
          </p:nvSpPr>
          <p:spPr>
            <a:xfrm>
              <a:off x="7031160" y="1297080"/>
              <a:ext cx="1023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8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1" name=""/>
            <p:cNvGrpSpPr/>
            <p:nvPr/>
          </p:nvGrpSpPr>
          <p:grpSpPr>
            <a:xfrm>
              <a:off x="7383960" y="2459880"/>
              <a:ext cx="144360" cy="144360"/>
              <a:chOff x="7383960" y="2459880"/>
              <a:chExt cx="144360" cy="144360"/>
            </a:xfrm>
          </p:grpSpPr>
          <p:sp>
            <p:nvSpPr>
              <p:cNvPr id="742" name="椭圆 148"/>
              <p:cNvSpPr/>
              <p:nvPr/>
            </p:nvSpPr>
            <p:spPr>
              <a:xfrm>
                <a:off x="7383960" y="24598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椭圆 149"/>
              <p:cNvSpPr/>
              <p:nvPr/>
            </p:nvSpPr>
            <p:spPr>
              <a:xfrm>
                <a:off x="7409160" y="24850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44" name="TextBox 154"/>
          <p:cNvSpPr/>
          <p:nvPr/>
        </p:nvSpPr>
        <p:spPr>
          <a:xfrm>
            <a:off x="1247760" y="5576760"/>
            <a:ext cx="86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改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155"/>
          <p:cNvSpPr/>
          <p:nvPr/>
        </p:nvSpPr>
        <p:spPr>
          <a:xfrm>
            <a:off x="2243160" y="524016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进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Box 156"/>
          <p:cNvSpPr/>
          <p:nvPr/>
        </p:nvSpPr>
        <p:spPr>
          <a:xfrm>
            <a:off x="4368960" y="4438800"/>
            <a:ext cx="12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8112240" y="1531800"/>
            <a:ext cx="1158840" cy="2136960"/>
            <a:chOff x="8112240" y="1531800"/>
            <a:chExt cx="1158840" cy="2136960"/>
          </a:xfrm>
        </p:grpSpPr>
        <p:sp>
          <p:nvSpPr>
            <p:cNvPr id="748" name="直接连接符 158"/>
            <p:cNvSpPr/>
            <p:nvPr/>
          </p:nvSpPr>
          <p:spPr>
            <a:xfrm flipV="1">
              <a:off x="8767800" y="2492280"/>
              <a:ext cx="0" cy="1176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TextBox 34"/>
            <p:cNvSpPr/>
            <p:nvPr/>
          </p:nvSpPr>
          <p:spPr>
            <a:xfrm>
              <a:off x="8112240" y="1531800"/>
              <a:ext cx="1158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11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国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8695800" y="2326320"/>
              <a:ext cx="144360" cy="144360"/>
              <a:chOff x="8695800" y="2326320"/>
              <a:chExt cx="144360" cy="144360"/>
            </a:xfrm>
          </p:grpSpPr>
          <p:sp>
            <p:nvSpPr>
              <p:cNvPr id="751" name="椭圆 161"/>
              <p:cNvSpPr/>
              <p:nvPr/>
            </p:nvSpPr>
            <p:spPr>
              <a:xfrm>
                <a:off x="8695800" y="232632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椭圆 162"/>
              <p:cNvSpPr/>
              <p:nvPr/>
            </p:nvSpPr>
            <p:spPr>
              <a:xfrm>
                <a:off x="8721000" y="235152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53" name="TextBox 163"/>
          <p:cNvSpPr/>
          <p:nvPr/>
        </p:nvSpPr>
        <p:spPr>
          <a:xfrm>
            <a:off x="6602400" y="3789360"/>
            <a:ext cx="14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进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Box 66"/>
          <p:cNvSpPr/>
          <p:nvPr/>
        </p:nvSpPr>
        <p:spPr>
          <a:xfrm>
            <a:off x="3391560" y="371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7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Box 67"/>
          <p:cNvSpPr/>
          <p:nvPr/>
        </p:nvSpPr>
        <p:spPr>
          <a:xfrm>
            <a:off x="6703920" y="83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68"/>
          <p:cNvSpPr/>
          <p:nvPr/>
        </p:nvSpPr>
        <p:spPr>
          <a:xfrm>
            <a:off x="1519200" y="148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Box 69"/>
          <p:cNvSpPr/>
          <p:nvPr/>
        </p:nvSpPr>
        <p:spPr>
          <a:xfrm>
            <a:off x="2959920" y="1270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Box 70"/>
          <p:cNvSpPr/>
          <p:nvPr/>
        </p:nvSpPr>
        <p:spPr>
          <a:xfrm>
            <a:off x="1159560" y="242100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Box 71"/>
          <p:cNvSpPr/>
          <p:nvPr/>
        </p:nvSpPr>
        <p:spPr>
          <a:xfrm>
            <a:off x="5058720" y="102384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Box 72"/>
          <p:cNvSpPr/>
          <p:nvPr/>
        </p:nvSpPr>
        <p:spPr>
          <a:xfrm>
            <a:off x="5407920" y="285444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Box 73"/>
          <p:cNvSpPr/>
          <p:nvPr/>
        </p:nvSpPr>
        <p:spPr>
          <a:xfrm>
            <a:off x="7712280" y="4005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extBox 74"/>
          <p:cNvSpPr/>
          <p:nvPr/>
        </p:nvSpPr>
        <p:spPr>
          <a:xfrm>
            <a:off x="7856640" y="270972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5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TextBox 75"/>
          <p:cNvSpPr/>
          <p:nvPr/>
        </p:nvSpPr>
        <p:spPr>
          <a:xfrm>
            <a:off x="5983920" y="1557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6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Box 76"/>
          <p:cNvSpPr/>
          <p:nvPr/>
        </p:nvSpPr>
        <p:spPr>
          <a:xfrm>
            <a:off x="8864640" y="2781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7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Box 77"/>
          <p:cNvSpPr/>
          <p:nvPr/>
        </p:nvSpPr>
        <p:spPr>
          <a:xfrm>
            <a:off x="4399920" y="328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Box 78"/>
          <p:cNvSpPr/>
          <p:nvPr/>
        </p:nvSpPr>
        <p:spPr>
          <a:xfrm>
            <a:off x="8143920" y="83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TextBox 79"/>
          <p:cNvSpPr/>
          <p:nvPr/>
        </p:nvSpPr>
        <p:spPr>
          <a:xfrm>
            <a:off x="1735200" y="4510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xtBox 80"/>
          <p:cNvSpPr/>
          <p:nvPr/>
        </p:nvSpPr>
        <p:spPr>
          <a:xfrm>
            <a:off x="5552280" y="472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TextBox 81"/>
          <p:cNvSpPr/>
          <p:nvPr/>
        </p:nvSpPr>
        <p:spPr>
          <a:xfrm>
            <a:off x="6560280" y="314172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Box 88"/>
          <p:cNvSpPr/>
          <p:nvPr/>
        </p:nvSpPr>
        <p:spPr>
          <a:xfrm>
            <a:off x="5335560" y="3573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1" name="组合 132" descr=""/>
          <p:cNvPicPr/>
          <p:nvPr/>
        </p:nvPicPr>
        <p:blipFill>
          <a:blip r:embed="rId3"/>
          <a:stretch/>
        </p:blipFill>
        <p:spPr>
          <a:xfrm>
            <a:off x="2425680" y="1768320"/>
            <a:ext cx="324000" cy="322560"/>
          </a:xfrm>
          <a:prstGeom prst="rect">
            <a:avLst/>
          </a:prstGeom>
          <a:ln w="0">
            <a:noFill/>
          </a:ln>
        </p:spPr>
      </p:pic>
      <p:sp>
        <p:nvSpPr>
          <p:cNvPr id="772" name="椭圆 204"/>
          <p:cNvSpPr/>
          <p:nvPr/>
        </p:nvSpPr>
        <p:spPr>
          <a:xfrm>
            <a:off x="1450800" y="541008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1344600" y="5302080"/>
            <a:ext cx="324000" cy="325440"/>
            <a:chOff x="1344600" y="5302080"/>
            <a:chExt cx="324000" cy="325440"/>
          </a:xfrm>
        </p:grpSpPr>
        <p:sp>
          <p:nvSpPr>
            <p:cNvPr id="774" name="同心圆 206"/>
            <p:cNvSpPr/>
            <p:nvPr/>
          </p:nvSpPr>
          <p:spPr>
            <a:xfrm>
              <a:off x="1344600" y="5302080"/>
              <a:ext cx="32400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同心圆 207"/>
            <p:cNvSpPr/>
            <p:nvPr/>
          </p:nvSpPr>
          <p:spPr>
            <a:xfrm>
              <a:off x="1398600" y="5356080"/>
              <a:ext cx="21600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椭圆 208"/>
            <p:cNvSpPr/>
            <p:nvPr/>
          </p:nvSpPr>
          <p:spPr>
            <a:xfrm>
              <a:off x="1452600" y="5410080"/>
              <a:ext cx="10800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7" name="Picture 2" descr="坐在飞机上的人图片"/>
          <p:cNvPicPr/>
          <p:nvPr/>
        </p:nvPicPr>
        <p:blipFill>
          <a:blip r:embed="rId4"/>
          <a:srcRect l="10907" t="47496" r="35356" b="1683"/>
          <a:stretch/>
        </p:blipFill>
        <p:spPr>
          <a:xfrm rot="702000">
            <a:off x="10561680" y="2061720"/>
            <a:ext cx="1336680" cy="892080"/>
          </a:xfrm>
          <a:prstGeom prst="rect">
            <a:avLst/>
          </a:prstGeom>
          <a:ln w="0">
            <a:noFill/>
          </a:ln>
        </p:spPr>
      </p:pic>
      <p:grpSp>
        <p:nvGrpSpPr>
          <p:cNvPr id="778" name=""/>
          <p:cNvGrpSpPr/>
          <p:nvPr/>
        </p:nvGrpSpPr>
        <p:grpSpPr>
          <a:xfrm>
            <a:off x="2425680" y="4941720"/>
            <a:ext cx="324000" cy="325440"/>
            <a:chOff x="2425680" y="4941720"/>
            <a:chExt cx="324000" cy="325440"/>
          </a:xfrm>
        </p:grpSpPr>
        <p:sp>
          <p:nvSpPr>
            <p:cNvPr id="779" name="同心圆 225"/>
            <p:cNvSpPr/>
            <p:nvPr/>
          </p:nvSpPr>
          <p:spPr>
            <a:xfrm>
              <a:off x="2425680" y="4941720"/>
              <a:ext cx="32400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同心圆 226"/>
            <p:cNvSpPr/>
            <p:nvPr/>
          </p:nvSpPr>
          <p:spPr>
            <a:xfrm>
              <a:off x="2479680" y="4995720"/>
              <a:ext cx="21600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椭圆 227"/>
            <p:cNvSpPr/>
            <p:nvPr/>
          </p:nvSpPr>
          <p:spPr>
            <a:xfrm>
              <a:off x="2533680" y="5049720"/>
              <a:ext cx="10800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4152960" y="4726080"/>
            <a:ext cx="323640" cy="325440"/>
            <a:chOff x="4152960" y="4726080"/>
            <a:chExt cx="323640" cy="325440"/>
          </a:xfrm>
        </p:grpSpPr>
        <p:sp>
          <p:nvSpPr>
            <p:cNvPr id="783" name="同心圆 229"/>
            <p:cNvSpPr/>
            <p:nvPr/>
          </p:nvSpPr>
          <p:spPr>
            <a:xfrm>
              <a:off x="4152960" y="4726080"/>
              <a:ext cx="32364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同心圆 230"/>
            <p:cNvSpPr/>
            <p:nvPr/>
          </p:nvSpPr>
          <p:spPr>
            <a:xfrm>
              <a:off x="4206600" y="4780080"/>
              <a:ext cx="21564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椭圆 231"/>
            <p:cNvSpPr/>
            <p:nvPr/>
          </p:nvSpPr>
          <p:spPr>
            <a:xfrm>
              <a:off x="4260600" y="4834080"/>
              <a:ext cx="10764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6384960" y="4078440"/>
            <a:ext cx="323640" cy="325440"/>
            <a:chOff x="6384960" y="4078440"/>
            <a:chExt cx="323640" cy="325440"/>
          </a:xfrm>
        </p:grpSpPr>
        <p:sp>
          <p:nvSpPr>
            <p:cNvPr id="787" name="同心圆 233"/>
            <p:cNvSpPr/>
            <p:nvPr/>
          </p:nvSpPr>
          <p:spPr>
            <a:xfrm>
              <a:off x="6384960" y="4078440"/>
              <a:ext cx="32364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同心圆 234"/>
            <p:cNvSpPr/>
            <p:nvPr/>
          </p:nvSpPr>
          <p:spPr>
            <a:xfrm>
              <a:off x="6438600" y="4132440"/>
              <a:ext cx="21564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椭圆 235"/>
            <p:cNvSpPr/>
            <p:nvPr/>
          </p:nvSpPr>
          <p:spPr>
            <a:xfrm>
              <a:off x="6492600" y="4186440"/>
              <a:ext cx="10764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1000">
    <p:pull dir="l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500"/>
                            </p:stCondLst>
                            <p:childTnLst>
                              <p:par>
                                <p:cTn id="26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500"/>
                            </p:stCondLst>
                            <p:childTnLst>
                              <p:par>
                                <p:cTn id="28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7000"/>
                            </p:stCondLst>
                            <p:childTnLst>
                              <p:par>
                                <p:cTn id="28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7500"/>
                            </p:stCondLst>
                            <p:childTnLst>
                              <p:par>
                                <p:cTn id="2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000"/>
                            </p:stCondLst>
                            <p:childTnLst>
                              <p:par>
                                <p:cTn id="30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5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5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150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3500"/>
                            </p:stCondLst>
                            <p:childTnLst>
                              <p:par>
                                <p:cTn id="3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37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38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75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"/>
          <p:cNvGrpSpPr/>
          <p:nvPr/>
        </p:nvGrpSpPr>
        <p:grpSpPr>
          <a:xfrm>
            <a:off x="6845400" y="2313360"/>
            <a:ext cx="1896840" cy="932760"/>
            <a:chOff x="6845400" y="2313360"/>
            <a:chExt cx="1896840" cy="932760"/>
          </a:xfrm>
        </p:grpSpPr>
        <p:pic>
          <p:nvPicPr>
            <p:cNvPr id="791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6884640" y="2359080"/>
              <a:ext cx="1819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 rot="959400">
              <a:off x="6870240" y="2558880"/>
              <a:ext cx="18464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8113680" y="2346480"/>
            <a:ext cx="1798560" cy="1804680"/>
            <a:chOff x="8113680" y="2346480"/>
            <a:chExt cx="1798560" cy="1804680"/>
          </a:xfrm>
        </p:grpSpPr>
        <p:pic>
          <p:nvPicPr>
            <p:cNvPr id="794" name="椭圆 2" descr=""/>
            <p:cNvPicPr/>
            <p:nvPr/>
          </p:nvPicPr>
          <p:blipFill>
            <a:blip r:embed="rId3"/>
            <a:stretch/>
          </p:blipFill>
          <p:spPr>
            <a:xfrm>
              <a:off x="8113680" y="2346480"/>
              <a:ext cx="1798560" cy="18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8377200" y="2612880"/>
              <a:ext cx="1273320" cy="12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8326440" y="2567160"/>
            <a:ext cx="1371600" cy="1365120"/>
            <a:chOff x="8326440" y="2567160"/>
            <a:chExt cx="1371600" cy="1365120"/>
          </a:xfrm>
        </p:grpSpPr>
        <p:pic>
          <p:nvPicPr>
            <p:cNvPr id="797" name="椭圆 3" descr=""/>
            <p:cNvPicPr/>
            <p:nvPr/>
          </p:nvPicPr>
          <p:blipFill>
            <a:blip r:embed="rId4"/>
            <a:stretch/>
          </p:blipFill>
          <p:spPr>
            <a:xfrm>
              <a:off x="83264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8529480" y="2765520"/>
              <a:ext cx="9684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4313520" y="2547000"/>
            <a:ext cx="1649880" cy="1258920"/>
            <a:chOff x="4313520" y="2547000"/>
            <a:chExt cx="1649880" cy="1258920"/>
          </a:xfrm>
        </p:grpSpPr>
        <p:pic>
          <p:nvPicPr>
            <p:cNvPr id="800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4395960" y="2577960"/>
              <a:ext cx="149004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"/>
            <p:cNvSpPr/>
            <p:nvPr/>
          </p:nvSpPr>
          <p:spPr>
            <a:xfrm rot="8880600">
              <a:off x="4303080" y="2955600"/>
              <a:ext cx="167004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2859120" y="2925720"/>
            <a:ext cx="2011320" cy="2017800"/>
            <a:chOff x="2859120" y="2925720"/>
            <a:chExt cx="2011320" cy="2017800"/>
          </a:xfrm>
        </p:grpSpPr>
        <p:pic>
          <p:nvPicPr>
            <p:cNvPr id="803" name="椭圆 5" descr=""/>
            <p:cNvPicPr/>
            <p:nvPr/>
          </p:nvPicPr>
          <p:blipFill>
            <a:blip r:embed="rId6"/>
            <a:stretch/>
          </p:blipFill>
          <p:spPr>
            <a:xfrm>
              <a:off x="2859120" y="2925720"/>
              <a:ext cx="201132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/>
            <p:nvPr/>
          </p:nvSpPr>
          <p:spPr>
            <a:xfrm>
              <a:off x="3152880" y="3220920"/>
              <a:ext cx="142560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3219480" y="3213000"/>
            <a:ext cx="1438200" cy="1438200"/>
            <a:chOff x="3219480" y="3213000"/>
            <a:chExt cx="1438200" cy="1438200"/>
          </a:xfrm>
        </p:grpSpPr>
        <p:pic>
          <p:nvPicPr>
            <p:cNvPr id="806" name="椭圆 6" descr=""/>
            <p:cNvPicPr/>
            <p:nvPr/>
          </p:nvPicPr>
          <p:blipFill>
            <a:blip r:embed="rId7"/>
            <a:stretch/>
          </p:blipFill>
          <p:spPr>
            <a:xfrm>
              <a:off x="3219480" y="3213000"/>
              <a:ext cx="14382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>
              <a:off x="3427560" y="3423960"/>
              <a:ext cx="101916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5376960" y="1627200"/>
            <a:ext cx="2017440" cy="2017800"/>
            <a:chOff x="5376960" y="1627200"/>
            <a:chExt cx="2017440" cy="2017800"/>
          </a:xfrm>
        </p:grpSpPr>
        <p:pic>
          <p:nvPicPr>
            <p:cNvPr id="809" name="椭圆 7" descr=""/>
            <p:cNvPicPr/>
            <p:nvPr/>
          </p:nvPicPr>
          <p:blipFill>
            <a:blip r:embed="rId8"/>
            <a:stretch/>
          </p:blipFill>
          <p:spPr>
            <a:xfrm>
              <a:off x="5376960" y="162720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"/>
            <p:cNvSpPr/>
            <p:nvPr/>
          </p:nvSpPr>
          <p:spPr>
            <a:xfrm>
              <a:off x="5671800" y="192564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1" name="TextBox 9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金岁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5595840" y="1987560"/>
            <a:ext cx="1365120" cy="1371600"/>
            <a:chOff x="5595840" y="1987560"/>
            <a:chExt cx="1365120" cy="1371600"/>
          </a:xfrm>
        </p:grpSpPr>
        <p:pic>
          <p:nvPicPr>
            <p:cNvPr id="813" name="椭圆 8" descr=""/>
            <p:cNvPicPr/>
            <p:nvPr/>
          </p:nvPicPr>
          <p:blipFill>
            <a:blip r:embed="rId9"/>
            <a:stretch/>
          </p:blipFill>
          <p:spPr>
            <a:xfrm>
              <a:off x="5595840" y="1987560"/>
              <a:ext cx="13651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"/>
            <p:cNvSpPr/>
            <p:nvPr/>
          </p:nvSpPr>
          <p:spPr>
            <a:xfrm>
              <a:off x="5794200" y="2190600"/>
              <a:ext cx="9669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5000">
    <p:fad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5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75E-006 -4.16185E-006 L -0.18476 -4.16185E-006 C -0.26744 -4.16185E-006 -0.36914 -0.08277 -0.36914 -0.15005 L -0.36914 -0.29896 E">
                                      <p:cBhvr>
                                        <p:cTn id="439" dur="2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41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42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7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Box 1"/>
          <p:cNvSpPr/>
          <p:nvPr/>
        </p:nvSpPr>
        <p:spPr>
          <a:xfrm>
            <a:off x="1128600" y="3762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资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874800" y="1413000"/>
            <a:ext cx="2374920" cy="2248560"/>
            <a:chOff x="874800" y="1413000"/>
            <a:chExt cx="2374920" cy="2248560"/>
          </a:xfrm>
        </p:grpSpPr>
        <p:pic>
          <p:nvPicPr>
            <p:cNvPr id="817" name="Picture 25" descr=""/>
            <p:cNvPicPr/>
            <p:nvPr/>
          </p:nvPicPr>
          <p:blipFill>
            <a:blip r:embed="rId2"/>
            <a:stretch/>
          </p:blipFill>
          <p:spPr>
            <a:xfrm>
              <a:off x="874800" y="1413000"/>
              <a:ext cx="2374920" cy="168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TextBox 18"/>
            <p:cNvSpPr/>
            <p:nvPr/>
          </p:nvSpPr>
          <p:spPr>
            <a:xfrm>
              <a:off x="1452240" y="3324240"/>
              <a:ext cx="121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资质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3741840" y="1432080"/>
            <a:ext cx="2322360" cy="2208960"/>
            <a:chOff x="3741840" y="1432080"/>
            <a:chExt cx="2322360" cy="2208960"/>
          </a:xfrm>
        </p:grpSpPr>
        <p:pic>
          <p:nvPicPr>
            <p:cNvPr id="820" name="Picture 24" descr=""/>
            <p:cNvPicPr/>
            <p:nvPr/>
          </p:nvPicPr>
          <p:blipFill>
            <a:blip r:embed="rId3"/>
            <a:stretch/>
          </p:blipFill>
          <p:spPr>
            <a:xfrm>
              <a:off x="3741840" y="1432080"/>
              <a:ext cx="2322360" cy="164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TextBox 19"/>
            <p:cNvSpPr/>
            <p:nvPr/>
          </p:nvSpPr>
          <p:spPr>
            <a:xfrm>
              <a:off x="4187160" y="3303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xx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可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8190000" y="3776760"/>
            <a:ext cx="2636640" cy="2217600"/>
            <a:chOff x="8190000" y="3776760"/>
            <a:chExt cx="2636640" cy="2217600"/>
          </a:xfrm>
        </p:grpSpPr>
        <p:pic>
          <p:nvPicPr>
            <p:cNvPr id="823" name="Picture 27" descr=""/>
            <p:cNvPicPr/>
            <p:nvPr/>
          </p:nvPicPr>
          <p:blipFill>
            <a:blip r:embed="rId4"/>
            <a:stretch/>
          </p:blipFill>
          <p:spPr>
            <a:xfrm>
              <a:off x="8190000" y="3776760"/>
              <a:ext cx="2636640" cy="18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4" name="TextBox 20"/>
            <p:cNvSpPr/>
            <p:nvPr/>
          </p:nvSpPr>
          <p:spPr>
            <a:xfrm>
              <a:off x="9599760" y="5656320"/>
              <a:ext cx="1854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458640" y="4005360"/>
            <a:ext cx="1778040" cy="1721520"/>
            <a:chOff x="458640" y="4005360"/>
            <a:chExt cx="1778040" cy="1721520"/>
          </a:xfrm>
        </p:grpSpPr>
        <p:pic>
          <p:nvPicPr>
            <p:cNvPr id="826" name="Picture 28" descr=""/>
            <p:cNvPicPr/>
            <p:nvPr/>
          </p:nvPicPr>
          <p:blipFill>
            <a:blip r:embed="rId5"/>
            <a:stretch/>
          </p:blipFill>
          <p:spPr>
            <a:xfrm>
              <a:off x="458640" y="4005360"/>
              <a:ext cx="1778040" cy="126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7" name="TextBox 21"/>
            <p:cNvSpPr/>
            <p:nvPr/>
          </p:nvSpPr>
          <p:spPr>
            <a:xfrm>
              <a:off x="1080360" y="53895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认定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4802040" y="3938760"/>
            <a:ext cx="1962360" cy="1850040"/>
            <a:chOff x="4802040" y="3938760"/>
            <a:chExt cx="1962360" cy="1850040"/>
          </a:xfrm>
        </p:grpSpPr>
        <p:pic>
          <p:nvPicPr>
            <p:cNvPr id="829" name="Picture 30" descr=""/>
            <p:cNvPicPr/>
            <p:nvPr/>
          </p:nvPicPr>
          <p:blipFill>
            <a:blip r:embed="rId6"/>
            <a:stretch/>
          </p:blipFill>
          <p:spPr>
            <a:xfrm>
              <a:off x="4802040" y="3938760"/>
              <a:ext cx="1962360" cy="13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TextBox 23"/>
            <p:cNvSpPr/>
            <p:nvPr/>
          </p:nvSpPr>
          <p:spPr>
            <a:xfrm>
              <a:off x="5528160" y="54514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认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8475840" y="1843200"/>
            <a:ext cx="1334160" cy="1622880"/>
            <a:chOff x="8475840" y="1843200"/>
            <a:chExt cx="1334160" cy="1622880"/>
          </a:xfrm>
        </p:grpSpPr>
        <p:pic>
          <p:nvPicPr>
            <p:cNvPr id="832" name="Picture 21" descr=""/>
            <p:cNvPicPr/>
            <p:nvPr/>
          </p:nvPicPr>
          <p:blipFill>
            <a:blip r:embed="rId7"/>
            <a:stretch/>
          </p:blipFill>
          <p:spPr>
            <a:xfrm>
              <a:off x="8475840" y="1843200"/>
              <a:ext cx="120168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TextBox 27"/>
            <p:cNvSpPr/>
            <p:nvPr/>
          </p:nvSpPr>
          <p:spPr>
            <a:xfrm>
              <a:off x="8577360" y="3128760"/>
              <a:ext cx="123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认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2516040" y="3862440"/>
            <a:ext cx="2048040" cy="1932840"/>
            <a:chOff x="2516040" y="3862440"/>
            <a:chExt cx="2048040" cy="1932840"/>
          </a:xfrm>
        </p:grpSpPr>
        <p:sp>
          <p:nvSpPr>
            <p:cNvPr id="835" name="TextBox 22"/>
            <p:cNvSpPr/>
            <p:nvPr/>
          </p:nvSpPr>
          <p:spPr>
            <a:xfrm>
              <a:off x="3280680" y="54579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登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6" name="Picture 29" descr=""/>
            <p:cNvPicPr/>
            <p:nvPr/>
          </p:nvPicPr>
          <p:blipFill>
            <a:blip r:embed="rId8"/>
            <a:stretch/>
          </p:blipFill>
          <p:spPr>
            <a:xfrm>
              <a:off x="2516040" y="3862440"/>
              <a:ext cx="2048040" cy="1452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7" name="图片 89" descr="16-10.png"/>
          <p:cNvPicPr/>
          <p:nvPr/>
        </p:nvPicPr>
        <p:blipFill>
          <a:blip r:embed="rId9"/>
          <a:stretch/>
        </p:blipFill>
        <p:spPr>
          <a:xfrm>
            <a:off x="7753320" y="2565360"/>
            <a:ext cx="487440" cy="368280"/>
          </a:xfrm>
          <a:prstGeom prst="rect">
            <a:avLst/>
          </a:prstGeom>
          <a:ln w="0">
            <a:noFill/>
          </a:ln>
        </p:spPr>
      </p:pic>
      <p:pic>
        <p:nvPicPr>
          <p:cNvPr id="838" name="图片 90" descr="16-10.png"/>
          <p:cNvPicPr/>
          <p:nvPr/>
        </p:nvPicPr>
        <p:blipFill>
          <a:blip r:embed="rId10"/>
          <a:stretch/>
        </p:blipFill>
        <p:spPr>
          <a:xfrm>
            <a:off x="6086520" y="982800"/>
            <a:ext cx="560520" cy="558720"/>
          </a:xfrm>
          <a:prstGeom prst="rect">
            <a:avLst/>
          </a:prstGeom>
          <a:ln w="0">
            <a:noFill/>
          </a:ln>
        </p:spPr>
      </p:pic>
      <p:pic>
        <p:nvPicPr>
          <p:cNvPr id="839" name="图片 91" descr="16-10.png"/>
          <p:cNvPicPr/>
          <p:nvPr/>
        </p:nvPicPr>
        <p:blipFill>
          <a:blip r:embed="rId11"/>
          <a:stretch/>
        </p:blipFill>
        <p:spPr>
          <a:xfrm>
            <a:off x="8185320" y="262080"/>
            <a:ext cx="628560" cy="707760"/>
          </a:xfrm>
          <a:prstGeom prst="rect">
            <a:avLst/>
          </a:prstGeom>
          <a:ln w="0">
            <a:noFill/>
          </a:ln>
        </p:spPr>
      </p:pic>
      <p:pic>
        <p:nvPicPr>
          <p:cNvPr id="840" name="图片 92" descr="16-10.png"/>
          <p:cNvPicPr/>
          <p:nvPr/>
        </p:nvPicPr>
        <p:blipFill>
          <a:blip r:embed="rId12"/>
          <a:stretch/>
        </p:blipFill>
        <p:spPr>
          <a:xfrm>
            <a:off x="6602400" y="2925720"/>
            <a:ext cx="628560" cy="708120"/>
          </a:xfrm>
          <a:prstGeom prst="rect">
            <a:avLst/>
          </a:prstGeom>
          <a:ln w="0">
            <a:noFill/>
          </a:ln>
        </p:spPr>
      </p:pic>
      <p:pic>
        <p:nvPicPr>
          <p:cNvPr id="841" name="图片 93" descr="16-10.png"/>
          <p:cNvPicPr/>
          <p:nvPr/>
        </p:nvPicPr>
        <p:blipFill>
          <a:blip r:embed="rId13"/>
          <a:stretch/>
        </p:blipFill>
        <p:spPr>
          <a:xfrm>
            <a:off x="3360600" y="3357720"/>
            <a:ext cx="487440" cy="368280"/>
          </a:xfrm>
          <a:prstGeom prst="rect">
            <a:avLst/>
          </a:prstGeom>
          <a:ln w="0">
            <a:noFill/>
          </a:ln>
        </p:spPr>
      </p:pic>
      <p:pic>
        <p:nvPicPr>
          <p:cNvPr id="842" name="图片 94" descr="16-10.png"/>
          <p:cNvPicPr/>
          <p:nvPr/>
        </p:nvPicPr>
        <p:blipFill>
          <a:blip r:embed="rId14"/>
          <a:stretch/>
        </p:blipFill>
        <p:spPr>
          <a:xfrm>
            <a:off x="3218040" y="981000"/>
            <a:ext cx="487080" cy="368280"/>
          </a:xfrm>
          <a:prstGeom prst="rect">
            <a:avLst/>
          </a:prstGeom>
          <a:ln w="0">
            <a:noFill/>
          </a:ln>
        </p:spPr>
      </p:pic>
      <p:pic>
        <p:nvPicPr>
          <p:cNvPr id="843" name="图片 95" descr="16-10.png"/>
          <p:cNvPicPr/>
          <p:nvPr/>
        </p:nvPicPr>
        <p:blipFill>
          <a:blip r:embed="rId15"/>
          <a:stretch/>
        </p:blipFill>
        <p:spPr>
          <a:xfrm>
            <a:off x="3792600" y="5950080"/>
            <a:ext cx="438120" cy="4921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xit" presetID="2" presetSubtype="3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3" dur="40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40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7" dur="40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40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1" dur="40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40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5" dur="400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400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9" dur="40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40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3" dur="4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4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7" dur="40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40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00"/>
                            </p:stCondLst>
                            <p:childTnLst>
                              <p:par>
                                <p:cTn id="48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200"/>
                            </p:stCondLst>
                            <p:childTnLst>
                              <p:par>
                                <p:cTn id="48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700"/>
                            </p:stCondLst>
                            <p:childTnLst>
                              <p:par>
                                <p:cTn id="49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200"/>
                            </p:stCondLst>
                            <p:childTnLst>
                              <p:par>
                                <p:cTn id="50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700"/>
                            </p:stCondLst>
                            <p:childTnLst>
                              <p:par>
                                <p:cTn id="50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200"/>
                            </p:stCondLst>
                            <p:childTnLst>
                              <p:par>
                                <p:cTn id="51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3700"/>
                            </p:stCondLst>
                            <p:childTnLst>
                              <p:par>
                                <p:cTn id="52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4" name=""/>
          <p:cNvGrpSpPr/>
          <p:nvPr/>
        </p:nvGrpSpPr>
        <p:grpSpPr>
          <a:xfrm>
            <a:off x="6845400" y="2313360"/>
            <a:ext cx="1896840" cy="932760"/>
            <a:chOff x="6845400" y="2313360"/>
            <a:chExt cx="1896840" cy="932760"/>
          </a:xfrm>
        </p:grpSpPr>
        <p:pic>
          <p:nvPicPr>
            <p:cNvPr id="845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6884640" y="2359080"/>
              <a:ext cx="1819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"/>
            <p:cNvSpPr/>
            <p:nvPr/>
          </p:nvSpPr>
          <p:spPr>
            <a:xfrm rot="959400">
              <a:off x="6870240" y="2558880"/>
              <a:ext cx="18464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8113680" y="2346480"/>
            <a:ext cx="1798560" cy="1804680"/>
            <a:chOff x="8113680" y="2346480"/>
            <a:chExt cx="1798560" cy="1804680"/>
          </a:xfrm>
        </p:grpSpPr>
        <p:pic>
          <p:nvPicPr>
            <p:cNvPr id="848" name="椭圆 2" descr=""/>
            <p:cNvPicPr/>
            <p:nvPr/>
          </p:nvPicPr>
          <p:blipFill>
            <a:blip r:embed="rId3"/>
            <a:stretch/>
          </p:blipFill>
          <p:spPr>
            <a:xfrm>
              <a:off x="8113680" y="2346480"/>
              <a:ext cx="1798560" cy="18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"/>
            <p:cNvSpPr/>
            <p:nvPr/>
          </p:nvSpPr>
          <p:spPr>
            <a:xfrm>
              <a:off x="8377200" y="2612880"/>
              <a:ext cx="1273320" cy="12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8326440" y="2567160"/>
            <a:ext cx="1371600" cy="1365120"/>
            <a:chOff x="8326440" y="2567160"/>
            <a:chExt cx="1371600" cy="1365120"/>
          </a:xfrm>
        </p:grpSpPr>
        <p:pic>
          <p:nvPicPr>
            <p:cNvPr id="851" name="椭圆 3" descr=""/>
            <p:cNvPicPr/>
            <p:nvPr/>
          </p:nvPicPr>
          <p:blipFill>
            <a:blip r:embed="rId4"/>
            <a:stretch/>
          </p:blipFill>
          <p:spPr>
            <a:xfrm>
              <a:off x="83264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/>
            <p:nvPr/>
          </p:nvSpPr>
          <p:spPr>
            <a:xfrm>
              <a:off x="8529480" y="2765520"/>
              <a:ext cx="9684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4313520" y="2547000"/>
            <a:ext cx="1649880" cy="1258920"/>
            <a:chOff x="4313520" y="2547000"/>
            <a:chExt cx="1649880" cy="1258920"/>
          </a:xfrm>
        </p:grpSpPr>
        <p:pic>
          <p:nvPicPr>
            <p:cNvPr id="854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4395960" y="2577960"/>
              <a:ext cx="149004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"/>
            <p:cNvSpPr/>
            <p:nvPr/>
          </p:nvSpPr>
          <p:spPr>
            <a:xfrm rot="8880600">
              <a:off x="4303080" y="2955600"/>
              <a:ext cx="167004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2859120" y="2925720"/>
            <a:ext cx="2011320" cy="2017800"/>
            <a:chOff x="2859120" y="2925720"/>
            <a:chExt cx="2011320" cy="2017800"/>
          </a:xfrm>
        </p:grpSpPr>
        <p:pic>
          <p:nvPicPr>
            <p:cNvPr id="857" name="椭圆 5" descr=""/>
            <p:cNvPicPr/>
            <p:nvPr/>
          </p:nvPicPr>
          <p:blipFill>
            <a:blip r:embed="rId6"/>
            <a:stretch/>
          </p:blipFill>
          <p:spPr>
            <a:xfrm>
              <a:off x="2859120" y="2925720"/>
              <a:ext cx="201132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"/>
            <p:cNvSpPr/>
            <p:nvPr/>
          </p:nvSpPr>
          <p:spPr>
            <a:xfrm>
              <a:off x="3152880" y="3220920"/>
              <a:ext cx="142560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3219480" y="3213000"/>
            <a:ext cx="1438200" cy="1438200"/>
            <a:chOff x="3219480" y="3213000"/>
            <a:chExt cx="1438200" cy="1438200"/>
          </a:xfrm>
        </p:grpSpPr>
        <p:pic>
          <p:nvPicPr>
            <p:cNvPr id="860" name="椭圆 6" descr=""/>
            <p:cNvPicPr/>
            <p:nvPr/>
          </p:nvPicPr>
          <p:blipFill>
            <a:blip r:embed="rId7"/>
            <a:stretch/>
          </p:blipFill>
          <p:spPr>
            <a:xfrm>
              <a:off x="3219480" y="3213000"/>
              <a:ext cx="14382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"/>
            <p:cNvSpPr/>
            <p:nvPr/>
          </p:nvSpPr>
          <p:spPr>
            <a:xfrm>
              <a:off x="3427560" y="3423960"/>
              <a:ext cx="101916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5376960" y="1627200"/>
            <a:ext cx="2017440" cy="2017800"/>
            <a:chOff x="5376960" y="1627200"/>
            <a:chExt cx="2017440" cy="2017800"/>
          </a:xfrm>
        </p:grpSpPr>
        <p:pic>
          <p:nvPicPr>
            <p:cNvPr id="863" name="椭圆 7" descr=""/>
            <p:cNvPicPr/>
            <p:nvPr/>
          </p:nvPicPr>
          <p:blipFill>
            <a:blip r:embed="rId8"/>
            <a:stretch/>
          </p:blipFill>
          <p:spPr>
            <a:xfrm>
              <a:off x="5376960" y="162720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"/>
            <p:cNvSpPr/>
            <p:nvPr/>
          </p:nvSpPr>
          <p:spPr>
            <a:xfrm>
              <a:off x="5671800" y="192564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5" name="TextBox 9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5595840" y="1987560"/>
            <a:ext cx="1365120" cy="1371600"/>
            <a:chOff x="5595840" y="1987560"/>
            <a:chExt cx="1365120" cy="1371600"/>
          </a:xfrm>
        </p:grpSpPr>
        <p:pic>
          <p:nvPicPr>
            <p:cNvPr id="867" name="椭圆 8" descr=""/>
            <p:cNvPicPr/>
            <p:nvPr/>
          </p:nvPicPr>
          <p:blipFill>
            <a:blip r:embed="rId9"/>
            <a:stretch/>
          </p:blipFill>
          <p:spPr>
            <a:xfrm>
              <a:off x="5595840" y="1987560"/>
              <a:ext cx="13651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5794200" y="2190600"/>
              <a:ext cx="9669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5000">
    <p:fad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4" dur="50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0" dur="5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4" dur="500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8" dur="500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91667E-006 -0.00023 L -0.29414 -0.00023 C -0.42591 -0.00023 -0.58763 -0.10335 -0.58763 -0.18682 L -0.58763 -0.37225 E">
                                      <p:cBhvr>
                                        <p:cTn id="563" dur="2000" fill="hold"/>
                                        <p:tgtEl>
                                          <p:spTgt spid="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00"/>
                            </p:stCondLst>
                            <p:childTnLst>
                              <p:par>
                                <p:cTn id="565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6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空心弧 5" descr=""/>
          <p:cNvPicPr/>
          <p:nvPr/>
        </p:nvPicPr>
        <p:blipFill>
          <a:blip r:embed="rId2"/>
          <a:stretch/>
        </p:blipFill>
        <p:spPr>
          <a:xfrm>
            <a:off x="4035600" y="1584360"/>
            <a:ext cx="1815840" cy="1158840"/>
          </a:xfrm>
          <a:prstGeom prst="rect">
            <a:avLst/>
          </a:prstGeom>
          <a:ln w="0">
            <a:noFill/>
          </a:ln>
        </p:spPr>
      </p:pic>
      <p:pic>
        <p:nvPicPr>
          <p:cNvPr id="870" name="空心弧 6" descr=""/>
          <p:cNvPicPr/>
          <p:nvPr/>
        </p:nvPicPr>
        <p:blipFill>
          <a:blip r:embed="rId3"/>
          <a:stretch/>
        </p:blipFill>
        <p:spPr>
          <a:xfrm>
            <a:off x="3743280" y="2639880"/>
            <a:ext cx="468360" cy="2097360"/>
          </a:xfrm>
          <a:prstGeom prst="rect">
            <a:avLst/>
          </a:prstGeom>
          <a:ln w="0">
            <a:noFill/>
          </a:ln>
        </p:spPr>
      </p:pic>
      <p:pic>
        <p:nvPicPr>
          <p:cNvPr id="871" name="空心弧 7" descr=""/>
          <p:cNvPicPr/>
          <p:nvPr/>
        </p:nvPicPr>
        <p:blipFill>
          <a:blip r:embed="rId4"/>
          <a:stretch/>
        </p:blipFill>
        <p:spPr>
          <a:xfrm>
            <a:off x="4035600" y="4632480"/>
            <a:ext cx="1815840" cy="1158840"/>
          </a:xfrm>
          <a:prstGeom prst="rect">
            <a:avLst/>
          </a:prstGeom>
          <a:ln w="0">
            <a:noFill/>
          </a:ln>
        </p:spPr>
      </p:pic>
      <p:pic>
        <p:nvPicPr>
          <p:cNvPr id="872" name="空心弧 8" descr=""/>
          <p:cNvPicPr/>
          <p:nvPr/>
        </p:nvPicPr>
        <p:blipFill>
          <a:blip r:embed="rId5"/>
          <a:stretch/>
        </p:blipFill>
        <p:spPr>
          <a:xfrm>
            <a:off x="5851440" y="4632480"/>
            <a:ext cx="1817640" cy="1158840"/>
          </a:xfrm>
          <a:prstGeom prst="rect">
            <a:avLst/>
          </a:prstGeom>
          <a:ln w="0">
            <a:noFill/>
          </a:ln>
        </p:spPr>
      </p:pic>
      <p:pic>
        <p:nvPicPr>
          <p:cNvPr id="873" name="空心弧 9" descr=""/>
          <p:cNvPicPr/>
          <p:nvPr/>
        </p:nvPicPr>
        <p:blipFill>
          <a:blip r:embed="rId6"/>
          <a:stretch/>
        </p:blipFill>
        <p:spPr>
          <a:xfrm>
            <a:off x="7491240" y="2639880"/>
            <a:ext cx="476280" cy="2097360"/>
          </a:xfrm>
          <a:prstGeom prst="rect">
            <a:avLst/>
          </a:prstGeom>
          <a:ln w="0">
            <a:noFill/>
          </a:ln>
        </p:spPr>
      </p:pic>
      <p:pic>
        <p:nvPicPr>
          <p:cNvPr id="874" name="空心弧 10" descr=""/>
          <p:cNvPicPr/>
          <p:nvPr/>
        </p:nvPicPr>
        <p:blipFill>
          <a:blip r:embed="rId7"/>
          <a:stretch/>
        </p:blipFill>
        <p:spPr>
          <a:xfrm>
            <a:off x="5851440" y="1584360"/>
            <a:ext cx="1817640" cy="1158840"/>
          </a:xfrm>
          <a:prstGeom prst="rect">
            <a:avLst/>
          </a:prstGeom>
          <a:ln w="0">
            <a:noFill/>
          </a:ln>
        </p:spPr>
      </p:pic>
      <p:sp>
        <p:nvSpPr>
          <p:cNvPr id="875" name="直接连接符 19"/>
          <p:cNvSpPr/>
          <p:nvPr/>
        </p:nvSpPr>
        <p:spPr>
          <a:xfrm flipV="1">
            <a:off x="5867280" y="2298600"/>
            <a:ext cx="0" cy="4269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直接连接符 21"/>
          <p:cNvSpPr/>
          <p:nvPr/>
        </p:nvSpPr>
        <p:spPr>
          <a:xfrm flipV="1">
            <a:off x="6659640" y="3014640"/>
            <a:ext cx="431640" cy="2160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直接连接符 24"/>
          <p:cNvSpPr/>
          <p:nvPr/>
        </p:nvSpPr>
        <p:spPr>
          <a:xfrm>
            <a:off x="6659640" y="4167360"/>
            <a:ext cx="431640" cy="215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直接连接符 26"/>
          <p:cNvSpPr/>
          <p:nvPr/>
        </p:nvSpPr>
        <p:spPr>
          <a:xfrm>
            <a:off x="5867280" y="4599000"/>
            <a:ext cx="0" cy="647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直接连接符 28"/>
          <p:cNvSpPr/>
          <p:nvPr/>
        </p:nvSpPr>
        <p:spPr>
          <a:xfrm flipH="1">
            <a:off x="4570200" y="4022640"/>
            <a:ext cx="433080" cy="28728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直接连接符 30"/>
          <p:cNvSpPr/>
          <p:nvPr/>
        </p:nvSpPr>
        <p:spPr>
          <a:xfrm flipH="1" flipV="1">
            <a:off x="4643280" y="2943000"/>
            <a:ext cx="432000" cy="215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1" name="任意多边形 11" descr=""/>
          <p:cNvPicPr/>
          <p:nvPr/>
        </p:nvPicPr>
        <p:blipFill>
          <a:blip r:embed="rId8"/>
          <a:stretch/>
        </p:blipFill>
        <p:spPr>
          <a:xfrm>
            <a:off x="4870440" y="2724120"/>
            <a:ext cx="1963800" cy="1976400"/>
          </a:xfrm>
          <a:prstGeom prst="rect">
            <a:avLst/>
          </a:prstGeom>
          <a:ln w="0">
            <a:noFill/>
          </a:ln>
        </p:spPr>
      </p:pic>
      <p:pic>
        <p:nvPicPr>
          <p:cNvPr id="882" name="任意多边形 12" descr=""/>
          <p:cNvPicPr/>
          <p:nvPr/>
        </p:nvPicPr>
        <p:blipFill>
          <a:blip r:embed="rId9"/>
          <a:stretch/>
        </p:blipFill>
        <p:spPr>
          <a:xfrm>
            <a:off x="5145120" y="957240"/>
            <a:ext cx="1414440" cy="1407960"/>
          </a:xfrm>
          <a:prstGeom prst="rect">
            <a:avLst/>
          </a:prstGeom>
          <a:ln w="0">
            <a:noFill/>
          </a:ln>
        </p:spPr>
      </p:pic>
      <p:pic>
        <p:nvPicPr>
          <p:cNvPr id="883" name="任意多边形 13" descr=""/>
          <p:cNvPicPr/>
          <p:nvPr/>
        </p:nvPicPr>
        <p:blipFill>
          <a:blip r:embed="rId10"/>
          <a:stretch/>
        </p:blipFill>
        <p:spPr>
          <a:xfrm>
            <a:off x="6924600" y="1981080"/>
            <a:ext cx="1408320" cy="1408320"/>
          </a:xfrm>
          <a:prstGeom prst="rect">
            <a:avLst/>
          </a:prstGeom>
          <a:ln w="0">
            <a:noFill/>
          </a:ln>
        </p:spPr>
      </p:pic>
      <p:pic>
        <p:nvPicPr>
          <p:cNvPr id="884" name="任意多边形 14" descr=""/>
          <p:cNvPicPr/>
          <p:nvPr/>
        </p:nvPicPr>
        <p:blipFill>
          <a:blip r:embed="rId11"/>
          <a:stretch/>
        </p:blipFill>
        <p:spPr>
          <a:xfrm>
            <a:off x="6924600" y="4029120"/>
            <a:ext cx="1408320" cy="1414440"/>
          </a:xfrm>
          <a:prstGeom prst="rect">
            <a:avLst/>
          </a:prstGeom>
          <a:ln w="0">
            <a:noFill/>
          </a:ln>
        </p:spPr>
      </p:pic>
      <p:pic>
        <p:nvPicPr>
          <p:cNvPr id="885" name="任意多边形 15" descr=""/>
          <p:cNvPicPr/>
          <p:nvPr/>
        </p:nvPicPr>
        <p:blipFill>
          <a:blip r:embed="rId12"/>
          <a:stretch/>
        </p:blipFill>
        <p:spPr>
          <a:xfrm>
            <a:off x="5145120" y="5059440"/>
            <a:ext cx="1414440" cy="1407960"/>
          </a:xfrm>
          <a:prstGeom prst="rect">
            <a:avLst/>
          </a:prstGeom>
          <a:ln w="0">
            <a:noFill/>
          </a:ln>
        </p:spPr>
      </p:pic>
      <p:pic>
        <p:nvPicPr>
          <p:cNvPr id="886" name="任意多边形 16" descr=""/>
          <p:cNvPicPr/>
          <p:nvPr/>
        </p:nvPicPr>
        <p:blipFill>
          <a:blip r:embed="rId13"/>
          <a:stretch/>
        </p:blipFill>
        <p:spPr>
          <a:xfrm>
            <a:off x="3371760" y="4029120"/>
            <a:ext cx="1408320" cy="1414440"/>
          </a:xfrm>
          <a:prstGeom prst="rect">
            <a:avLst/>
          </a:prstGeom>
          <a:ln w="0">
            <a:noFill/>
          </a:ln>
        </p:spPr>
      </p:pic>
      <p:pic>
        <p:nvPicPr>
          <p:cNvPr id="887" name="任意多边形 17" descr=""/>
          <p:cNvPicPr/>
          <p:nvPr/>
        </p:nvPicPr>
        <p:blipFill>
          <a:blip r:embed="rId14"/>
          <a:stretch/>
        </p:blipFill>
        <p:spPr>
          <a:xfrm>
            <a:off x="3371760" y="1981080"/>
            <a:ext cx="1408320" cy="14083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fad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3000"/>
                            </p:stCondLst>
                            <p:childTnLst>
                              <p:par>
                                <p:cTn id="6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3500"/>
                            </p:stCondLst>
                            <p:childTnLst>
                              <p:par>
                                <p:cTn id="6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9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2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000"/>
                            </p:stCondLst>
                            <p:childTnLst>
                              <p:par>
                                <p:cTn id="6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500"/>
                            </p:stCondLst>
                            <p:childTnLst>
                              <p:par>
                                <p:cTn id="6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500"/>
                            </p:stCondLst>
                            <p:childTnLst>
                              <p:par>
                                <p:cTn id="6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5T07:55:08Z</dcterms:created>
  <dc:creator>Administrator</dc:creator>
  <dc:description/>
  <dc:language>en-US</dc:language>
  <cp:lastModifiedBy>微软用户</cp:lastModifiedBy>
  <dcterms:modified xsi:type="dcterms:W3CDTF">2014-08-23T15:32:34Z</dcterms:modified>
  <cp:revision>2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