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F50-AAD0-48FB-BA20-1878656B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746-D015-4253-91EF-8104AE99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512-5A86-4775-8538-5075E200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3FF-0EDF-41EB-9DC6-2BBAB91F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3F6-F3DA-4C2E-BAAC-B8F7D35F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523-CCD6-43DE-A953-997CC116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61D-53DF-476F-8513-FCAF768E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62C-031A-4C26-97F0-27D0A008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46F-C9B8-43A3-8276-4D10129B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C81-2EE6-4F5C-8FDA-9F791DB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478-5311-4243-A92E-AF194F97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C08-59FD-4D8C-94A2-C40FB8D3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11EF-6EE6-4E0B-9C4F-D227CA52FECD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7F43-CE79-4F5C-A6D6-2263CCF748C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任意多边形 62"/>
          <p:cNvSpPr/>
          <p:nvPr/>
        </p:nvSpPr>
        <p:spPr>
          <a:xfrm>
            <a:off x="2916360" y="1522440"/>
            <a:ext cx="663480" cy="390600"/>
          </a:xfrm>
          <a:custGeom>
            <a:avLst/>
            <a:gdLst>
              <a:gd name="textAreaLeft" fmla="*/ 0 w 663480"/>
              <a:gd name="textAreaRight" fmla="*/ 663840 w 6634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6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370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380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383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386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389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88" dur="21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94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96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1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1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41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5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5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476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8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8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0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1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2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2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2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5" dur="21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53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53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3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547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组合 6"/>
          <p:cNvGrpSpPr/>
          <p:nvPr/>
        </p:nvGrpSpPr>
        <p:grpSpPr>
          <a:xfrm>
            <a:off x="5186520" y="368280"/>
            <a:ext cx="1852560" cy="246240"/>
            <a:chOff x="5186520" y="368280"/>
            <a:chExt cx="1852560" cy="246240"/>
          </a:xfrm>
        </p:grpSpPr>
        <p:sp>
          <p:nvSpPr>
            <p:cNvPr id="594" name="TextBox 7"/>
            <p:cNvSpPr/>
            <p:nvPr/>
          </p:nvSpPr>
          <p:spPr>
            <a:xfrm>
              <a:off x="5322240" y="36828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组合 8"/>
            <p:cNvGrpSpPr/>
            <p:nvPr/>
          </p:nvGrpSpPr>
          <p:grpSpPr>
            <a:xfrm>
              <a:off x="5186520" y="412560"/>
              <a:ext cx="157680" cy="158760"/>
              <a:chOff x="5186520" y="412560"/>
              <a:chExt cx="157680" cy="158760"/>
            </a:xfrm>
          </p:grpSpPr>
          <p:sp>
            <p:nvSpPr>
              <p:cNvPr id="596" name="梯形 21"/>
              <p:cNvSpPr/>
              <p:nvPr/>
            </p:nvSpPr>
            <p:spPr>
              <a:xfrm rot="16200000">
                <a:off x="5215680" y="42912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椭圆 13"/>
              <p:cNvSpPr/>
              <p:nvPr/>
            </p:nvSpPr>
            <p:spPr>
              <a:xfrm>
                <a:off x="5186520" y="412560"/>
                <a:ext cx="157680" cy="158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0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30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32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3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649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652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4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655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5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5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68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1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4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5" dur="21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00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704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708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712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2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2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748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749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753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0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58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9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60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1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800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803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810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813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6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820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2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823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9" dur="250" autoRev="1" fill="hold"/>
                                        <p:tgtEl>
                                          <p:spTgt spid="7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8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832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842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4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845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848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851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0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78" dur="21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8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2" dur="250" autoRev="1" fill="hold"/>
                                        <p:tgtEl>
                                          <p:spTgt spid="8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8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8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8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5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5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6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877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8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8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897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900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903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6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907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9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0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1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1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930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933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936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8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939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942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948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951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3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954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97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97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98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98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98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99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99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00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00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00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00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01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2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2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2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037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038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042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5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046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9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0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9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1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93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94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0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1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07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08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09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16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17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5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5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6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077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9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080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2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083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9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9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9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4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0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11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11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129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133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134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7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138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1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142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5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146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0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任意多边形 49"/>
          <p:cNvSpPr/>
          <p:nvPr/>
        </p:nvSpPr>
        <p:spPr>
          <a:xfrm>
            <a:off x="2916360" y="1522440"/>
            <a:ext cx="663480" cy="392040"/>
          </a:xfrm>
          <a:custGeom>
            <a:avLst/>
            <a:gdLst>
              <a:gd name="textAreaLeft" fmla="*/ 0 w 663480"/>
              <a:gd name="textAreaRight" fmla="*/ 663840 w 663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5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156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0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4" dur="2100" fill="hold"/>
                                        <p:tgtEl>
                                          <p:spTgt spid="1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18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42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44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5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5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7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8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8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01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02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1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1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27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28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32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33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36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39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40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43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48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6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6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282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285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288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291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295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0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0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深夜列车</dc:creator>
  <dc:description/>
  <cp:keywords/>
  <dc:language>en-US</dc:language>
  <cp:lastModifiedBy>Administrator</cp:lastModifiedBy>
  <dcterms:modified xsi:type="dcterms:W3CDTF">2016-07-26T01:14:18Z</dcterms:modified>
  <cp:revision>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