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5225-29C1-417D-81DE-72D6C3B70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822D-8199-4AA5-A1A6-DF5A78A1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DE1A9-5142-4F26-9708-16196FA6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2FC63-AE73-447A-8752-77B897B6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EE488-258F-48B8-BD22-DE58428C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61FBB-46A3-411E-AB2B-9E182FE4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3028E-8A8B-4883-B2B1-9386F117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07E4A-EBD5-40E9-9298-D1C3BED5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C2DC3-0823-48E2-A21C-72ABC7F2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20199-BA17-490F-95DD-C09205ADD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84C1A-5D71-4EB3-AE30-905F870C3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488833-0936-4B82-9525-931BA5D60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0067-3B8A-4ECF-9010-3C11C96AF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6A2B87-2D7F-4A2C-846C-7987FC53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4F91BB-F6A0-4472-8F46-538BA028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BB4C5D-54EF-457D-8988-667AEB24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541E1B-6D4C-4B90-AA4E-D017ED6C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530E5B-006E-4F2B-806B-65B28956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ED9CBD-0E8D-45D9-AA96-351393AC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7D9E56-8875-4D45-8A20-DF428624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2EF832-ECE8-4F25-B129-8FE85290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BC8D2-5547-4620-83E3-0F903BCF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31685-A26D-4486-9C3B-4205340F3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4A16-CEF6-4618-81CB-440436844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2C5E7B-B287-4EF7-B0C2-5F80C8595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66DED6-6351-4AF8-BB73-55C0A1BC4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215FFD-E546-41EC-8E38-755CBAD4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A04FBB-3604-42BD-8D60-C4C4BDB8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EFBEE9-C545-4684-8FB9-ACAEB5DC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0819C7-A755-4346-934F-F9DCEEEB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227CDA-BF79-4358-82FE-B1097A53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EA5942-36EC-407B-96F1-C1ACC2BB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2B5CC7-E0F3-4E66-A87F-07DA62F8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F70D5B-B816-4848-A4C9-089C3D69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D19C-4E5B-4D00-83DC-C5F612655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7E2A0F-E169-4952-ACBD-D81CA112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397679-CCAE-48CA-9C85-81F3A4236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DCF011-5C11-4EEC-B236-3A2F1FEB1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63D8FB-39FF-40F3-BCC1-C87F7D581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6EBD4-D739-4884-924A-2F51542E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08D44-6A8F-4E6A-B925-71C4B75C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18250-22ED-4A2F-8AE5-42A54CBE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9A360E-FC26-454B-AC67-60B688DD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49FF69-8A44-4C43-8564-07F0AB3A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7DEA4-D759-4446-BB3D-A75084C4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B53D-FF0C-42CE-9C32-7D382816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F2E0DD-163B-40F2-8D56-C8B1F4B3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BC6DD-F723-4DD0-AE86-C0C72FA0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C7D0D-DDC6-4448-BC7B-63035425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8338B-A8EC-4188-BA02-283B953C8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4F14FC-E382-411F-9A1D-378B1A202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05C141-847D-4413-9B74-EABCF4BEA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296A43-392A-4728-9BD7-71E96E18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3F9B70-8209-44DF-A3FC-5CE3BA5F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FE9431-570C-4F72-880E-38D7E6AE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4826BE-B18A-45EF-BDC0-8E399487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750E-1CD3-4C81-9B16-2121C4B4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C9F403-5D14-4AB2-A9D5-B1A29611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9A1C35-2847-46F2-B29D-4962C41D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11A0AA-B7EF-410C-A648-098C24B7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88B8B1-676B-4FA8-B289-67114ED4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A37B56-B817-46A3-9FD7-D3D0EB7A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0DAD84-4C73-4F32-BC98-99A44384E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F6AC71-A3A1-4A91-A988-CA33D521D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F65FB2-0835-4EAC-9543-7682836D3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9EB5B7-9618-4EE5-81B9-380D3FFC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81C4F4-948E-46CB-86F4-9964E852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C977-59FF-46D0-855A-84F932F3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98891F-8FBE-46A8-B4E5-3B7A0C91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C9E165-DB4C-4726-BAC7-95CD0F27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23227A-B05B-47F6-A21B-E90C0455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42FC9E-13EE-4C3B-AED2-3F5E2889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F8AF2D-73D6-4CC1-9421-19BE3E47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BFDBD0-513D-4915-A1DA-839CF0DF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F6DAA4-28CB-439A-8796-23B95639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B6498B-E6D1-44D4-9E46-052579FA5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D6C41C-75CB-41A4-93EB-BED6AE6E2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0C2E76-D977-4BB5-8BD9-8324E13A5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C83B-89EF-4BC4-ACC6-7B25FB60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988C42-F06C-43E3-9EB2-A026F43A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05E08B-133B-4787-B0F9-2E3A264F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D8FBF8-57F5-4D1D-B82C-49926D5D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674B59-E565-4905-A4DA-F5E4F596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2B6097-400D-4058-8EAD-63D0E95D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301D54-A39A-4841-AE5C-24C5EE51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42CB0C-0982-4A81-813B-8D880F8A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F291B1-2D17-443F-81EF-915334A6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47E5EE-8250-486D-83C6-11C008B2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CEACFF-2400-40DB-8DF7-5F1D91FCF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71DE-061D-4FC3-BF5B-8537C20B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68299E-1E3C-4148-89DF-050532248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6221-4F60-4BE3-A537-075DC421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0BB1-A971-424C-AA3C-76147558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B8A7-9F32-4925-8266-D08AE034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D873F-1E79-4216-93AA-CE4D015B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FEB8-C790-4F33-AB68-2354E58C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4BB3-419A-4220-9EB9-0572111F4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A0FB-84C4-4DC9-B65C-1CDD27ABB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A5E9-FBCF-4D77-9BBB-465F6965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D6B4D-8267-4E86-B75A-5BEC09D2D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69297-1509-49FC-8B65-0DFBA07F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BF4BD-8AA0-44DA-8C51-061E6029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1C0B-ED72-4565-8D0D-87F368D8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628F3-2E8A-41C5-ABAB-29619041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3EC6A-5A42-4126-AC2B-7C60146A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54243-BFFA-461F-9186-08F55669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FA327-F2E2-49C9-9591-FE63D29D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0B148-2E53-44C4-9B05-0841A291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14FA4-118E-482A-8A7C-6414F569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226F5-AED7-4AB0-A76F-ADAB4C23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F04CB-CC88-41A1-A807-3C3EC110E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9EF97-0934-49BD-A5B7-73D2AEC67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7D945-E551-4AF9-ACB6-0EE13518B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F074-DE01-4DA2-99E2-9128049D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ABC79-29C2-4090-B1E1-0F649DE6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D9FCE-B342-49DF-BF35-E48CC2E4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4D3C0-7C39-4DEA-B698-F1E3C2CD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AE4F8-187D-4431-AFC7-07382981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281E5-CCA6-4D9F-AF1C-EF27EDC7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28BD1-F918-4937-BE2E-B3BCD917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74646-8C77-4FCF-8BC2-958759AE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BCBB8-9274-4505-B5D1-E98DE94F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0369F-FF42-4DA1-A81F-89C050DE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D87B4-45D6-4C86-88E8-BCC2084D0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130B-5AED-49A7-8758-28A10A2E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A8697-5A8D-4FF9-BA25-2F1C07335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FCDFA-65E6-4DF8-A9A5-1FDC23A97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91CA6-5285-4857-A911-C1906721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57490-CE1C-4642-B2A2-CF29DB4C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3556B-D57E-49E3-B1EF-25E9FD2B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67DC5-51C7-4D65-B0F5-17EF20E6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ED036-3937-4516-91E9-CC5FFC9B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B5ABF-C7E0-4590-860A-9670708A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43031-56A5-47CA-B8F2-55413BAB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F26D8-3D52-42A9-921B-E21E873F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334D-133F-4437-96C2-C737F0C9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D2B7E-D505-4358-A8F7-2E4A79C5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8EF02-C8AF-418D-82B1-03F527EBB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4D6C7-106A-4BB3-88DC-4E10B575D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F27A6-EC4E-499F-8A92-8A79D2A07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073C8-AD71-4FC5-BAA4-2C6600DB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7A88F-801D-4A85-B15C-AE36161F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3A49B-6C99-443B-8AFA-F83D7E85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90FBB-0346-43B8-94A0-9BD877CC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EDA9C-6E2C-4143-BFD8-395A37DB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E2B15-9F2F-46C6-A5A5-3C6769F0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8EAD-24AC-488E-92E8-30FC7EF5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61D00-5604-4879-864C-13E4F861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A64E4-8BF8-4B4C-A05C-D8656820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7D046-83CB-49B1-B78E-63ABE440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6FDBF-60BA-44BB-98B0-6802377DC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A9242-700A-4D75-A1E4-48621C998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275EA-C82B-4F4C-AFFF-C49C4FF40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A8DD1-7A34-491B-B288-4EE669EA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B2E1D-7C23-4711-B66F-C5F42EFB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27A9D-D648-4FA7-B9FF-4607B539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B661E-CD75-499E-9F7B-63E7BFFB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43A8-EC3C-4C1E-938F-B36E1DDF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68AF5-B240-47DF-84A3-B3423EC9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4A87D-26FA-48CC-9D64-811D8A07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BEE86-1ADA-44A2-B448-80E43CC0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18230-0C28-4B80-9696-3B943D03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76517-2DF3-4E5C-BA77-F05DE6C5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1F928-BA7F-442F-8A90-9234BA1D9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55287-A6F5-44D2-9ACA-B4540FC2F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F9A88-14AB-476B-9BE8-0C1712E48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7E9BA-6665-4FB1-B184-CFD4F9E2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AA2E8-BF44-42FD-A425-73F9994C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4C67-4841-4C43-819E-FF08C020532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730F-94F4-4509-96A6-5F883C638DA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E53F-8582-4CFD-96C9-D0D91A55053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7F82-A450-4819-B91D-D703BDAD371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1977-57F3-451A-9E1E-B5BFE12916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AFD1-5F74-4746-96AA-AFE6BBE4A81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AA12-C6C4-4BF9-B0FB-0F34BFBC6AB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2D10-4B9D-4141-B2C0-C871DE27301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94F5-C521-4CB2-82EE-425655DE8B6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F426-34C3-49EC-AD96-3A262E0E37F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8E8D-0861-4958-9FE9-FD8B8CC708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4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890A-971E-450A-9321-E36033ACB63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4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4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9FCB-F886-4D24-B61C-3D14D88C7C4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6D57-73FA-4439-874B-AF8DC7EF247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069B-6158-4EEA-B2DA-7CCBB71742D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A309-C9FB-49B4-8BCC-7B7862BFB03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530C-92FE-4402-92BD-EA1C49F2254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9516-91A6-418D-86A7-855E0CFC287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82E6-8989-47C3-AB3D-B8EADC6106E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6F03-0122-47CA-B380-B830094CD38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8992-3075-48F9-914C-135152A1395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7E17-7559-4C66-AD71-B5DB2DD8A87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9CD2-0269-416E-8CFD-CF6E69F57EB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A6AF-5F7F-483F-8D1A-72704AF48FB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E6A7-66BA-4393-A1AA-402D9BBDA3D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BEC8-0DE0-496E-AC17-DB8894C5D13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图片 3" descr=""/>
          <p:cNvPicPr/>
          <p:nvPr/>
        </p:nvPicPr>
        <p:blipFill>
          <a:blip r:embed="rId2"/>
          <a:srcRect l="33460" t="4937" r="0" b="34328"/>
          <a:stretch/>
        </p:blipFill>
        <p:spPr>
          <a:xfrm>
            <a:off x="-133200" y="2827440"/>
            <a:ext cx="6721200" cy="3752640"/>
          </a:xfrm>
          <a:prstGeom prst="rect">
            <a:avLst/>
          </a:prstGeom>
          <a:ln w="0">
            <a:noFill/>
          </a:ln>
        </p:spPr>
      </p:pic>
      <p:sp>
        <p:nvSpPr>
          <p:cNvPr id="614" name="文本框 21"/>
          <p:cNvSpPr/>
          <p:nvPr/>
        </p:nvSpPr>
        <p:spPr>
          <a:xfrm>
            <a:off x="2901960" y="1681200"/>
            <a:ext cx="652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美商务清新模板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文本框 22"/>
          <p:cNvSpPr/>
          <p:nvPr/>
        </p:nvSpPr>
        <p:spPr>
          <a:xfrm>
            <a:off x="2901960" y="2448000"/>
            <a:ext cx="474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秀作品请在稻壳儿搜索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6" name="图片 1" descr=""/>
          <p:cNvPicPr/>
          <p:nvPr/>
        </p:nvPicPr>
        <p:blipFill>
          <a:blip r:embed="rId3"/>
          <a:stretch/>
        </p:blipFill>
        <p:spPr>
          <a:xfrm>
            <a:off x="1477800" y="1569960"/>
            <a:ext cx="15415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平行四边形 3"/>
          <p:cNvSpPr/>
          <p:nvPr/>
        </p:nvSpPr>
        <p:spPr>
          <a:xfrm>
            <a:off x="347760" y="231840"/>
            <a:ext cx="476280" cy="412560"/>
          </a:xfrm>
          <a:prstGeom prst="parallelogram">
            <a:avLst>
              <a:gd name="adj" fmla="val 37439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平行四边形 4"/>
          <p:cNvSpPr/>
          <p:nvPr/>
        </p:nvSpPr>
        <p:spPr>
          <a:xfrm>
            <a:off x="773280" y="231840"/>
            <a:ext cx="475920" cy="412560"/>
          </a:xfrm>
          <a:prstGeom prst="parallelogram">
            <a:avLst>
              <a:gd name="adj" fmla="val 37411"/>
            </a:avLst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8" name="组合 10"/>
          <p:cNvGrpSpPr/>
          <p:nvPr/>
        </p:nvGrpSpPr>
        <p:grpSpPr>
          <a:xfrm>
            <a:off x="1011240" y="450720"/>
            <a:ext cx="5029200" cy="181080"/>
            <a:chOff x="1011240" y="450720"/>
            <a:chExt cx="5029200" cy="181080"/>
          </a:xfrm>
        </p:grpSpPr>
        <p:sp>
          <p:nvSpPr>
            <p:cNvPr id="829" name="直接连接符 6"/>
            <p:cNvSpPr/>
            <p:nvPr/>
          </p:nvSpPr>
          <p:spPr>
            <a:xfrm>
              <a:off x="1011240" y="631800"/>
              <a:ext cx="5003640" cy="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等腰三角形 8"/>
            <p:cNvSpPr/>
            <p:nvPr/>
          </p:nvSpPr>
          <p:spPr>
            <a:xfrm>
              <a:off x="5628600" y="450720"/>
              <a:ext cx="411840" cy="181080"/>
            </a:xfrm>
            <a:prstGeom prst="triangle">
              <a:avLst>
                <a:gd name="adj" fmla="val 0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1" name="文本框 11"/>
          <p:cNvSpPr/>
          <p:nvPr/>
        </p:nvSpPr>
        <p:spPr>
          <a:xfrm>
            <a:off x="1577880" y="14112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椭圆 7"/>
          <p:cNvSpPr/>
          <p:nvPr/>
        </p:nvSpPr>
        <p:spPr>
          <a:xfrm>
            <a:off x="2182680" y="1709640"/>
            <a:ext cx="1266840" cy="1265400"/>
          </a:xfrm>
          <a:prstGeom prst="ellipse">
            <a:avLst/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椭圆 9"/>
          <p:cNvSpPr/>
          <p:nvPr/>
        </p:nvSpPr>
        <p:spPr>
          <a:xfrm>
            <a:off x="1249200" y="2975040"/>
            <a:ext cx="1265400" cy="1266840"/>
          </a:xfrm>
          <a:prstGeom prst="ellipse">
            <a:avLst/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椭圆 12"/>
          <p:cNvSpPr/>
          <p:nvPr/>
        </p:nvSpPr>
        <p:spPr>
          <a:xfrm>
            <a:off x="2182680" y="4273560"/>
            <a:ext cx="1266840" cy="1265400"/>
          </a:xfrm>
          <a:prstGeom prst="ellipse">
            <a:avLst/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TextBox 10"/>
          <p:cNvSpPr/>
          <p:nvPr/>
        </p:nvSpPr>
        <p:spPr>
          <a:xfrm>
            <a:off x="6788160" y="2343240"/>
            <a:ext cx="4300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6" name="组合 14" descr=""/>
          <p:cNvPicPr/>
          <p:nvPr/>
        </p:nvPicPr>
        <p:blipFill>
          <a:blip r:embed="rId1"/>
          <a:stretch/>
        </p:blipFill>
        <p:spPr>
          <a:xfrm>
            <a:off x="3255840" y="2365200"/>
            <a:ext cx="2863800" cy="2517840"/>
          </a:xfrm>
          <a:prstGeom prst="rect">
            <a:avLst/>
          </a:prstGeom>
          <a:ln w="0">
            <a:noFill/>
          </a:ln>
        </p:spPr>
      </p:pic>
      <p:sp>
        <p:nvSpPr>
          <p:cNvPr id="837" name="文本框 21"/>
          <p:cNvSpPr/>
          <p:nvPr/>
        </p:nvSpPr>
        <p:spPr>
          <a:xfrm>
            <a:off x="6757920" y="1973160"/>
            <a:ext cx="113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TextBox 10"/>
          <p:cNvSpPr/>
          <p:nvPr/>
        </p:nvSpPr>
        <p:spPr>
          <a:xfrm>
            <a:off x="6818400" y="3641760"/>
            <a:ext cx="4298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文本框 23"/>
          <p:cNvSpPr/>
          <p:nvPr/>
        </p:nvSpPr>
        <p:spPr>
          <a:xfrm>
            <a:off x="6786720" y="327168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TextBox 10"/>
          <p:cNvSpPr/>
          <p:nvPr/>
        </p:nvSpPr>
        <p:spPr>
          <a:xfrm>
            <a:off x="6818400" y="5002200"/>
            <a:ext cx="4298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文本框 25"/>
          <p:cNvSpPr/>
          <p:nvPr/>
        </p:nvSpPr>
        <p:spPr>
          <a:xfrm>
            <a:off x="6786720" y="463248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五角星 26"/>
          <p:cNvSpPr/>
          <p:nvPr/>
        </p:nvSpPr>
        <p:spPr>
          <a:xfrm>
            <a:off x="2625840" y="2382840"/>
            <a:ext cx="382320" cy="396720"/>
          </a:xfrm>
          <a:custGeom>
            <a:avLst/>
            <a:gdLst/>
            <a:ahLst/>
            <a:rect l="l" t="t" r="r" b="b"/>
            <a:pathLst>
              <a:path w="382358" h="397048">
                <a:moveTo>
                  <a:pt x="0" y="151658"/>
                </a:moveTo>
                <a:lnTo>
                  <a:pt x="146049" y="151660"/>
                </a:lnTo>
                <a:lnTo>
                  <a:pt x="191179" y="0"/>
                </a:lnTo>
                <a:lnTo>
                  <a:pt x="236309" y="151660"/>
                </a:lnTo>
                <a:lnTo>
                  <a:pt x="382358" y="151658"/>
                </a:lnTo>
                <a:lnTo>
                  <a:pt x="264202" y="245388"/>
                </a:lnTo>
                <a:lnTo>
                  <a:pt x="309334" y="397047"/>
                </a:lnTo>
                <a:lnTo>
                  <a:pt x="191179" y="303316"/>
                </a:lnTo>
                <a:lnTo>
                  <a:pt x="73024" y="397047"/>
                </a:lnTo>
                <a:lnTo>
                  <a:pt x="118156" y="245388"/>
                </a:lnTo>
                <a:lnTo>
                  <a:pt x="0" y="1516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文本框 27"/>
          <p:cNvSpPr/>
          <p:nvPr/>
        </p:nvSpPr>
        <p:spPr>
          <a:xfrm>
            <a:off x="2516040" y="19209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五角星 28"/>
          <p:cNvSpPr/>
          <p:nvPr/>
        </p:nvSpPr>
        <p:spPr>
          <a:xfrm>
            <a:off x="1650960" y="3622680"/>
            <a:ext cx="382680" cy="396720"/>
          </a:xfrm>
          <a:custGeom>
            <a:avLst/>
            <a:gdLst/>
            <a:ahLst/>
            <a:rect l="l" t="t" r="r" b="b"/>
            <a:pathLst>
              <a:path w="382358" h="397048">
                <a:moveTo>
                  <a:pt x="0" y="151658"/>
                </a:moveTo>
                <a:lnTo>
                  <a:pt x="146049" y="151660"/>
                </a:lnTo>
                <a:lnTo>
                  <a:pt x="191179" y="0"/>
                </a:lnTo>
                <a:lnTo>
                  <a:pt x="236309" y="151660"/>
                </a:lnTo>
                <a:lnTo>
                  <a:pt x="382358" y="151658"/>
                </a:lnTo>
                <a:lnTo>
                  <a:pt x="264202" y="245388"/>
                </a:lnTo>
                <a:lnTo>
                  <a:pt x="309334" y="397047"/>
                </a:lnTo>
                <a:lnTo>
                  <a:pt x="191179" y="303316"/>
                </a:lnTo>
                <a:lnTo>
                  <a:pt x="73024" y="397047"/>
                </a:lnTo>
                <a:lnTo>
                  <a:pt x="118156" y="245388"/>
                </a:lnTo>
                <a:lnTo>
                  <a:pt x="0" y="1516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文本框 29"/>
          <p:cNvSpPr/>
          <p:nvPr/>
        </p:nvSpPr>
        <p:spPr>
          <a:xfrm>
            <a:off x="1542960" y="31608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五角星 30"/>
          <p:cNvSpPr/>
          <p:nvPr/>
        </p:nvSpPr>
        <p:spPr>
          <a:xfrm>
            <a:off x="2637000" y="4957920"/>
            <a:ext cx="382320" cy="396720"/>
          </a:xfrm>
          <a:custGeom>
            <a:avLst/>
            <a:gdLst/>
            <a:ahLst/>
            <a:rect l="l" t="t" r="r" b="b"/>
            <a:pathLst>
              <a:path w="382358" h="397048">
                <a:moveTo>
                  <a:pt x="0" y="151658"/>
                </a:moveTo>
                <a:lnTo>
                  <a:pt x="146049" y="151660"/>
                </a:lnTo>
                <a:lnTo>
                  <a:pt x="191179" y="0"/>
                </a:lnTo>
                <a:lnTo>
                  <a:pt x="236309" y="151660"/>
                </a:lnTo>
                <a:lnTo>
                  <a:pt x="382358" y="151658"/>
                </a:lnTo>
                <a:lnTo>
                  <a:pt x="264202" y="245388"/>
                </a:lnTo>
                <a:lnTo>
                  <a:pt x="309334" y="397047"/>
                </a:lnTo>
                <a:lnTo>
                  <a:pt x="191179" y="303316"/>
                </a:lnTo>
                <a:lnTo>
                  <a:pt x="73024" y="397047"/>
                </a:lnTo>
                <a:lnTo>
                  <a:pt x="118156" y="245388"/>
                </a:lnTo>
                <a:lnTo>
                  <a:pt x="0" y="1516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文本框 31"/>
          <p:cNvSpPr/>
          <p:nvPr/>
        </p:nvSpPr>
        <p:spPr>
          <a:xfrm>
            <a:off x="2527200" y="44956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8" name="组合 32"/>
          <p:cNvGrpSpPr/>
          <p:nvPr/>
        </p:nvGrpSpPr>
        <p:grpSpPr>
          <a:xfrm>
            <a:off x="0" y="6634080"/>
            <a:ext cx="12192120" cy="223920"/>
            <a:chOff x="0" y="6634080"/>
            <a:chExt cx="12192120" cy="223920"/>
          </a:xfrm>
        </p:grpSpPr>
        <p:sp>
          <p:nvSpPr>
            <p:cNvPr id="849" name="矩形 33"/>
            <p:cNvSpPr/>
            <p:nvPr/>
          </p:nvSpPr>
          <p:spPr>
            <a:xfrm>
              <a:off x="0" y="6634080"/>
              <a:ext cx="3916440" cy="22392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矩形 34"/>
            <p:cNvSpPr/>
            <p:nvPr/>
          </p:nvSpPr>
          <p:spPr>
            <a:xfrm>
              <a:off x="3916440" y="6634080"/>
              <a:ext cx="3916440" cy="22392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矩形 35"/>
            <p:cNvSpPr/>
            <p:nvPr/>
          </p:nvSpPr>
          <p:spPr>
            <a:xfrm>
              <a:off x="7832880" y="6634080"/>
              <a:ext cx="4359240" cy="223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2" name="组合 36"/>
          <p:cNvGrpSpPr/>
          <p:nvPr/>
        </p:nvGrpSpPr>
        <p:grpSpPr>
          <a:xfrm>
            <a:off x="152280" y="6786720"/>
            <a:ext cx="12192120" cy="223560"/>
            <a:chOff x="152280" y="6786720"/>
            <a:chExt cx="12192120" cy="223560"/>
          </a:xfrm>
        </p:grpSpPr>
        <p:sp>
          <p:nvSpPr>
            <p:cNvPr id="853" name="矩形 37"/>
            <p:cNvSpPr/>
            <p:nvPr/>
          </p:nvSpPr>
          <p:spPr>
            <a:xfrm>
              <a:off x="152280" y="6786720"/>
              <a:ext cx="3916440" cy="22356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矩形 38"/>
            <p:cNvSpPr/>
            <p:nvPr/>
          </p:nvSpPr>
          <p:spPr>
            <a:xfrm>
              <a:off x="4068720" y="6786720"/>
              <a:ext cx="3916440" cy="22356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矩形 39"/>
            <p:cNvSpPr/>
            <p:nvPr/>
          </p:nvSpPr>
          <p:spPr>
            <a:xfrm>
              <a:off x="7985160" y="6786720"/>
              <a:ext cx="4359240" cy="2235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平行四边形 3"/>
          <p:cNvSpPr/>
          <p:nvPr/>
        </p:nvSpPr>
        <p:spPr>
          <a:xfrm>
            <a:off x="347760" y="231840"/>
            <a:ext cx="476280" cy="412560"/>
          </a:xfrm>
          <a:prstGeom prst="parallelogram">
            <a:avLst>
              <a:gd name="adj" fmla="val 37439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平行四边形 4"/>
          <p:cNvSpPr/>
          <p:nvPr/>
        </p:nvSpPr>
        <p:spPr>
          <a:xfrm>
            <a:off x="773280" y="231840"/>
            <a:ext cx="475920" cy="412560"/>
          </a:xfrm>
          <a:prstGeom prst="parallelogram">
            <a:avLst>
              <a:gd name="adj" fmla="val 37411"/>
            </a:avLst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8" name="组合 10"/>
          <p:cNvGrpSpPr/>
          <p:nvPr/>
        </p:nvGrpSpPr>
        <p:grpSpPr>
          <a:xfrm>
            <a:off x="1011240" y="450720"/>
            <a:ext cx="5029200" cy="181080"/>
            <a:chOff x="1011240" y="450720"/>
            <a:chExt cx="5029200" cy="181080"/>
          </a:xfrm>
        </p:grpSpPr>
        <p:sp>
          <p:nvSpPr>
            <p:cNvPr id="859" name="直接连接符 6"/>
            <p:cNvSpPr/>
            <p:nvPr/>
          </p:nvSpPr>
          <p:spPr>
            <a:xfrm>
              <a:off x="1011240" y="631800"/>
              <a:ext cx="5003640" cy="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等腰三角形 8"/>
            <p:cNvSpPr/>
            <p:nvPr/>
          </p:nvSpPr>
          <p:spPr>
            <a:xfrm>
              <a:off x="5628600" y="450720"/>
              <a:ext cx="411840" cy="181080"/>
            </a:xfrm>
            <a:prstGeom prst="triangle">
              <a:avLst>
                <a:gd name="adj" fmla="val 0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1" name="文本框 11"/>
          <p:cNvSpPr/>
          <p:nvPr/>
        </p:nvSpPr>
        <p:spPr>
          <a:xfrm>
            <a:off x="1577880" y="14112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2" name="组合 7"/>
          <p:cNvGrpSpPr/>
          <p:nvPr/>
        </p:nvGrpSpPr>
        <p:grpSpPr>
          <a:xfrm>
            <a:off x="1127160" y="1801800"/>
            <a:ext cx="2984400" cy="2840040"/>
            <a:chOff x="1127160" y="1801800"/>
            <a:chExt cx="2984400" cy="2840040"/>
          </a:xfrm>
        </p:grpSpPr>
        <p:sp>
          <p:nvSpPr>
            <p:cNvPr id="863" name="椭圆形标注 9"/>
            <p:cNvSpPr/>
            <p:nvPr/>
          </p:nvSpPr>
          <p:spPr>
            <a:xfrm>
              <a:off x="1127160" y="1801800"/>
              <a:ext cx="2984400" cy="2840040"/>
            </a:xfrm>
            <a:prstGeom prst="wedgeEllipseCallout">
              <a:avLst>
                <a:gd name="adj1" fmla="val -17379"/>
                <a:gd name="adj2" fmla="val 59777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64" name="图片 12" descr=""/>
            <p:cNvPicPr/>
            <p:nvPr/>
          </p:nvPicPr>
          <p:blipFill>
            <a:blip r:embed="rId1"/>
            <a:stretch/>
          </p:blipFill>
          <p:spPr>
            <a:xfrm>
              <a:off x="1487160" y="2108520"/>
              <a:ext cx="2237760" cy="226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5" name="组合 13"/>
          <p:cNvGrpSpPr/>
          <p:nvPr/>
        </p:nvGrpSpPr>
        <p:grpSpPr>
          <a:xfrm>
            <a:off x="5572080" y="3375000"/>
            <a:ext cx="5254560" cy="204840"/>
            <a:chOff x="5572080" y="3375000"/>
            <a:chExt cx="5254560" cy="204840"/>
          </a:xfrm>
        </p:grpSpPr>
        <p:sp>
          <p:nvSpPr>
            <p:cNvPr id="866" name="矩形 14"/>
            <p:cNvSpPr/>
            <p:nvPr/>
          </p:nvSpPr>
          <p:spPr>
            <a:xfrm>
              <a:off x="5572080" y="3375000"/>
              <a:ext cx="5254560" cy="2048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矩形 15"/>
            <p:cNvSpPr/>
            <p:nvPr/>
          </p:nvSpPr>
          <p:spPr>
            <a:xfrm>
              <a:off x="5572080" y="3375000"/>
              <a:ext cx="4185720" cy="20484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8" name="组合 16"/>
          <p:cNvGrpSpPr/>
          <p:nvPr/>
        </p:nvGrpSpPr>
        <p:grpSpPr>
          <a:xfrm>
            <a:off x="5572080" y="4060800"/>
            <a:ext cx="5254560" cy="206280"/>
            <a:chOff x="5572080" y="4060800"/>
            <a:chExt cx="5254560" cy="206280"/>
          </a:xfrm>
        </p:grpSpPr>
        <p:sp>
          <p:nvSpPr>
            <p:cNvPr id="869" name="矩形 17"/>
            <p:cNvSpPr/>
            <p:nvPr/>
          </p:nvSpPr>
          <p:spPr>
            <a:xfrm>
              <a:off x="5572080" y="4060800"/>
              <a:ext cx="5254560" cy="206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矩形 18"/>
            <p:cNvSpPr/>
            <p:nvPr/>
          </p:nvSpPr>
          <p:spPr>
            <a:xfrm>
              <a:off x="5572080" y="4060800"/>
              <a:ext cx="3374280" cy="20628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1" name="组合 19"/>
          <p:cNvGrpSpPr/>
          <p:nvPr/>
        </p:nvGrpSpPr>
        <p:grpSpPr>
          <a:xfrm>
            <a:off x="5572080" y="4746600"/>
            <a:ext cx="5254560" cy="206280"/>
            <a:chOff x="5572080" y="4746600"/>
            <a:chExt cx="5254560" cy="206280"/>
          </a:xfrm>
        </p:grpSpPr>
        <p:sp>
          <p:nvSpPr>
            <p:cNvPr id="872" name="矩形 20"/>
            <p:cNvSpPr/>
            <p:nvPr/>
          </p:nvSpPr>
          <p:spPr>
            <a:xfrm>
              <a:off x="5572080" y="4746600"/>
              <a:ext cx="5254560" cy="206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矩形 21"/>
            <p:cNvSpPr/>
            <p:nvPr/>
          </p:nvSpPr>
          <p:spPr>
            <a:xfrm>
              <a:off x="5572080" y="4746600"/>
              <a:ext cx="4803840" cy="2062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4" name="组合 22"/>
          <p:cNvGrpSpPr/>
          <p:nvPr/>
        </p:nvGrpSpPr>
        <p:grpSpPr>
          <a:xfrm>
            <a:off x="5572080" y="5630760"/>
            <a:ext cx="5254560" cy="206640"/>
            <a:chOff x="5572080" y="5630760"/>
            <a:chExt cx="5254560" cy="206640"/>
          </a:xfrm>
        </p:grpSpPr>
        <p:sp>
          <p:nvSpPr>
            <p:cNvPr id="875" name="矩形 23"/>
            <p:cNvSpPr/>
            <p:nvPr/>
          </p:nvSpPr>
          <p:spPr>
            <a:xfrm>
              <a:off x="5572080" y="5630760"/>
              <a:ext cx="5254560" cy="2066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" name="矩形 24"/>
            <p:cNvSpPr/>
            <p:nvPr/>
          </p:nvSpPr>
          <p:spPr>
            <a:xfrm>
              <a:off x="5572080" y="5630760"/>
              <a:ext cx="4482000" cy="2066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7" name="TextBox 10"/>
          <p:cNvSpPr/>
          <p:nvPr/>
        </p:nvSpPr>
        <p:spPr>
          <a:xfrm>
            <a:off x="5572080" y="2152800"/>
            <a:ext cx="5254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文本框 26"/>
          <p:cNvSpPr/>
          <p:nvPr/>
        </p:nvSpPr>
        <p:spPr>
          <a:xfrm>
            <a:off x="5572080" y="184464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文本框 27"/>
          <p:cNvSpPr/>
          <p:nvPr/>
        </p:nvSpPr>
        <p:spPr>
          <a:xfrm>
            <a:off x="5572080" y="2949480"/>
            <a:ext cx="11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文本框 28"/>
          <p:cNvSpPr/>
          <p:nvPr/>
        </p:nvSpPr>
        <p:spPr>
          <a:xfrm>
            <a:off x="5572080" y="3686040"/>
            <a:ext cx="11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文本框 29"/>
          <p:cNvSpPr/>
          <p:nvPr/>
        </p:nvSpPr>
        <p:spPr>
          <a:xfrm>
            <a:off x="5572080" y="4379760"/>
            <a:ext cx="11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文本框 30"/>
          <p:cNvSpPr/>
          <p:nvPr/>
        </p:nvSpPr>
        <p:spPr>
          <a:xfrm>
            <a:off x="5495760" y="526428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3" name="图片 33" descr=""/>
          <p:cNvPicPr/>
          <p:nvPr/>
        </p:nvPicPr>
        <p:blipFill>
          <a:blip r:embed="rId2"/>
          <a:stretch/>
        </p:blipFill>
        <p:spPr>
          <a:xfrm>
            <a:off x="1011240" y="5396040"/>
            <a:ext cx="512640" cy="512640"/>
          </a:xfrm>
          <a:prstGeom prst="rect">
            <a:avLst/>
          </a:prstGeom>
          <a:ln w="0">
            <a:noFill/>
          </a:ln>
        </p:spPr>
      </p:pic>
      <p:pic>
        <p:nvPicPr>
          <p:cNvPr id="884" name="图片 34" descr=""/>
          <p:cNvPicPr/>
          <p:nvPr/>
        </p:nvPicPr>
        <p:blipFill>
          <a:blip r:embed="rId3"/>
          <a:stretch/>
        </p:blipFill>
        <p:spPr>
          <a:xfrm>
            <a:off x="1927080" y="5396040"/>
            <a:ext cx="513000" cy="512640"/>
          </a:xfrm>
          <a:prstGeom prst="rect">
            <a:avLst/>
          </a:prstGeom>
          <a:ln w="0">
            <a:noFill/>
          </a:ln>
        </p:spPr>
      </p:pic>
      <p:pic>
        <p:nvPicPr>
          <p:cNvPr id="885" name="图片 35" descr=""/>
          <p:cNvPicPr/>
          <p:nvPr/>
        </p:nvPicPr>
        <p:blipFill>
          <a:blip r:embed="rId4"/>
          <a:stretch/>
        </p:blipFill>
        <p:spPr>
          <a:xfrm>
            <a:off x="2843280" y="5396040"/>
            <a:ext cx="514440" cy="512640"/>
          </a:xfrm>
          <a:prstGeom prst="rect">
            <a:avLst/>
          </a:prstGeom>
          <a:ln w="0">
            <a:noFill/>
          </a:ln>
        </p:spPr>
      </p:pic>
      <p:sp>
        <p:nvSpPr>
          <p:cNvPr id="886" name="文本框 36"/>
          <p:cNvSpPr/>
          <p:nvPr/>
        </p:nvSpPr>
        <p:spPr>
          <a:xfrm>
            <a:off x="1731960" y="4962600"/>
            <a:ext cx="11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7" name="组合 32"/>
          <p:cNvGrpSpPr/>
          <p:nvPr/>
        </p:nvGrpSpPr>
        <p:grpSpPr>
          <a:xfrm>
            <a:off x="0" y="6634080"/>
            <a:ext cx="12192120" cy="223920"/>
            <a:chOff x="0" y="6634080"/>
            <a:chExt cx="12192120" cy="223920"/>
          </a:xfrm>
        </p:grpSpPr>
        <p:sp>
          <p:nvSpPr>
            <p:cNvPr id="888" name="矩形 37"/>
            <p:cNvSpPr/>
            <p:nvPr/>
          </p:nvSpPr>
          <p:spPr>
            <a:xfrm>
              <a:off x="0" y="6634080"/>
              <a:ext cx="3916440" cy="22392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9" name="矩形 38"/>
            <p:cNvSpPr/>
            <p:nvPr/>
          </p:nvSpPr>
          <p:spPr>
            <a:xfrm>
              <a:off x="3916440" y="6634080"/>
              <a:ext cx="3916440" cy="22392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0" name="矩形 39"/>
            <p:cNvSpPr/>
            <p:nvPr/>
          </p:nvSpPr>
          <p:spPr>
            <a:xfrm>
              <a:off x="7832880" y="6634080"/>
              <a:ext cx="4359240" cy="223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平行四边形 3"/>
          <p:cNvSpPr/>
          <p:nvPr/>
        </p:nvSpPr>
        <p:spPr>
          <a:xfrm>
            <a:off x="347760" y="231840"/>
            <a:ext cx="476280" cy="412560"/>
          </a:xfrm>
          <a:prstGeom prst="parallelogram">
            <a:avLst>
              <a:gd name="adj" fmla="val 37439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平行四边形 4"/>
          <p:cNvSpPr/>
          <p:nvPr/>
        </p:nvSpPr>
        <p:spPr>
          <a:xfrm>
            <a:off x="773280" y="231840"/>
            <a:ext cx="475920" cy="412560"/>
          </a:xfrm>
          <a:prstGeom prst="parallelogram">
            <a:avLst>
              <a:gd name="adj" fmla="val 37411"/>
            </a:avLst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3" name="组合 10"/>
          <p:cNvGrpSpPr/>
          <p:nvPr/>
        </p:nvGrpSpPr>
        <p:grpSpPr>
          <a:xfrm>
            <a:off x="1011240" y="450720"/>
            <a:ext cx="5029200" cy="181080"/>
            <a:chOff x="1011240" y="450720"/>
            <a:chExt cx="5029200" cy="181080"/>
          </a:xfrm>
        </p:grpSpPr>
        <p:sp>
          <p:nvSpPr>
            <p:cNvPr id="894" name="直接连接符 6"/>
            <p:cNvSpPr/>
            <p:nvPr/>
          </p:nvSpPr>
          <p:spPr>
            <a:xfrm>
              <a:off x="1011240" y="631800"/>
              <a:ext cx="5003640" cy="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等腰三角形 8"/>
            <p:cNvSpPr/>
            <p:nvPr/>
          </p:nvSpPr>
          <p:spPr>
            <a:xfrm>
              <a:off x="5628600" y="450720"/>
              <a:ext cx="411840" cy="181080"/>
            </a:xfrm>
            <a:prstGeom prst="triangle">
              <a:avLst>
                <a:gd name="adj" fmla="val 0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6" name="文本框 11"/>
          <p:cNvSpPr/>
          <p:nvPr/>
        </p:nvSpPr>
        <p:spPr>
          <a:xfrm>
            <a:off x="1577880" y="14112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7" name="组合 7"/>
          <p:cNvGrpSpPr/>
          <p:nvPr/>
        </p:nvGrpSpPr>
        <p:grpSpPr>
          <a:xfrm>
            <a:off x="1481040" y="1622520"/>
            <a:ext cx="4533840" cy="4198680"/>
            <a:chOff x="1481040" y="1622520"/>
            <a:chExt cx="4533840" cy="4198680"/>
          </a:xfrm>
        </p:grpSpPr>
        <p:pic>
          <p:nvPicPr>
            <p:cNvPr id="898" name="图片 9" descr=""/>
            <p:cNvPicPr/>
            <p:nvPr/>
          </p:nvPicPr>
          <p:blipFill>
            <a:blip r:embed="rId1"/>
            <a:srcRect l="63386" t="0" r="0" b="0"/>
            <a:stretch/>
          </p:blipFill>
          <p:spPr>
            <a:xfrm>
              <a:off x="1481040" y="1622520"/>
              <a:ext cx="2460240" cy="41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9" name="矩形 12"/>
            <p:cNvSpPr/>
            <p:nvPr/>
          </p:nvSpPr>
          <p:spPr>
            <a:xfrm>
              <a:off x="3941280" y="1622520"/>
              <a:ext cx="2073600" cy="419868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0" name="组合 13"/>
          <p:cNvGrpSpPr/>
          <p:nvPr/>
        </p:nvGrpSpPr>
        <p:grpSpPr>
          <a:xfrm>
            <a:off x="6554880" y="1622520"/>
            <a:ext cx="4521240" cy="4198680"/>
            <a:chOff x="6554880" y="1622520"/>
            <a:chExt cx="4521240" cy="4198680"/>
          </a:xfrm>
        </p:grpSpPr>
        <p:pic>
          <p:nvPicPr>
            <p:cNvPr id="901" name="图片 14" descr=""/>
            <p:cNvPicPr/>
            <p:nvPr/>
          </p:nvPicPr>
          <p:blipFill>
            <a:blip r:embed="rId2"/>
            <a:srcRect l="63576" t="0" r="0" b="0"/>
            <a:stretch/>
          </p:blipFill>
          <p:spPr>
            <a:xfrm>
              <a:off x="6554880" y="1622520"/>
              <a:ext cx="2447280" cy="41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矩形 15"/>
            <p:cNvSpPr/>
            <p:nvPr/>
          </p:nvSpPr>
          <p:spPr>
            <a:xfrm>
              <a:off x="9002160" y="1622520"/>
              <a:ext cx="2073960" cy="419868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3" name="TextBox 10"/>
          <p:cNvSpPr/>
          <p:nvPr/>
        </p:nvSpPr>
        <p:spPr>
          <a:xfrm>
            <a:off x="4176720" y="2362320"/>
            <a:ext cx="1665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文本框 17"/>
          <p:cNvSpPr/>
          <p:nvPr/>
        </p:nvSpPr>
        <p:spPr>
          <a:xfrm>
            <a:off x="4176720" y="2023920"/>
            <a:ext cx="110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TextBox 10"/>
          <p:cNvSpPr/>
          <p:nvPr/>
        </p:nvSpPr>
        <p:spPr>
          <a:xfrm>
            <a:off x="4170240" y="4116240"/>
            <a:ext cx="1665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文本框 19"/>
          <p:cNvSpPr/>
          <p:nvPr/>
        </p:nvSpPr>
        <p:spPr>
          <a:xfrm>
            <a:off x="4170240" y="3778200"/>
            <a:ext cx="110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TextBox 10"/>
          <p:cNvSpPr/>
          <p:nvPr/>
        </p:nvSpPr>
        <p:spPr>
          <a:xfrm>
            <a:off x="9398160" y="2362320"/>
            <a:ext cx="1665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文本框 21"/>
          <p:cNvSpPr/>
          <p:nvPr/>
        </p:nvSpPr>
        <p:spPr>
          <a:xfrm>
            <a:off x="9398160" y="2023920"/>
            <a:ext cx="110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TextBox 10"/>
          <p:cNvSpPr/>
          <p:nvPr/>
        </p:nvSpPr>
        <p:spPr>
          <a:xfrm>
            <a:off x="9391680" y="4116240"/>
            <a:ext cx="1665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文本框 23"/>
          <p:cNvSpPr/>
          <p:nvPr/>
        </p:nvSpPr>
        <p:spPr>
          <a:xfrm>
            <a:off x="9391680" y="3778200"/>
            <a:ext cx="110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1" name="组合 24"/>
          <p:cNvGrpSpPr/>
          <p:nvPr/>
        </p:nvGrpSpPr>
        <p:grpSpPr>
          <a:xfrm>
            <a:off x="0" y="6634080"/>
            <a:ext cx="12192120" cy="223920"/>
            <a:chOff x="0" y="6634080"/>
            <a:chExt cx="12192120" cy="223920"/>
          </a:xfrm>
        </p:grpSpPr>
        <p:sp>
          <p:nvSpPr>
            <p:cNvPr id="912" name="矩形 25"/>
            <p:cNvSpPr/>
            <p:nvPr/>
          </p:nvSpPr>
          <p:spPr>
            <a:xfrm>
              <a:off x="0" y="6634080"/>
              <a:ext cx="3916440" cy="22392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矩形 26"/>
            <p:cNvSpPr/>
            <p:nvPr/>
          </p:nvSpPr>
          <p:spPr>
            <a:xfrm>
              <a:off x="3916440" y="6634080"/>
              <a:ext cx="3916440" cy="22392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矩形 27"/>
            <p:cNvSpPr/>
            <p:nvPr/>
          </p:nvSpPr>
          <p:spPr>
            <a:xfrm>
              <a:off x="7832880" y="6634080"/>
              <a:ext cx="4359240" cy="223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平行四边形 3"/>
          <p:cNvSpPr/>
          <p:nvPr/>
        </p:nvSpPr>
        <p:spPr>
          <a:xfrm>
            <a:off x="347760" y="231840"/>
            <a:ext cx="476280" cy="412560"/>
          </a:xfrm>
          <a:prstGeom prst="parallelogram">
            <a:avLst>
              <a:gd name="adj" fmla="val 37439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平行四边形 4"/>
          <p:cNvSpPr/>
          <p:nvPr/>
        </p:nvSpPr>
        <p:spPr>
          <a:xfrm>
            <a:off x="773280" y="231840"/>
            <a:ext cx="475920" cy="412560"/>
          </a:xfrm>
          <a:prstGeom prst="parallelogram">
            <a:avLst>
              <a:gd name="adj" fmla="val 37411"/>
            </a:avLst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7" name="组合 10"/>
          <p:cNvGrpSpPr/>
          <p:nvPr/>
        </p:nvGrpSpPr>
        <p:grpSpPr>
          <a:xfrm>
            <a:off x="1011240" y="450720"/>
            <a:ext cx="5029200" cy="181080"/>
            <a:chOff x="1011240" y="450720"/>
            <a:chExt cx="5029200" cy="181080"/>
          </a:xfrm>
        </p:grpSpPr>
        <p:sp>
          <p:nvSpPr>
            <p:cNvPr id="918" name="直接连接符 6"/>
            <p:cNvSpPr/>
            <p:nvPr/>
          </p:nvSpPr>
          <p:spPr>
            <a:xfrm>
              <a:off x="1011240" y="631800"/>
              <a:ext cx="5003640" cy="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等腰三角形 8"/>
            <p:cNvSpPr/>
            <p:nvPr/>
          </p:nvSpPr>
          <p:spPr>
            <a:xfrm>
              <a:off x="5628600" y="450720"/>
              <a:ext cx="411840" cy="181080"/>
            </a:xfrm>
            <a:prstGeom prst="triangle">
              <a:avLst>
                <a:gd name="adj" fmla="val 0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0" name="文本框 11"/>
          <p:cNvSpPr/>
          <p:nvPr/>
        </p:nvSpPr>
        <p:spPr>
          <a:xfrm>
            <a:off x="1577880" y="14112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直接连接符 7"/>
          <p:cNvSpPr/>
          <p:nvPr/>
        </p:nvSpPr>
        <p:spPr>
          <a:xfrm flipV="1">
            <a:off x="2828880" y="5660640"/>
            <a:ext cx="1870200" cy="56196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直接连接符 9"/>
          <p:cNvSpPr/>
          <p:nvPr/>
        </p:nvSpPr>
        <p:spPr>
          <a:xfrm flipH="1" flipV="1">
            <a:off x="3911760" y="5181480"/>
            <a:ext cx="801360" cy="46512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直接连接符 12"/>
          <p:cNvSpPr/>
          <p:nvPr/>
        </p:nvSpPr>
        <p:spPr>
          <a:xfrm flipV="1">
            <a:off x="3897360" y="4000680"/>
            <a:ext cx="2630520" cy="118080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直接连接符 13"/>
          <p:cNvSpPr/>
          <p:nvPr/>
        </p:nvSpPr>
        <p:spPr>
          <a:xfrm>
            <a:off x="6527880" y="4000680"/>
            <a:ext cx="722160" cy="66168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直接连接符 14"/>
          <p:cNvSpPr/>
          <p:nvPr/>
        </p:nvSpPr>
        <p:spPr>
          <a:xfrm flipV="1">
            <a:off x="7250040" y="3606840"/>
            <a:ext cx="2049480" cy="105552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椭圆 15"/>
          <p:cNvSpPr/>
          <p:nvPr/>
        </p:nvSpPr>
        <p:spPr>
          <a:xfrm>
            <a:off x="4635360" y="5597640"/>
            <a:ext cx="127080" cy="1267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椭圆 16"/>
          <p:cNvSpPr/>
          <p:nvPr/>
        </p:nvSpPr>
        <p:spPr>
          <a:xfrm>
            <a:off x="3882960" y="5132520"/>
            <a:ext cx="125640" cy="1267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椭圆 17"/>
          <p:cNvSpPr/>
          <p:nvPr/>
        </p:nvSpPr>
        <p:spPr>
          <a:xfrm>
            <a:off x="6464160" y="3963960"/>
            <a:ext cx="127080" cy="1270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椭圆 18"/>
          <p:cNvSpPr/>
          <p:nvPr/>
        </p:nvSpPr>
        <p:spPr>
          <a:xfrm>
            <a:off x="7186680" y="4606920"/>
            <a:ext cx="127080" cy="1270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椭圆 19"/>
          <p:cNvSpPr/>
          <p:nvPr/>
        </p:nvSpPr>
        <p:spPr>
          <a:xfrm>
            <a:off x="2751120" y="6173640"/>
            <a:ext cx="127080" cy="1270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椭圆 20"/>
          <p:cNvSpPr/>
          <p:nvPr/>
        </p:nvSpPr>
        <p:spPr>
          <a:xfrm>
            <a:off x="9236160" y="3529080"/>
            <a:ext cx="127080" cy="1270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矩形标注 21"/>
          <p:cNvSpPr/>
          <p:nvPr/>
        </p:nvSpPr>
        <p:spPr>
          <a:xfrm>
            <a:off x="2630520" y="5568840"/>
            <a:ext cx="1027080" cy="368280"/>
          </a:xfrm>
          <a:prstGeom prst="wedgeRectCallout">
            <a:avLst>
              <a:gd name="adj1" fmla="val -30421"/>
              <a:gd name="adj2" fmla="val 82013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矩形标注 22"/>
          <p:cNvSpPr/>
          <p:nvPr/>
        </p:nvSpPr>
        <p:spPr>
          <a:xfrm>
            <a:off x="4549680" y="5046840"/>
            <a:ext cx="1027080" cy="368280"/>
          </a:xfrm>
          <a:prstGeom prst="wedgeRectCallout">
            <a:avLst>
              <a:gd name="adj1" fmla="val -30421"/>
              <a:gd name="adj2" fmla="val 82013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矩形标注 23"/>
          <p:cNvSpPr/>
          <p:nvPr/>
        </p:nvSpPr>
        <p:spPr>
          <a:xfrm>
            <a:off x="6319800" y="3389400"/>
            <a:ext cx="1027080" cy="368280"/>
          </a:xfrm>
          <a:prstGeom prst="wedgeRectCallout">
            <a:avLst>
              <a:gd name="adj1" fmla="val -30421"/>
              <a:gd name="adj2" fmla="val 82013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矩形标注 24"/>
          <p:cNvSpPr/>
          <p:nvPr/>
        </p:nvSpPr>
        <p:spPr>
          <a:xfrm>
            <a:off x="9097920" y="2933640"/>
            <a:ext cx="1027080" cy="368280"/>
          </a:xfrm>
          <a:prstGeom prst="wedgeRectCallout">
            <a:avLst>
              <a:gd name="adj1" fmla="val -30421"/>
              <a:gd name="adj2" fmla="val 82013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矩形标注 25"/>
          <p:cNvSpPr/>
          <p:nvPr/>
        </p:nvSpPr>
        <p:spPr>
          <a:xfrm>
            <a:off x="7165800" y="4905360"/>
            <a:ext cx="1027440" cy="366840"/>
          </a:xfrm>
          <a:prstGeom prst="wedgeRectCallout">
            <a:avLst>
              <a:gd name="adj1" fmla="val -37268"/>
              <a:gd name="adj2" fmla="val -86296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矩形标注 26"/>
          <p:cNvSpPr/>
          <p:nvPr/>
        </p:nvSpPr>
        <p:spPr>
          <a:xfrm>
            <a:off x="3657600" y="4368960"/>
            <a:ext cx="1027080" cy="368280"/>
          </a:xfrm>
          <a:prstGeom prst="wedgeRectCallout">
            <a:avLst>
              <a:gd name="adj1" fmla="val -27680"/>
              <a:gd name="adj2" fmla="val 104962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TextBox 10"/>
          <p:cNvSpPr/>
          <p:nvPr/>
        </p:nvSpPr>
        <p:spPr>
          <a:xfrm>
            <a:off x="1874880" y="1976400"/>
            <a:ext cx="8367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文本框 28"/>
          <p:cNvSpPr/>
          <p:nvPr/>
        </p:nvSpPr>
        <p:spPr>
          <a:xfrm>
            <a:off x="1868400" y="1560600"/>
            <a:ext cx="18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0" name="组合 29"/>
          <p:cNvGrpSpPr/>
          <p:nvPr/>
        </p:nvGrpSpPr>
        <p:grpSpPr>
          <a:xfrm>
            <a:off x="0" y="6634080"/>
            <a:ext cx="12192120" cy="223920"/>
            <a:chOff x="0" y="6634080"/>
            <a:chExt cx="12192120" cy="223920"/>
          </a:xfrm>
        </p:grpSpPr>
        <p:sp>
          <p:nvSpPr>
            <p:cNvPr id="941" name="矩形 30"/>
            <p:cNvSpPr/>
            <p:nvPr/>
          </p:nvSpPr>
          <p:spPr>
            <a:xfrm>
              <a:off x="0" y="6634080"/>
              <a:ext cx="3916440" cy="22392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2" name="矩形 31"/>
            <p:cNvSpPr/>
            <p:nvPr/>
          </p:nvSpPr>
          <p:spPr>
            <a:xfrm>
              <a:off x="3916440" y="6634080"/>
              <a:ext cx="3916440" cy="22392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3" name="矩形 32"/>
            <p:cNvSpPr/>
            <p:nvPr/>
          </p:nvSpPr>
          <p:spPr>
            <a:xfrm>
              <a:off x="7832880" y="6634080"/>
              <a:ext cx="4359240" cy="223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平行四边形 3"/>
          <p:cNvSpPr/>
          <p:nvPr/>
        </p:nvSpPr>
        <p:spPr>
          <a:xfrm>
            <a:off x="347760" y="231840"/>
            <a:ext cx="476280" cy="412560"/>
          </a:xfrm>
          <a:prstGeom prst="parallelogram">
            <a:avLst>
              <a:gd name="adj" fmla="val 37439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平行四边形 4"/>
          <p:cNvSpPr/>
          <p:nvPr/>
        </p:nvSpPr>
        <p:spPr>
          <a:xfrm>
            <a:off x="773280" y="231840"/>
            <a:ext cx="475920" cy="412560"/>
          </a:xfrm>
          <a:prstGeom prst="parallelogram">
            <a:avLst>
              <a:gd name="adj" fmla="val 37411"/>
            </a:avLst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6" name="组合 10"/>
          <p:cNvGrpSpPr/>
          <p:nvPr/>
        </p:nvGrpSpPr>
        <p:grpSpPr>
          <a:xfrm>
            <a:off x="1011240" y="450720"/>
            <a:ext cx="5029200" cy="181080"/>
            <a:chOff x="1011240" y="450720"/>
            <a:chExt cx="5029200" cy="181080"/>
          </a:xfrm>
        </p:grpSpPr>
        <p:sp>
          <p:nvSpPr>
            <p:cNvPr id="947" name="直接连接符 6"/>
            <p:cNvSpPr/>
            <p:nvPr/>
          </p:nvSpPr>
          <p:spPr>
            <a:xfrm>
              <a:off x="1011240" y="631800"/>
              <a:ext cx="5003640" cy="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等腰三角形 8"/>
            <p:cNvSpPr/>
            <p:nvPr/>
          </p:nvSpPr>
          <p:spPr>
            <a:xfrm>
              <a:off x="5628600" y="450720"/>
              <a:ext cx="411840" cy="181080"/>
            </a:xfrm>
            <a:prstGeom prst="triangle">
              <a:avLst>
                <a:gd name="adj" fmla="val 0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9" name="文本框 11"/>
          <p:cNvSpPr/>
          <p:nvPr/>
        </p:nvSpPr>
        <p:spPr>
          <a:xfrm>
            <a:off x="1577880" y="14112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直接连接符 7"/>
          <p:cNvSpPr/>
          <p:nvPr/>
        </p:nvSpPr>
        <p:spPr>
          <a:xfrm>
            <a:off x="1920960" y="3848040"/>
            <a:ext cx="8513640" cy="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椭圆 9"/>
          <p:cNvSpPr/>
          <p:nvPr/>
        </p:nvSpPr>
        <p:spPr>
          <a:xfrm>
            <a:off x="4406760" y="2932200"/>
            <a:ext cx="1816200" cy="1815840"/>
          </a:xfrm>
          <a:prstGeom prst="ellipse">
            <a:avLst/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椭圆 12"/>
          <p:cNvSpPr/>
          <p:nvPr/>
        </p:nvSpPr>
        <p:spPr>
          <a:xfrm>
            <a:off x="6040440" y="2932200"/>
            <a:ext cx="1816200" cy="181584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文本框 13"/>
          <p:cNvSpPr/>
          <p:nvPr/>
        </p:nvSpPr>
        <p:spPr>
          <a:xfrm>
            <a:off x="4527720" y="3656160"/>
            <a:ext cx="22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您的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文本框 14"/>
          <p:cNvSpPr/>
          <p:nvPr/>
        </p:nvSpPr>
        <p:spPr>
          <a:xfrm>
            <a:off x="6161040" y="3662280"/>
            <a:ext cx="22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您的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5" name="组合 15"/>
          <p:cNvGrpSpPr/>
          <p:nvPr/>
        </p:nvGrpSpPr>
        <p:grpSpPr>
          <a:xfrm>
            <a:off x="1889280" y="2214720"/>
            <a:ext cx="2022480" cy="1066320"/>
            <a:chOff x="1889280" y="2214720"/>
            <a:chExt cx="2022480" cy="1066320"/>
          </a:xfrm>
        </p:grpSpPr>
        <p:sp>
          <p:nvSpPr>
            <p:cNvPr id="956" name="文本框 16"/>
            <p:cNvSpPr/>
            <p:nvPr/>
          </p:nvSpPr>
          <p:spPr>
            <a:xfrm>
              <a:off x="1889280" y="2214720"/>
              <a:ext cx="11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TextBox 35"/>
            <p:cNvSpPr/>
            <p:nvPr/>
          </p:nvSpPr>
          <p:spPr>
            <a:xfrm>
              <a:off x="1890360" y="2639520"/>
              <a:ext cx="2021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个性定制服务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8" name="组合 18"/>
          <p:cNvGrpSpPr/>
          <p:nvPr/>
        </p:nvGrpSpPr>
        <p:grpSpPr>
          <a:xfrm>
            <a:off x="8412120" y="2214720"/>
            <a:ext cx="2022480" cy="1066320"/>
            <a:chOff x="8412120" y="2214720"/>
            <a:chExt cx="2022480" cy="1066320"/>
          </a:xfrm>
        </p:grpSpPr>
        <p:sp>
          <p:nvSpPr>
            <p:cNvPr id="959" name="文本框 19"/>
            <p:cNvSpPr/>
            <p:nvPr/>
          </p:nvSpPr>
          <p:spPr>
            <a:xfrm>
              <a:off x="8412120" y="2214720"/>
              <a:ext cx="11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0" name="TextBox 35"/>
            <p:cNvSpPr/>
            <p:nvPr/>
          </p:nvSpPr>
          <p:spPr>
            <a:xfrm>
              <a:off x="8413200" y="2639520"/>
              <a:ext cx="2021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个性定制服务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1" name="组合 21"/>
          <p:cNvGrpSpPr/>
          <p:nvPr/>
        </p:nvGrpSpPr>
        <p:grpSpPr>
          <a:xfrm>
            <a:off x="1889280" y="4135320"/>
            <a:ext cx="2022480" cy="1066320"/>
            <a:chOff x="1889280" y="4135320"/>
            <a:chExt cx="2022480" cy="1066320"/>
          </a:xfrm>
        </p:grpSpPr>
        <p:sp>
          <p:nvSpPr>
            <p:cNvPr id="962" name="文本框 22"/>
            <p:cNvSpPr/>
            <p:nvPr/>
          </p:nvSpPr>
          <p:spPr>
            <a:xfrm>
              <a:off x="1889280" y="4135320"/>
              <a:ext cx="11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TextBox 35"/>
            <p:cNvSpPr/>
            <p:nvPr/>
          </p:nvSpPr>
          <p:spPr>
            <a:xfrm>
              <a:off x="1890360" y="4560120"/>
              <a:ext cx="2021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个性定制服务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4" name="组合 24"/>
          <p:cNvGrpSpPr/>
          <p:nvPr/>
        </p:nvGrpSpPr>
        <p:grpSpPr>
          <a:xfrm>
            <a:off x="8412120" y="4135320"/>
            <a:ext cx="2022480" cy="1066320"/>
            <a:chOff x="8412120" y="4135320"/>
            <a:chExt cx="2022480" cy="1066320"/>
          </a:xfrm>
        </p:grpSpPr>
        <p:sp>
          <p:nvSpPr>
            <p:cNvPr id="965" name="文本框 25"/>
            <p:cNvSpPr/>
            <p:nvPr/>
          </p:nvSpPr>
          <p:spPr>
            <a:xfrm>
              <a:off x="8412120" y="4135320"/>
              <a:ext cx="11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6" name="TextBox 35"/>
            <p:cNvSpPr/>
            <p:nvPr/>
          </p:nvSpPr>
          <p:spPr>
            <a:xfrm>
              <a:off x="8413200" y="4560120"/>
              <a:ext cx="2021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个性定制服务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7" name="组合 27"/>
          <p:cNvGrpSpPr/>
          <p:nvPr/>
        </p:nvGrpSpPr>
        <p:grpSpPr>
          <a:xfrm>
            <a:off x="0" y="6634080"/>
            <a:ext cx="12192120" cy="223920"/>
            <a:chOff x="0" y="6634080"/>
            <a:chExt cx="12192120" cy="223920"/>
          </a:xfrm>
        </p:grpSpPr>
        <p:sp>
          <p:nvSpPr>
            <p:cNvPr id="968" name="矩形 28"/>
            <p:cNvSpPr/>
            <p:nvPr/>
          </p:nvSpPr>
          <p:spPr>
            <a:xfrm>
              <a:off x="0" y="6634080"/>
              <a:ext cx="3916440" cy="22392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9" name="矩形 29"/>
            <p:cNvSpPr/>
            <p:nvPr/>
          </p:nvSpPr>
          <p:spPr>
            <a:xfrm>
              <a:off x="3916440" y="6634080"/>
              <a:ext cx="3916440" cy="22392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0" name="矩形 30"/>
            <p:cNvSpPr/>
            <p:nvPr/>
          </p:nvSpPr>
          <p:spPr>
            <a:xfrm>
              <a:off x="7832880" y="6634080"/>
              <a:ext cx="4359240" cy="223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任意多边形 23"/>
          <p:cNvSpPr/>
          <p:nvPr/>
        </p:nvSpPr>
        <p:spPr>
          <a:xfrm flipV="1">
            <a:off x="0" y="192600"/>
            <a:ext cx="12201480" cy="4081320"/>
          </a:xfrm>
          <a:custGeom>
            <a:avLst/>
            <a:gdLst/>
            <a:ahLst/>
            <a:rect l="l" t="t" r="r" b="b"/>
            <a:pathLst>
              <a:path w="12201987" h="4082606">
                <a:moveTo>
                  <a:pt x="804061" y="4082606"/>
                </a:moveTo>
                <a:lnTo>
                  <a:pt x="2047460" y="4082606"/>
                </a:lnTo>
                <a:lnTo>
                  <a:pt x="2623035" y="2638119"/>
                </a:lnTo>
                <a:lnTo>
                  <a:pt x="7328452" y="4082606"/>
                </a:lnTo>
                <a:lnTo>
                  <a:pt x="12201987" y="4082606"/>
                </a:lnTo>
                <a:lnTo>
                  <a:pt x="12201987" y="3915013"/>
                </a:lnTo>
                <a:lnTo>
                  <a:pt x="2132415" y="684186"/>
                </a:lnTo>
                <a:lnTo>
                  <a:pt x="804061" y="4082606"/>
                </a:lnTo>
                <a:close/>
                <a:moveTo>
                  <a:pt x="0" y="4082606"/>
                </a:moveTo>
                <a:lnTo>
                  <a:pt x="519489" y="4082606"/>
                </a:lnTo>
                <a:lnTo>
                  <a:pt x="1879555" y="603056"/>
                </a:lnTo>
                <a:lnTo>
                  <a:pt x="0" y="0"/>
                </a:lnTo>
                <a:lnTo>
                  <a:pt x="0" y="4082606"/>
                </a:lnTo>
                <a:close/>
              </a:path>
            </a:pathLst>
          </a:cu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任意多边形 21"/>
          <p:cNvSpPr/>
          <p:nvPr/>
        </p:nvSpPr>
        <p:spPr>
          <a:xfrm flipV="1" rot="10800000">
            <a:off x="-360" y="659160"/>
            <a:ext cx="12192120" cy="6761160"/>
          </a:xfrm>
          <a:custGeom>
            <a:avLst/>
            <a:gdLst/>
            <a:ahLst/>
            <a:rect l="l" t="t" r="r" b="b"/>
            <a:pathLst>
              <a:path w="12192000" h="6761344">
                <a:moveTo>
                  <a:pt x="3875109" y="1243330"/>
                </a:moveTo>
                <a:lnTo>
                  <a:pt x="1718260" y="6761344"/>
                </a:lnTo>
                <a:lnTo>
                  <a:pt x="12192000" y="6761344"/>
                </a:lnTo>
                <a:lnTo>
                  <a:pt x="12192000" y="3911808"/>
                </a:lnTo>
                <a:lnTo>
                  <a:pt x="3875109" y="1243330"/>
                </a:lnTo>
                <a:close/>
                <a:moveTo>
                  <a:pt x="0" y="0"/>
                </a:moveTo>
                <a:lnTo>
                  <a:pt x="0" y="6761344"/>
                </a:lnTo>
                <a:lnTo>
                  <a:pt x="1454836" y="6761344"/>
                </a:lnTo>
                <a:lnTo>
                  <a:pt x="3641039" y="1168229"/>
                </a:lnTo>
                <a:lnTo>
                  <a:pt x="0" y="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任意多边形 27"/>
          <p:cNvSpPr/>
          <p:nvPr/>
        </p:nvSpPr>
        <p:spPr>
          <a:xfrm>
            <a:off x="0" y="0"/>
            <a:ext cx="12201480" cy="193680"/>
          </a:xfrm>
          <a:custGeom>
            <a:avLst/>
            <a:gdLst/>
            <a:ahLst/>
            <a:rect l="l" t="t" r="r" b="b"/>
            <a:pathLst>
              <a:path w="12201987" h="193179">
                <a:moveTo>
                  <a:pt x="8831145" y="0"/>
                </a:moveTo>
                <a:lnTo>
                  <a:pt x="12201987" y="0"/>
                </a:lnTo>
                <a:lnTo>
                  <a:pt x="12201987" y="193179"/>
                </a:lnTo>
                <a:lnTo>
                  <a:pt x="8947310" y="193179"/>
                </a:lnTo>
                <a:lnTo>
                  <a:pt x="8831145" y="0"/>
                </a:lnTo>
                <a:close/>
                <a:moveTo>
                  <a:pt x="0" y="0"/>
                </a:moveTo>
                <a:lnTo>
                  <a:pt x="8516501" y="0"/>
                </a:lnTo>
                <a:lnTo>
                  <a:pt x="8632666" y="193179"/>
                </a:lnTo>
                <a:lnTo>
                  <a:pt x="0" y="193179"/>
                </a:lnTo>
                <a:lnTo>
                  <a:pt x="0" y="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文本框 25"/>
          <p:cNvSpPr/>
          <p:nvPr/>
        </p:nvSpPr>
        <p:spPr>
          <a:xfrm rot="20510400">
            <a:off x="2641680" y="2800440"/>
            <a:ext cx="618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  You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平行四边形 3"/>
          <p:cNvSpPr/>
          <p:nvPr/>
        </p:nvSpPr>
        <p:spPr>
          <a:xfrm>
            <a:off x="347760" y="231840"/>
            <a:ext cx="476280" cy="412560"/>
          </a:xfrm>
          <a:prstGeom prst="parallelogram">
            <a:avLst>
              <a:gd name="adj" fmla="val 37439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平行四边形 4"/>
          <p:cNvSpPr/>
          <p:nvPr/>
        </p:nvSpPr>
        <p:spPr>
          <a:xfrm>
            <a:off x="773280" y="231840"/>
            <a:ext cx="475920" cy="412560"/>
          </a:xfrm>
          <a:prstGeom prst="parallelogram">
            <a:avLst>
              <a:gd name="adj" fmla="val 37411"/>
            </a:avLst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9" name="组合 10"/>
          <p:cNvGrpSpPr/>
          <p:nvPr/>
        </p:nvGrpSpPr>
        <p:grpSpPr>
          <a:xfrm>
            <a:off x="1011240" y="450720"/>
            <a:ext cx="5029200" cy="181080"/>
            <a:chOff x="1011240" y="450720"/>
            <a:chExt cx="5029200" cy="181080"/>
          </a:xfrm>
        </p:grpSpPr>
        <p:sp>
          <p:nvSpPr>
            <p:cNvPr id="620" name="直接连接符 6"/>
            <p:cNvSpPr/>
            <p:nvPr/>
          </p:nvSpPr>
          <p:spPr>
            <a:xfrm>
              <a:off x="1011240" y="631800"/>
              <a:ext cx="5003640" cy="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等腰三角形 8"/>
            <p:cNvSpPr/>
            <p:nvPr/>
          </p:nvSpPr>
          <p:spPr>
            <a:xfrm>
              <a:off x="5628600" y="450720"/>
              <a:ext cx="411840" cy="181080"/>
            </a:xfrm>
            <a:prstGeom prst="triangle">
              <a:avLst>
                <a:gd name="adj" fmla="val 0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2" name="文本框 11"/>
          <p:cNvSpPr/>
          <p:nvPr/>
        </p:nvSpPr>
        <p:spPr>
          <a:xfrm>
            <a:off x="1577880" y="14112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直接连接符 13"/>
          <p:cNvSpPr/>
          <p:nvPr/>
        </p:nvSpPr>
        <p:spPr>
          <a:xfrm>
            <a:off x="4368960" y="1106640"/>
            <a:ext cx="0" cy="515772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椭圆 14"/>
          <p:cNvSpPr/>
          <p:nvPr/>
        </p:nvSpPr>
        <p:spPr>
          <a:xfrm>
            <a:off x="4300560" y="1944720"/>
            <a:ext cx="128520" cy="128520"/>
          </a:xfrm>
          <a:prstGeom prst="ellips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椭圆 15"/>
          <p:cNvSpPr/>
          <p:nvPr/>
        </p:nvSpPr>
        <p:spPr>
          <a:xfrm>
            <a:off x="4300560" y="3621240"/>
            <a:ext cx="128520" cy="128520"/>
          </a:xfrm>
          <a:prstGeom prst="ellips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椭圆 16"/>
          <p:cNvSpPr/>
          <p:nvPr/>
        </p:nvSpPr>
        <p:spPr>
          <a:xfrm>
            <a:off x="4300560" y="5299200"/>
            <a:ext cx="128520" cy="128520"/>
          </a:xfrm>
          <a:prstGeom prst="ellips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7" name="组合 5"/>
          <p:cNvGrpSpPr/>
          <p:nvPr/>
        </p:nvGrpSpPr>
        <p:grpSpPr>
          <a:xfrm>
            <a:off x="2358360" y="1107000"/>
            <a:ext cx="1803960" cy="1803960"/>
            <a:chOff x="2358360" y="1107000"/>
            <a:chExt cx="1803960" cy="1803960"/>
          </a:xfrm>
        </p:grpSpPr>
        <p:sp>
          <p:nvSpPr>
            <p:cNvPr id="628" name="泪滴形 7"/>
            <p:cNvSpPr/>
            <p:nvPr/>
          </p:nvSpPr>
          <p:spPr>
            <a:xfrm rot="2700000">
              <a:off x="2622960" y="1370520"/>
              <a:ext cx="1274760" cy="1276200"/>
            </a:xfrm>
            <a:custGeom>
              <a:avLst/>
              <a:gdLst/>
              <a:ahLst/>
              <a:rect l="l" t="t" r="r" b="b"/>
              <a:pathLst>
                <a:path w="1275488" h="1275488">
                  <a:moveTo>
                    <a:pt x="0" y="637744"/>
                  </a:moveTo>
                  <a:cubicBezTo>
                    <a:pt x="0" y="285528"/>
                    <a:pt x="285528" y="0"/>
                    <a:pt x="637744" y="0"/>
                  </a:cubicBezTo>
                  <a:lnTo>
                    <a:pt x="1275488" y="0"/>
                  </a:lnTo>
                  <a:lnTo>
                    <a:pt x="1275488" y="637744"/>
                  </a:lnTo>
                  <a:cubicBezTo>
                    <a:pt x="1275488" y="989960"/>
                    <a:pt x="989960" y="1275488"/>
                    <a:pt x="637744" y="1275488"/>
                  </a:cubicBezTo>
                  <a:cubicBezTo>
                    <a:pt x="285528" y="1275488"/>
                    <a:pt x="0" y="989960"/>
                    <a:pt x="0" y="637744"/>
                  </a:cubicBezTo>
                  <a:close/>
                </a:path>
              </a:pathLst>
            </a:cu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文本框 17"/>
            <p:cNvSpPr/>
            <p:nvPr/>
          </p:nvSpPr>
          <p:spPr>
            <a:xfrm>
              <a:off x="2951640" y="1809000"/>
              <a:ext cx="87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0" name="组合 28"/>
          <p:cNvGrpSpPr/>
          <p:nvPr/>
        </p:nvGrpSpPr>
        <p:grpSpPr>
          <a:xfrm>
            <a:off x="2358000" y="2783880"/>
            <a:ext cx="1805040" cy="1804680"/>
            <a:chOff x="2358000" y="2783880"/>
            <a:chExt cx="1805040" cy="1804680"/>
          </a:xfrm>
        </p:grpSpPr>
        <p:sp>
          <p:nvSpPr>
            <p:cNvPr id="631" name="泪滴形 9"/>
            <p:cNvSpPr/>
            <p:nvPr/>
          </p:nvSpPr>
          <p:spPr>
            <a:xfrm rot="2700000">
              <a:off x="2622240" y="3048120"/>
              <a:ext cx="1276200" cy="1276200"/>
            </a:xfrm>
            <a:custGeom>
              <a:avLst/>
              <a:gdLst/>
              <a:ahLst/>
              <a:rect l="l" t="t" r="r" b="b"/>
              <a:pathLst>
                <a:path w="1275488" h="1275488">
                  <a:moveTo>
                    <a:pt x="0" y="637744"/>
                  </a:moveTo>
                  <a:cubicBezTo>
                    <a:pt x="0" y="285528"/>
                    <a:pt x="285528" y="0"/>
                    <a:pt x="637744" y="0"/>
                  </a:cubicBezTo>
                  <a:lnTo>
                    <a:pt x="1275488" y="0"/>
                  </a:lnTo>
                  <a:lnTo>
                    <a:pt x="1275488" y="637744"/>
                  </a:lnTo>
                  <a:cubicBezTo>
                    <a:pt x="1275488" y="989960"/>
                    <a:pt x="989960" y="1275488"/>
                    <a:pt x="637744" y="1275488"/>
                  </a:cubicBezTo>
                  <a:cubicBezTo>
                    <a:pt x="285528" y="1275488"/>
                    <a:pt x="0" y="989960"/>
                    <a:pt x="0" y="637744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文本框 18"/>
            <p:cNvSpPr/>
            <p:nvPr/>
          </p:nvSpPr>
          <p:spPr>
            <a:xfrm>
              <a:off x="2954160" y="3485880"/>
              <a:ext cx="87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3" name="组合 29"/>
          <p:cNvGrpSpPr/>
          <p:nvPr/>
        </p:nvGrpSpPr>
        <p:grpSpPr>
          <a:xfrm>
            <a:off x="2357640" y="4460040"/>
            <a:ext cx="1805040" cy="1805040"/>
            <a:chOff x="2357640" y="4460040"/>
            <a:chExt cx="1805040" cy="1805040"/>
          </a:xfrm>
        </p:grpSpPr>
        <p:sp>
          <p:nvSpPr>
            <p:cNvPr id="634" name="泪滴形 12"/>
            <p:cNvSpPr/>
            <p:nvPr/>
          </p:nvSpPr>
          <p:spPr>
            <a:xfrm rot="2700000">
              <a:off x="2621880" y="4724280"/>
              <a:ext cx="1276560" cy="1276200"/>
            </a:xfrm>
            <a:custGeom>
              <a:avLst/>
              <a:gdLst/>
              <a:ahLst/>
              <a:rect l="l" t="t" r="r" b="b"/>
              <a:pathLst>
                <a:path w="1275488" h="1275488">
                  <a:moveTo>
                    <a:pt x="0" y="637744"/>
                  </a:moveTo>
                  <a:cubicBezTo>
                    <a:pt x="0" y="285528"/>
                    <a:pt x="285528" y="0"/>
                    <a:pt x="637744" y="0"/>
                  </a:cubicBezTo>
                  <a:lnTo>
                    <a:pt x="1275488" y="0"/>
                  </a:lnTo>
                  <a:lnTo>
                    <a:pt x="1275488" y="637744"/>
                  </a:lnTo>
                  <a:cubicBezTo>
                    <a:pt x="1275488" y="989960"/>
                    <a:pt x="989960" y="1275488"/>
                    <a:pt x="637744" y="1275488"/>
                  </a:cubicBezTo>
                  <a:cubicBezTo>
                    <a:pt x="285528" y="1275488"/>
                    <a:pt x="0" y="989960"/>
                    <a:pt x="0" y="637744"/>
                  </a:cubicBezTo>
                  <a:close/>
                </a:path>
              </a:pathLst>
            </a:cu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文本框 19"/>
            <p:cNvSpPr/>
            <p:nvPr/>
          </p:nvSpPr>
          <p:spPr>
            <a:xfrm>
              <a:off x="2954160" y="5162400"/>
              <a:ext cx="87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6" name="矩形 20"/>
          <p:cNvSpPr/>
          <p:nvPr/>
        </p:nvSpPr>
        <p:spPr>
          <a:xfrm>
            <a:off x="4756320" y="1592280"/>
            <a:ext cx="2730240" cy="376200"/>
          </a:xfrm>
          <a:prstGeom prst="rect">
            <a:avLst/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您的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TextBox 10"/>
          <p:cNvSpPr/>
          <p:nvPr/>
        </p:nvSpPr>
        <p:spPr>
          <a:xfrm>
            <a:off x="4635360" y="2044800"/>
            <a:ext cx="480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矩形 22"/>
          <p:cNvSpPr/>
          <p:nvPr/>
        </p:nvSpPr>
        <p:spPr>
          <a:xfrm>
            <a:off x="4756320" y="3352680"/>
            <a:ext cx="2730240" cy="378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您的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TextBox 10"/>
          <p:cNvSpPr/>
          <p:nvPr/>
        </p:nvSpPr>
        <p:spPr>
          <a:xfrm>
            <a:off x="4635360" y="3807000"/>
            <a:ext cx="480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矩形 24"/>
          <p:cNvSpPr/>
          <p:nvPr/>
        </p:nvSpPr>
        <p:spPr>
          <a:xfrm>
            <a:off x="4756320" y="4973760"/>
            <a:ext cx="2730240" cy="377640"/>
          </a:xfrm>
          <a:prstGeom prst="rect">
            <a:avLst/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您的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TextBox 10"/>
          <p:cNvSpPr/>
          <p:nvPr/>
        </p:nvSpPr>
        <p:spPr>
          <a:xfrm>
            <a:off x="4635360" y="5427720"/>
            <a:ext cx="480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2" name="组合 2"/>
          <p:cNvGrpSpPr/>
          <p:nvPr/>
        </p:nvGrpSpPr>
        <p:grpSpPr>
          <a:xfrm>
            <a:off x="0" y="6634080"/>
            <a:ext cx="12192120" cy="223920"/>
            <a:chOff x="0" y="6634080"/>
            <a:chExt cx="12192120" cy="223920"/>
          </a:xfrm>
        </p:grpSpPr>
        <p:sp>
          <p:nvSpPr>
            <p:cNvPr id="643" name="矩形 1"/>
            <p:cNvSpPr/>
            <p:nvPr/>
          </p:nvSpPr>
          <p:spPr>
            <a:xfrm>
              <a:off x="0" y="6634080"/>
              <a:ext cx="3916440" cy="22392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矩形 26"/>
            <p:cNvSpPr/>
            <p:nvPr/>
          </p:nvSpPr>
          <p:spPr>
            <a:xfrm>
              <a:off x="3916440" y="6634080"/>
              <a:ext cx="3916440" cy="22392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矩形 27"/>
            <p:cNvSpPr/>
            <p:nvPr/>
          </p:nvSpPr>
          <p:spPr>
            <a:xfrm>
              <a:off x="7832880" y="6634080"/>
              <a:ext cx="4359240" cy="223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平行四边形 3"/>
          <p:cNvSpPr/>
          <p:nvPr/>
        </p:nvSpPr>
        <p:spPr>
          <a:xfrm>
            <a:off x="347760" y="231840"/>
            <a:ext cx="476280" cy="412560"/>
          </a:xfrm>
          <a:prstGeom prst="parallelogram">
            <a:avLst>
              <a:gd name="adj" fmla="val 37439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平行四边形 4"/>
          <p:cNvSpPr/>
          <p:nvPr/>
        </p:nvSpPr>
        <p:spPr>
          <a:xfrm>
            <a:off x="773280" y="231840"/>
            <a:ext cx="475920" cy="412560"/>
          </a:xfrm>
          <a:prstGeom prst="parallelogram">
            <a:avLst>
              <a:gd name="adj" fmla="val 37411"/>
            </a:avLst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8" name="组合 10"/>
          <p:cNvGrpSpPr/>
          <p:nvPr/>
        </p:nvGrpSpPr>
        <p:grpSpPr>
          <a:xfrm>
            <a:off x="1011240" y="450720"/>
            <a:ext cx="5029200" cy="181080"/>
            <a:chOff x="1011240" y="450720"/>
            <a:chExt cx="5029200" cy="181080"/>
          </a:xfrm>
        </p:grpSpPr>
        <p:sp>
          <p:nvSpPr>
            <p:cNvPr id="649" name="直接连接符 6"/>
            <p:cNvSpPr/>
            <p:nvPr/>
          </p:nvSpPr>
          <p:spPr>
            <a:xfrm>
              <a:off x="1011240" y="631800"/>
              <a:ext cx="5003640" cy="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等腰三角形 8"/>
            <p:cNvSpPr/>
            <p:nvPr/>
          </p:nvSpPr>
          <p:spPr>
            <a:xfrm>
              <a:off x="5628600" y="450720"/>
              <a:ext cx="411840" cy="181080"/>
            </a:xfrm>
            <a:prstGeom prst="triangle">
              <a:avLst>
                <a:gd name="adj" fmla="val 0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1" name="文本框 11"/>
          <p:cNvSpPr/>
          <p:nvPr/>
        </p:nvSpPr>
        <p:spPr>
          <a:xfrm>
            <a:off x="1577880" y="14112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2" name="组合 7"/>
          <p:cNvGrpSpPr/>
          <p:nvPr/>
        </p:nvGrpSpPr>
        <p:grpSpPr>
          <a:xfrm>
            <a:off x="3921120" y="1881360"/>
            <a:ext cx="2093760" cy="3398760"/>
            <a:chOff x="3921120" y="1881360"/>
            <a:chExt cx="2093760" cy="3398760"/>
          </a:xfrm>
        </p:grpSpPr>
        <p:sp>
          <p:nvSpPr>
            <p:cNvPr id="653" name="上箭头 9"/>
            <p:cNvSpPr/>
            <p:nvPr/>
          </p:nvSpPr>
          <p:spPr>
            <a:xfrm>
              <a:off x="4208400" y="2035440"/>
              <a:ext cx="1550880" cy="3128760"/>
            </a:xfrm>
            <a:prstGeom prst="upArrow">
              <a:avLst>
                <a:gd name="adj1" fmla="val 50000"/>
                <a:gd name="adj2" fmla="val 49968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上箭头 12"/>
            <p:cNvSpPr/>
            <p:nvPr/>
          </p:nvSpPr>
          <p:spPr>
            <a:xfrm>
              <a:off x="3921120" y="1881360"/>
              <a:ext cx="2093760" cy="3398760"/>
            </a:xfrm>
            <a:prstGeom prst="upArrow">
              <a:avLst>
                <a:gd name="adj1" fmla="val 50000"/>
                <a:gd name="adj2" fmla="val 49968"/>
              </a:avLst>
            </a:pr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5" name="组合 13"/>
          <p:cNvGrpSpPr/>
          <p:nvPr/>
        </p:nvGrpSpPr>
        <p:grpSpPr>
          <a:xfrm>
            <a:off x="6113520" y="2246040"/>
            <a:ext cx="2093760" cy="3398760"/>
            <a:chOff x="6113520" y="2246040"/>
            <a:chExt cx="2093760" cy="3398760"/>
          </a:xfrm>
        </p:grpSpPr>
        <p:sp>
          <p:nvSpPr>
            <p:cNvPr id="656" name="上箭头 14"/>
            <p:cNvSpPr/>
            <p:nvPr/>
          </p:nvSpPr>
          <p:spPr>
            <a:xfrm rot="10800000">
              <a:off x="6369120" y="2361960"/>
              <a:ext cx="1550880" cy="3128760"/>
            </a:xfrm>
            <a:prstGeom prst="upArrow">
              <a:avLst>
                <a:gd name="adj1" fmla="val 50000"/>
                <a:gd name="adj2" fmla="val 49968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上箭头 15"/>
            <p:cNvSpPr/>
            <p:nvPr/>
          </p:nvSpPr>
          <p:spPr>
            <a:xfrm rot="10800000">
              <a:off x="6113520" y="2246040"/>
              <a:ext cx="2093760" cy="3398760"/>
            </a:xfrm>
            <a:prstGeom prst="upArrow">
              <a:avLst>
                <a:gd name="adj1" fmla="val 50000"/>
                <a:gd name="adj2" fmla="val 49968"/>
              </a:avLst>
            </a:prstGeom>
            <a:noFill/>
            <a:ln w="1260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8" name="椭圆 16"/>
          <p:cNvSpPr/>
          <p:nvPr/>
        </p:nvSpPr>
        <p:spPr>
          <a:xfrm>
            <a:off x="6892920" y="4700520"/>
            <a:ext cx="503280" cy="501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7492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椭圆 17"/>
          <p:cNvSpPr/>
          <p:nvPr/>
        </p:nvSpPr>
        <p:spPr>
          <a:xfrm>
            <a:off x="6892920" y="3660840"/>
            <a:ext cx="503280" cy="501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7492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椭圆 18"/>
          <p:cNvSpPr/>
          <p:nvPr/>
        </p:nvSpPr>
        <p:spPr>
          <a:xfrm>
            <a:off x="6892920" y="2622600"/>
            <a:ext cx="503280" cy="501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7492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椭圆 19"/>
          <p:cNvSpPr/>
          <p:nvPr/>
        </p:nvSpPr>
        <p:spPr>
          <a:xfrm>
            <a:off x="4702320" y="2359080"/>
            <a:ext cx="502920" cy="501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7492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椭圆 20"/>
          <p:cNvSpPr/>
          <p:nvPr/>
        </p:nvSpPr>
        <p:spPr>
          <a:xfrm>
            <a:off x="4702320" y="3443400"/>
            <a:ext cx="502920" cy="501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7492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椭圆 21"/>
          <p:cNvSpPr/>
          <p:nvPr/>
        </p:nvSpPr>
        <p:spPr>
          <a:xfrm>
            <a:off x="4732200" y="4527720"/>
            <a:ext cx="503280" cy="471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7492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文本框 22"/>
          <p:cNvSpPr/>
          <p:nvPr/>
        </p:nvSpPr>
        <p:spPr>
          <a:xfrm>
            <a:off x="6558120" y="174960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e7492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文本框 23"/>
          <p:cNvSpPr/>
          <p:nvPr/>
        </p:nvSpPr>
        <p:spPr>
          <a:xfrm>
            <a:off x="4413240" y="532908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e7492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10"/>
          <p:cNvSpPr/>
          <p:nvPr/>
        </p:nvSpPr>
        <p:spPr>
          <a:xfrm>
            <a:off x="674640" y="2035080"/>
            <a:ext cx="28846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Box 10"/>
          <p:cNvSpPr/>
          <p:nvPr/>
        </p:nvSpPr>
        <p:spPr>
          <a:xfrm>
            <a:off x="674640" y="3252960"/>
            <a:ext cx="28846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Box 10"/>
          <p:cNvSpPr/>
          <p:nvPr/>
        </p:nvSpPr>
        <p:spPr>
          <a:xfrm>
            <a:off x="733320" y="4530600"/>
            <a:ext cx="28846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8510760" y="2035080"/>
            <a:ext cx="28857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TextBox 10"/>
          <p:cNvSpPr/>
          <p:nvPr/>
        </p:nvSpPr>
        <p:spPr>
          <a:xfrm>
            <a:off x="8510760" y="3252960"/>
            <a:ext cx="28857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Box 10"/>
          <p:cNvSpPr/>
          <p:nvPr/>
        </p:nvSpPr>
        <p:spPr>
          <a:xfrm>
            <a:off x="8569440" y="4530600"/>
            <a:ext cx="28843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2" name="组合 30"/>
          <p:cNvGrpSpPr/>
          <p:nvPr/>
        </p:nvGrpSpPr>
        <p:grpSpPr>
          <a:xfrm>
            <a:off x="0" y="6634080"/>
            <a:ext cx="12192120" cy="223920"/>
            <a:chOff x="0" y="6634080"/>
            <a:chExt cx="12192120" cy="223920"/>
          </a:xfrm>
        </p:grpSpPr>
        <p:sp>
          <p:nvSpPr>
            <p:cNvPr id="673" name="矩形 31"/>
            <p:cNvSpPr/>
            <p:nvPr/>
          </p:nvSpPr>
          <p:spPr>
            <a:xfrm>
              <a:off x="0" y="6634080"/>
              <a:ext cx="3916440" cy="22392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矩形 32"/>
            <p:cNvSpPr/>
            <p:nvPr/>
          </p:nvSpPr>
          <p:spPr>
            <a:xfrm>
              <a:off x="3916440" y="6634080"/>
              <a:ext cx="3916440" cy="22392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矩形 33"/>
            <p:cNvSpPr/>
            <p:nvPr/>
          </p:nvSpPr>
          <p:spPr>
            <a:xfrm>
              <a:off x="7832880" y="6634080"/>
              <a:ext cx="4359240" cy="223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平行四边形 3"/>
          <p:cNvSpPr/>
          <p:nvPr/>
        </p:nvSpPr>
        <p:spPr>
          <a:xfrm>
            <a:off x="347760" y="231840"/>
            <a:ext cx="476280" cy="412560"/>
          </a:xfrm>
          <a:prstGeom prst="parallelogram">
            <a:avLst>
              <a:gd name="adj" fmla="val 37439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平行四边形 4"/>
          <p:cNvSpPr/>
          <p:nvPr/>
        </p:nvSpPr>
        <p:spPr>
          <a:xfrm>
            <a:off x="773280" y="231840"/>
            <a:ext cx="475920" cy="412560"/>
          </a:xfrm>
          <a:prstGeom prst="parallelogram">
            <a:avLst>
              <a:gd name="adj" fmla="val 37411"/>
            </a:avLst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8" name="组合 10"/>
          <p:cNvGrpSpPr/>
          <p:nvPr/>
        </p:nvGrpSpPr>
        <p:grpSpPr>
          <a:xfrm>
            <a:off x="1011240" y="450720"/>
            <a:ext cx="5029200" cy="181080"/>
            <a:chOff x="1011240" y="450720"/>
            <a:chExt cx="5029200" cy="181080"/>
          </a:xfrm>
        </p:grpSpPr>
        <p:sp>
          <p:nvSpPr>
            <p:cNvPr id="679" name="直接连接符 6"/>
            <p:cNvSpPr/>
            <p:nvPr/>
          </p:nvSpPr>
          <p:spPr>
            <a:xfrm>
              <a:off x="1011240" y="631800"/>
              <a:ext cx="5003640" cy="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等腰三角形 8"/>
            <p:cNvSpPr/>
            <p:nvPr/>
          </p:nvSpPr>
          <p:spPr>
            <a:xfrm>
              <a:off x="5628600" y="450720"/>
              <a:ext cx="411840" cy="181080"/>
            </a:xfrm>
            <a:prstGeom prst="triangle">
              <a:avLst>
                <a:gd name="adj" fmla="val 0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1" name="文本框 11"/>
          <p:cNvSpPr/>
          <p:nvPr/>
        </p:nvSpPr>
        <p:spPr>
          <a:xfrm>
            <a:off x="1577880" y="14112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组合 7" descr=""/>
          <p:cNvPicPr/>
          <p:nvPr/>
        </p:nvPicPr>
        <p:blipFill>
          <a:blip r:embed="rId1"/>
          <a:stretch/>
        </p:blipFill>
        <p:spPr>
          <a:xfrm>
            <a:off x="1700280" y="2852640"/>
            <a:ext cx="8272440" cy="1596960"/>
          </a:xfrm>
          <a:prstGeom prst="rect">
            <a:avLst/>
          </a:prstGeom>
          <a:ln w="0">
            <a:noFill/>
          </a:ln>
        </p:spPr>
      </p:pic>
      <p:sp>
        <p:nvSpPr>
          <p:cNvPr id="683" name="文本框 17"/>
          <p:cNvSpPr/>
          <p:nvPr/>
        </p:nvSpPr>
        <p:spPr>
          <a:xfrm>
            <a:off x="2178000" y="3656160"/>
            <a:ext cx="71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文本框 18"/>
          <p:cNvSpPr/>
          <p:nvPr/>
        </p:nvSpPr>
        <p:spPr>
          <a:xfrm>
            <a:off x="3638520" y="29574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文本框 19"/>
          <p:cNvSpPr/>
          <p:nvPr/>
        </p:nvSpPr>
        <p:spPr>
          <a:xfrm>
            <a:off x="4910040" y="366408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文本框 20"/>
          <p:cNvSpPr/>
          <p:nvPr/>
        </p:nvSpPr>
        <p:spPr>
          <a:xfrm>
            <a:off x="6135840" y="297324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文本框 21"/>
          <p:cNvSpPr/>
          <p:nvPr/>
        </p:nvSpPr>
        <p:spPr>
          <a:xfrm>
            <a:off x="7429680" y="38052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文本框 22"/>
          <p:cNvSpPr/>
          <p:nvPr/>
        </p:nvSpPr>
        <p:spPr>
          <a:xfrm>
            <a:off x="8767800" y="297324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TextBox 10"/>
          <p:cNvSpPr/>
          <p:nvPr/>
        </p:nvSpPr>
        <p:spPr>
          <a:xfrm>
            <a:off x="1871640" y="4573440"/>
            <a:ext cx="169848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TextBox 10"/>
          <p:cNvSpPr/>
          <p:nvPr/>
        </p:nvSpPr>
        <p:spPr>
          <a:xfrm>
            <a:off x="3063960" y="1238400"/>
            <a:ext cx="169848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TextBox 10"/>
          <p:cNvSpPr/>
          <p:nvPr/>
        </p:nvSpPr>
        <p:spPr>
          <a:xfrm>
            <a:off x="4255920" y="4573440"/>
            <a:ext cx="1698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TextBox 10"/>
          <p:cNvSpPr/>
          <p:nvPr/>
        </p:nvSpPr>
        <p:spPr>
          <a:xfrm>
            <a:off x="6850080" y="4573440"/>
            <a:ext cx="169848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TextBox 10"/>
          <p:cNvSpPr/>
          <p:nvPr/>
        </p:nvSpPr>
        <p:spPr>
          <a:xfrm>
            <a:off x="5535720" y="1282680"/>
            <a:ext cx="169848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TextBox 10"/>
          <p:cNvSpPr/>
          <p:nvPr/>
        </p:nvSpPr>
        <p:spPr>
          <a:xfrm>
            <a:off x="8104320" y="1231920"/>
            <a:ext cx="16970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5" name="组合 29"/>
          <p:cNvGrpSpPr/>
          <p:nvPr/>
        </p:nvGrpSpPr>
        <p:grpSpPr>
          <a:xfrm>
            <a:off x="0" y="6634080"/>
            <a:ext cx="12192120" cy="223920"/>
            <a:chOff x="0" y="6634080"/>
            <a:chExt cx="12192120" cy="223920"/>
          </a:xfrm>
        </p:grpSpPr>
        <p:sp>
          <p:nvSpPr>
            <p:cNvPr id="696" name="矩形 30"/>
            <p:cNvSpPr/>
            <p:nvPr/>
          </p:nvSpPr>
          <p:spPr>
            <a:xfrm>
              <a:off x="0" y="6634080"/>
              <a:ext cx="3916440" cy="22392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矩形 31"/>
            <p:cNvSpPr/>
            <p:nvPr/>
          </p:nvSpPr>
          <p:spPr>
            <a:xfrm>
              <a:off x="3916440" y="6634080"/>
              <a:ext cx="3916440" cy="22392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矩形 32"/>
            <p:cNvSpPr/>
            <p:nvPr/>
          </p:nvSpPr>
          <p:spPr>
            <a:xfrm>
              <a:off x="7832880" y="6634080"/>
              <a:ext cx="4359240" cy="223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平行四边形 3"/>
          <p:cNvSpPr/>
          <p:nvPr/>
        </p:nvSpPr>
        <p:spPr>
          <a:xfrm>
            <a:off x="347760" y="231840"/>
            <a:ext cx="476280" cy="412560"/>
          </a:xfrm>
          <a:prstGeom prst="parallelogram">
            <a:avLst>
              <a:gd name="adj" fmla="val 37439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平行四边形 4"/>
          <p:cNvSpPr/>
          <p:nvPr/>
        </p:nvSpPr>
        <p:spPr>
          <a:xfrm>
            <a:off x="773280" y="231840"/>
            <a:ext cx="475920" cy="412560"/>
          </a:xfrm>
          <a:prstGeom prst="parallelogram">
            <a:avLst>
              <a:gd name="adj" fmla="val 37411"/>
            </a:avLst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1" name="组合 10"/>
          <p:cNvGrpSpPr/>
          <p:nvPr/>
        </p:nvGrpSpPr>
        <p:grpSpPr>
          <a:xfrm>
            <a:off x="1011240" y="450720"/>
            <a:ext cx="5029200" cy="181080"/>
            <a:chOff x="1011240" y="450720"/>
            <a:chExt cx="5029200" cy="181080"/>
          </a:xfrm>
        </p:grpSpPr>
        <p:sp>
          <p:nvSpPr>
            <p:cNvPr id="702" name="直接连接符 6"/>
            <p:cNvSpPr/>
            <p:nvPr/>
          </p:nvSpPr>
          <p:spPr>
            <a:xfrm>
              <a:off x="1011240" y="631800"/>
              <a:ext cx="5003640" cy="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等腰三角形 8"/>
            <p:cNvSpPr/>
            <p:nvPr/>
          </p:nvSpPr>
          <p:spPr>
            <a:xfrm>
              <a:off x="5628600" y="450720"/>
              <a:ext cx="411840" cy="181080"/>
            </a:xfrm>
            <a:prstGeom prst="triangle">
              <a:avLst>
                <a:gd name="adj" fmla="val 0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4" name="文本框 11"/>
          <p:cNvSpPr/>
          <p:nvPr/>
        </p:nvSpPr>
        <p:spPr>
          <a:xfrm>
            <a:off x="1577880" y="14112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5" name="组合 13"/>
          <p:cNvGrpSpPr/>
          <p:nvPr/>
        </p:nvGrpSpPr>
        <p:grpSpPr>
          <a:xfrm>
            <a:off x="1941120" y="2646000"/>
            <a:ext cx="1703520" cy="4212000"/>
            <a:chOff x="1941120" y="2646000"/>
            <a:chExt cx="1703520" cy="4212000"/>
          </a:xfrm>
        </p:grpSpPr>
        <p:sp>
          <p:nvSpPr>
            <p:cNvPr id="706" name="弧形 14"/>
            <p:cNvSpPr/>
            <p:nvPr/>
          </p:nvSpPr>
          <p:spPr>
            <a:xfrm rot="8206800">
              <a:off x="2155320" y="2928960"/>
              <a:ext cx="1274760" cy="1131120"/>
            </a:xfrm>
            <a:custGeom>
              <a:avLst/>
              <a:gdLst/>
              <a:ahLst/>
              <a:rect l="l" t="t" r="r" b="b"/>
              <a:pathLst>
                <a:path stroke="0" w="1274603" h="1130864">
                  <a:moveTo>
                    <a:pt x="637301" y="0"/>
                  </a:moveTo>
                  <a:cubicBezTo>
                    <a:pt x="989273" y="0"/>
                    <a:pt x="1274603" y="253153"/>
                    <a:pt x="1274603" y="565432"/>
                  </a:cubicBezTo>
                  <a:lnTo>
                    <a:pt x="637302" y="565432"/>
                  </a:lnTo>
                  <a:cubicBezTo>
                    <a:pt x="637302" y="376955"/>
                    <a:pt x="637301" y="188477"/>
                    <a:pt x="637301" y="0"/>
                  </a:cubicBezTo>
                  <a:close/>
                </a:path>
                <a:path fill="none" w="1274603" h="1130864">
                  <a:moveTo>
                    <a:pt x="637301" y="0"/>
                  </a:moveTo>
                  <a:cubicBezTo>
                    <a:pt x="989273" y="0"/>
                    <a:pt x="1274603" y="253153"/>
                    <a:pt x="1274603" y="565432"/>
                  </a:cubicBezTo>
                </a:path>
              </a:pathLst>
            </a:custGeom>
            <a:noFill/>
            <a:ln w="6480">
              <a:solidFill>
                <a:srgbClr val="0094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直接连接符 15"/>
            <p:cNvSpPr/>
            <p:nvPr/>
          </p:nvSpPr>
          <p:spPr>
            <a:xfrm>
              <a:off x="2741400" y="4075560"/>
              <a:ext cx="0" cy="278244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8" name="椭圆 16"/>
          <p:cNvSpPr/>
          <p:nvPr/>
        </p:nvSpPr>
        <p:spPr>
          <a:xfrm>
            <a:off x="2286000" y="3044880"/>
            <a:ext cx="901800" cy="901800"/>
          </a:xfrm>
          <a:prstGeom prst="ellipse">
            <a:avLst/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9" name="组合 17"/>
          <p:cNvGrpSpPr/>
          <p:nvPr/>
        </p:nvGrpSpPr>
        <p:grpSpPr>
          <a:xfrm>
            <a:off x="3501720" y="1821600"/>
            <a:ext cx="1703160" cy="5036400"/>
            <a:chOff x="3501720" y="1821600"/>
            <a:chExt cx="1703160" cy="5036400"/>
          </a:xfrm>
        </p:grpSpPr>
        <p:sp>
          <p:nvSpPr>
            <p:cNvPr id="710" name="弧形 18"/>
            <p:cNvSpPr/>
            <p:nvPr/>
          </p:nvSpPr>
          <p:spPr>
            <a:xfrm rot="8206800">
              <a:off x="3715560" y="2104560"/>
              <a:ext cx="1274760" cy="1130760"/>
            </a:xfrm>
            <a:custGeom>
              <a:avLst/>
              <a:gdLst/>
              <a:ahLst/>
              <a:rect l="l" t="t" r="r" b="b"/>
              <a:pathLst>
                <a:path stroke="0" w="1274603" h="1130864">
                  <a:moveTo>
                    <a:pt x="637301" y="0"/>
                  </a:moveTo>
                  <a:cubicBezTo>
                    <a:pt x="989273" y="0"/>
                    <a:pt x="1274603" y="253153"/>
                    <a:pt x="1274603" y="565432"/>
                  </a:cubicBezTo>
                  <a:lnTo>
                    <a:pt x="637302" y="565432"/>
                  </a:lnTo>
                  <a:cubicBezTo>
                    <a:pt x="637302" y="376955"/>
                    <a:pt x="637301" y="188477"/>
                    <a:pt x="637301" y="0"/>
                  </a:cubicBezTo>
                  <a:close/>
                </a:path>
                <a:path fill="none" w="1274603" h="1130864">
                  <a:moveTo>
                    <a:pt x="637301" y="0"/>
                  </a:moveTo>
                  <a:cubicBezTo>
                    <a:pt x="989273" y="0"/>
                    <a:pt x="1274603" y="253153"/>
                    <a:pt x="1274603" y="565432"/>
                  </a:cubicBezTo>
                </a:path>
              </a:pathLst>
            </a:custGeom>
            <a:noFill/>
            <a:ln w="6480">
              <a:solidFill>
                <a:srgbClr val="0094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直接连接符 19"/>
            <p:cNvSpPr/>
            <p:nvPr/>
          </p:nvSpPr>
          <p:spPr>
            <a:xfrm>
              <a:off x="4302000" y="3258000"/>
              <a:ext cx="0" cy="360000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2" name="椭圆 20"/>
          <p:cNvSpPr/>
          <p:nvPr/>
        </p:nvSpPr>
        <p:spPr>
          <a:xfrm>
            <a:off x="3757680" y="2013120"/>
            <a:ext cx="1087200" cy="1087200"/>
          </a:xfrm>
          <a:prstGeom prst="ellipse">
            <a:avLst/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3" name="组合 21"/>
          <p:cNvGrpSpPr/>
          <p:nvPr/>
        </p:nvGrpSpPr>
        <p:grpSpPr>
          <a:xfrm>
            <a:off x="4887720" y="2646000"/>
            <a:ext cx="1703520" cy="4212000"/>
            <a:chOff x="4887720" y="2646000"/>
            <a:chExt cx="1703520" cy="4212000"/>
          </a:xfrm>
        </p:grpSpPr>
        <p:sp>
          <p:nvSpPr>
            <p:cNvPr id="714" name="弧形 22"/>
            <p:cNvSpPr/>
            <p:nvPr/>
          </p:nvSpPr>
          <p:spPr>
            <a:xfrm rot="8206800">
              <a:off x="5101920" y="2928960"/>
              <a:ext cx="1274760" cy="1131120"/>
            </a:xfrm>
            <a:custGeom>
              <a:avLst/>
              <a:gdLst/>
              <a:ahLst/>
              <a:rect l="l" t="t" r="r" b="b"/>
              <a:pathLst>
                <a:path stroke="0" w="1274603" h="1130864">
                  <a:moveTo>
                    <a:pt x="637301" y="0"/>
                  </a:moveTo>
                  <a:cubicBezTo>
                    <a:pt x="989273" y="0"/>
                    <a:pt x="1274603" y="253153"/>
                    <a:pt x="1274603" y="565432"/>
                  </a:cubicBezTo>
                  <a:lnTo>
                    <a:pt x="637302" y="565432"/>
                  </a:lnTo>
                  <a:cubicBezTo>
                    <a:pt x="637302" y="376955"/>
                    <a:pt x="637301" y="188477"/>
                    <a:pt x="637301" y="0"/>
                  </a:cubicBezTo>
                  <a:close/>
                </a:path>
                <a:path fill="none" w="1274603" h="1130864">
                  <a:moveTo>
                    <a:pt x="637301" y="0"/>
                  </a:moveTo>
                  <a:cubicBezTo>
                    <a:pt x="989273" y="0"/>
                    <a:pt x="1274603" y="253153"/>
                    <a:pt x="1274603" y="565432"/>
                  </a:cubicBezTo>
                </a:path>
              </a:pathLst>
            </a:custGeom>
            <a:noFill/>
            <a:ln w="6480">
              <a:solidFill>
                <a:srgbClr val="0094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直接连接符 23"/>
            <p:cNvSpPr/>
            <p:nvPr/>
          </p:nvSpPr>
          <p:spPr>
            <a:xfrm>
              <a:off x="5688000" y="4075560"/>
              <a:ext cx="0" cy="278244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6" name="椭圆 24"/>
          <p:cNvSpPr/>
          <p:nvPr/>
        </p:nvSpPr>
        <p:spPr>
          <a:xfrm>
            <a:off x="5237280" y="3102120"/>
            <a:ext cx="901440" cy="901440"/>
          </a:xfrm>
          <a:prstGeom prst="ellips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7" name="图片 25" descr=""/>
          <p:cNvPicPr/>
          <p:nvPr/>
        </p:nvPicPr>
        <p:blipFill>
          <a:blip r:embed="rId2"/>
          <a:stretch/>
        </p:blipFill>
        <p:spPr>
          <a:xfrm>
            <a:off x="5478480" y="3348000"/>
            <a:ext cx="419040" cy="419040"/>
          </a:xfrm>
          <a:prstGeom prst="rect">
            <a:avLst/>
          </a:prstGeom>
          <a:ln w="0">
            <a:noFill/>
          </a:ln>
        </p:spPr>
      </p:pic>
      <p:pic>
        <p:nvPicPr>
          <p:cNvPr id="718" name="图片 26" descr=""/>
          <p:cNvPicPr/>
          <p:nvPr/>
        </p:nvPicPr>
        <p:blipFill>
          <a:blip r:embed="rId3"/>
          <a:stretch/>
        </p:blipFill>
        <p:spPr>
          <a:xfrm>
            <a:off x="2446200" y="323676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719" name="图片 27" descr=""/>
          <p:cNvPicPr/>
          <p:nvPr/>
        </p:nvPicPr>
        <p:blipFill>
          <a:blip r:embed="rId4"/>
          <a:stretch/>
        </p:blipFill>
        <p:spPr>
          <a:xfrm>
            <a:off x="3913200" y="2224080"/>
            <a:ext cx="776160" cy="774720"/>
          </a:xfrm>
          <a:prstGeom prst="rect">
            <a:avLst/>
          </a:prstGeom>
          <a:ln w="0">
            <a:noFill/>
          </a:ln>
        </p:spPr>
      </p:pic>
      <p:sp>
        <p:nvSpPr>
          <p:cNvPr id="720" name="文本框 78"/>
          <p:cNvSpPr/>
          <p:nvPr/>
        </p:nvSpPr>
        <p:spPr>
          <a:xfrm>
            <a:off x="7283520" y="2998800"/>
            <a:ext cx="2843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除了模板的发布与定制，我们还为您准备了使用教程，希望能够能够更好的使用该作品，授人以鱼不如授人以渔，希望您在下班之余，能够和我们一起进步，共同感受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巨大魅力与价值。我们诚祝您在工作中事事顺心，步步高升！最后让我们谨记：最重要的不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流程图: 可选过程 29"/>
          <p:cNvSpPr/>
          <p:nvPr/>
        </p:nvSpPr>
        <p:spPr>
          <a:xfrm>
            <a:off x="7202520" y="2487600"/>
            <a:ext cx="1299960" cy="4111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2" name="组合 30"/>
          <p:cNvGrpSpPr/>
          <p:nvPr/>
        </p:nvGrpSpPr>
        <p:grpSpPr>
          <a:xfrm>
            <a:off x="0" y="6634080"/>
            <a:ext cx="12192120" cy="223920"/>
            <a:chOff x="0" y="6634080"/>
            <a:chExt cx="12192120" cy="223920"/>
          </a:xfrm>
        </p:grpSpPr>
        <p:sp>
          <p:nvSpPr>
            <p:cNvPr id="723" name="矩形 31"/>
            <p:cNvSpPr/>
            <p:nvPr/>
          </p:nvSpPr>
          <p:spPr>
            <a:xfrm>
              <a:off x="0" y="6634080"/>
              <a:ext cx="3916440" cy="22392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矩形 32"/>
            <p:cNvSpPr/>
            <p:nvPr/>
          </p:nvSpPr>
          <p:spPr>
            <a:xfrm>
              <a:off x="3916440" y="6634080"/>
              <a:ext cx="3916440" cy="22392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矩形 33"/>
            <p:cNvSpPr/>
            <p:nvPr/>
          </p:nvSpPr>
          <p:spPr>
            <a:xfrm>
              <a:off x="7832880" y="6634080"/>
              <a:ext cx="4359240" cy="223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平行四边形 3"/>
          <p:cNvSpPr/>
          <p:nvPr/>
        </p:nvSpPr>
        <p:spPr>
          <a:xfrm>
            <a:off x="347760" y="231840"/>
            <a:ext cx="476280" cy="412560"/>
          </a:xfrm>
          <a:prstGeom prst="parallelogram">
            <a:avLst>
              <a:gd name="adj" fmla="val 37439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平行四边形 4"/>
          <p:cNvSpPr/>
          <p:nvPr/>
        </p:nvSpPr>
        <p:spPr>
          <a:xfrm>
            <a:off x="773280" y="231840"/>
            <a:ext cx="475920" cy="412560"/>
          </a:xfrm>
          <a:prstGeom prst="parallelogram">
            <a:avLst>
              <a:gd name="adj" fmla="val 37411"/>
            </a:avLst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8" name="组合 10"/>
          <p:cNvGrpSpPr/>
          <p:nvPr/>
        </p:nvGrpSpPr>
        <p:grpSpPr>
          <a:xfrm>
            <a:off x="1011240" y="450720"/>
            <a:ext cx="5029200" cy="181080"/>
            <a:chOff x="1011240" y="450720"/>
            <a:chExt cx="5029200" cy="181080"/>
          </a:xfrm>
        </p:grpSpPr>
        <p:sp>
          <p:nvSpPr>
            <p:cNvPr id="729" name="直接连接符 6"/>
            <p:cNvSpPr/>
            <p:nvPr/>
          </p:nvSpPr>
          <p:spPr>
            <a:xfrm>
              <a:off x="1011240" y="631800"/>
              <a:ext cx="5003640" cy="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等腰三角形 8"/>
            <p:cNvSpPr/>
            <p:nvPr/>
          </p:nvSpPr>
          <p:spPr>
            <a:xfrm>
              <a:off x="5628600" y="450720"/>
              <a:ext cx="411840" cy="181080"/>
            </a:xfrm>
            <a:prstGeom prst="triangle">
              <a:avLst>
                <a:gd name="adj" fmla="val 0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1" name="文本框 11"/>
          <p:cNvSpPr/>
          <p:nvPr/>
        </p:nvSpPr>
        <p:spPr>
          <a:xfrm>
            <a:off x="1577880" y="14112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2" name="组合 7"/>
          <p:cNvGrpSpPr/>
          <p:nvPr/>
        </p:nvGrpSpPr>
        <p:grpSpPr>
          <a:xfrm>
            <a:off x="2297160" y="1922400"/>
            <a:ext cx="7074000" cy="3881520"/>
            <a:chOff x="2297160" y="1922400"/>
            <a:chExt cx="7074000" cy="3881520"/>
          </a:xfrm>
        </p:grpSpPr>
        <p:sp>
          <p:nvSpPr>
            <p:cNvPr id="733" name="矩形 9"/>
            <p:cNvSpPr/>
            <p:nvPr/>
          </p:nvSpPr>
          <p:spPr>
            <a:xfrm>
              <a:off x="2297160" y="3348720"/>
              <a:ext cx="2227680" cy="100440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直接连接符 12"/>
            <p:cNvSpPr/>
            <p:nvPr/>
          </p:nvSpPr>
          <p:spPr>
            <a:xfrm flipV="1">
              <a:off x="4524840" y="2742840"/>
              <a:ext cx="605160" cy="1107720"/>
            </a:xfrm>
            <a:prstGeom prst="line">
              <a:avLst/>
            </a:prstGeom>
            <a:ln w="648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直接连接符 13"/>
            <p:cNvSpPr/>
            <p:nvPr/>
          </p:nvSpPr>
          <p:spPr>
            <a:xfrm>
              <a:off x="4524840" y="3850920"/>
              <a:ext cx="605160" cy="1094760"/>
            </a:xfrm>
            <a:prstGeom prst="line">
              <a:avLst/>
            </a:prstGeom>
            <a:ln w="648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矩形 14"/>
            <p:cNvSpPr/>
            <p:nvPr/>
          </p:nvSpPr>
          <p:spPr>
            <a:xfrm>
              <a:off x="5130000" y="2414880"/>
              <a:ext cx="1661040" cy="65664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矩形 15"/>
            <p:cNvSpPr/>
            <p:nvPr/>
          </p:nvSpPr>
          <p:spPr>
            <a:xfrm>
              <a:off x="5130000" y="4630320"/>
              <a:ext cx="1661040" cy="65664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矩形 16"/>
            <p:cNvSpPr/>
            <p:nvPr/>
          </p:nvSpPr>
          <p:spPr>
            <a:xfrm>
              <a:off x="7705800" y="1922400"/>
              <a:ext cx="1661040" cy="6566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矩形 17"/>
            <p:cNvSpPr/>
            <p:nvPr/>
          </p:nvSpPr>
          <p:spPr>
            <a:xfrm>
              <a:off x="7710120" y="2950920"/>
              <a:ext cx="1661040" cy="6566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40" name="组合 18"/>
            <p:cNvGrpSpPr/>
            <p:nvPr/>
          </p:nvGrpSpPr>
          <p:grpSpPr>
            <a:xfrm>
              <a:off x="6786000" y="4398120"/>
              <a:ext cx="914040" cy="1077480"/>
              <a:chOff x="6786000" y="4398120"/>
              <a:chExt cx="914040" cy="1077480"/>
            </a:xfrm>
          </p:grpSpPr>
          <p:sp>
            <p:nvSpPr>
              <p:cNvPr id="741" name="直接连接符 31"/>
              <p:cNvSpPr/>
              <p:nvPr/>
            </p:nvSpPr>
            <p:spPr>
              <a:xfrm flipV="1">
                <a:off x="6786000" y="4398120"/>
                <a:ext cx="914040" cy="541080"/>
              </a:xfrm>
              <a:prstGeom prst="line">
                <a:avLst/>
              </a:prstGeom>
              <a:ln w="6480">
                <a:solidFill>
                  <a:srgbClr val="5b9b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2" name="直接连接符 32"/>
              <p:cNvSpPr/>
              <p:nvPr/>
            </p:nvSpPr>
            <p:spPr>
              <a:xfrm>
                <a:off x="6786000" y="4939560"/>
                <a:ext cx="908640" cy="536040"/>
              </a:xfrm>
              <a:prstGeom prst="line">
                <a:avLst/>
              </a:prstGeom>
              <a:ln w="6480">
                <a:solidFill>
                  <a:srgbClr val="5b9b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3" name="矩形 19"/>
            <p:cNvSpPr/>
            <p:nvPr/>
          </p:nvSpPr>
          <p:spPr>
            <a:xfrm>
              <a:off x="7705800" y="4118400"/>
              <a:ext cx="1661040" cy="6566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矩形 20"/>
            <p:cNvSpPr/>
            <p:nvPr/>
          </p:nvSpPr>
          <p:spPr>
            <a:xfrm>
              <a:off x="7710120" y="5147280"/>
              <a:ext cx="1661040" cy="6566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文本框 21"/>
            <p:cNvSpPr/>
            <p:nvPr/>
          </p:nvSpPr>
          <p:spPr>
            <a:xfrm>
              <a:off x="2494080" y="3651120"/>
              <a:ext cx="183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本信息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46" name="组合 22"/>
            <p:cNvGrpSpPr/>
            <p:nvPr/>
          </p:nvGrpSpPr>
          <p:grpSpPr>
            <a:xfrm>
              <a:off x="6793560" y="2202120"/>
              <a:ext cx="914040" cy="1077480"/>
              <a:chOff x="6793560" y="2202120"/>
              <a:chExt cx="914040" cy="1077480"/>
            </a:xfrm>
          </p:grpSpPr>
          <p:sp>
            <p:nvSpPr>
              <p:cNvPr id="747" name="直接连接符 29"/>
              <p:cNvSpPr/>
              <p:nvPr/>
            </p:nvSpPr>
            <p:spPr>
              <a:xfrm flipV="1">
                <a:off x="6793560" y="2202120"/>
                <a:ext cx="914040" cy="541080"/>
              </a:xfrm>
              <a:prstGeom prst="line">
                <a:avLst/>
              </a:prstGeom>
              <a:ln w="6480">
                <a:solidFill>
                  <a:srgbClr val="5b9b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8" name="直接连接符 30"/>
              <p:cNvSpPr/>
              <p:nvPr/>
            </p:nvSpPr>
            <p:spPr>
              <a:xfrm>
                <a:off x="6793560" y="2743560"/>
                <a:ext cx="908640" cy="536040"/>
              </a:xfrm>
              <a:prstGeom prst="line">
                <a:avLst/>
              </a:prstGeom>
              <a:ln w="6480">
                <a:solidFill>
                  <a:srgbClr val="5b9b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9" name="TextBox 1"/>
            <p:cNvSpPr/>
            <p:nvPr/>
          </p:nvSpPr>
          <p:spPr>
            <a:xfrm>
              <a:off x="5186160" y="2512440"/>
              <a:ext cx="160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想要的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想要的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TextBox 1"/>
            <p:cNvSpPr/>
            <p:nvPr/>
          </p:nvSpPr>
          <p:spPr>
            <a:xfrm>
              <a:off x="7759440" y="2032560"/>
              <a:ext cx="160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想要的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想要的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TextBox 1"/>
            <p:cNvSpPr/>
            <p:nvPr/>
          </p:nvSpPr>
          <p:spPr>
            <a:xfrm>
              <a:off x="7732800" y="3033000"/>
              <a:ext cx="160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想要的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想要的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TextBox 1"/>
            <p:cNvSpPr/>
            <p:nvPr/>
          </p:nvSpPr>
          <p:spPr>
            <a:xfrm>
              <a:off x="7719480" y="4215960"/>
              <a:ext cx="160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想要的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想要的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TextBox 1"/>
            <p:cNvSpPr/>
            <p:nvPr/>
          </p:nvSpPr>
          <p:spPr>
            <a:xfrm>
              <a:off x="5184000" y="4767480"/>
              <a:ext cx="160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想要的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想要的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TextBox 1"/>
            <p:cNvSpPr/>
            <p:nvPr/>
          </p:nvSpPr>
          <p:spPr>
            <a:xfrm>
              <a:off x="7742880" y="5244840"/>
              <a:ext cx="160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想要的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想要的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5" name="组合 33"/>
          <p:cNvGrpSpPr/>
          <p:nvPr/>
        </p:nvGrpSpPr>
        <p:grpSpPr>
          <a:xfrm>
            <a:off x="0" y="6634080"/>
            <a:ext cx="12192120" cy="223920"/>
            <a:chOff x="0" y="6634080"/>
            <a:chExt cx="12192120" cy="223920"/>
          </a:xfrm>
        </p:grpSpPr>
        <p:sp>
          <p:nvSpPr>
            <p:cNvPr id="756" name="矩形 34"/>
            <p:cNvSpPr/>
            <p:nvPr/>
          </p:nvSpPr>
          <p:spPr>
            <a:xfrm>
              <a:off x="0" y="6634080"/>
              <a:ext cx="3916440" cy="22392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矩形 35"/>
            <p:cNvSpPr/>
            <p:nvPr/>
          </p:nvSpPr>
          <p:spPr>
            <a:xfrm>
              <a:off x="3916440" y="6634080"/>
              <a:ext cx="3916440" cy="22392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矩形 36"/>
            <p:cNvSpPr/>
            <p:nvPr/>
          </p:nvSpPr>
          <p:spPr>
            <a:xfrm>
              <a:off x="7832880" y="6634080"/>
              <a:ext cx="4359240" cy="223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平行四边形 3"/>
          <p:cNvSpPr/>
          <p:nvPr/>
        </p:nvSpPr>
        <p:spPr>
          <a:xfrm>
            <a:off x="347760" y="231840"/>
            <a:ext cx="476280" cy="412560"/>
          </a:xfrm>
          <a:prstGeom prst="parallelogram">
            <a:avLst>
              <a:gd name="adj" fmla="val 37439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平行四边形 4"/>
          <p:cNvSpPr/>
          <p:nvPr/>
        </p:nvSpPr>
        <p:spPr>
          <a:xfrm>
            <a:off x="773280" y="231840"/>
            <a:ext cx="475920" cy="412560"/>
          </a:xfrm>
          <a:prstGeom prst="parallelogram">
            <a:avLst>
              <a:gd name="adj" fmla="val 37411"/>
            </a:avLst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1" name="组合 10"/>
          <p:cNvGrpSpPr/>
          <p:nvPr/>
        </p:nvGrpSpPr>
        <p:grpSpPr>
          <a:xfrm>
            <a:off x="1011240" y="450720"/>
            <a:ext cx="5029200" cy="181080"/>
            <a:chOff x="1011240" y="450720"/>
            <a:chExt cx="5029200" cy="181080"/>
          </a:xfrm>
        </p:grpSpPr>
        <p:sp>
          <p:nvSpPr>
            <p:cNvPr id="762" name="直接连接符 6"/>
            <p:cNvSpPr/>
            <p:nvPr/>
          </p:nvSpPr>
          <p:spPr>
            <a:xfrm>
              <a:off x="1011240" y="631800"/>
              <a:ext cx="5003640" cy="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等腰三角形 8"/>
            <p:cNvSpPr/>
            <p:nvPr/>
          </p:nvSpPr>
          <p:spPr>
            <a:xfrm>
              <a:off x="5628600" y="450720"/>
              <a:ext cx="411840" cy="181080"/>
            </a:xfrm>
            <a:prstGeom prst="triangle">
              <a:avLst>
                <a:gd name="adj" fmla="val 0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4" name="文本框 11"/>
          <p:cNvSpPr/>
          <p:nvPr/>
        </p:nvSpPr>
        <p:spPr>
          <a:xfrm>
            <a:off x="1577880" y="14112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5" name="图片 7" descr=""/>
          <p:cNvPicPr/>
          <p:nvPr/>
        </p:nvPicPr>
        <p:blipFill>
          <a:blip r:embed="rId1"/>
          <a:stretch/>
        </p:blipFill>
        <p:spPr>
          <a:xfrm>
            <a:off x="3833640" y="2097000"/>
            <a:ext cx="2202120" cy="2090880"/>
          </a:xfrm>
          <a:prstGeom prst="rect">
            <a:avLst/>
          </a:prstGeom>
          <a:ln w="0">
            <a:noFill/>
          </a:ln>
        </p:spPr>
      </p:pic>
      <p:pic>
        <p:nvPicPr>
          <p:cNvPr id="766" name="图片 9" descr=""/>
          <p:cNvPicPr/>
          <p:nvPr/>
        </p:nvPicPr>
        <p:blipFill>
          <a:blip r:embed="rId2"/>
          <a:stretch/>
        </p:blipFill>
        <p:spPr>
          <a:xfrm>
            <a:off x="6242040" y="2066760"/>
            <a:ext cx="2201760" cy="2121120"/>
          </a:xfrm>
          <a:prstGeom prst="rect">
            <a:avLst/>
          </a:prstGeom>
          <a:ln w="0">
            <a:noFill/>
          </a:ln>
        </p:spPr>
      </p:pic>
      <p:pic>
        <p:nvPicPr>
          <p:cNvPr id="767" name="图片 12" descr=""/>
          <p:cNvPicPr/>
          <p:nvPr/>
        </p:nvPicPr>
        <p:blipFill>
          <a:blip r:embed="rId3"/>
          <a:stretch/>
        </p:blipFill>
        <p:spPr>
          <a:xfrm>
            <a:off x="1425600" y="2084400"/>
            <a:ext cx="2201760" cy="2103480"/>
          </a:xfrm>
          <a:prstGeom prst="rect">
            <a:avLst/>
          </a:prstGeom>
          <a:ln w="0">
            <a:noFill/>
          </a:ln>
        </p:spPr>
      </p:pic>
      <p:pic>
        <p:nvPicPr>
          <p:cNvPr id="768" name="图片 13" descr=""/>
          <p:cNvPicPr/>
          <p:nvPr/>
        </p:nvPicPr>
        <p:blipFill>
          <a:blip r:embed="rId4"/>
          <a:stretch/>
        </p:blipFill>
        <p:spPr>
          <a:xfrm>
            <a:off x="8650440" y="2066760"/>
            <a:ext cx="2201760" cy="2121120"/>
          </a:xfrm>
          <a:prstGeom prst="rect">
            <a:avLst/>
          </a:prstGeom>
          <a:ln w="0">
            <a:noFill/>
          </a:ln>
        </p:spPr>
      </p:pic>
      <p:sp>
        <p:nvSpPr>
          <p:cNvPr id="769" name="椭圆 18"/>
          <p:cNvSpPr/>
          <p:nvPr/>
        </p:nvSpPr>
        <p:spPr>
          <a:xfrm>
            <a:off x="2300400" y="1547640"/>
            <a:ext cx="450720" cy="451080"/>
          </a:xfrm>
          <a:prstGeom prst="ellipse">
            <a:avLst/>
          </a:prstGeom>
          <a:solidFill>
            <a:srgbClr val="008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椭圆 19"/>
          <p:cNvSpPr/>
          <p:nvPr/>
        </p:nvSpPr>
        <p:spPr>
          <a:xfrm>
            <a:off x="4710240" y="1547640"/>
            <a:ext cx="449280" cy="451080"/>
          </a:xfrm>
          <a:prstGeom prst="ellipse">
            <a:avLst/>
          </a:prstGeom>
          <a:solidFill>
            <a:srgbClr val="008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椭圆 20"/>
          <p:cNvSpPr/>
          <p:nvPr/>
        </p:nvSpPr>
        <p:spPr>
          <a:xfrm>
            <a:off x="7077240" y="1547640"/>
            <a:ext cx="450720" cy="451080"/>
          </a:xfrm>
          <a:prstGeom prst="ellipse">
            <a:avLst/>
          </a:prstGeom>
          <a:solidFill>
            <a:srgbClr val="008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椭圆 21"/>
          <p:cNvSpPr/>
          <p:nvPr/>
        </p:nvSpPr>
        <p:spPr>
          <a:xfrm>
            <a:off x="9513720" y="1547640"/>
            <a:ext cx="451080" cy="451080"/>
          </a:xfrm>
          <a:prstGeom prst="ellipse">
            <a:avLst/>
          </a:prstGeom>
          <a:solidFill>
            <a:srgbClr val="008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TextBox 10"/>
          <p:cNvSpPr/>
          <p:nvPr/>
        </p:nvSpPr>
        <p:spPr>
          <a:xfrm>
            <a:off x="1574640" y="4594320"/>
            <a:ext cx="1903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TextBox 10"/>
          <p:cNvSpPr/>
          <p:nvPr/>
        </p:nvSpPr>
        <p:spPr>
          <a:xfrm>
            <a:off x="1727280" y="4746600"/>
            <a:ext cx="1903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TextBox 10"/>
          <p:cNvSpPr/>
          <p:nvPr/>
        </p:nvSpPr>
        <p:spPr>
          <a:xfrm>
            <a:off x="3970440" y="4594320"/>
            <a:ext cx="1903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Box 10"/>
          <p:cNvSpPr/>
          <p:nvPr/>
        </p:nvSpPr>
        <p:spPr>
          <a:xfrm>
            <a:off x="6391440" y="4594320"/>
            <a:ext cx="1903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TextBox 10"/>
          <p:cNvSpPr/>
          <p:nvPr/>
        </p:nvSpPr>
        <p:spPr>
          <a:xfrm>
            <a:off x="8809200" y="4594320"/>
            <a:ext cx="1903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8" name="图片 1" descr=""/>
          <p:cNvPicPr/>
          <p:nvPr/>
        </p:nvPicPr>
        <p:blipFill>
          <a:blip r:embed="rId5"/>
          <a:stretch/>
        </p:blipFill>
        <p:spPr>
          <a:xfrm>
            <a:off x="2360520" y="4187880"/>
            <a:ext cx="7547040" cy="208080"/>
          </a:xfrm>
          <a:prstGeom prst="rect">
            <a:avLst/>
          </a:prstGeom>
          <a:ln w="0">
            <a:noFill/>
          </a:ln>
        </p:spPr>
      </p:pic>
      <p:grpSp>
        <p:nvGrpSpPr>
          <p:cNvPr id="779" name="组合 27"/>
          <p:cNvGrpSpPr/>
          <p:nvPr/>
        </p:nvGrpSpPr>
        <p:grpSpPr>
          <a:xfrm>
            <a:off x="0" y="6634080"/>
            <a:ext cx="12192120" cy="223920"/>
            <a:chOff x="0" y="6634080"/>
            <a:chExt cx="12192120" cy="223920"/>
          </a:xfrm>
        </p:grpSpPr>
        <p:sp>
          <p:nvSpPr>
            <p:cNvPr id="780" name="矩形 28"/>
            <p:cNvSpPr/>
            <p:nvPr/>
          </p:nvSpPr>
          <p:spPr>
            <a:xfrm>
              <a:off x="0" y="6634080"/>
              <a:ext cx="3916440" cy="22392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矩形 29"/>
            <p:cNvSpPr/>
            <p:nvPr/>
          </p:nvSpPr>
          <p:spPr>
            <a:xfrm>
              <a:off x="3916440" y="6634080"/>
              <a:ext cx="3916440" cy="22392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矩形 30"/>
            <p:cNvSpPr/>
            <p:nvPr/>
          </p:nvSpPr>
          <p:spPr>
            <a:xfrm>
              <a:off x="7832880" y="6634080"/>
              <a:ext cx="4359240" cy="223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平行四边形 3"/>
          <p:cNvSpPr/>
          <p:nvPr/>
        </p:nvSpPr>
        <p:spPr>
          <a:xfrm>
            <a:off x="347760" y="231840"/>
            <a:ext cx="476280" cy="412560"/>
          </a:xfrm>
          <a:prstGeom prst="parallelogram">
            <a:avLst>
              <a:gd name="adj" fmla="val 37439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平行四边形 4"/>
          <p:cNvSpPr/>
          <p:nvPr/>
        </p:nvSpPr>
        <p:spPr>
          <a:xfrm>
            <a:off x="773280" y="231840"/>
            <a:ext cx="475920" cy="412560"/>
          </a:xfrm>
          <a:prstGeom prst="parallelogram">
            <a:avLst>
              <a:gd name="adj" fmla="val 37411"/>
            </a:avLst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5" name="组合 10"/>
          <p:cNvGrpSpPr/>
          <p:nvPr/>
        </p:nvGrpSpPr>
        <p:grpSpPr>
          <a:xfrm>
            <a:off x="1011240" y="450720"/>
            <a:ext cx="5029200" cy="181080"/>
            <a:chOff x="1011240" y="450720"/>
            <a:chExt cx="5029200" cy="181080"/>
          </a:xfrm>
        </p:grpSpPr>
        <p:sp>
          <p:nvSpPr>
            <p:cNvPr id="786" name="直接连接符 6"/>
            <p:cNvSpPr/>
            <p:nvPr/>
          </p:nvSpPr>
          <p:spPr>
            <a:xfrm>
              <a:off x="1011240" y="631800"/>
              <a:ext cx="5003640" cy="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等腰三角形 8"/>
            <p:cNvSpPr/>
            <p:nvPr/>
          </p:nvSpPr>
          <p:spPr>
            <a:xfrm>
              <a:off x="5628600" y="450720"/>
              <a:ext cx="411840" cy="181080"/>
            </a:xfrm>
            <a:prstGeom prst="triangle">
              <a:avLst>
                <a:gd name="adj" fmla="val 0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8" name="文本框 11"/>
          <p:cNvSpPr/>
          <p:nvPr/>
        </p:nvSpPr>
        <p:spPr>
          <a:xfrm>
            <a:off x="1577880" y="14112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9" name="组合 7"/>
          <p:cNvGrpSpPr/>
          <p:nvPr/>
        </p:nvGrpSpPr>
        <p:grpSpPr>
          <a:xfrm>
            <a:off x="7263360" y="2398680"/>
            <a:ext cx="3442320" cy="3442320"/>
            <a:chOff x="7263360" y="2398680"/>
            <a:chExt cx="3442320" cy="3442320"/>
          </a:xfrm>
        </p:grpSpPr>
        <p:sp>
          <p:nvSpPr>
            <p:cNvPr id="790" name="同心圆 9"/>
            <p:cNvSpPr/>
            <p:nvPr/>
          </p:nvSpPr>
          <p:spPr>
            <a:xfrm>
              <a:off x="7683480" y="2819520"/>
              <a:ext cx="2602080" cy="2601720"/>
            </a:xfrm>
            <a:custGeom>
              <a:avLst/>
              <a:gdLst/>
              <a:ahLst/>
              <a:rect l="l" t="t" r="r" b="b"/>
              <a:pathLst>
                <a:path w="2601532" h="2601532">
                  <a:moveTo>
                    <a:pt x="0" y="1300766"/>
                  </a:moveTo>
                  <a:cubicBezTo>
                    <a:pt x="0" y="582373"/>
                    <a:pt x="582373" y="0"/>
                    <a:pt x="1300766" y="0"/>
                  </a:cubicBezTo>
                  <a:cubicBezTo>
                    <a:pt x="2019159" y="0"/>
                    <a:pt x="2601532" y="582373"/>
                    <a:pt x="2601532" y="1300766"/>
                  </a:cubicBezTo>
                  <a:cubicBezTo>
                    <a:pt x="2601532" y="2019159"/>
                    <a:pt x="2019159" y="2601532"/>
                    <a:pt x="1300766" y="2601532"/>
                  </a:cubicBezTo>
                  <a:cubicBezTo>
                    <a:pt x="582373" y="2601532"/>
                    <a:pt x="0" y="2019159"/>
                    <a:pt x="0" y="1300766"/>
                  </a:cubicBezTo>
                  <a:close/>
                  <a:moveTo>
                    <a:pt x="479462" y="1300766"/>
                  </a:moveTo>
                  <a:cubicBezTo>
                    <a:pt x="479462" y="1754360"/>
                    <a:pt x="847172" y="2122070"/>
                    <a:pt x="1300766" y="2122070"/>
                  </a:cubicBezTo>
                  <a:cubicBezTo>
                    <a:pt x="1754360" y="2122070"/>
                    <a:pt x="2122070" y="1754360"/>
                    <a:pt x="2122070" y="1300766"/>
                  </a:cubicBezTo>
                  <a:cubicBezTo>
                    <a:pt x="2122070" y="847172"/>
                    <a:pt x="1754360" y="479462"/>
                    <a:pt x="1300766" y="479462"/>
                  </a:cubicBezTo>
                  <a:cubicBezTo>
                    <a:pt x="847172" y="479462"/>
                    <a:pt x="479462" y="847172"/>
                    <a:pt x="479462" y="1300766"/>
                  </a:cubicBezTo>
                  <a:close/>
                </a:path>
              </a:pathLst>
            </a:custGeom>
            <a:solidFill>
              <a:srgbClr val="008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空心弧 12"/>
            <p:cNvSpPr/>
            <p:nvPr/>
          </p:nvSpPr>
          <p:spPr>
            <a:xfrm rot="14741400">
              <a:off x="7683480" y="2818800"/>
              <a:ext cx="2601720" cy="2602080"/>
            </a:xfrm>
            <a:custGeom>
              <a:avLst/>
              <a:gdLst/>
              <a:ahLst/>
              <a:rect l="l" t="t" r="r" b="b"/>
              <a:pathLst>
                <a:path w="2601532" h="2601532">
                  <a:moveTo>
                    <a:pt x="492477" y="281619"/>
                  </a:moveTo>
                  <a:cubicBezTo>
                    <a:pt x="880549" y="-26162"/>
                    <a:pt x="1409739" y="-86838"/>
                    <a:pt x="1857403" y="125119"/>
                  </a:cubicBezTo>
                  <a:cubicBezTo>
                    <a:pt x="2305067" y="337076"/>
                    <a:pt x="2593507" y="784877"/>
                    <a:pt x="2601368" y="1280122"/>
                  </a:cubicBezTo>
                  <a:lnTo>
                    <a:pt x="2120249" y="1287758"/>
                  </a:lnTo>
                  <a:cubicBezTo>
                    <a:pt x="2115296" y="975714"/>
                    <a:pt x="1933555" y="693563"/>
                    <a:pt x="1651491" y="560014"/>
                  </a:cubicBezTo>
                  <a:cubicBezTo>
                    <a:pt x="1369427" y="426464"/>
                    <a:pt x="1035994" y="464695"/>
                    <a:pt x="791478" y="658622"/>
                  </a:cubicBezTo>
                  <a:lnTo>
                    <a:pt x="492477" y="281619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2" name="组合 13"/>
          <p:cNvGrpSpPr/>
          <p:nvPr/>
        </p:nvGrpSpPr>
        <p:grpSpPr>
          <a:xfrm>
            <a:off x="1732680" y="2437200"/>
            <a:ext cx="3441960" cy="3441960"/>
            <a:chOff x="1732680" y="2437200"/>
            <a:chExt cx="3441960" cy="3441960"/>
          </a:xfrm>
        </p:grpSpPr>
        <p:sp>
          <p:nvSpPr>
            <p:cNvPr id="793" name="同心圆 14"/>
            <p:cNvSpPr/>
            <p:nvPr/>
          </p:nvSpPr>
          <p:spPr>
            <a:xfrm>
              <a:off x="2152800" y="2857680"/>
              <a:ext cx="2601720" cy="2601720"/>
            </a:xfrm>
            <a:custGeom>
              <a:avLst/>
              <a:gdLst/>
              <a:ahLst/>
              <a:rect l="l" t="t" r="r" b="b"/>
              <a:pathLst>
                <a:path w="2601532" h="2601532">
                  <a:moveTo>
                    <a:pt x="0" y="1300766"/>
                  </a:moveTo>
                  <a:cubicBezTo>
                    <a:pt x="0" y="582373"/>
                    <a:pt x="582373" y="0"/>
                    <a:pt x="1300766" y="0"/>
                  </a:cubicBezTo>
                  <a:cubicBezTo>
                    <a:pt x="2019159" y="0"/>
                    <a:pt x="2601532" y="582373"/>
                    <a:pt x="2601532" y="1300766"/>
                  </a:cubicBezTo>
                  <a:cubicBezTo>
                    <a:pt x="2601532" y="2019159"/>
                    <a:pt x="2019159" y="2601532"/>
                    <a:pt x="1300766" y="2601532"/>
                  </a:cubicBezTo>
                  <a:cubicBezTo>
                    <a:pt x="582373" y="2601532"/>
                    <a:pt x="0" y="2019159"/>
                    <a:pt x="0" y="1300766"/>
                  </a:cubicBezTo>
                  <a:close/>
                  <a:moveTo>
                    <a:pt x="479462" y="1300766"/>
                  </a:moveTo>
                  <a:cubicBezTo>
                    <a:pt x="479462" y="1754360"/>
                    <a:pt x="847172" y="2122070"/>
                    <a:pt x="1300766" y="2122070"/>
                  </a:cubicBezTo>
                  <a:cubicBezTo>
                    <a:pt x="1754360" y="2122070"/>
                    <a:pt x="2122070" y="1754360"/>
                    <a:pt x="2122070" y="1300766"/>
                  </a:cubicBezTo>
                  <a:cubicBezTo>
                    <a:pt x="2122070" y="847172"/>
                    <a:pt x="1754360" y="479462"/>
                    <a:pt x="1300766" y="479462"/>
                  </a:cubicBezTo>
                  <a:cubicBezTo>
                    <a:pt x="847172" y="479462"/>
                    <a:pt x="479462" y="847172"/>
                    <a:pt x="479462" y="1300766"/>
                  </a:cubicBezTo>
                  <a:close/>
                </a:path>
              </a:pathLst>
            </a:custGeom>
            <a:solidFill>
              <a:srgbClr val="008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空心弧 15"/>
            <p:cNvSpPr/>
            <p:nvPr/>
          </p:nvSpPr>
          <p:spPr>
            <a:xfrm rot="14741400">
              <a:off x="2152800" y="2856960"/>
              <a:ext cx="2601720" cy="2601720"/>
            </a:xfrm>
            <a:custGeom>
              <a:avLst/>
              <a:gdLst/>
              <a:ahLst/>
              <a:rect l="l" t="t" r="r" b="b"/>
              <a:pathLst>
                <a:path w="2601532" h="2601532">
                  <a:moveTo>
                    <a:pt x="1848431" y="120912"/>
                  </a:moveTo>
                  <a:cubicBezTo>
                    <a:pt x="2300939" y="330957"/>
                    <a:pt x="2593450" y="781302"/>
                    <a:pt x="2601369" y="1280121"/>
                  </a:cubicBezTo>
                  <a:lnTo>
                    <a:pt x="2120249" y="1287758"/>
                  </a:lnTo>
                  <a:cubicBezTo>
                    <a:pt x="2115260" y="973462"/>
                    <a:pt x="1930954" y="689709"/>
                    <a:pt x="1645838" y="557363"/>
                  </a:cubicBezTo>
                  <a:lnTo>
                    <a:pt x="1848431" y="12091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5" name="组合 16"/>
          <p:cNvGrpSpPr/>
          <p:nvPr/>
        </p:nvGrpSpPr>
        <p:grpSpPr>
          <a:xfrm>
            <a:off x="5614920" y="3849480"/>
            <a:ext cx="908280" cy="441360"/>
            <a:chOff x="5614920" y="3849480"/>
            <a:chExt cx="908280" cy="441360"/>
          </a:xfrm>
        </p:grpSpPr>
        <p:sp>
          <p:nvSpPr>
            <p:cNvPr id="796" name="等腰三角形 17"/>
            <p:cNvSpPr/>
            <p:nvPr/>
          </p:nvSpPr>
          <p:spPr>
            <a:xfrm rot="5400000">
              <a:off x="6112440" y="3880080"/>
              <a:ext cx="441000" cy="380160"/>
            </a:xfrm>
            <a:prstGeom prst="triangle">
              <a:avLst>
                <a:gd name="adj" fmla="val 50000"/>
              </a:avLst>
            </a:prstGeom>
            <a:solidFill>
              <a:srgbClr val="008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等腰三角形 18"/>
            <p:cNvSpPr/>
            <p:nvPr/>
          </p:nvSpPr>
          <p:spPr>
            <a:xfrm rot="16200000">
              <a:off x="5584320" y="3879720"/>
              <a:ext cx="441000" cy="380160"/>
            </a:xfrm>
            <a:prstGeom prst="triangle">
              <a:avLst>
                <a:gd name="adj" fmla="val 50000"/>
              </a:avLst>
            </a:prstGeom>
            <a:solidFill>
              <a:srgbClr val="008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8" name="文本框 19"/>
          <p:cNvSpPr/>
          <p:nvPr/>
        </p:nvSpPr>
        <p:spPr>
          <a:xfrm>
            <a:off x="3084480" y="3936960"/>
            <a:ext cx="8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文本框 20"/>
          <p:cNvSpPr/>
          <p:nvPr/>
        </p:nvSpPr>
        <p:spPr>
          <a:xfrm>
            <a:off x="8543880" y="3859200"/>
            <a:ext cx="8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文本框 21"/>
          <p:cNvSpPr/>
          <p:nvPr/>
        </p:nvSpPr>
        <p:spPr>
          <a:xfrm>
            <a:off x="2886120" y="5587920"/>
            <a:ext cx="12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文本框 22"/>
          <p:cNvSpPr/>
          <p:nvPr/>
        </p:nvSpPr>
        <p:spPr>
          <a:xfrm>
            <a:off x="8639280" y="5510160"/>
            <a:ext cx="12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TextBox 10"/>
          <p:cNvSpPr/>
          <p:nvPr/>
        </p:nvSpPr>
        <p:spPr>
          <a:xfrm>
            <a:off x="1577880" y="1871640"/>
            <a:ext cx="389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TextBox 10"/>
          <p:cNvSpPr/>
          <p:nvPr/>
        </p:nvSpPr>
        <p:spPr>
          <a:xfrm>
            <a:off x="7002360" y="1870200"/>
            <a:ext cx="370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4" name="组合 25"/>
          <p:cNvGrpSpPr/>
          <p:nvPr/>
        </p:nvGrpSpPr>
        <p:grpSpPr>
          <a:xfrm>
            <a:off x="0" y="6634080"/>
            <a:ext cx="12192120" cy="223920"/>
            <a:chOff x="0" y="6634080"/>
            <a:chExt cx="12192120" cy="223920"/>
          </a:xfrm>
        </p:grpSpPr>
        <p:sp>
          <p:nvSpPr>
            <p:cNvPr id="805" name="矩形 26"/>
            <p:cNvSpPr/>
            <p:nvPr/>
          </p:nvSpPr>
          <p:spPr>
            <a:xfrm>
              <a:off x="0" y="6634080"/>
              <a:ext cx="3916440" cy="22392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矩形 27"/>
            <p:cNvSpPr/>
            <p:nvPr/>
          </p:nvSpPr>
          <p:spPr>
            <a:xfrm>
              <a:off x="3916440" y="6634080"/>
              <a:ext cx="3916440" cy="22392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矩形 28"/>
            <p:cNvSpPr/>
            <p:nvPr/>
          </p:nvSpPr>
          <p:spPr>
            <a:xfrm>
              <a:off x="7832880" y="6634080"/>
              <a:ext cx="4359240" cy="223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8" name="组合 29"/>
          <p:cNvGrpSpPr/>
          <p:nvPr/>
        </p:nvGrpSpPr>
        <p:grpSpPr>
          <a:xfrm>
            <a:off x="152280" y="6786720"/>
            <a:ext cx="12192120" cy="223560"/>
            <a:chOff x="152280" y="6786720"/>
            <a:chExt cx="12192120" cy="223560"/>
          </a:xfrm>
        </p:grpSpPr>
        <p:sp>
          <p:nvSpPr>
            <p:cNvPr id="809" name="矩形 30"/>
            <p:cNvSpPr/>
            <p:nvPr/>
          </p:nvSpPr>
          <p:spPr>
            <a:xfrm>
              <a:off x="152280" y="6786720"/>
              <a:ext cx="3916440" cy="22356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矩形 31"/>
            <p:cNvSpPr/>
            <p:nvPr/>
          </p:nvSpPr>
          <p:spPr>
            <a:xfrm>
              <a:off x="4068720" y="6786720"/>
              <a:ext cx="3916440" cy="22356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矩形 32"/>
            <p:cNvSpPr/>
            <p:nvPr/>
          </p:nvSpPr>
          <p:spPr>
            <a:xfrm>
              <a:off x="7985160" y="6786720"/>
              <a:ext cx="4359240" cy="2235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平行四边形 3"/>
          <p:cNvSpPr/>
          <p:nvPr/>
        </p:nvSpPr>
        <p:spPr>
          <a:xfrm>
            <a:off x="347760" y="231840"/>
            <a:ext cx="476280" cy="412560"/>
          </a:xfrm>
          <a:prstGeom prst="parallelogram">
            <a:avLst>
              <a:gd name="adj" fmla="val 37439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平行四边形 4"/>
          <p:cNvSpPr/>
          <p:nvPr/>
        </p:nvSpPr>
        <p:spPr>
          <a:xfrm>
            <a:off x="773280" y="231840"/>
            <a:ext cx="475920" cy="412560"/>
          </a:xfrm>
          <a:prstGeom prst="parallelogram">
            <a:avLst>
              <a:gd name="adj" fmla="val 37411"/>
            </a:avLst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4" name="组合 10"/>
          <p:cNvGrpSpPr/>
          <p:nvPr/>
        </p:nvGrpSpPr>
        <p:grpSpPr>
          <a:xfrm>
            <a:off x="1011240" y="450720"/>
            <a:ext cx="5029200" cy="181080"/>
            <a:chOff x="1011240" y="450720"/>
            <a:chExt cx="5029200" cy="181080"/>
          </a:xfrm>
        </p:grpSpPr>
        <p:sp>
          <p:nvSpPr>
            <p:cNvPr id="815" name="直接连接符 6"/>
            <p:cNvSpPr/>
            <p:nvPr/>
          </p:nvSpPr>
          <p:spPr>
            <a:xfrm>
              <a:off x="1011240" y="631800"/>
              <a:ext cx="5003640" cy="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等腰三角形 8"/>
            <p:cNvSpPr/>
            <p:nvPr/>
          </p:nvSpPr>
          <p:spPr>
            <a:xfrm>
              <a:off x="5628600" y="450720"/>
              <a:ext cx="411840" cy="181080"/>
            </a:xfrm>
            <a:prstGeom prst="triangle">
              <a:avLst>
                <a:gd name="adj" fmla="val 0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7" name="文本框 11"/>
          <p:cNvSpPr/>
          <p:nvPr/>
        </p:nvSpPr>
        <p:spPr>
          <a:xfrm>
            <a:off x="1577880" y="14112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同心圆 7"/>
          <p:cNvSpPr/>
          <p:nvPr/>
        </p:nvSpPr>
        <p:spPr>
          <a:xfrm>
            <a:off x="4753080" y="2467080"/>
            <a:ext cx="2523960" cy="2523960"/>
          </a:xfrm>
          <a:custGeom>
            <a:avLst/>
            <a:gdLst/>
            <a:ahLst/>
            <a:rect l="l" t="t" r="r" b="b"/>
            <a:pathLst>
              <a:path w="2524259" h="2524259">
                <a:moveTo>
                  <a:pt x="0" y="1262130"/>
                </a:moveTo>
                <a:cubicBezTo>
                  <a:pt x="0" y="565075"/>
                  <a:pt x="565075" y="0"/>
                  <a:pt x="1262130" y="0"/>
                </a:cubicBezTo>
                <a:cubicBezTo>
                  <a:pt x="1959185" y="0"/>
                  <a:pt x="2524260" y="565075"/>
                  <a:pt x="2524260" y="1262130"/>
                </a:cubicBezTo>
                <a:cubicBezTo>
                  <a:pt x="2524260" y="1959185"/>
                  <a:pt x="1959185" y="2524260"/>
                  <a:pt x="1262130" y="2524260"/>
                </a:cubicBezTo>
                <a:cubicBezTo>
                  <a:pt x="565075" y="2524260"/>
                  <a:pt x="0" y="1959185"/>
                  <a:pt x="0" y="1262130"/>
                </a:cubicBezTo>
                <a:close/>
                <a:moveTo>
                  <a:pt x="294833" y="1262130"/>
                </a:moveTo>
                <a:cubicBezTo>
                  <a:pt x="294833" y="1796353"/>
                  <a:pt x="727906" y="2229426"/>
                  <a:pt x="1262129" y="2229426"/>
                </a:cubicBezTo>
                <a:cubicBezTo>
                  <a:pt x="1796352" y="2229426"/>
                  <a:pt x="2229425" y="1796353"/>
                  <a:pt x="2229425" y="1262130"/>
                </a:cubicBezTo>
                <a:cubicBezTo>
                  <a:pt x="2229425" y="727907"/>
                  <a:pt x="1796352" y="294834"/>
                  <a:pt x="1262129" y="294834"/>
                </a:cubicBezTo>
                <a:cubicBezTo>
                  <a:pt x="727906" y="294834"/>
                  <a:pt x="294833" y="727907"/>
                  <a:pt x="294833" y="1262130"/>
                </a:cubicBezTo>
                <a:close/>
              </a:path>
            </a:pathLst>
          </a:custGeom>
          <a:gradFill rotWithShape="0">
            <a:gsLst>
              <a:gs pos="0">
                <a:srgbClr val="00b0f0"/>
              </a:gs>
              <a:gs pos="50000">
                <a:srgbClr val="0082b0"/>
              </a:gs>
              <a:gs pos="100000">
                <a:srgbClr val="00b0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任意多边形 9"/>
          <p:cNvSpPr/>
          <p:nvPr/>
        </p:nvSpPr>
        <p:spPr>
          <a:xfrm>
            <a:off x="6173640" y="2340000"/>
            <a:ext cx="3686400" cy="523800"/>
          </a:xfrm>
          <a:custGeom>
            <a:avLst/>
            <a:gdLst/>
            <a:ahLst/>
            <a:rect l="l" t="t" r="r" b="b"/>
            <a:pathLst>
              <a:path w="3686997" h="523478">
                <a:moveTo>
                  <a:pt x="37916" y="0"/>
                </a:moveTo>
                <a:lnTo>
                  <a:pt x="3425258" y="0"/>
                </a:lnTo>
                <a:cubicBezTo>
                  <a:pt x="3569812" y="0"/>
                  <a:pt x="3686997" y="117185"/>
                  <a:pt x="3686997" y="261739"/>
                </a:cubicBezTo>
                <a:lnTo>
                  <a:pt x="3686996" y="261739"/>
                </a:lnTo>
                <a:cubicBezTo>
                  <a:pt x="3686996" y="406293"/>
                  <a:pt x="3569811" y="523478"/>
                  <a:pt x="3425257" y="523478"/>
                </a:cubicBezTo>
                <a:lnTo>
                  <a:pt x="946197" y="523477"/>
                </a:lnTo>
                <a:lnTo>
                  <a:pt x="898204" y="459297"/>
                </a:lnTo>
                <a:cubicBezTo>
                  <a:pt x="692432" y="209960"/>
                  <a:pt x="392762" y="40987"/>
                  <a:pt x="53329" y="6515"/>
                </a:cubicBezTo>
                <a:lnTo>
                  <a:pt x="0" y="3823"/>
                </a:lnTo>
                <a:lnTo>
                  <a:pt x="37916" y="0"/>
                </a:lnTo>
                <a:close/>
              </a:path>
            </a:pathLst>
          </a:custGeom>
          <a:gradFill rotWithShape="0">
            <a:gsLst>
              <a:gs pos="0">
                <a:srgbClr val="00b0f0"/>
              </a:gs>
              <a:gs pos="50000">
                <a:srgbClr val="0082b0"/>
              </a:gs>
              <a:gs pos="100000">
                <a:srgbClr val="00b0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任意多边形 12"/>
          <p:cNvSpPr/>
          <p:nvPr/>
        </p:nvSpPr>
        <p:spPr>
          <a:xfrm rot="10800000">
            <a:off x="2168280" y="4593960"/>
            <a:ext cx="3686040" cy="523800"/>
          </a:xfrm>
          <a:custGeom>
            <a:avLst/>
            <a:gdLst/>
            <a:ahLst/>
            <a:rect l="l" t="t" r="r" b="b"/>
            <a:pathLst>
              <a:path w="3686997" h="523478">
                <a:moveTo>
                  <a:pt x="37916" y="0"/>
                </a:moveTo>
                <a:lnTo>
                  <a:pt x="3425258" y="0"/>
                </a:lnTo>
                <a:cubicBezTo>
                  <a:pt x="3569812" y="0"/>
                  <a:pt x="3686997" y="117185"/>
                  <a:pt x="3686997" y="261739"/>
                </a:cubicBezTo>
                <a:lnTo>
                  <a:pt x="3686996" y="261739"/>
                </a:lnTo>
                <a:cubicBezTo>
                  <a:pt x="3686996" y="406293"/>
                  <a:pt x="3569811" y="523478"/>
                  <a:pt x="3425257" y="523478"/>
                </a:cubicBezTo>
                <a:lnTo>
                  <a:pt x="946197" y="523477"/>
                </a:lnTo>
                <a:lnTo>
                  <a:pt x="898204" y="459297"/>
                </a:lnTo>
                <a:cubicBezTo>
                  <a:pt x="692432" y="209960"/>
                  <a:pt x="392762" y="40987"/>
                  <a:pt x="53329" y="6515"/>
                </a:cubicBezTo>
                <a:lnTo>
                  <a:pt x="0" y="3823"/>
                </a:lnTo>
                <a:lnTo>
                  <a:pt x="37916" y="0"/>
                </a:lnTo>
                <a:close/>
              </a:path>
            </a:pathLst>
          </a:custGeom>
          <a:gradFill rotWithShape="0">
            <a:gsLst>
              <a:gs pos="0">
                <a:srgbClr val="00b0f0"/>
              </a:gs>
              <a:gs pos="50000">
                <a:srgbClr val="0082b0"/>
              </a:gs>
              <a:gs pos="100000">
                <a:srgbClr val="00b0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文本框 13"/>
          <p:cNvSpPr/>
          <p:nvPr/>
        </p:nvSpPr>
        <p:spPr>
          <a:xfrm>
            <a:off x="7589880" y="2417760"/>
            <a:ext cx="16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文本框 14"/>
          <p:cNvSpPr/>
          <p:nvPr/>
        </p:nvSpPr>
        <p:spPr>
          <a:xfrm>
            <a:off x="2806560" y="4670280"/>
            <a:ext cx="16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TextBox 10"/>
          <p:cNvSpPr/>
          <p:nvPr/>
        </p:nvSpPr>
        <p:spPr>
          <a:xfrm>
            <a:off x="2689200" y="2943360"/>
            <a:ext cx="1866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extBox 10"/>
          <p:cNvSpPr/>
          <p:nvPr/>
        </p:nvSpPr>
        <p:spPr>
          <a:xfrm>
            <a:off x="7472520" y="3024360"/>
            <a:ext cx="186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5" name="图片 17" descr=""/>
          <p:cNvPicPr/>
          <p:nvPr/>
        </p:nvPicPr>
        <p:blipFill>
          <a:blip r:embed="rId1"/>
          <a:stretch/>
        </p:blipFill>
        <p:spPr>
          <a:xfrm>
            <a:off x="5405400" y="3119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5T10:04:21Z</dcterms:created>
  <dc:creator>admin</dc:creator>
  <dc:description/>
  <dc:language>en-US</dc:language>
  <cp:lastModifiedBy>大蛀虫</cp:lastModifiedBy>
  <dcterms:modified xsi:type="dcterms:W3CDTF">2015-06-28T11:53:37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