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2DE5-8DB4-44AF-B23B-F2DDF36C9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1483-4A1A-4324-AEA9-5756BB07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04A5-448D-4F23-9D06-83FC910CC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2119-0861-4E0A-9427-C9CA89A6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C185-43CC-4EB2-B099-BF2CA13A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23BD-8899-49C9-87A1-1AC9BE43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624C-6144-4F3B-94EE-4212C8AF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1FD7-F79F-4E8E-BAAB-4A58345C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0D72-DEA6-4692-B8D0-3CEC04F0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7517-D9F0-4D62-9E56-09E0028D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4C84-047A-4224-80F8-5948E68E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7E79-72DB-41B7-9230-DDB014F8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5A1A-A637-409F-9345-36F9D8EFF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"/>
          <p:cNvSpPr/>
          <p:nvPr/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请在此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21"/>
          <p:cNvSpPr/>
          <p:nvPr/>
        </p:nvSpPr>
        <p:spPr>
          <a:xfrm>
            <a:off x="2195640" y="260280"/>
            <a:ext cx="3313080" cy="1511280"/>
          </a:xfrm>
          <a:prstGeom prst="cloudCallout">
            <a:avLst>
              <a:gd name="adj1" fmla="val 106060"/>
              <a:gd name="adj2" fmla="val 34032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4"/>
          <p:cNvSpPr/>
          <p:nvPr/>
        </p:nvSpPr>
        <p:spPr>
          <a:xfrm>
            <a:off x="539640" y="2060640"/>
            <a:ext cx="424836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4"/>
          <p:cNvSpPr/>
          <p:nvPr/>
        </p:nvSpPr>
        <p:spPr>
          <a:xfrm>
            <a:off x="628560" y="2041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700280"/>
            <a:ext cx="41148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3203640" y="260280"/>
            <a:ext cx="2305080" cy="79236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4"/>
          <p:cNvSpPr/>
          <p:nvPr/>
        </p:nvSpPr>
        <p:spPr>
          <a:xfrm>
            <a:off x="5305320" y="1825560"/>
            <a:ext cx="32101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5T09:09:04Z</dcterms:created>
  <dc:creator>微软用户</dc:creator>
  <dc:description/>
  <dc:language>en-US</dc:language>
  <cp:lastModifiedBy>Administrator</cp:lastModifiedBy>
  <dcterms:modified xsi:type="dcterms:W3CDTF">2016-03-24T09:58:3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