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8FA6-85A5-4A63-8B4B-335F4011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4E1-8F96-4C3C-B8CD-9CA36578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B62-9980-4814-984B-072B8697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BFAB-4CF0-4F67-B9F5-50CDE2B6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657-A07F-48FB-9C57-4FAC0E37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1323-A370-4D4E-BFE8-347B9BE8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9CAC-326B-4FE6-BA16-19B6D3E4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C4A-AE91-4C87-9EA6-BC917FB0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C6E0-AE5A-4969-B2BE-09D4AD3F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32DE-BADF-4E3F-8AF6-48931EFA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1DB-CD54-4FFB-9FC6-67943B54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AFC-B57F-4163-BE83-E03D50A2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8EC1-656A-44ED-93D6-0A0F0709B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请在此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1"/>
          <p:cNvSpPr/>
          <p:nvPr/>
        </p:nvSpPr>
        <p:spPr>
          <a:xfrm>
            <a:off x="2195640" y="260280"/>
            <a:ext cx="3313080" cy="1511280"/>
          </a:xfrm>
          <a:prstGeom prst="cloudCallout">
            <a:avLst>
              <a:gd name="adj1" fmla="val 106060"/>
              <a:gd name="adj2" fmla="val 34032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4"/>
          <p:cNvSpPr/>
          <p:nvPr/>
        </p:nvSpPr>
        <p:spPr>
          <a:xfrm>
            <a:off x="539640" y="2060640"/>
            <a:ext cx="424836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4"/>
          <p:cNvSpPr/>
          <p:nvPr/>
        </p:nvSpPr>
        <p:spPr>
          <a:xfrm>
            <a:off x="628560" y="2041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700280"/>
            <a:ext cx="4114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3203640" y="260280"/>
            <a:ext cx="2305080" cy="79236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4"/>
          <p:cNvSpPr/>
          <p:nvPr/>
        </p:nvSpPr>
        <p:spPr>
          <a:xfrm>
            <a:off x="5305320" y="1825560"/>
            <a:ext cx="3210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5T09:09:04Z</dcterms:created>
  <dc:creator>微软用户</dc:creator>
  <dc:description/>
  <dc:language>en-US</dc:language>
  <cp:lastModifiedBy>Administrator</cp:lastModifiedBy>
  <dcterms:modified xsi:type="dcterms:W3CDTF">2016-03-24T09:58:3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