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A7FE-B258-4AB2-B3E6-DCA8D19E40B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3ADB-6524-41FE-9F96-3FEC8BB0AC43}" type="slidenum">
              <a:rPr b="1" lang="en-US" sz="12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846-D01E-435E-B570-B38DBE1B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177-8328-434A-BF8C-E59F1AAE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C17C-E89D-45D8-A33A-FD9A5FFE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3F4-A978-4953-8B0A-E3908758F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5584-DDB5-41A7-8C2D-33C78D53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AD95-D4C6-4A07-BE7F-4015D2E4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12947-3249-4DC0-B51C-684EEAF6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47A6-DA84-4375-94E6-B089FF2C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290A-68F2-46DC-86BB-F611D7AC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4813-CCFA-4365-B241-021EC323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7722-A9DA-4926-9273-7ED30637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39F2-0141-4CA3-8DF0-C2D63D84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E6E2-BA19-407B-A562-04149698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2362-11C0-4504-9AD8-4A84139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91D84-111E-498F-972B-47A1FAE6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B1E7-1F88-4123-BB71-E1861895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5397-8751-472B-9E47-08F7C57C8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C8563-CDC8-4299-891D-44F9848C7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DAA94-9E5C-4DDF-B302-131F7BBA4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3BDD7-BB87-4F0D-91BE-68FDD6233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1F6AC-4CAE-433F-8013-AC4D52D0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C7ECC-4A8D-430B-9644-5512A3ECF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5832-5489-4881-BA84-6D8DD682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FAEFB-EB61-4067-AD6E-6E4BC5D9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E33A1-A3E0-4656-87B7-404B3856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CA5DC-7E33-485D-8771-313289BB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9D54E-D5A4-4F93-8956-F5E448E4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2A58-CC4C-4A22-BF63-705A180F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33D29-4C0B-48E6-ADC7-F9F4AD6F4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D49AF-4DB1-49CE-941B-80A20112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8ABBB-D6E7-40AD-A0CD-DDCDC3EF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62B92-B735-42AE-B33F-494E2643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5907A-4040-4743-840A-6408EF43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7AA9-4C27-4837-9715-1BC223EE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7EBDE-222A-4079-B576-A55BB235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1647-E903-4AD9-88FB-00753835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9FF6-4624-4A83-A355-1A9751D1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9C5D3-E20E-45F9-BA32-DE58AD5F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49EB6-4CBB-48F3-8E2F-93926B605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0D0AD-9A55-4319-B736-CD86F628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E1C51-19AD-4846-8935-ACA7D136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270CC-129A-4FDC-8576-CF6331F9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3E9F7-47CC-408F-B931-82A2DFBD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AB05-E808-4EC4-A24E-EF1416BC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975-795F-45CD-B67F-CB1B2CF1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EBB66-3070-4FCB-BD25-B75A0B56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B2AD-E41B-4637-A516-D98F84C3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AA7E8-C5D9-4EB9-B7FE-BBE4844E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485D4-D8CE-4678-BF6D-E9600CB6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025D2-A8FA-4914-BC30-E072A3A7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EE166C-2217-4B81-8684-13E83F75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FE710-DE38-457E-8C1D-15532CEA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5B208-7CE1-4EF7-B68D-4B5F553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E40E3-5B18-4B44-BE24-FDA82E9F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6437D-4469-4182-8CA9-D9F48A7F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DB2-3465-40BC-A0F7-3A0B4ADD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F9CE1A-F15A-45A6-9603-EBB5DE21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212-1283-49B5-810F-D1422FC0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B3F-648C-411E-B081-61A20741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388E-329A-4734-B6E8-DFBE78A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BCE9-C972-45C0-8FC6-F9225F495674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B17D-A395-4F89-9FAA-7EED622D5BE4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D033-9C28-49F6-BE96-176E3D73F43D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3BAF-EFBE-4F13-9BAD-3EE0BADE57CB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7368-6022-463F-9380-7A8811E2B9D8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>
              <a:gd name="textAreaLeft" fmla="*/ 0 w 372960"/>
              <a:gd name="textAreaRight" fmla="*/ 373320 w 3729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>
              <a:gd name="textAreaLeft" fmla="*/ 0 w 279360"/>
              <a:gd name="textAreaRight" fmla="*/ 279720 w 2793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>
              <a:gd name="textAreaLeft" fmla="*/ -360 w 430200"/>
              <a:gd name="textAreaRight" fmla="*/ 430200 w 43020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4400"/>
                <a:gd name="textAreaBottom" fmla="*/ 1364760 h 1364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3320"/>
                <a:gd name="textAreaBottom" fmla="*/ 733320 h 73332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120"/>
                <a:gd name="textAreaBottom" fmla="*/ 140112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41200" y="1416600"/>
                <a:ext cx="525636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9320" y="1491480"/>
              <a:ext cx="102672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83040" y="1554480"/>
              <a:ext cx="513000" cy="4975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912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7880" y="156600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41200" y="2763000"/>
                <a:ext cx="52563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9320" y="2835360"/>
              <a:ext cx="102672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83040" y="2899800"/>
              <a:ext cx="513000" cy="4921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2120"/>
                <a:gd name="textAreaBottom" fmla="*/ 492120 h 492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912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7880" y="28893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2002320" y="4085640"/>
              <a:ext cx="53323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9320" y="4197960"/>
              <a:ext cx="102672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83040" y="4262400"/>
              <a:ext cx="513000" cy="4978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912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7880" y="42519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292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508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508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499280"/>
                <a:ext cx="4172400" cy="953280"/>
              </a:xfrm>
              <a:custGeom>
                <a:avLst/>
                <a:gdLst>
                  <a:gd name="textAreaLeft" fmla="*/ 0 w 4172400"/>
                  <a:gd name="textAreaRight" fmla="*/ 4172760 w 417240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>
                  <a:gd name="textAreaLeft" fmla="*/ 0 w 997560"/>
                  <a:gd name="textAreaRight" fmla="*/ 997920 w 997560"/>
                  <a:gd name="textAreaTop" fmla="*/ 0 h 1495800"/>
                  <a:gd name="textAreaBottom" fmla="*/ 1496160 h 149580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600"/>
            <a:chOff x="1573200" y="4059360"/>
            <a:chExt cx="5492880" cy="39960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564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88600" y="4060440"/>
              <a:ext cx="170280" cy="398520"/>
              <a:chOff x="6888600" y="4060440"/>
              <a:chExt cx="170280" cy="39852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88600" y="4060440"/>
                <a:ext cx="170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120" y="4202280"/>
                <a:ext cx="1836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78600" y="4089960"/>
              <a:ext cx="122040" cy="325800"/>
              <a:chOff x="1578600" y="4089960"/>
              <a:chExt cx="122040" cy="325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8600" y="4089960"/>
                <a:ext cx="12204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360" y="4196880"/>
                <a:ext cx="165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360"/>
            <a:chOff x="1123920" y="3513240"/>
            <a:chExt cx="6391440" cy="39636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240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09080" y="3516840"/>
              <a:ext cx="195480" cy="392760"/>
              <a:chOff x="7309080" y="3516840"/>
              <a:chExt cx="195480" cy="39276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9080" y="3516840"/>
                <a:ext cx="195480" cy="39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69280" y="365400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2920" y="3540960"/>
              <a:ext cx="133920" cy="325800"/>
              <a:chOff x="1132920" y="3540960"/>
              <a:chExt cx="133920" cy="32580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2920" y="3540960"/>
                <a:ext cx="13392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6960" y="36493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16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05440" y="2919240"/>
              <a:ext cx="219960" cy="397080"/>
              <a:chOff x="7705440" y="2919240"/>
              <a:chExt cx="219960" cy="39708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5440" y="2919240"/>
                <a:ext cx="219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7240" y="305964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3520" y="2949480"/>
              <a:ext cx="152280" cy="325080"/>
              <a:chOff x="713520" y="2949480"/>
              <a:chExt cx="152280" cy="32508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3520" y="2949480"/>
                <a:ext cx="1522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4960"/>
                <a:ext cx="2160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7760"/>
            <a:chOff x="395280" y="2259000"/>
            <a:chExt cx="7848360" cy="43776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2360" y="2261880"/>
              <a:ext cx="238320" cy="434880"/>
              <a:chOff x="7992360" y="2261880"/>
              <a:chExt cx="238320" cy="43488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2360" y="2261880"/>
                <a:ext cx="2383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8200" y="2415240"/>
                <a:ext cx="2628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08240" y="2291400"/>
              <a:ext cx="164520" cy="361080"/>
              <a:chOff x="408240" y="2291400"/>
              <a:chExt cx="164520" cy="36108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240" y="2291400"/>
                <a:ext cx="16452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440" y="240912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2080" cy="1231560"/>
            <a:chOff x="3726000" y="1125360"/>
            <a:chExt cx="116208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2080" cy="1231560"/>
              <a:chOff x="3726000" y="1125360"/>
              <a:chExt cx="116208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43000" y="2091600"/>
                <a:ext cx="94968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33560" y="1128600"/>
                <a:ext cx="1153080" cy="113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5360"/>
                <a:ext cx="1162080" cy="1142640"/>
                <a:chOff x="3726000" y="1125360"/>
                <a:chExt cx="1162080" cy="1142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5360"/>
                  <a:ext cx="11620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900960" y="1295280"/>
                  <a:ext cx="810360" cy="80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7720" y="4170240"/>
              <a:ext cx="1560960" cy="119268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1192680"/>
                <a:gd name="textAreaBottom" fmla="*/ 1192680 h 119268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3800" cy="1911240"/>
              <a:chOff x="4284720" y="3506760"/>
              <a:chExt cx="16380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380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305240" y="3526560"/>
                <a:ext cx="132840" cy="18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95520" y="3520800"/>
              <a:ext cx="1703160" cy="137124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9960" y="4501800"/>
              <a:ext cx="1407240" cy="865080"/>
              <a:chOff x="2919960" y="4501800"/>
              <a:chExt cx="1407240" cy="86508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4501800"/>
                <a:ext cx="14072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5440" y="4521960"/>
                <a:ext cx="1379160" cy="8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06880" cy="1406880"/>
              <a:chOff x="2901960" y="3467160"/>
              <a:chExt cx="140688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0688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9960" y="3483360"/>
                <a:ext cx="1378800" cy="13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2320" y="1530360"/>
              <a:ext cx="165240" cy="371880"/>
              <a:chOff x="4072320" y="1530360"/>
              <a:chExt cx="165240" cy="37188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2320" y="1530360"/>
                <a:ext cx="1652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7600" y="165060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2960" y="1530360"/>
              <a:ext cx="170640" cy="365760"/>
              <a:chOff x="822960" y="1530360"/>
              <a:chExt cx="170640" cy="36576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2960" y="1530360"/>
                <a:ext cx="17064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680" y="165024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>
              <a:gd name="textAreaLeft" fmla="*/ 0 w 768240"/>
              <a:gd name="textAreaRight" fmla="*/ 768600 w 768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>
              <a:gd name="textAreaLeft" fmla="*/ 0 w 679680"/>
              <a:gd name="textAreaRight" fmla="*/ 680040 w 679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>
              <a:gd name="textAreaLeft" fmla="*/ 0 w 2689200"/>
              <a:gd name="textAreaRight" fmla="*/ 2689200 w 2689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>
              <a:gd name="textAreaLeft" fmla="*/ 0 w 595080"/>
              <a:gd name="textAreaRight" fmla="*/ 595080 w 59508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>
              <a:gd name="textAreaLeft" fmla="*/ 0 w 1795320"/>
              <a:gd name="textAreaRight" fmla="*/ 1795680 w 1795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>
              <a:gd name="textAreaLeft" fmla="*/ 0 w 511200"/>
              <a:gd name="textAreaRight" fmla="*/ 511560 w 5112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>
              <a:gd name="textAreaLeft" fmla="*/ 0 w 895320"/>
              <a:gd name="textAreaRight" fmla="*/ 895680 w 8953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>
              <a:gd name="textAreaLeft" fmla="*/ 0 w 433440"/>
              <a:gd name="textAreaRight" fmla="*/ 433800 w 433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>
              <a:gd name="textAreaLeft" fmla="*/ 158760 w 514080"/>
              <a:gd name="textAreaRight" fmla="*/ 355320 w 514080"/>
              <a:gd name="textAreaTop" fmla="*/ 196560 h 514440"/>
              <a:gd name="textAreaBottom" fmla="*/ 393120 h 514440"/>
            </a:gdLst>
            <a:ahLst/>
            <a:rect l="textAreaLeft" t="textAreaTop" r="textAreaRight" b="textAreaBottom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8"/>
                </a:lnTo>
                <a:lnTo>
                  <a:pt x="257175" y="392926"/>
                </a:lnTo>
                <a:lnTo>
                  <a:pt x="98232" y="514348"/>
                </a:lnTo>
                <a:lnTo>
                  <a:pt x="158945" y="31788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360"/>
              <a:gd name="textAreaBottom" fmla="*/ 502200 h 65736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000"/>
              <a:gd name="textAreaBottom" fmla="*/ 501840 h 65700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>
              <a:gd name="textAreaLeft" fmla="*/ 186840 w 604800"/>
              <a:gd name="textAreaRight" fmla="*/ 417960 w 604800"/>
              <a:gd name="textAreaTop" fmla="*/ 231120 h 604800"/>
              <a:gd name="textAreaBottom" fmla="*/ 462240 h 604800"/>
            </a:gdLst>
            <a:ahLst/>
            <a:rect l="textAreaLeft" t="textAreaTop" r="textAreaRight" b="textAreaBottom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>
              <a:gd name="textAreaLeft" fmla="*/ 0 w 6742080"/>
              <a:gd name="textAreaRight" fmla="*/ 6742440 w 67420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>
              <a:gd name="textAreaLeft" fmla="*/ 0 w 1665360"/>
              <a:gd name="textAreaRight" fmla="*/ 1665720 w 16653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>
              <a:gd name="textAreaLeft" fmla="*/ 0 w 965520"/>
              <a:gd name="textAreaRight" fmla="*/ 965880 w 9655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>
                <a:gd name="textAreaLeft" fmla="*/ 0 w 655200"/>
                <a:gd name="textAreaRight" fmla="*/ 655200 w 6552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>
                  <a:gd name="textAreaLeft" fmla="*/ 0 w 1571400"/>
                  <a:gd name="textAreaRight" fmla="*/ 1571760 w 1571400"/>
                  <a:gd name="textAreaTop" fmla="*/ 0 h 1409760"/>
                  <a:gd name="textAreaBottom" fmla="*/ 1409760 h 1409760"/>
                </a:gdLst>
                <a:ahLst/>
                <a:rect l="textAreaLeft" t="textAreaTop" r="textAreaRight" b="textAreaBottom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468440" y="2176560"/>
            <a:ext cx="6188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>
                <a:gd name="textAreaLeft" fmla="*/ 0 w 2469600"/>
                <a:gd name="textAreaRight" fmla="*/ 2469960 w 246960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>
                <a:gd name="textAreaLeft" fmla="*/ 360 w 2844000"/>
                <a:gd name="textAreaRight" fmla="*/ 2844720 w 28440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>
                <a:gd name="textAreaLeft" fmla="*/ 0 w 2798640"/>
                <a:gd name="textAreaRight" fmla="*/ 2799000 w 279864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>
                <a:gd name="textAreaLeft" fmla="*/ 0 w 1519200"/>
                <a:gd name="textAreaRight" fmla="*/ 1519560 w 1519200"/>
                <a:gd name="textAreaTop" fmla="*/ 0 h 1532880"/>
                <a:gd name="textAreaBottom" fmla="*/ 1533240 h 15328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NANA</cp:lastModifiedBy>
  <dcterms:modified xsi:type="dcterms:W3CDTF">2012-01-30T12:55:47Z</dcterms:modified>
  <cp:revision>71</cp:revision>
  <dc:subject/>
  <dc:title>슬라이드 1</dc:title>
</cp:coreProperties>
</file>