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D66D-5C26-496C-B546-D8C01DC7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0D9B-E878-4CDB-88EE-D1EDA053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48E-ECCA-4217-A882-7448AB2F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81E0-161C-4237-BF19-10B0FECC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F0A5-7B0B-49BB-BD27-1BA6CE46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9045-4BB9-4C79-B8A2-6402E345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2716-D467-47F5-9F7D-4B43130C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6B18-FBAD-4DE3-BA53-8FFAAD0D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EC1E-F0B8-4139-8D9B-A50AF3CE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C2A4-7F98-4A27-AFF4-C99E9A4A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23F0-4DE6-413B-86B1-D9EEA077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42C-3942-40C2-A5D2-2759F569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00B4-3FB0-4BCE-BE2F-4DBDB5B2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0C72-E913-4918-A59A-884602B3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7168-D6BB-4A33-8823-1630EE43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DCF6-CFF4-431F-8279-9B653C22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3F84-5AB1-460E-8CB5-A6C324BD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F6D50-354F-4DC9-993A-686A0249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743EA-7C38-4CB2-904F-F4116461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CFAEA-C73A-4906-9F69-EBCE80D2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2B0CD-6FC4-4F61-A11C-16A23ABF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49082-7C7C-4ED6-8B4C-A8913745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759A-CC34-4A2D-A7EF-5D3A9720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D23DB-37B0-4F3E-8548-52EC7B3B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A541A-F9EF-47F0-A9CB-7E38FE33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4C749-2BD1-4463-A3FA-6839B812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97FBA-8A56-460B-9B8A-B648BBF7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128A0-8943-425E-A2EE-2A0FA5AA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E56BF-8C11-4496-A5E5-8C5621AA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48F91-33F1-492D-81E4-C0586F49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051-EB87-49F9-A884-792D5629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B71-2884-49A1-9AB4-7EAFAC37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ADD7-4142-4429-B1DC-9397BED7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78C8-9587-461E-B658-3FAAD5D9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8A6-B93D-4CD0-9C13-1F72B646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EEB-EDC6-490C-8C34-BDA60137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3903-FF35-4720-BB1B-E472D4F53D6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Documents and Settings\Administrator\桌面\2.png"/>
          <p:cNvPicPr/>
          <p:nvPr/>
        </p:nvPicPr>
        <p:blipFill>
          <a:blip r:embed="rId2"/>
          <a:stretch/>
        </p:blipFill>
        <p:spPr>
          <a:xfrm rot="19595400">
            <a:off x="6513120" y="-252360"/>
            <a:ext cx="3017880" cy="3252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C:\Documents and Settings\Administrator\桌面\555.png"/>
          <p:cNvPicPr/>
          <p:nvPr/>
        </p:nvPicPr>
        <p:blipFill>
          <a:blip r:embed="rId3"/>
          <a:stretch/>
        </p:blipFill>
        <p:spPr>
          <a:xfrm>
            <a:off x="684360" y="163440"/>
            <a:ext cx="8459640" cy="5551560"/>
          </a:xfrm>
          <a:prstGeom prst="rect">
            <a:avLst/>
          </a:prstGeom>
          <a:ln w="0">
            <a:noFill/>
          </a:ln>
        </p:spPr>
      </p:pic>
      <p:sp>
        <p:nvSpPr>
          <p:cNvPr id="43" name="矩形 8"/>
          <p:cNvSpPr/>
          <p:nvPr/>
        </p:nvSpPr>
        <p:spPr>
          <a:xfrm>
            <a:off x="5022720" y="74124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4859280" y="741240"/>
            <a:ext cx="9072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8F58-0E56-4D35-AF73-DEDDE89AB8F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Administrator\桌面\莲 (2).png"/>
          <p:cNvPicPr/>
          <p:nvPr/>
        </p:nvPicPr>
        <p:blipFill>
          <a:blip r:embed="rId2"/>
          <a:stretch/>
        </p:blipFill>
        <p:spPr>
          <a:xfrm>
            <a:off x="611280" y="57240"/>
            <a:ext cx="971280" cy="92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-3240"/>
            <a:ext cx="9144000" cy="5813640"/>
          </a:xfrm>
          <a:prstGeom prst="rect">
            <a:avLst/>
          </a:prstGeom>
          <a:ln w="0">
            <a:noFill/>
          </a:ln>
        </p:spPr>
      </p:pic>
      <p:sp>
        <p:nvSpPr>
          <p:cNvPr id="90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70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3026-3582-41CF-9118-AABFE7980EB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extBox 39" descr=""/>
          <p:cNvPicPr/>
          <p:nvPr/>
        </p:nvPicPr>
        <p:blipFill>
          <a:blip r:embed="rId1"/>
          <a:stretch/>
        </p:blipFill>
        <p:spPr>
          <a:xfrm>
            <a:off x="5029200" y="812880"/>
            <a:ext cx="309708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5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6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7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0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1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2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5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6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7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8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0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1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2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"/>
                            </p:stCondLst>
                            <p:childTnLst>
                              <p:par>
                                <p:cTn id="2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7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5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50"/>
                            </p:stCondLst>
                            <p:childTnLst>
                              <p:par>
                                <p:cTn id="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extBox 2" descr=""/>
          <p:cNvPicPr/>
          <p:nvPr/>
        </p:nvPicPr>
        <p:blipFill>
          <a:blip r:embed="rId1"/>
          <a:stretch/>
        </p:blipFill>
        <p:spPr>
          <a:xfrm>
            <a:off x="5003640" y="741240"/>
            <a:ext cx="43214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07:54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