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B165-1959-4750-8DC8-0C5C5CA26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504E-9C36-4EF0-A735-226CCD21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596F-1095-44D7-97A3-C2CE62F06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A8BF-C07A-494A-8591-89B9842FE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5694-2C28-41C3-AE49-59DFCE68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60F9-8700-4875-8627-4E8563B8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9034-5546-40A1-AB7E-A9AF1867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E570-8FE2-4B67-98D4-A18BC9BF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0E36-95B5-4014-81F1-46371F95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9A03-5578-4932-848E-FE3F460D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5A58-89CF-4018-8683-200E845D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6000-E894-4562-BB0B-1807B79D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F7D4-9993-47E7-A9F5-F6BA250C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D10D-D7DC-47D2-B14F-569F1615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7319-B980-44BF-918C-0A64A6B1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E5CE-6181-4D1E-84DA-380FD5B9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5FD1-FA8A-445A-B8E3-0463DBDD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5C5D-3361-451E-A4E2-ECC066789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B2C2-CECB-4DF6-9FFC-5C397CD3A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81FF-6A13-484C-B3D1-1512BEC2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E71F-3AD3-4788-9C70-38DD7690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534A-4990-419F-80AF-035E5890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B68F-4A26-4535-875E-3EB6F650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13F5-2ADA-482D-9A07-DAF1A284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31240" y="5690880"/>
            <a:ext cx="28116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631240" y="364680"/>
            <a:ext cx="28116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2840" y="6269040"/>
            <a:ext cx="7221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c8c8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0E1F-4F0E-4E1F-BD09-7B999FAEB25E}" type="slidenum">
              <a:rPr b="0" lang="en-US" sz="800" spc="-1" strike="noStrike">
                <a:solidFill>
                  <a:srgbClr val="8c8c8c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11631240" y="5690880"/>
            <a:ext cx="28116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11631240" y="364680"/>
            <a:ext cx="28116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312840" y="6269040"/>
            <a:ext cx="7221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c8c8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B2C9-F4DC-42A8-BD17-C34F7F76C390}" type="slidenum">
              <a:rPr b="0" lang="en-US" sz="800" spc="-1" strike="noStrike">
                <a:solidFill>
                  <a:srgbClr val="8c8c8c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755640"/>
            <a:ext cx="6858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TITLE LAYOUT</a:t>
            </a:r>
            <a:endParaRPr b="0" lang="en-US" sz="80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09480" y="3955680"/>
            <a:ext cx="6858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宋体"/>
              </a:rPr>
              <a:t>Subtitl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55960" y="384120"/>
            <a:ext cx="4800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-36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555960" y="2239920"/>
            <a:ext cx="4799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TITLE AND CONTENT LAYOUT WITH LIS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Add your first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Add your secon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Add your thir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TITLE AND CONTENT LAYOUT WITH CHAR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pic>
        <p:nvPicPr>
          <p:cNvPr id="202" name="Content Placeholder 5" descr="Clustered Column Chart"/>
          <p:cNvPicPr/>
          <p:nvPr/>
        </p:nvPicPr>
        <p:blipFill>
          <a:blip r:embed="rId2"/>
          <a:stretch/>
        </p:blipFill>
        <p:spPr>
          <a:xfrm>
            <a:off x="1930320" y="1936800"/>
            <a:ext cx="9474120" cy="4584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TWO CONTENT LAYOUT WITH TABLE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981080" y="1980720"/>
            <a:ext cx="4572000" cy="44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First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Secon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Thir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6781680" y="1981080"/>
          <a:ext cx="4572000" cy="20890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</a:tblGrid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d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Group 1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d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Group 2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dcff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82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95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76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88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9ff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84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TWO CONTENT LAYOUT WITH SMARTAR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981080" y="1980720"/>
            <a:ext cx="4572000" cy="44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First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Secon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Thir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08" name="Content Placeholder 4" descr="Interconnected Block Process"/>
          <p:cNvPicPr/>
          <p:nvPr/>
        </p:nvPicPr>
        <p:blipFill>
          <a:blip r:embed="rId2"/>
          <a:stretch/>
        </p:blipFill>
        <p:spPr>
          <a:xfrm>
            <a:off x="6778800" y="1981080"/>
            <a:ext cx="4730400" cy="4480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822240"/>
            <a:ext cx="8686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1bdcff"/>
              </a:solidFill>
              <a:latin typeface="Calibri"/>
              <a:ea typeface="宋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2835000"/>
            <a:ext cx="86868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559200" y="409680"/>
            <a:ext cx="4800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  <a:ea typeface="宋体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06600" y="380520"/>
            <a:ext cx="54892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59200" y="2238480"/>
            <a:ext cx="4800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  <a:ea typeface="宋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981080" y="1679040"/>
            <a:ext cx="4572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981080" y="2509920"/>
            <a:ext cx="45720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781680" y="1679040"/>
            <a:ext cx="4572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781680" y="2509920"/>
            <a:ext cx="45720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  <a:ea typeface="宋体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9T12:50:02Z</dcterms:created>
  <dc:creator/>
  <dc:description/>
  <dc:language>en-US</dc:language>
  <cp:lastModifiedBy/>
  <dcterms:modified xsi:type="dcterms:W3CDTF">2014-07-19T07:15:1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  <property fmtid="{D5CDD505-2E9C-101B-9397-08002B2CF9AE}" pid="3" name="_TemplateID">
    <vt:lpwstr>TC030310279991</vt:lpwstr>
  </property>
</Properties>
</file>