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10C-6F9F-4F2C-A8FD-178045AF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637-2C1B-480D-A612-871A020E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E3C-20FD-4484-A984-7D97B227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881-9585-47B3-8314-2484AC00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F81-CFC1-43BE-8260-F7F97A3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D42-2A9C-47F2-96CE-94AFFAAE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372-FC36-4D1F-93B6-5A7564A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1BD-505E-4C01-B3C7-74BB01EE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BF3-B2AC-48B9-8BFF-737E3DC0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20A-31B0-45A6-9E95-554F4081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CFE-A827-4344-9623-8527831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C88-548C-4A25-9328-6BDEB68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6F9D-058A-4A81-B474-0A88FA06D6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33E-3340-4EFC-945F-6A2B86B718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20520" y="1536840"/>
            <a:ext cx="698400" cy="1825560"/>
          </a:xfrm>
          <a:prstGeom prst="pie">
            <a:avLst/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9600" y="1536840"/>
            <a:ext cx="2023920" cy="3806640"/>
          </a:xfrm>
          <a:prstGeom prst="pie">
            <a:avLst/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prstGeom prst="pie">
            <a:avLst/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prstGeom prst="pie">
            <a:avLst/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1800"/>
            <a:ext cx="405432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8200" y="1531800"/>
            <a:ext cx="40546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prstGeom prst="pie">
              <a:avLst/>
            </a:pr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41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38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7" t="0" r="7130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92160 w 419760"/>
                <a:gd name="textAreaRight" fmla="*/ 327600 w 419760"/>
                <a:gd name="textAreaTop" fmla="*/ 92520 h 420480"/>
                <a:gd name="textAreaBottom" fmla="*/ 32796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2320 w 101160"/>
                <a:gd name="textAreaRight" fmla="*/ 78840 w 101160"/>
                <a:gd name="textAreaTop" fmla="*/ 58320 h 265320"/>
                <a:gd name="textAreaBottom" fmla="*/ 20700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3040 w 104760"/>
                <a:gd name="textAreaRight" fmla="*/ 81720 w 104760"/>
                <a:gd name="textAreaTop" fmla="*/ 58320 h 265320"/>
                <a:gd name="textAreaBottom" fmla="*/ 20700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prstGeom prst="pie">
            <a:avLst/>
          </a:pr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prstGeom prst="pie">
            <a:avLst/>
          </a:pr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prstGeom prst="pie">
              <a:avLst/>
            </a:pr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prstGeom prst="pie">
              <a:avLst/>
            </a:pr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bevel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bevel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bevel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bevel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bevel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>程泽源</dc:creator>
  <dc:description/>
  <dc:language>en-US</dc:language>
  <cp:lastModifiedBy>pan</cp:lastModifiedBy>
  <dcterms:modified xsi:type="dcterms:W3CDTF">2014-07-19T07:14:44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