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D0D-9DAA-4BE6-9D75-28AEB73F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A0D-C98A-4F0D-88C6-189FDE1F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26844-C230-45EE-898E-4E815E20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76587-670C-4F94-8B03-A41D2096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8F3A3-CE11-4C32-95BA-27777E5D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125BF-E3A7-470E-9AF5-D24B9B99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D7922-CD22-4FCD-A9D5-3068B3D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A2C9F-0B47-4553-B16A-275019F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0CB4D-D81A-4069-B155-AD3B4FC5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5DCE3-F62B-422B-A596-D43878AF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80F5E-5C4A-4DFE-9503-B1C0EDA1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25C81-D882-4646-86A3-24F74F0C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5FB-316B-40AA-8884-EE280516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C7047-D3D3-4284-A3F2-4F488479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83DB6-25B6-4570-8028-9387E11D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A1676-991F-4EB3-A9DA-0CF1C9B1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4B683-B29E-425F-8CA6-232FB953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13651-7FA4-4572-9B3B-A8306321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40593-ABE7-4E1C-A53D-8B3B28EB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D8909-A215-4F30-85BA-33615C9C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36CAF-1314-4DAE-96E2-2FC3D24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057A8-5D11-4EFE-BA8E-8113072C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718EB-F369-4036-83FF-8A68DA59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DED-C9E6-4285-AF07-D34F0E53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E6E8F-D6FF-4FEA-ABDA-01C30323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F56E1-118D-4D67-97FB-E1536B90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F8100-1CAD-4AE3-8680-DEB39A5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61541-A05F-4322-B3A2-1AA318E3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360B4-434F-4EC4-B070-54BBE01A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2CE7D-13E7-46B7-8EA8-0DFB15CA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21594-FB8F-47C0-BF83-37174FE8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9C65A-77B6-4B02-BC89-96EB725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8C097-AECA-467A-96A4-A84B2227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5163A-FEDA-442A-9D5F-7D831DC6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885E-9022-41E8-8588-44C81CF2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2DB6E-ABF4-441A-B94F-E4CE4462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3B524-DE94-4DE4-A6F8-809D4D93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C38FA-0F5A-4031-B9E1-AC59C91B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A9EA1-8997-49A7-9703-8D407A45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209A0-A7F9-48EB-8C58-F476B80C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1DB16-B0EA-4B22-B429-B12EFD35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030B3-AA90-4500-9089-9AE42FEE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B215-1E4B-4CA5-99B2-04056434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14AD3-5351-47FD-A386-46FDE911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64154-174B-4BBF-B309-46C0C5A4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7FCE-29D1-40C0-96E4-6A58947F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1E1BE-1CC5-4623-815D-09175F1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B8371-59BF-4362-B757-145B19BA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A3BB1-E20C-4CD5-9BEC-AAC6F610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7DCCA-F17F-4A88-A38A-6AD92340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E7899-5101-4BE9-BAD7-41614602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7C1D3-9AD7-4FCC-9B1C-8592B71F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50DC8-E845-4886-A4C8-80C6A369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C14BC-3B6A-4109-8B71-5A7ACEAE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854BF-74CC-4B16-BA1E-0C2B580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5EDEF-AEDE-40F0-9282-98D1CB76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A2C9-C294-4A96-AA04-41EB2DB7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AECA0-1AC2-4E98-9A7E-4A5B6EA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41BC5-660A-4AF1-AB98-FF9C5604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5F1F2-DCF1-4566-811B-AB7B16F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C6615-FB64-4056-867D-1CE8C0D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09972-F04F-42E8-9F17-210A14DD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20514-EF8A-4CEB-8224-B6DA7E7B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21E6C-0CFC-483A-AFA7-3A60B743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E878A-B158-44E7-A143-41102F2B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0E7C0-14BE-4BBB-95C8-CAF2290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7FE61-9E44-4A3A-8F2D-DAD331A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F5BC-8327-4EA8-8BC8-5D10C96C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75619-ABBD-40BE-8793-57B8B2B9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7E1C2-1869-440C-8819-9042BB71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B9F6C-57E1-4753-B4C4-B6207B8B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4B174-8400-4F5E-BEB4-0334D0E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A6466-57C4-459D-B49E-43437EF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8ECF4-FA7B-494C-88A6-10B92E5C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2E0FA-7B84-4B55-A304-95DDD503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A96C0-1906-4210-804A-3862FF11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A18B6-FC6C-4E63-942E-D6528F61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BCED-47C6-4AAC-8597-F52D8A69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B07-DB7B-4FF4-A85A-3A1A06D1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E239-411D-464E-8FDD-B6EA3DC3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9BE-1D08-4249-8D8A-14619AA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B6DB-EFFB-4B4A-9A4E-E2958A2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C314-1B53-4FD8-B05A-1A6E6AA2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B587-5591-4890-9282-0E049C46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FD4D-3367-4C31-AC01-5E7B4CF7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2F61-CAF9-4957-98E4-C82C8620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F10-EC1F-476D-8304-276F4D03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573A-C437-41B8-9FDB-AB11402B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B305-298B-418C-A46A-2691C6DF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FA59-86FC-48CF-863B-F6003AC7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0D4-B832-4CB7-A809-EB217BB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5BBB-A12B-4B0C-9A93-093460DE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92E8-BD8B-4EC3-9F5C-B19D5D6F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A51A-DD4D-478A-87C5-734F429E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9C66-8258-41D0-AA39-5ED68C29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D5C0-6242-4FD9-9E49-1102C22A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2A16-1DFE-483C-BCE1-EBB48D2C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6E7B-A39F-4688-B892-3ED25B26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3FE0-F0C4-472C-93E1-7F222704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30C9-AF34-4E0B-AB97-116E3475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0AE0-64AE-4762-B6F9-1DB272A4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861-0287-4E81-B9BE-2D3BB07D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173C-3D08-4F2B-9EA1-D358EDEF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909F-DAC6-48A9-8191-EB17599D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70B7-DBAC-4F88-A083-DC80BEC4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092D-5F1D-4041-8213-78BC3EF7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77E57-4F65-4F5C-AB07-8B295C4B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C95D-7FE8-4FB0-9508-21ECC6BE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8B8C-9EE3-4DDB-9D6F-AEA9153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256E-727A-4ED9-9D6F-34912BB0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5F6D7-0BB7-4749-A1F6-9329C87D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4C5C-F30B-4D3D-98BA-63EB4978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966-2DA7-477E-9B90-AEF29FE4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635E-6B45-49ED-9748-DF919DEF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18695-E380-4C33-9C9E-A85615D1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B6CB7-82E8-46FF-96F2-1907688D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83477-9D32-4B65-A9C0-7506AFF8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E35FF-29E0-407B-B9CD-FE9AC6D1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3A5C7-CAC5-48EC-B11E-0F01045E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EA6E2-EB71-4C72-9F53-68FC6169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8996-5FFE-450E-B3ED-D9B79EF0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2F5D9-7DC8-46D6-BA93-80C4E010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6B252-99F6-4D6A-9D24-319DD702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7DC-9225-4AE0-8321-77B9F4C4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93C7D-2D91-4DA2-B2DA-DBAA9E83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3326-EDEA-40EF-BBE2-43FE5E99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FFCB9-1FA7-4214-B220-404762F4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3F922-1130-4B2B-8DD8-E1ABFC83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12FF-3F9F-46C7-8053-81C73D6E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D8E4-506F-4940-8112-6A5CDF9B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6EDF2-7D8A-4219-B1DC-EC25C360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BE67-DAAD-4817-9F2B-E3D816FF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688D7-74EF-48B6-9DD0-D22EAE91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6CCB7-4DEB-4B9D-BA33-59EBCCD6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AB7-BF32-46D7-AB23-2EFD6173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3E4F-9CFB-449F-9003-E78990BB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F0228-A523-4BCE-816B-F9F0B1C7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115E4-A796-4286-A526-E9499D15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0F6BD-0F57-4359-81DE-BBCED72F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1A069-65FC-41DA-95B0-27AD4584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0326F-1C5F-463E-A952-9DB93463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539FB-DACC-4700-843C-3A56FD66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FB1EB-5D82-451D-89D2-2FFBC3BE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28EFE-13E7-4DBF-A784-091C8C48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7A24A-9495-4CF5-998C-CF78D8EA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13C-CE68-4B8C-804F-ADB517DD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7401A-83C3-45C5-817F-7B81BFE8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CA4A2-F0C1-46C1-97D1-60B818D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C381B-A9C1-43BF-86DE-618F844B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4993-5C70-4B7F-A171-F35181A6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6FBAA-54EC-4608-9A93-FC75445A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B31D5-EBAB-409D-BBD7-DDFA37D0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516F0-E8A1-4A46-8223-6FA78F06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D97DB-4671-432F-B85C-DCC05331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98ABE-3852-4A22-9E02-D05091A2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51A01-B0B7-467A-A050-C94C24BD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045A-6E59-4FE2-9DA5-109F35C4A2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292D-45D7-4A84-AD96-F81F0212598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EBAA-C5FB-48EC-95B8-984090B8E2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4650-CAFA-4C5F-A894-5B5AFEB8F72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EB41-0247-4D18-A90E-B24902F2FF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8DC4-79AF-45C1-983F-98F2A5AE446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5D41-398E-4954-B77F-94DDA0720F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25DA-1C1F-4652-BD05-51A80A0F97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4047-36C3-4A36-9637-AFF9FBC4AB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1CD-5CD3-4D1B-84D0-898B9BA998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092A-4DB0-4A87-8024-4F65986806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1962-1757-41DC-A954-FA55EF7EAC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31F7-8E32-4437-83FC-197C53CE15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6340320"/>
            <a:ext cx="12192120" cy="51768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595959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0" y="6392880"/>
            <a:ext cx="12192120" cy="46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2EEA-532C-4D7B-8079-70F5A0CC74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3E92-4CC4-444A-BD70-46D23D019E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5E2E-2D04-4B10-B6F9-9404DEFB3C4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199D-7B9E-48A4-A653-43135B3369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6DD9-6982-4BE4-9CD3-F742955D554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7D2-3DAF-4A28-B68F-AD7D6D9D35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6B18-9562-42DF-891F-C7A48314C97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230-029B-4BED-8F76-313CD861C0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5B96-5D29-4A70-9603-08BABFC0FBF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E85C-E369-4A09-8036-7CE4018711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D8E6-11AC-4777-BCA7-BF58A49FC4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DBAE-08E5-417A-8CEC-BB1EA137D0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209400" cy="6858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236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矩形 5"/>
          <p:cNvGrpSpPr/>
          <p:nvPr/>
        </p:nvGrpSpPr>
        <p:grpSpPr>
          <a:xfrm>
            <a:off x="-152280" y="4780080"/>
            <a:ext cx="12515760" cy="461880"/>
            <a:chOff x="-152280" y="4780080"/>
            <a:chExt cx="12515760" cy="461880"/>
          </a:xfrm>
        </p:grpSpPr>
        <p:pic>
          <p:nvPicPr>
            <p:cNvPr id="577" name="矩形 5" descr=""/>
            <p:cNvPicPr/>
            <p:nvPr/>
          </p:nvPicPr>
          <p:blipFill>
            <a:blip r:embed="rId3"/>
            <a:stretch/>
          </p:blipFill>
          <p:spPr>
            <a:xfrm>
              <a:off x="-152280" y="4780080"/>
              <a:ext cx="125157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6"/>
            <p:cNvSpPr/>
            <p:nvPr/>
          </p:nvSpPr>
          <p:spPr>
            <a:xfrm>
              <a:off x="-25200" y="4905360"/>
              <a:ext cx="122616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9" name="Picture 4" descr=""/>
          <p:cNvPicPr/>
          <p:nvPr/>
        </p:nvPicPr>
        <p:blipFill>
          <a:blip r:embed="rId4"/>
          <a:stretch/>
        </p:blipFill>
        <p:spPr>
          <a:xfrm>
            <a:off x="-25560" y="5065560"/>
            <a:ext cx="12261960" cy="1792440"/>
          </a:xfrm>
          <a:prstGeom prst="rect">
            <a:avLst/>
          </a:prstGeom>
          <a:ln w="0">
            <a:noFill/>
          </a:ln>
          <a:effectLst>
            <a:outerShdw dist="63360" dir="162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580" name="图片 7" descr=""/>
          <p:cNvPicPr/>
          <p:nvPr/>
        </p:nvPicPr>
        <p:blipFill>
          <a:blip r:embed="rId5"/>
          <a:srcRect l="21035" t="16039" r="21917" b="41463"/>
          <a:stretch/>
        </p:blipFill>
        <p:spPr>
          <a:xfrm>
            <a:off x="5024520" y="779400"/>
            <a:ext cx="6837120" cy="33480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8" descr=""/>
          <p:cNvPicPr/>
          <p:nvPr/>
        </p:nvPicPr>
        <p:blipFill>
          <a:blip r:embed="rId6"/>
          <a:stretch/>
        </p:blipFill>
        <p:spPr>
          <a:xfrm>
            <a:off x="895320" y="1133640"/>
            <a:ext cx="4114800" cy="7765920"/>
          </a:xfrm>
          <a:prstGeom prst="rect">
            <a:avLst/>
          </a:prstGeom>
          <a:ln w="0">
            <a:noFill/>
          </a:ln>
        </p:spPr>
      </p:pic>
      <p:pic>
        <p:nvPicPr>
          <p:cNvPr id="582" name="文本框 10" descr=""/>
          <p:cNvPicPr/>
          <p:nvPr/>
        </p:nvPicPr>
        <p:blipFill>
          <a:blip r:embed="rId7"/>
          <a:stretch/>
        </p:blipFill>
        <p:spPr>
          <a:xfrm>
            <a:off x="5502240" y="2779560"/>
            <a:ext cx="5797440" cy="192096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1"/>
          <p:cNvSpPr/>
          <p:nvPr/>
        </p:nvSpPr>
        <p:spPr>
          <a:xfrm>
            <a:off x="6610320" y="4021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秀作品请在小小精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平行四边形 5"/>
          <p:cNvSpPr/>
          <p:nvPr/>
        </p:nvSpPr>
        <p:spPr>
          <a:xfrm>
            <a:off x="1515960" y="1982880"/>
            <a:ext cx="9104400" cy="2881080"/>
          </a:xfrm>
          <a:prstGeom prst="parallelogram">
            <a:avLst>
              <a:gd name="adj" fmla="val -8714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6"/>
          <p:cNvSpPr/>
          <p:nvPr/>
        </p:nvSpPr>
        <p:spPr>
          <a:xfrm>
            <a:off x="4797360" y="3038400"/>
            <a:ext cx="519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7"/>
          <p:cNvSpPr/>
          <p:nvPr/>
        </p:nvSpPr>
        <p:spPr>
          <a:xfrm>
            <a:off x="4797360" y="2319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8"/>
          <p:cNvSpPr/>
          <p:nvPr/>
        </p:nvSpPr>
        <p:spPr>
          <a:xfrm>
            <a:off x="4797360" y="266076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子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9"/>
          <p:cNvSpPr/>
          <p:nvPr/>
        </p:nvSpPr>
        <p:spPr>
          <a:xfrm>
            <a:off x="5005440" y="4183200"/>
            <a:ext cx="488880" cy="4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椭圆 14"/>
          <p:cNvSpPr/>
          <p:nvPr/>
        </p:nvSpPr>
        <p:spPr>
          <a:xfrm>
            <a:off x="7578720" y="4181400"/>
            <a:ext cx="490680" cy="49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"/>
          <p:cNvSpPr/>
          <p:nvPr/>
        </p:nvSpPr>
        <p:spPr>
          <a:xfrm>
            <a:off x="5494320" y="4137120"/>
            <a:ext cx="160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"/>
          <p:cNvSpPr/>
          <p:nvPr/>
        </p:nvSpPr>
        <p:spPr>
          <a:xfrm>
            <a:off x="8177040" y="4137120"/>
            <a:ext cx="1608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图片 17" descr=""/>
          <p:cNvPicPr/>
          <p:nvPr/>
        </p:nvPicPr>
        <p:blipFill>
          <a:blip r:embed="rId1"/>
          <a:stretch/>
        </p:blipFill>
        <p:spPr>
          <a:xfrm>
            <a:off x="1792440" y="2316240"/>
            <a:ext cx="27921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 rot="1788000">
            <a:off x="3671640" y="2327040"/>
            <a:ext cx="5216400" cy="4495680"/>
          </a:xfrm>
          <a:custGeom>
            <a:avLst/>
            <a:gdLst/>
            <a:ahLst/>
            <a:rect l="l" t="t" r="r" b="b"/>
            <a:pathLst>
              <a:path w="5215319" h="4495963">
                <a:moveTo>
                  <a:pt x="1259814" y="0"/>
                </a:moveTo>
                <a:lnTo>
                  <a:pt x="3955505" y="0"/>
                </a:lnTo>
                <a:lnTo>
                  <a:pt x="5215319" y="2247982"/>
                </a:lnTo>
                <a:lnTo>
                  <a:pt x="4732595" y="3109343"/>
                </a:lnTo>
                <a:lnTo>
                  <a:pt x="2311512" y="4495963"/>
                </a:lnTo>
                <a:lnTo>
                  <a:pt x="1259814" y="4495963"/>
                </a:lnTo>
                <a:lnTo>
                  <a:pt x="0" y="2247982"/>
                </a:lnTo>
                <a:lnTo>
                  <a:pt x="1259814" y="0"/>
                </a:ln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六边形 24"/>
          <p:cNvSpPr/>
          <p:nvPr/>
        </p:nvSpPr>
        <p:spPr>
          <a:xfrm rot="1788000">
            <a:off x="4565160" y="217296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六边形 25"/>
          <p:cNvSpPr/>
          <p:nvPr/>
        </p:nvSpPr>
        <p:spPr>
          <a:xfrm rot="1788000">
            <a:off x="8029080" y="4098600"/>
            <a:ext cx="1105200" cy="95256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ff0101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六边形 26"/>
          <p:cNvSpPr/>
          <p:nvPr/>
        </p:nvSpPr>
        <p:spPr>
          <a:xfrm rot="1788000">
            <a:off x="6854760" y="2172960"/>
            <a:ext cx="1106640" cy="952560"/>
          </a:xfrm>
          <a:prstGeom prst="hexagon">
            <a:avLst>
              <a:gd name="adj" fmla="val 28065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六边形 27"/>
          <p:cNvSpPr/>
          <p:nvPr/>
        </p:nvSpPr>
        <p:spPr>
          <a:xfrm rot="1788000">
            <a:off x="3436560" y="4098960"/>
            <a:ext cx="1104840" cy="952560"/>
          </a:xfrm>
          <a:prstGeom prst="hexagon">
            <a:avLst>
              <a:gd name="adj" fmla="val 28019"/>
              <a:gd name="vf" fmla="val 115470"/>
            </a:avLst>
          </a:prstGeom>
          <a:solidFill>
            <a:srgbClr val="404040"/>
          </a:solidFill>
          <a:ln w="60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图片 28" descr=""/>
          <p:cNvPicPr/>
          <p:nvPr/>
        </p:nvPicPr>
        <p:blipFill>
          <a:blip r:embed="rId1"/>
          <a:stretch/>
        </p:blipFill>
        <p:spPr>
          <a:xfrm>
            <a:off x="3684600" y="43480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29" descr=""/>
          <p:cNvPicPr/>
          <p:nvPr/>
        </p:nvPicPr>
        <p:blipFill>
          <a:blip r:embed="rId2"/>
          <a:stretch/>
        </p:blipFill>
        <p:spPr>
          <a:xfrm>
            <a:off x="8348760" y="4387680"/>
            <a:ext cx="492120" cy="4906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30" descr=""/>
          <p:cNvPicPr/>
          <p:nvPr/>
        </p:nvPicPr>
        <p:blipFill>
          <a:blip r:embed="rId3"/>
          <a:stretch/>
        </p:blipFill>
        <p:spPr>
          <a:xfrm>
            <a:off x="7137360" y="234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31" descr=""/>
          <p:cNvPicPr/>
          <p:nvPr/>
        </p:nvPicPr>
        <p:blipFill>
          <a:blip r:embed="rId4"/>
          <a:stretch/>
        </p:blipFill>
        <p:spPr>
          <a:xfrm>
            <a:off x="4813200" y="2330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78"/>
          <p:cNvSpPr/>
          <p:nvPr/>
        </p:nvSpPr>
        <p:spPr>
          <a:xfrm>
            <a:off x="5021280" y="409428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流程图: 可选过程 33"/>
          <p:cNvSpPr/>
          <p:nvPr/>
        </p:nvSpPr>
        <p:spPr>
          <a:xfrm>
            <a:off x="5021280" y="3683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流程图: 可选过程 34"/>
          <p:cNvSpPr/>
          <p:nvPr/>
        </p:nvSpPr>
        <p:spPr>
          <a:xfrm>
            <a:off x="8024760" y="2324160"/>
            <a:ext cx="20811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流程图: 可选过程 35"/>
          <p:cNvSpPr/>
          <p:nvPr/>
        </p:nvSpPr>
        <p:spPr>
          <a:xfrm>
            <a:off x="9102600" y="434808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流程图: 可选过程 36"/>
          <p:cNvSpPr/>
          <p:nvPr/>
        </p:nvSpPr>
        <p:spPr>
          <a:xfrm>
            <a:off x="2454120" y="2444760"/>
            <a:ext cx="208152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流程图: 可选过程 37"/>
          <p:cNvSpPr/>
          <p:nvPr/>
        </p:nvSpPr>
        <p:spPr>
          <a:xfrm>
            <a:off x="1413000" y="4370400"/>
            <a:ext cx="2081160" cy="409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十字星 5"/>
          <p:cNvSpPr/>
          <p:nvPr/>
        </p:nvSpPr>
        <p:spPr>
          <a:xfrm>
            <a:off x="4362480" y="2000160"/>
            <a:ext cx="3465360" cy="3465720"/>
          </a:xfrm>
          <a:custGeom>
            <a:avLst/>
            <a:gdLst>
              <a:gd name="textAreaLeft" fmla="*/ 1192320 w 3465360"/>
              <a:gd name="textAreaRight" fmla="*/ 2273040 w 3465360"/>
              <a:gd name="textAreaTop" fmla="*/ 1192320 h 3465720"/>
              <a:gd name="textAreaBottom" fmla="*/ 2273400 h 346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431" y="7431"/>
                </a:lnTo>
                <a:lnTo>
                  <a:pt x="10800" y="0"/>
                </a:lnTo>
                <a:lnTo>
                  <a:pt x="14169" y="7431"/>
                </a:lnTo>
                <a:lnTo>
                  <a:pt x="21600" y="10800"/>
                </a:lnTo>
                <a:lnTo>
                  <a:pt x="14169" y="14169"/>
                </a:lnTo>
                <a:lnTo>
                  <a:pt x="10800" y="21600"/>
                </a:lnTo>
                <a:lnTo>
                  <a:pt x="7431" y="14169"/>
                </a:lnTo>
                <a:lnTo>
                  <a:pt x="0" y="108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6"/>
          <p:cNvSpPr/>
          <p:nvPr/>
        </p:nvSpPr>
        <p:spPr>
          <a:xfrm>
            <a:off x="5508720" y="1414440"/>
            <a:ext cx="1173240" cy="117144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7"/>
          <p:cNvSpPr/>
          <p:nvPr/>
        </p:nvSpPr>
        <p:spPr>
          <a:xfrm>
            <a:off x="7335720" y="3146400"/>
            <a:ext cx="117180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8"/>
          <p:cNvSpPr/>
          <p:nvPr/>
        </p:nvSpPr>
        <p:spPr>
          <a:xfrm>
            <a:off x="3683160" y="3146400"/>
            <a:ext cx="1171440" cy="1173240"/>
          </a:xfrm>
          <a:prstGeom prst="ellipse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9"/>
          <p:cNvSpPr/>
          <p:nvPr/>
        </p:nvSpPr>
        <p:spPr>
          <a:xfrm>
            <a:off x="5537160" y="4767120"/>
            <a:ext cx="1171440" cy="1171800"/>
          </a:xfrm>
          <a:prstGeom prst="ellipse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椭圆 14"/>
          <p:cNvSpPr/>
          <p:nvPr/>
        </p:nvSpPr>
        <p:spPr>
          <a:xfrm>
            <a:off x="5483160" y="3083040"/>
            <a:ext cx="1173240" cy="1171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77"/>
          <p:cNvSpPr/>
          <p:nvPr/>
        </p:nvSpPr>
        <p:spPr>
          <a:xfrm>
            <a:off x="7070760" y="133020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77"/>
          <p:cNvSpPr/>
          <p:nvPr/>
        </p:nvSpPr>
        <p:spPr>
          <a:xfrm>
            <a:off x="8640720" y="33591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77"/>
          <p:cNvSpPr/>
          <p:nvPr/>
        </p:nvSpPr>
        <p:spPr>
          <a:xfrm>
            <a:off x="3124080" y="503856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77"/>
          <p:cNvSpPr/>
          <p:nvPr/>
        </p:nvSpPr>
        <p:spPr>
          <a:xfrm>
            <a:off x="1289160" y="3314880"/>
            <a:ext cx="2254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5"/>
          <p:cNvSpPr/>
          <p:nvPr/>
        </p:nvSpPr>
        <p:spPr>
          <a:xfrm>
            <a:off x="1827360" y="1438200"/>
            <a:ext cx="8424720" cy="4381560"/>
          </a:xfrm>
          <a:prstGeom prst="rect">
            <a:avLst/>
          </a:prstGeom>
          <a:solidFill>
            <a:srgbClr val="e80000"/>
          </a:solidFill>
          <a:ln w="1260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6" descr=""/>
          <p:cNvPicPr/>
          <p:nvPr/>
        </p:nvPicPr>
        <p:blipFill>
          <a:blip r:embed="rId1"/>
          <a:stretch/>
        </p:blipFill>
        <p:spPr>
          <a:xfrm>
            <a:off x="1816200" y="1414440"/>
            <a:ext cx="3024000" cy="44067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" descr=""/>
          <p:cNvPicPr/>
          <p:nvPr/>
        </p:nvPicPr>
        <p:blipFill>
          <a:blip r:embed="rId2"/>
          <a:stretch/>
        </p:blipFill>
        <p:spPr>
          <a:xfrm>
            <a:off x="7229520" y="1438200"/>
            <a:ext cx="3036960" cy="4395960"/>
          </a:xfrm>
          <a:prstGeom prst="rect">
            <a:avLst/>
          </a:prstGeom>
          <a:ln w="0">
            <a:noFill/>
          </a:ln>
        </p:spPr>
      </p:pic>
      <p:sp>
        <p:nvSpPr>
          <p:cNvPr id="835" name="文本框 13"/>
          <p:cNvSpPr/>
          <p:nvPr/>
        </p:nvSpPr>
        <p:spPr>
          <a:xfrm>
            <a:off x="4641840" y="2119320"/>
            <a:ext cx="2843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1"/>
          <p:cNvSpPr/>
          <p:nvPr/>
        </p:nvSpPr>
        <p:spPr>
          <a:xfrm flipH="1">
            <a:off x="1312200" y="1682640"/>
            <a:ext cx="240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1433520" y="255888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1"/>
          <p:cNvSpPr/>
          <p:nvPr/>
        </p:nvSpPr>
        <p:spPr>
          <a:xfrm flipH="1">
            <a:off x="1305000" y="3060720"/>
            <a:ext cx="251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直接连接符 8"/>
          <p:cNvSpPr/>
          <p:nvPr/>
        </p:nvSpPr>
        <p:spPr>
          <a:xfrm>
            <a:off x="1433520" y="3898800"/>
            <a:ext cx="2608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1"/>
          <p:cNvSpPr/>
          <p:nvPr/>
        </p:nvSpPr>
        <p:spPr>
          <a:xfrm flipH="1">
            <a:off x="1304280" y="4524480"/>
            <a:ext cx="25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14"/>
          <p:cNvSpPr/>
          <p:nvPr/>
        </p:nvSpPr>
        <p:spPr>
          <a:xfrm>
            <a:off x="1433520" y="5337000"/>
            <a:ext cx="445464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1"/>
          <p:cNvSpPr/>
          <p:nvPr/>
        </p:nvSpPr>
        <p:spPr>
          <a:xfrm flipH="1">
            <a:off x="8445600" y="1781280"/>
            <a:ext cx="22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16"/>
          <p:cNvSpPr/>
          <p:nvPr/>
        </p:nvSpPr>
        <p:spPr>
          <a:xfrm>
            <a:off x="7591320" y="2558880"/>
            <a:ext cx="306720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0"/>
          <p:cNvSpPr/>
          <p:nvPr/>
        </p:nvSpPr>
        <p:spPr>
          <a:xfrm flipH="1">
            <a:off x="8440560" y="402120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直接连接符 18"/>
          <p:cNvSpPr/>
          <p:nvPr/>
        </p:nvSpPr>
        <p:spPr>
          <a:xfrm>
            <a:off x="7122960" y="4822920"/>
            <a:ext cx="3535560" cy="0"/>
          </a:xfrm>
          <a:prstGeom prst="line">
            <a:avLst/>
          </a:prstGeom>
          <a:ln w="64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0" name="组合 19"/>
          <p:cNvGrpSpPr/>
          <p:nvPr/>
        </p:nvGrpSpPr>
        <p:grpSpPr>
          <a:xfrm>
            <a:off x="2384280" y="1373040"/>
            <a:ext cx="6816960" cy="4797720"/>
            <a:chOff x="2384280" y="1373040"/>
            <a:chExt cx="6816960" cy="4797720"/>
          </a:xfrm>
        </p:grpSpPr>
        <p:grpSp>
          <p:nvGrpSpPr>
            <p:cNvPr id="851" name="椭圆 10"/>
            <p:cNvGrpSpPr/>
            <p:nvPr/>
          </p:nvGrpSpPr>
          <p:grpSpPr>
            <a:xfrm>
              <a:off x="2384280" y="3205080"/>
              <a:ext cx="6816960" cy="1184760"/>
              <a:chOff x="2384280" y="3205080"/>
              <a:chExt cx="6816960" cy="1184760"/>
            </a:xfrm>
          </p:grpSpPr>
          <p:pic>
            <p:nvPicPr>
              <p:cNvPr id="852" name="椭圆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84280" y="3205080"/>
                <a:ext cx="6816960" cy="11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Text Box 19"/>
              <p:cNvSpPr/>
              <p:nvPr/>
            </p:nvSpPr>
            <p:spPr>
              <a:xfrm>
                <a:off x="3459240" y="3426480"/>
                <a:ext cx="459468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4" name="组合 21" descr=""/>
            <p:cNvPicPr/>
            <p:nvPr/>
          </p:nvPicPr>
          <p:blipFill>
            <a:blip r:embed="rId2"/>
            <a:stretch/>
          </p:blipFill>
          <p:spPr>
            <a:xfrm>
              <a:off x="3871800" y="1373040"/>
              <a:ext cx="3853080" cy="479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5"/>
          <p:cNvSpPr/>
          <p:nvPr/>
        </p:nvSpPr>
        <p:spPr>
          <a:xfrm>
            <a:off x="4524480" y="2009880"/>
            <a:ext cx="67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6"/>
          <p:cNvSpPr/>
          <p:nvPr/>
        </p:nvSpPr>
        <p:spPr>
          <a:xfrm>
            <a:off x="4524480" y="129708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7"/>
          <p:cNvSpPr/>
          <p:nvPr/>
        </p:nvSpPr>
        <p:spPr>
          <a:xfrm>
            <a:off x="4524480" y="16416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8"/>
          <p:cNvSpPr/>
          <p:nvPr/>
        </p:nvSpPr>
        <p:spPr>
          <a:xfrm>
            <a:off x="4923000" y="3362400"/>
            <a:ext cx="216360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9"/>
          <p:cNvSpPr/>
          <p:nvPr/>
        </p:nvSpPr>
        <p:spPr>
          <a:xfrm>
            <a:off x="8694720" y="3362400"/>
            <a:ext cx="2163960" cy="368280"/>
          </a:xfrm>
          <a:prstGeom prst="rect">
            <a:avLst/>
          </a:prstGeom>
          <a:solidFill>
            <a:srgbClr val="ed49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35"/>
          <p:cNvSpPr/>
          <p:nvPr/>
        </p:nvSpPr>
        <p:spPr>
          <a:xfrm>
            <a:off x="4819680" y="399744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35"/>
          <p:cNvSpPr/>
          <p:nvPr/>
        </p:nvSpPr>
        <p:spPr>
          <a:xfrm>
            <a:off x="8591400" y="3994200"/>
            <a:ext cx="28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图片 16" descr=""/>
          <p:cNvPicPr/>
          <p:nvPr/>
        </p:nvPicPr>
        <p:blipFill>
          <a:blip r:embed="rId1"/>
          <a:stretch/>
        </p:blipFill>
        <p:spPr>
          <a:xfrm>
            <a:off x="785880" y="1641600"/>
            <a:ext cx="3560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六边形 5"/>
          <p:cNvSpPr/>
          <p:nvPr/>
        </p:nvSpPr>
        <p:spPr>
          <a:xfrm>
            <a:off x="4691160" y="184788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六边形 6"/>
          <p:cNvSpPr/>
          <p:nvPr/>
        </p:nvSpPr>
        <p:spPr>
          <a:xfrm>
            <a:off x="6116760" y="271152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六边形 7"/>
          <p:cNvSpPr/>
          <p:nvPr/>
        </p:nvSpPr>
        <p:spPr>
          <a:xfrm>
            <a:off x="4691160" y="3510000"/>
            <a:ext cx="1739880" cy="1498680"/>
          </a:xfrm>
          <a:prstGeom prst="hexagon">
            <a:avLst>
              <a:gd name="adj" fmla="val 30109"/>
              <a:gd name="vf" fmla="val 115470"/>
            </a:avLst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8"/>
          <p:cNvSpPr/>
          <p:nvPr/>
        </p:nvSpPr>
        <p:spPr>
          <a:xfrm>
            <a:off x="7120080" y="151920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9"/>
          <p:cNvSpPr/>
          <p:nvPr/>
        </p:nvSpPr>
        <p:spPr>
          <a:xfrm>
            <a:off x="6431040" y="4373640"/>
            <a:ext cx="432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14"/>
          <p:cNvSpPr/>
          <p:nvPr/>
        </p:nvSpPr>
        <p:spPr>
          <a:xfrm>
            <a:off x="658800" y="2944800"/>
            <a:ext cx="432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图片 15" descr=""/>
          <p:cNvPicPr/>
          <p:nvPr/>
        </p:nvPicPr>
        <p:blipFill>
          <a:blip r:embed="rId1"/>
          <a:stretch/>
        </p:blipFill>
        <p:spPr>
          <a:xfrm>
            <a:off x="5186520" y="21891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6" descr=""/>
          <p:cNvPicPr/>
          <p:nvPr/>
        </p:nvPicPr>
        <p:blipFill>
          <a:blip r:embed="rId2"/>
          <a:stretch/>
        </p:blipFill>
        <p:spPr>
          <a:xfrm>
            <a:off x="6608880" y="30700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17" descr=""/>
          <p:cNvPicPr/>
          <p:nvPr/>
        </p:nvPicPr>
        <p:blipFill>
          <a:blip r:embed="rId3"/>
          <a:stretch/>
        </p:blipFill>
        <p:spPr>
          <a:xfrm>
            <a:off x="5183280" y="3884760"/>
            <a:ext cx="75564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14"/>
          <p:cNvGrpSpPr/>
          <p:nvPr/>
        </p:nvGrpSpPr>
        <p:grpSpPr>
          <a:xfrm>
            <a:off x="1041480" y="1247760"/>
            <a:ext cx="4270320" cy="4645080"/>
            <a:chOff x="1041480" y="1247760"/>
            <a:chExt cx="4270320" cy="4645080"/>
          </a:xfrm>
        </p:grpSpPr>
        <p:sp>
          <p:nvSpPr>
            <p:cNvPr id="602" name="流程图: 联系 15"/>
            <p:cNvSpPr/>
            <p:nvPr/>
          </p:nvSpPr>
          <p:spPr>
            <a:xfrm>
              <a:off x="2674080" y="12477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流程图: 联系 16"/>
            <p:cNvSpPr/>
            <p:nvPr/>
          </p:nvSpPr>
          <p:spPr>
            <a:xfrm>
              <a:off x="4306680" y="225324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流程图: 联系 17"/>
            <p:cNvSpPr/>
            <p:nvPr/>
          </p:nvSpPr>
          <p:spPr>
            <a:xfrm>
              <a:off x="4306680" y="388188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流程图: 联系 18"/>
            <p:cNvSpPr/>
            <p:nvPr/>
          </p:nvSpPr>
          <p:spPr>
            <a:xfrm>
              <a:off x="1193760" y="3877560"/>
              <a:ext cx="1005120" cy="1005480"/>
            </a:xfrm>
            <a:prstGeom prst="flowChartConnector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流程图: 联系 19"/>
            <p:cNvSpPr/>
            <p:nvPr/>
          </p:nvSpPr>
          <p:spPr>
            <a:xfrm>
              <a:off x="2607840" y="4887360"/>
              <a:ext cx="1005120" cy="1005480"/>
            </a:xfrm>
            <a:prstGeom prst="flowChartConnector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流程图: 联系 20"/>
            <p:cNvSpPr/>
            <p:nvPr/>
          </p:nvSpPr>
          <p:spPr>
            <a:xfrm>
              <a:off x="1041480" y="2253240"/>
              <a:ext cx="1005120" cy="1005480"/>
            </a:xfrm>
            <a:prstGeom prst="flowChartConnector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1"/>
            <p:cNvSpPr/>
            <p:nvPr/>
          </p:nvSpPr>
          <p:spPr>
            <a:xfrm>
              <a:off x="2046600" y="2755800"/>
              <a:ext cx="2259720" cy="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22"/>
            <p:cNvSpPr/>
            <p:nvPr/>
          </p:nvSpPr>
          <p:spPr>
            <a:xfrm>
              <a:off x="3531960" y="2106000"/>
              <a:ext cx="1276920" cy="177588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直接连接符 23"/>
            <p:cNvSpPr/>
            <p:nvPr/>
          </p:nvSpPr>
          <p:spPr>
            <a:xfrm>
              <a:off x="1899360" y="3111480"/>
              <a:ext cx="85572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直接连接符 24"/>
            <p:cNvSpPr/>
            <p:nvPr/>
          </p:nvSpPr>
          <p:spPr>
            <a:xfrm>
              <a:off x="2199240" y="4380480"/>
              <a:ext cx="2107440" cy="39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直接连接符 25"/>
            <p:cNvSpPr/>
            <p:nvPr/>
          </p:nvSpPr>
          <p:spPr>
            <a:xfrm flipV="1">
              <a:off x="1696680" y="2105640"/>
              <a:ext cx="1124640" cy="177156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直接连接符 26"/>
            <p:cNvSpPr/>
            <p:nvPr/>
          </p:nvSpPr>
          <p:spPr>
            <a:xfrm flipH="1">
              <a:off x="3465720" y="3111480"/>
              <a:ext cx="987480" cy="1923120"/>
            </a:xfrm>
            <a:prstGeom prst="line">
              <a:avLst/>
            </a:prstGeom>
            <a:ln w="648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流程图: 联系 27"/>
            <p:cNvSpPr/>
            <p:nvPr/>
          </p:nvSpPr>
          <p:spPr>
            <a:xfrm>
              <a:off x="2693520" y="2945520"/>
              <a:ext cx="1005120" cy="1005480"/>
            </a:xfrm>
            <a:prstGeom prst="flowChartConnector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28"/>
          <p:cNvSpPr/>
          <p:nvPr/>
        </p:nvSpPr>
        <p:spPr>
          <a:xfrm>
            <a:off x="2830680" y="15987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29"/>
          <p:cNvSpPr/>
          <p:nvPr/>
        </p:nvSpPr>
        <p:spPr>
          <a:xfrm>
            <a:off x="1235160" y="256068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0"/>
          <p:cNvSpPr/>
          <p:nvPr/>
        </p:nvSpPr>
        <p:spPr>
          <a:xfrm>
            <a:off x="1308240" y="4179960"/>
            <a:ext cx="8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1"/>
          <p:cNvSpPr/>
          <p:nvPr/>
        </p:nvSpPr>
        <p:spPr>
          <a:xfrm>
            <a:off x="2774880" y="526248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32"/>
          <p:cNvSpPr/>
          <p:nvPr/>
        </p:nvSpPr>
        <p:spPr>
          <a:xfrm>
            <a:off x="4511520" y="421956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3"/>
          <p:cNvSpPr/>
          <p:nvPr/>
        </p:nvSpPr>
        <p:spPr>
          <a:xfrm>
            <a:off x="4470480" y="258588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34"/>
          <p:cNvSpPr/>
          <p:nvPr/>
        </p:nvSpPr>
        <p:spPr>
          <a:xfrm>
            <a:off x="2851200" y="32972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接连接符 35"/>
          <p:cNvSpPr/>
          <p:nvPr/>
        </p:nvSpPr>
        <p:spPr>
          <a:xfrm flipH="1">
            <a:off x="5779800" y="1247760"/>
            <a:ext cx="3240" cy="464508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78"/>
          <p:cNvSpPr/>
          <p:nvPr/>
        </p:nvSpPr>
        <p:spPr>
          <a:xfrm>
            <a:off x="6330960" y="2816280"/>
            <a:ext cx="529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7"/>
          <p:cNvSpPr/>
          <p:nvPr/>
        </p:nvSpPr>
        <p:spPr>
          <a:xfrm>
            <a:off x="6318360" y="23637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5"/>
          <p:cNvSpPr/>
          <p:nvPr/>
        </p:nvSpPr>
        <p:spPr>
          <a:xfrm>
            <a:off x="6937200" y="3971880"/>
            <a:ext cx="513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692"/>
          <p:cNvSpPr/>
          <p:nvPr/>
        </p:nvSpPr>
        <p:spPr>
          <a:xfrm>
            <a:off x="7286760" y="352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图片 7" descr=""/>
          <p:cNvPicPr/>
          <p:nvPr/>
        </p:nvPicPr>
        <p:blipFill>
          <a:blip r:embed="rId1"/>
          <a:stretch/>
        </p:blipFill>
        <p:spPr>
          <a:xfrm>
            <a:off x="10399680" y="2919240"/>
            <a:ext cx="839880" cy="8398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8" descr=""/>
          <p:cNvPicPr/>
          <p:nvPr/>
        </p:nvPicPr>
        <p:blipFill>
          <a:blip r:embed="rId2"/>
          <a:stretch/>
        </p:blipFill>
        <p:spPr>
          <a:xfrm>
            <a:off x="11356920" y="2701800"/>
            <a:ext cx="500040" cy="498600"/>
          </a:xfrm>
          <a:prstGeom prst="rect">
            <a:avLst/>
          </a:prstGeom>
          <a:ln w="0">
            <a:noFill/>
          </a:ln>
        </p:spPr>
      </p:pic>
      <p:sp>
        <p:nvSpPr>
          <p:cNvPr id="633" name="文本框 9"/>
          <p:cNvSpPr/>
          <p:nvPr/>
        </p:nvSpPr>
        <p:spPr>
          <a:xfrm>
            <a:off x="6934320" y="296064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图、中国地图中的每个国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省份均可自由编辑换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组合 14" descr=""/>
          <p:cNvPicPr/>
          <p:nvPr/>
        </p:nvPicPr>
        <p:blipFill>
          <a:blip r:embed="rId3"/>
          <a:stretch/>
        </p:blipFill>
        <p:spPr>
          <a:xfrm>
            <a:off x="146160" y="1011240"/>
            <a:ext cx="67910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6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7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11"/>
          <p:cNvSpPr/>
          <p:nvPr/>
        </p:nvSpPr>
        <p:spPr>
          <a:xfrm flipH="1">
            <a:off x="4757040" y="1906560"/>
            <a:ext cx="2833560" cy="4129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接连接符 12"/>
          <p:cNvSpPr/>
          <p:nvPr/>
        </p:nvSpPr>
        <p:spPr>
          <a:xfrm flipH="1">
            <a:off x="6173280" y="1327320"/>
            <a:ext cx="3240" cy="1374480"/>
          </a:xfrm>
          <a:prstGeom prst="line">
            <a:avLst/>
          </a:prstGeom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右中括号 13"/>
          <p:cNvSpPr/>
          <p:nvPr/>
        </p:nvSpPr>
        <p:spPr>
          <a:xfrm rot="16200000">
            <a:off x="6015600" y="-264240"/>
            <a:ext cx="317520" cy="6249960"/>
          </a:xfrm>
          <a:custGeom>
            <a:avLst/>
            <a:gdLst>
              <a:gd name="textAreaLeft" fmla="*/ 0 w 317520"/>
              <a:gd name="textAreaRight" fmla="*/ 222840 w 317520"/>
              <a:gd name="textAreaTop" fmla="*/ 12960 h 6249960"/>
              <a:gd name="textAreaBottom" fmla="*/ 6237000 h 62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6"/>
                  <a:pt x="21600" y="92"/>
                </a:cubicBezTo>
                <a:lnTo>
                  <a:pt x="21600" y="21508"/>
                </a:lnTo>
                <a:cubicBezTo>
                  <a:pt x="21600" y="21554"/>
                  <a:pt x="10800" y="21600"/>
                  <a:pt x="0" y="21600"/>
                </a:cubicBezTo>
              </a:path>
            </a:pathLst>
          </a:custGeom>
          <a:noFill/>
          <a:ln w="648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14"/>
          <p:cNvSpPr/>
          <p:nvPr/>
        </p:nvSpPr>
        <p:spPr>
          <a:xfrm flipH="1">
            <a:off x="4757040" y="1111320"/>
            <a:ext cx="2833560" cy="4125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3" name="组合 15"/>
          <p:cNvGrpSpPr/>
          <p:nvPr/>
        </p:nvGrpSpPr>
        <p:grpSpPr>
          <a:xfrm>
            <a:off x="2101680" y="3019320"/>
            <a:ext cx="1895760" cy="2921040"/>
            <a:chOff x="2101680" y="3019320"/>
            <a:chExt cx="1895760" cy="2921040"/>
          </a:xfrm>
        </p:grpSpPr>
        <p:sp>
          <p:nvSpPr>
            <p:cNvPr id="644" name="流程图: 过程 16"/>
            <p:cNvSpPr/>
            <p:nvPr/>
          </p:nvSpPr>
          <p:spPr>
            <a:xfrm>
              <a:off x="2101680" y="3019320"/>
              <a:ext cx="189576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流程图: 过程 17"/>
            <p:cNvSpPr/>
            <p:nvPr/>
          </p:nvSpPr>
          <p:spPr>
            <a:xfrm>
              <a:off x="2101680" y="3019320"/>
              <a:ext cx="188028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18"/>
          <p:cNvGrpSpPr/>
          <p:nvPr/>
        </p:nvGrpSpPr>
        <p:grpSpPr>
          <a:xfrm>
            <a:off x="4176720" y="3019320"/>
            <a:ext cx="1895400" cy="2921040"/>
            <a:chOff x="4176720" y="3019320"/>
            <a:chExt cx="1895400" cy="2921040"/>
          </a:xfrm>
        </p:grpSpPr>
        <p:sp>
          <p:nvSpPr>
            <p:cNvPr id="647" name="流程图: 过程 19"/>
            <p:cNvSpPr/>
            <p:nvPr/>
          </p:nvSpPr>
          <p:spPr>
            <a:xfrm>
              <a:off x="417672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流程图: 过程 20"/>
            <p:cNvSpPr/>
            <p:nvPr/>
          </p:nvSpPr>
          <p:spPr>
            <a:xfrm>
              <a:off x="417672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组合 21"/>
          <p:cNvGrpSpPr/>
          <p:nvPr/>
        </p:nvGrpSpPr>
        <p:grpSpPr>
          <a:xfrm>
            <a:off x="6222960" y="3019320"/>
            <a:ext cx="1895400" cy="2921040"/>
            <a:chOff x="6222960" y="3019320"/>
            <a:chExt cx="1895400" cy="2921040"/>
          </a:xfrm>
        </p:grpSpPr>
        <p:sp>
          <p:nvSpPr>
            <p:cNvPr id="650" name="流程图: 过程 22"/>
            <p:cNvSpPr/>
            <p:nvPr/>
          </p:nvSpPr>
          <p:spPr>
            <a:xfrm>
              <a:off x="622296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流程图: 过程 23"/>
            <p:cNvSpPr/>
            <p:nvPr/>
          </p:nvSpPr>
          <p:spPr>
            <a:xfrm>
              <a:off x="622296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组合 24"/>
          <p:cNvGrpSpPr/>
          <p:nvPr/>
        </p:nvGrpSpPr>
        <p:grpSpPr>
          <a:xfrm>
            <a:off x="8288280" y="3019320"/>
            <a:ext cx="1895400" cy="2921040"/>
            <a:chOff x="8288280" y="3019320"/>
            <a:chExt cx="1895400" cy="2921040"/>
          </a:xfrm>
        </p:grpSpPr>
        <p:sp>
          <p:nvSpPr>
            <p:cNvPr id="653" name="流程图: 过程 25"/>
            <p:cNvSpPr/>
            <p:nvPr/>
          </p:nvSpPr>
          <p:spPr>
            <a:xfrm>
              <a:off x="8288280" y="3019320"/>
              <a:ext cx="1895400" cy="2921040"/>
            </a:xfrm>
            <a:prstGeom prst="flowChartProcess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流程图: 过程 26"/>
            <p:cNvSpPr/>
            <p:nvPr/>
          </p:nvSpPr>
          <p:spPr>
            <a:xfrm>
              <a:off x="8288280" y="3019320"/>
              <a:ext cx="1879920" cy="496800"/>
            </a:xfrm>
            <a:prstGeom prst="flowChartProcess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文本框 27"/>
          <p:cNvSpPr/>
          <p:nvPr/>
        </p:nvSpPr>
        <p:spPr>
          <a:xfrm>
            <a:off x="5268960" y="111132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28"/>
          <p:cNvSpPr/>
          <p:nvPr/>
        </p:nvSpPr>
        <p:spPr>
          <a:xfrm>
            <a:off x="5268960" y="1906560"/>
            <a:ext cx="18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9"/>
          <p:cNvSpPr/>
          <p:nvPr/>
        </p:nvSpPr>
        <p:spPr>
          <a:xfrm>
            <a:off x="2411280" y="302904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0"/>
          <p:cNvSpPr/>
          <p:nvPr/>
        </p:nvSpPr>
        <p:spPr>
          <a:xfrm>
            <a:off x="4546440" y="302904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1"/>
          <p:cNvSpPr/>
          <p:nvPr/>
        </p:nvSpPr>
        <p:spPr>
          <a:xfrm>
            <a:off x="6532560" y="303696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32"/>
          <p:cNvSpPr/>
          <p:nvPr/>
        </p:nvSpPr>
        <p:spPr>
          <a:xfrm>
            <a:off x="8669160" y="304956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10"/>
          <p:cNvSpPr/>
          <p:nvPr/>
        </p:nvSpPr>
        <p:spPr>
          <a:xfrm>
            <a:off x="2155680" y="3851280"/>
            <a:ext cx="182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0"/>
          <p:cNvSpPr/>
          <p:nvPr/>
        </p:nvSpPr>
        <p:spPr>
          <a:xfrm>
            <a:off x="424656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0"/>
          <p:cNvSpPr/>
          <p:nvPr/>
        </p:nvSpPr>
        <p:spPr>
          <a:xfrm>
            <a:off x="629280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0"/>
          <p:cNvSpPr/>
          <p:nvPr/>
        </p:nvSpPr>
        <p:spPr>
          <a:xfrm>
            <a:off x="8386920" y="385128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组合 5" descr=""/>
          <p:cNvPicPr/>
          <p:nvPr/>
        </p:nvPicPr>
        <p:blipFill>
          <a:blip r:embed="rId1"/>
          <a:stretch/>
        </p:blipFill>
        <p:spPr>
          <a:xfrm>
            <a:off x="2054160" y="271296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70" name="文本框 16"/>
          <p:cNvSpPr/>
          <p:nvPr/>
        </p:nvSpPr>
        <p:spPr>
          <a:xfrm>
            <a:off x="2533680" y="351648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7"/>
          <p:cNvSpPr/>
          <p:nvPr/>
        </p:nvSpPr>
        <p:spPr>
          <a:xfrm>
            <a:off x="3994200" y="2817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8"/>
          <p:cNvSpPr/>
          <p:nvPr/>
        </p:nvSpPr>
        <p:spPr>
          <a:xfrm>
            <a:off x="5265720" y="3524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19"/>
          <p:cNvSpPr/>
          <p:nvPr/>
        </p:nvSpPr>
        <p:spPr>
          <a:xfrm>
            <a:off x="6491160" y="28353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20"/>
          <p:cNvSpPr/>
          <p:nvPr/>
        </p:nvSpPr>
        <p:spPr>
          <a:xfrm>
            <a:off x="7785000" y="36655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1"/>
          <p:cNvSpPr/>
          <p:nvPr/>
        </p:nvSpPr>
        <p:spPr>
          <a:xfrm>
            <a:off x="9123480" y="2835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222732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0"/>
          <p:cNvSpPr/>
          <p:nvPr/>
        </p:nvSpPr>
        <p:spPr>
          <a:xfrm>
            <a:off x="3419640" y="109872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4611600" y="443556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7205760" y="4435560"/>
            <a:ext cx="1698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0"/>
          <p:cNvSpPr/>
          <p:nvPr/>
        </p:nvSpPr>
        <p:spPr>
          <a:xfrm>
            <a:off x="5891040" y="1144440"/>
            <a:ext cx="1698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10"/>
          <p:cNvSpPr/>
          <p:nvPr/>
        </p:nvSpPr>
        <p:spPr>
          <a:xfrm>
            <a:off x="8459640" y="1093680"/>
            <a:ext cx="1697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空心弧 5"/>
          <p:cNvSpPr/>
          <p:nvPr/>
        </p:nvSpPr>
        <p:spPr>
          <a:xfrm rot="10800000">
            <a:off x="1318680" y="1819440"/>
            <a:ext cx="160668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空心弧 6"/>
          <p:cNvSpPr/>
          <p:nvPr/>
        </p:nvSpPr>
        <p:spPr>
          <a:xfrm rot="10451400">
            <a:off x="4016160" y="1819440"/>
            <a:ext cx="1606320" cy="160632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空心弧 7"/>
          <p:cNvSpPr/>
          <p:nvPr/>
        </p:nvSpPr>
        <p:spPr>
          <a:xfrm rot="3078000">
            <a:off x="6362280" y="181908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空心弧 8"/>
          <p:cNvSpPr/>
          <p:nvPr/>
        </p:nvSpPr>
        <p:spPr>
          <a:xfrm rot="10800000">
            <a:off x="9212400" y="17427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9"/>
          <p:cNvSpPr/>
          <p:nvPr/>
        </p:nvSpPr>
        <p:spPr>
          <a:xfrm>
            <a:off x="172872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14"/>
          <p:cNvSpPr/>
          <p:nvPr/>
        </p:nvSpPr>
        <p:spPr>
          <a:xfrm>
            <a:off x="456084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15"/>
          <p:cNvSpPr/>
          <p:nvPr/>
        </p:nvSpPr>
        <p:spPr>
          <a:xfrm>
            <a:off x="6773760" y="2314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6"/>
          <p:cNvSpPr/>
          <p:nvPr/>
        </p:nvSpPr>
        <p:spPr>
          <a:xfrm>
            <a:off x="9726480" y="2392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4" name="组合 17"/>
          <p:cNvGrpSpPr/>
          <p:nvPr/>
        </p:nvGrpSpPr>
        <p:grpSpPr>
          <a:xfrm>
            <a:off x="3502080" y="1468440"/>
            <a:ext cx="115920" cy="4095720"/>
            <a:chOff x="3502080" y="1468440"/>
            <a:chExt cx="115920" cy="4095720"/>
          </a:xfrm>
        </p:grpSpPr>
        <p:sp>
          <p:nvSpPr>
            <p:cNvPr id="695" name="椭圆 18"/>
            <p:cNvSpPr/>
            <p:nvPr/>
          </p:nvSpPr>
          <p:spPr>
            <a:xfrm>
              <a:off x="35020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直接连接符 19"/>
            <p:cNvSpPr/>
            <p:nvPr/>
          </p:nvSpPr>
          <p:spPr>
            <a:xfrm>
              <a:off x="35535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椭圆 20"/>
            <p:cNvSpPr/>
            <p:nvPr/>
          </p:nvSpPr>
          <p:spPr>
            <a:xfrm>
              <a:off x="35146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21"/>
          <p:cNvGrpSpPr/>
          <p:nvPr/>
        </p:nvGrpSpPr>
        <p:grpSpPr>
          <a:xfrm>
            <a:off x="6167520" y="1468440"/>
            <a:ext cx="115920" cy="4095720"/>
            <a:chOff x="6167520" y="1468440"/>
            <a:chExt cx="115920" cy="4095720"/>
          </a:xfrm>
        </p:grpSpPr>
        <p:sp>
          <p:nvSpPr>
            <p:cNvPr id="699" name="椭圆 22"/>
            <p:cNvSpPr/>
            <p:nvPr/>
          </p:nvSpPr>
          <p:spPr>
            <a:xfrm>
              <a:off x="616752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直接连接符 23"/>
            <p:cNvSpPr/>
            <p:nvPr/>
          </p:nvSpPr>
          <p:spPr>
            <a:xfrm>
              <a:off x="621900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椭圆 24"/>
            <p:cNvSpPr/>
            <p:nvPr/>
          </p:nvSpPr>
          <p:spPr>
            <a:xfrm>
              <a:off x="618012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25"/>
          <p:cNvGrpSpPr/>
          <p:nvPr/>
        </p:nvGrpSpPr>
        <p:grpSpPr>
          <a:xfrm>
            <a:off x="8693280" y="1468440"/>
            <a:ext cx="115920" cy="4095720"/>
            <a:chOff x="8693280" y="1468440"/>
            <a:chExt cx="115920" cy="4095720"/>
          </a:xfrm>
        </p:grpSpPr>
        <p:sp>
          <p:nvSpPr>
            <p:cNvPr id="703" name="椭圆 26"/>
            <p:cNvSpPr/>
            <p:nvPr/>
          </p:nvSpPr>
          <p:spPr>
            <a:xfrm>
              <a:off x="8693280" y="146844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直接连接符 27"/>
            <p:cNvSpPr/>
            <p:nvPr/>
          </p:nvSpPr>
          <p:spPr>
            <a:xfrm>
              <a:off x="8744760" y="1571400"/>
              <a:ext cx="0" cy="388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8705880" y="5461200"/>
              <a:ext cx="10332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29"/>
          <p:cNvGrpSpPr/>
          <p:nvPr/>
        </p:nvGrpSpPr>
        <p:grpSpPr>
          <a:xfrm>
            <a:off x="1266840" y="3349800"/>
            <a:ext cx="1452600" cy="825120"/>
            <a:chOff x="1266840" y="3349800"/>
            <a:chExt cx="1452600" cy="825120"/>
          </a:xfrm>
        </p:grpSpPr>
        <p:grpSp>
          <p:nvGrpSpPr>
            <p:cNvPr id="707" name="组合 30"/>
            <p:cNvGrpSpPr/>
            <p:nvPr/>
          </p:nvGrpSpPr>
          <p:grpSpPr>
            <a:xfrm>
              <a:off x="1266840" y="3349800"/>
              <a:ext cx="641160" cy="825120"/>
              <a:chOff x="1266840" y="3349800"/>
              <a:chExt cx="641160" cy="825120"/>
            </a:xfrm>
          </p:grpSpPr>
          <p:sp>
            <p:nvSpPr>
              <p:cNvPr id="708" name="文本框 32"/>
              <p:cNvSpPr/>
              <p:nvPr/>
            </p:nvSpPr>
            <p:spPr>
              <a:xfrm>
                <a:off x="12668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b0f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直接连接符 33"/>
              <p:cNvSpPr/>
              <p:nvPr/>
            </p:nvSpPr>
            <p:spPr>
              <a:xfrm>
                <a:off x="1471320" y="3620160"/>
                <a:ext cx="0" cy="379440"/>
              </a:xfrm>
              <a:prstGeom prst="line">
                <a:avLst/>
              </a:prstGeom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31"/>
            <p:cNvSpPr/>
            <p:nvPr/>
          </p:nvSpPr>
          <p:spPr>
            <a:xfrm>
              <a:off x="15364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f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TextBox 10"/>
          <p:cNvSpPr/>
          <p:nvPr/>
        </p:nvSpPr>
        <p:spPr>
          <a:xfrm>
            <a:off x="11826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35"/>
          <p:cNvSpPr/>
          <p:nvPr/>
        </p:nvSpPr>
        <p:spPr>
          <a:xfrm>
            <a:off x="11746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36"/>
          <p:cNvGrpSpPr/>
          <p:nvPr/>
        </p:nvGrpSpPr>
        <p:grpSpPr>
          <a:xfrm>
            <a:off x="4060800" y="3422520"/>
            <a:ext cx="1451160" cy="825120"/>
            <a:chOff x="4060800" y="3422520"/>
            <a:chExt cx="1451160" cy="825120"/>
          </a:xfrm>
        </p:grpSpPr>
        <p:grpSp>
          <p:nvGrpSpPr>
            <p:cNvPr id="714" name="组合 37"/>
            <p:cNvGrpSpPr/>
            <p:nvPr/>
          </p:nvGrpSpPr>
          <p:grpSpPr>
            <a:xfrm>
              <a:off x="4060800" y="3422520"/>
              <a:ext cx="640440" cy="825120"/>
              <a:chOff x="4060800" y="3422520"/>
              <a:chExt cx="640440" cy="825120"/>
            </a:xfrm>
          </p:grpSpPr>
          <p:sp>
            <p:nvSpPr>
              <p:cNvPr id="715" name="文本框 39"/>
              <p:cNvSpPr/>
              <p:nvPr/>
            </p:nvSpPr>
            <p:spPr>
              <a:xfrm>
                <a:off x="4060800" y="342252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 40"/>
              <p:cNvSpPr/>
              <p:nvPr/>
            </p:nvSpPr>
            <p:spPr>
              <a:xfrm>
                <a:off x="4264920" y="3692880"/>
                <a:ext cx="0" cy="37980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7" name="文本框 38"/>
            <p:cNvSpPr/>
            <p:nvPr/>
          </p:nvSpPr>
          <p:spPr>
            <a:xfrm>
              <a:off x="4330080" y="36802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TextBox 10"/>
          <p:cNvSpPr/>
          <p:nvPr/>
        </p:nvSpPr>
        <p:spPr>
          <a:xfrm>
            <a:off x="3975120" y="45640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2"/>
          <p:cNvSpPr/>
          <p:nvPr/>
        </p:nvSpPr>
        <p:spPr>
          <a:xfrm>
            <a:off x="3968640" y="41497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组合 43"/>
          <p:cNvGrpSpPr/>
          <p:nvPr/>
        </p:nvGrpSpPr>
        <p:grpSpPr>
          <a:xfrm>
            <a:off x="6686640" y="3349800"/>
            <a:ext cx="1452600" cy="825120"/>
            <a:chOff x="6686640" y="3349800"/>
            <a:chExt cx="1452600" cy="825120"/>
          </a:xfrm>
        </p:grpSpPr>
        <p:grpSp>
          <p:nvGrpSpPr>
            <p:cNvPr id="721" name="组合 44"/>
            <p:cNvGrpSpPr/>
            <p:nvPr/>
          </p:nvGrpSpPr>
          <p:grpSpPr>
            <a:xfrm>
              <a:off x="6686640" y="3349800"/>
              <a:ext cx="641160" cy="825120"/>
              <a:chOff x="6686640" y="3349800"/>
              <a:chExt cx="641160" cy="825120"/>
            </a:xfrm>
          </p:grpSpPr>
          <p:sp>
            <p:nvSpPr>
              <p:cNvPr id="722" name="文本框 46"/>
              <p:cNvSpPr/>
              <p:nvPr/>
            </p:nvSpPr>
            <p:spPr>
              <a:xfrm>
                <a:off x="6686640" y="33498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0b83e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直接连接符 47"/>
              <p:cNvSpPr/>
              <p:nvPr/>
            </p:nvSpPr>
            <p:spPr>
              <a:xfrm>
                <a:off x="6891120" y="3620160"/>
                <a:ext cx="0" cy="379440"/>
              </a:xfrm>
              <a:prstGeom prst="line">
                <a:avLst/>
              </a:prstGeom>
              <a:ln w="28440">
                <a:solidFill>
                  <a:srgbClr val="90b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文本框 45"/>
            <p:cNvSpPr/>
            <p:nvPr/>
          </p:nvSpPr>
          <p:spPr>
            <a:xfrm>
              <a:off x="6956280" y="36075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0b83e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TextBox 10"/>
          <p:cNvSpPr/>
          <p:nvPr/>
        </p:nvSpPr>
        <p:spPr>
          <a:xfrm>
            <a:off x="660240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49"/>
          <p:cNvSpPr/>
          <p:nvPr/>
        </p:nvSpPr>
        <p:spPr>
          <a:xfrm>
            <a:off x="6594480" y="4076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组合 50"/>
          <p:cNvGrpSpPr/>
          <p:nvPr/>
        </p:nvGrpSpPr>
        <p:grpSpPr>
          <a:xfrm>
            <a:off x="9255240" y="3349800"/>
            <a:ext cx="1450800" cy="825120"/>
            <a:chOff x="9255240" y="3349800"/>
            <a:chExt cx="1450800" cy="825120"/>
          </a:xfrm>
        </p:grpSpPr>
        <p:grpSp>
          <p:nvGrpSpPr>
            <p:cNvPr id="728" name="组合 51"/>
            <p:cNvGrpSpPr/>
            <p:nvPr/>
          </p:nvGrpSpPr>
          <p:grpSpPr>
            <a:xfrm>
              <a:off x="9255240" y="3349800"/>
              <a:ext cx="640440" cy="825120"/>
              <a:chOff x="9255240" y="3349800"/>
              <a:chExt cx="640440" cy="825120"/>
            </a:xfrm>
          </p:grpSpPr>
          <p:sp>
            <p:nvSpPr>
              <p:cNvPr id="729" name="文本框 53"/>
              <p:cNvSpPr/>
              <p:nvPr/>
            </p:nvSpPr>
            <p:spPr>
              <a:xfrm>
                <a:off x="9255240" y="33498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直接连接符 54"/>
              <p:cNvSpPr/>
              <p:nvPr/>
            </p:nvSpPr>
            <p:spPr>
              <a:xfrm>
                <a:off x="9459360" y="3620160"/>
                <a:ext cx="0" cy="37944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1" name="文本框 52"/>
            <p:cNvSpPr/>
            <p:nvPr/>
          </p:nvSpPr>
          <p:spPr>
            <a:xfrm>
              <a:off x="9524520" y="360756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2" name="TextBox 10"/>
          <p:cNvSpPr/>
          <p:nvPr/>
        </p:nvSpPr>
        <p:spPr>
          <a:xfrm>
            <a:off x="9169560" y="4491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6"/>
          <p:cNvSpPr/>
          <p:nvPr/>
        </p:nvSpPr>
        <p:spPr>
          <a:xfrm>
            <a:off x="9163080" y="407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8" name="组合 5"/>
          <p:cNvGrpSpPr/>
          <p:nvPr/>
        </p:nvGrpSpPr>
        <p:grpSpPr>
          <a:xfrm>
            <a:off x="2714760" y="1633680"/>
            <a:ext cx="1952640" cy="2300040"/>
            <a:chOff x="2714760" y="1633680"/>
            <a:chExt cx="1952640" cy="2300040"/>
          </a:xfrm>
        </p:grpSpPr>
        <p:sp>
          <p:nvSpPr>
            <p:cNvPr id="739" name="任意多边形 6"/>
            <p:cNvSpPr/>
            <p:nvPr/>
          </p:nvSpPr>
          <p:spPr>
            <a:xfrm>
              <a:off x="2714760" y="1633680"/>
              <a:ext cx="195264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文本框 7"/>
            <p:cNvSpPr/>
            <p:nvPr/>
          </p:nvSpPr>
          <p:spPr>
            <a:xfrm>
              <a:off x="3139560" y="1957320"/>
              <a:ext cx="110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TextBox 10"/>
            <p:cNvSpPr/>
            <p:nvPr/>
          </p:nvSpPr>
          <p:spPr>
            <a:xfrm>
              <a:off x="3020040" y="2404800"/>
              <a:ext cx="1341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组合 9"/>
          <p:cNvGrpSpPr/>
          <p:nvPr/>
        </p:nvGrpSpPr>
        <p:grpSpPr>
          <a:xfrm>
            <a:off x="7297560" y="1633680"/>
            <a:ext cx="1965600" cy="2300040"/>
            <a:chOff x="7297560" y="1633680"/>
            <a:chExt cx="1965600" cy="2300040"/>
          </a:xfrm>
        </p:grpSpPr>
        <p:sp>
          <p:nvSpPr>
            <p:cNvPr id="743" name="任意多边形 14"/>
            <p:cNvSpPr/>
            <p:nvPr/>
          </p:nvSpPr>
          <p:spPr>
            <a:xfrm flipH="1">
              <a:off x="7297560" y="1633680"/>
              <a:ext cx="1965600" cy="2300040"/>
            </a:xfrm>
            <a:custGeom>
              <a:avLst/>
              <a:gdLst/>
              <a:ahLst/>
              <a:rect l="l" t="t" r="r" b="b"/>
              <a:pathLst>
                <a:path w="1953624" h="2299482">
                  <a:moveTo>
                    <a:pt x="1149741" y="0"/>
                  </a:moveTo>
                  <a:cubicBezTo>
                    <a:pt x="1427547" y="0"/>
                    <a:pt x="1682340" y="98528"/>
                    <a:pt x="1881083" y="262545"/>
                  </a:cubicBezTo>
                  <a:lnTo>
                    <a:pt x="1953624" y="328475"/>
                  </a:lnTo>
                  <a:lnTo>
                    <a:pt x="1944517" y="336752"/>
                  </a:lnTo>
                  <a:cubicBezTo>
                    <a:pt x="1736454" y="544814"/>
                    <a:pt x="1607765" y="832249"/>
                    <a:pt x="1607765" y="1149741"/>
                  </a:cubicBezTo>
                  <a:cubicBezTo>
                    <a:pt x="1607765" y="1467233"/>
                    <a:pt x="1736454" y="1754668"/>
                    <a:pt x="1944517" y="1962731"/>
                  </a:cubicBezTo>
                  <a:lnTo>
                    <a:pt x="1953624" y="1971008"/>
                  </a:lnTo>
                  <a:lnTo>
                    <a:pt x="1881083" y="2036937"/>
                  </a:lnTo>
                  <a:cubicBezTo>
                    <a:pt x="1682340" y="2200955"/>
                    <a:pt x="1427547" y="2299482"/>
                    <a:pt x="1149741" y="2299482"/>
                  </a:cubicBezTo>
                  <a:cubicBezTo>
                    <a:pt x="514757" y="2299482"/>
                    <a:pt x="0" y="1784725"/>
                    <a:pt x="0" y="1149741"/>
                  </a:cubicBezTo>
                  <a:cubicBezTo>
                    <a:pt x="0" y="514757"/>
                    <a:pt x="514757" y="0"/>
                    <a:pt x="1149741" y="0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文本框 15"/>
            <p:cNvSpPr/>
            <p:nvPr/>
          </p:nvSpPr>
          <p:spPr>
            <a:xfrm>
              <a:off x="7878960" y="1957320"/>
              <a:ext cx="110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Box 10"/>
            <p:cNvSpPr/>
            <p:nvPr/>
          </p:nvSpPr>
          <p:spPr>
            <a:xfrm>
              <a:off x="7759440" y="2404800"/>
              <a:ext cx="1342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TextBox 10"/>
          <p:cNvSpPr/>
          <p:nvPr/>
        </p:nvSpPr>
        <p:spPr>
          <a:xfrm>
            <a:off x="4721400" y="2498760"/>
            <a:ext cx="2806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8"/>
          <p:cNvSpPr/>
          <p:nvPr/>
        </p:nvSpPr>
        <p:spPr>
          <a:xfrm>
            <a:off x="4743360" y="212868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2714760" y="4676760"/>
            <a:ext cx="6900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20"/>
          <p:cNvSpPr/>
          <p:nvPr/>
        </p:nvSpPr>
        <p:spPr>
          <a:xfrm>
            <a:off x="2714760" y="4257720"/>
            <a:ext cx="16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矩形 10"/>
          <p:cNvSpPr/>
          <p:nvPr/>
        </p:nvSpPr>
        <p:spPr>
          <a:xfrm>
            <a:off x="1041480" y="304920"/>
            <a:ext cx="3516120" cy="493560"/>
          </a:xfrm>
          <a:prstGeom prst="rect">
            <a:avLst/>
          </a:prstGeom>
          <a:solidFill>
            <a:srgbClr val="e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157320" y="133200"/>
            <a:ext cx="1255680" cy="738360"/>
          </a:xfrm>
          <a:custGeom>
            <a:avLst/>
            <a:gdLst/>
            <a:ahLst/>
            <a:rect l="l" t="t" r="r" b="b"/>
            <a:pathLst>
              <a:path w="1535" h="907">
                <a:moveTo>
                  <a:pt x="7" y="0"/>
                </a:moveTo>
                <a:lnTo>
                  <a:pt x="1535" y="0"/>
                </a:lnTo>
                <a:lnTo>
                  <a:pt x="1218" y="907"/>
                </a:lnTo>
                <a:lnTo>
                  <a:pt x="0" y="907"/>
                </a:lnTo>
                <a:lnTo>
                  <a:pt x="7" y="0"/>
                </a:lnTo>
                <a:close/>
              </a:path>
            </a:pathLst>
          </a:custGeom>
          <a:solidFill>
            <a:srgbClr val="e80000"/>
          </a:solidFill>
          <a:ln w="0">
            <a:noFill/>
          </a:ln>
          <a:effectLst>
            <a:outerShdw dist="63639" dir="2700000" blurRad="0" rotWithShape="0">
              <a:srgbClr val="0d0d0d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474840" y="219240"/>
            <a:ext cx="566640" cy="523800"/>
          </a:xfrm>
          <a:custGeom>
            <a:avLst/>
            <a:gdLst/>
            <a:ahLst/>
            <a:rect l="l" t="t" r="r" b="b"/>
            <a:pathLst>
              <a:path w="1145" h="1145">
                <a:moveTo>
                  <a:pt x="1084" y="509"/>
                </a:moveTo>
                <a:cubicBezTo>
                  <a:pt x="1051" y="509"/>
                  <a:pt x="1024" y="536"/>
                  <a:pt x="1024" y="569"/>
                </a:cubicBezTo>
                <a:cubicBezTo>
                  <a:pt x="1024" y="603"/>
                  <a:pt x="1051" y="630"/>
                  <a:pt x="1084" y="630"/>
                </a:cubicBezTo>
                <a:cubicBezTo>
                  <a:pt x="1117" y="630"/>
                  <a:pt x="1145" y="603"/>
                  <a:pt x="1145" y="569"/>
                </a:cubicBezTo>
                <a:cubicBezTo>
                  <a:pt x="1145" y="536"/>
                  <a:pt x="1117" y="509"/>
                  <a:pt x="1084" y="509"/>
                </a:cubicBezTo>
                <a:close/>
                <a:moveTo>
                  <a:pt x="824" y="762"/>
                </a:moveTo>
                <a:cubicBezTo>
                  <a:pt x="791" y="762"/>
                  <a:pt x="764" y="789"/>
                  <a:pt x="764" y="822"/>
                </a:cubicBezTo>
                <a:cubicBezTo>
                  <a:pt x="764" y="856"/>
                  <a:pt x="791" y="883"/>
                  <a:pt x="824" y="883"/>
                </a:cubicBezTo>
                <a:cubicBezTo>
                  <a:pt x="858" y="883"/>
                  <a:pt x="885" y="856"/>
                  <a:pt x="885" y="822"/>
                </a:cubicBezTo>
                <a:cubicBezTo>
                  <a:pt x="885" y="789"/>
                  <a:pt x="858" y="762"/>
                  <a:pt x="824" y="762"/>
                </a:cubicBezTo>
                <a:close/>
                <a:moveTo>
                  <a:pt x="545" y="325"/>
                </a:moveTo>
                <a:cubicBezTo>
                  <a:pt x="479" y="323"/>
                  <a:pt x="416" y="314"/>
                  <a:pt x="358" y="298"/>
                </a:cubicBezTo>
                <a:cubicBezTo>
                  <a:pt x="384" y="226"/>
                  <a:pt x="421" y="168"/>
                  <a:pt x="463" y="130"/>
                </a:cubicBezTo>
                <a:cubicBezTo>
                  <a:pt x="490" y="124"/>
                  <a:pt x="517" y="120"/>
                  <a:pt x="545" y="118"/>
                </a:cubicBezTo>
                <a:lnTo>
                  <a:pt x="545" y="325"/>
                </a:lnTo>
                <a:close/>
                <a:moveTo>
                  <a:pt x="545" y="1027"/>
                </a:moveTo>
                <a:cubicBezTo>
                  <a:pt x="517" y="1025"/>
                  <a:pt x="490" y="1021"/>
                  <a:pt x="463" y="1014"/>
                </a:cubicBezTo>
                <a:cubicBezTo>
                  <a:pt x="420" y="976"/>
                  <a:pt x="383" y="917"/>
                  <a:pt x="356" y="843"/>
                </a:cubicBezTo>
                <a:cubicBezTo>
                  <a:pt x="415" y="827"/>
                  <a:pt x="479" y="818"/>
                  <a:pt x="545" y="816"/>
                </a:cubicBezTo>
                <a:lnTo>
                  <a:pt x="545" y="1027"/>
                </a:lnTo>
                <a:close/>
                <a:moveTo>
                  <a:pt x="242" y="886"/>
                </a:moveTo>
                <a:cubicBezTo>
                  <a:pt x="262" y="876"/>
                  <a:pt x="283" y="867"/>
                  <a:pt x="305" y="859"/>
                </a:cubicBezTo>
                <a:cubicBezTo>
                  <a:pt x="321" y="903"/>
                  <a:pt x="340" y="942"/>
                  <a:pt x="362" y="976"/>
                </a:cubicBezTo>
                <a:cubicBezTo>
                  <a:pt x="317" y="953"/>
                  <a:pt x="277" y="922"/>
                  <a:pt x="242" y="886"/>
                </a:cubicBezTo>
                <a:close/>
                <a:moveTo>
                  <a:pt x="1017" y="660"/>
                </a:moveTo>
                <a:cubicBezTo>
                  <a:pt x="1004" y="728"/>
                  <a:pt x="975" y="791"/>
                  <a:pt x="935" y="845"/>
                </a:cubicBezTo>
                <a:cubicBezTo>
                  <a:pt x="935" y="845"/>
                  <a:pt x="935" y="845"/>
                  <a:pt x="935" y="845"/>
                </a:cubicBezTo>
                <a:cubicBezTo>
                  <a:pt x="926" y="888"/>
                  <a:pt x="892" y="923"/>
                  <a:pt x="848" y="933"/>
                </a:cubicBezTo>
                <a:cubicBezTo>
                  <a:pt x="827" y="949"/>
                  <a:pt x="805" y="963"/>
                  <a:pt x="781" y="976"/>
                </a:cubicBezTo>
                <a:cubicBezTo>
                  <a:pt x="789" y="963"/>
                  <a:pt x="797" y="948"/>
                  <a:pt x="805" y="933"/>
                </a:cubicBezTo>
                <a:cubicBezTo>
                  <a:pt x="787" y="930"/>
                  <a:pt x="770" y="923"/>
                  <a:pt x="756" y="912"/>
                </a:cubicBezTo>
                <a:cubicBezTo>
                  <a:pt x="734" y="954"/>
                  <a:pt x="708" y="989"/>
                  <a:pt x="679" y="1014"/>
                </a:cubicBezTo>
                <a:cubicBezTo>
                  <a:pt x="653" y="1021"/>
                  <a:pt x="625" y="1025"/>
                  <a:pt x="597" y="1027"/>
                </a:cubicBezTo>
                <a:lnTo>
                  <a:pt x="597" y="816"/>
                </a:lnTo>
                <a:cubicBezTo>
                  <a:pt x="637" y="817"/>
                  <a:pt x="675" y="821"/>
                  <a:pt x="712" y="827"/>
                </a:cubicBezTo>
                <a:cubicBezTo>
                  <a:pt x="712" y="826"/>
                  <a:pt x="712" y="824"/>
                  <a:pt x="712" y="822"/>
                </a:cubicBezTo>
                <a:cubicBezTo>
                  <a:pt x="712" y="806"/>
                  <a:pt x="715" y="790"/>
                  <a:pt x="722" y="776"/>
                </a:cubicBezTo>
                <a:cubicBezTo>
                  <a:pt x="682" y="769"/>
                  <a:pt x="640" y="765"/>
                  <a:pt x="597" y="764"/>
                </a:cubicBezTo>
                <a:lnTo>
                  <a:pt x="597" y="598"/>
                </a:lnTo>
                <a:lnTo>
                  <a:pt x="831" y="598"/>
                </a:lnTo>
                <a:cubicBezTo>
                  <a:pt x="830" y="637"/>
                  <a:pt x="826" y="674"/>
                  <a:pt x="820" y="710"/>
                </a:cubicBezTo>
                <a:cubicBezTo>
                  <a:pt x="822" y="710"/>
                  <a:pt x="823" y="709"/>
                  <a:pt x="824" y="709"/>
                </a:cubicBezTo>
                <a:cubicBezTo>
                  <a:pt x="842" y="709"/>
                  <a:pt x="858" y="713"/>
                  <a:pt x="872" y="720"/>
                </a:cubicBezTo>
                <a:cubicBezTo>
                  <a:pt x="878" y="681"/>
                  <a:pt x="882" y="641"/>
                  <a:pt x="883" y="598"/>
                </a:cubicBezTo>
                <a:lnTo>
                  <a:pt x="975" y="598"/>
                </a:lnTo>
                <a:cubicBezTo>
                  <a:pt x="973" y="589"/>
                  <a:pt x="971" y="579"/>
                  <a:pt x="971" y="569"/>
                </a:cubicBezTo>
                <a:cubicBezTo>
                  <a:pt x="971" y="561"/>
                  <a:pt x="972" y="554"/>
                  <a:pt x="974" y="546"/>
                </a:cubicBezTo>
                <a:lnTo>
                  <a:pt x="883" y="546"/>
                </a:lnTo>
                <a:cubicBezTo>
                  <a:pt x="882" y="500"/>
                  <a:pt x="878" y="455"/>
                  <a:pt x="870" y="413"/>
                </a:cubicBezTo>
                <a:cubicBezTo>
                  <a:pt x="855" y="421"/>
                  <a:pt x="837" y="425"/>
                  <a:pt x="819" y="425"/>
                </a:cubicBezTo>
                <a:cubicBezTo>
                  <a:pt x="826" y="464"/>
                  <a:pt x="830" y="504"/>
                  <a:pt x="831" y="546"/>
                </a:cubicBezTo>
                <a:lnTo>
                  <a:pt x="597" y="546"/>
                </a:lnTo>
                <a:lnTo>
                  <a:pt x="597" y="377"/>
                </a:lnTo>
                <a:cubicBezTo>
                  <a:pt x="639" y="376"/>
                  <a:pt x="680" y="372"/>
                  <a:pt x="719" y="365"/>
                </a:cubicBezTo>
                <a:cubicBezTo>
                  <a:pt x="711" y="350"/>
                  <a:pt x="707" y="333"/>
                  <a:pt x="706" y="314"/>
                </a:cubicBezTo>
                <a:cubicBezTo>
                  <a:pt x="671" y="320"/>
                  <a:pt x="635" y="323"/>
                  <a:pt x="597" y="325"/>
                </a:cubicBezTo>
                <a:lnTo>
                  <a:pt x="597" y="118"/>
                </a:lnTo>
                <a:cubicBezTo>
                  <a:pt x="625" y="120"/>
                  <a:pt x="653" y="124"/>
                  <a:pt x="679" y="130"/>
                </a:cubicBezTo>
                <a:cubicBezTo>
                  <a:pt x="706" y="154"/>
                  <a:pt x="730" y="185"/>
                  <a:pt x="751" y="223"/>
                </a:cubicBezTo>
                <a:cubicBezTo>
                  <a:pt x="765" y="212"/>
                  <a:pt x="782" y="204"/>
                  <a:pt x="800" y="201"/>
                </a:cubicBezTo>
                <a:cubicBezTo>
                  <a:pt x="794" y="190"/>
                  <a:pt x="787" y="179"/>
                  <a:pt x="781" y="169"/>
                </a:cubicBezTo>
                <a:cubicBezTo>
                  <a:pt x="799" y="178"/>
                  <a:pt x="816" y="189"/>
                  <a:pt x="832" y="200"/>
                </a:cubicBezTo>
                <a:cubicBezTo>
                  <a:pt x="883" y="206"/>
                  <a:pt x="924" y="247"/>
                  <a:pt x="931" y="298"/>
                </a:cubicBezTo>
                <a:cubicBezTo>
                  <a:pt x="931" y="298"/>
                  <a:pt x="932" y="298"/>
                  <a:pt x="933" y="297"/>
                </a:cubicBezTo>
                <a:cubicBezTo>
                  <a:pt x="973" y="350"/>
                  <a:pt x="1002" y="412"/>
                  <a:pt x="1016" y="480"/>
                </a:cubicBezTo>
                <a:cubicBezTo>
                  <a:pt x="1035" y="465"/>
                  <a:pt x="1059" y="456"/>
                  <a:pt x="1084" y="456"/>
                </a:cubicBezTo>
                <a:cubicBezTo>
                  <a:pt x="1102" y="456"/>
                  <a:pt x="1118" y="461"/>
                  <a:pt x="1133" y="468"/>
                </a:cubicBezTo>
                <a:cubicBezTo>
                  <a:pt x="1084" y="202"/>
                  <a:pt x="851" y="0"/>
                  <a:pt x="571" y="0"/>
                </a:cubicBezTo>
                <a:cubicBezTo>
                  <a:pt x="432" y="0"/>
                  <a:pt x="304" y="50"/>
                  <a:pt x="205" y="133"/>
                </a:cubicBezTo>
                <a:cubicBezTo>
                  <a:pt x="246" y="143"/>
                  <a:pt x="279" y="176"/>
                  <a:pt x="289" y="217"/>
                </a:cubicBezTo>
                <a:cubicBezTo>
                  <a:pt x="311" y="199"/>
                  <a:pt x="336" y="182"/>
                  <a:pt x="362" y="169"/>
                </a:cubicBezTo>
                <a:cubicBezTo>
                  <a:pt x="341" y="202"/>
                  <a:pt x="322" y="240"/>
                  <a:pt x="307" y="282"/>
                </a:cubicBezTo>
                <a:cubicBezTo>
                  <a:pt x="300" y="280"/>
                  <a:pt x="294" y="277"/>
                  <a:pt x="287" y="275"/>
                </a:cubicBezTo>
                <a:cubicBezTo>
                  <a:pt x="282" y="292"/>
                  <a:pt x="273" y="308"/>
                  <a:pt x="261" y="320"/>
                </a:cubicBezTo>
                <a:cubicBezTo>
                  <a:pt x="271" y="324"/>
                  <a:pt x="280" y="328"/>
                  <a:pt x="291" y="332"/>
                </a:cubicBezTo>
                <a:cubicBezTo>
                  <a:pt x="279" y="372"/>
                  <a:pt x="271" y="416"/>
                  <a:pt x="265" y="461"/>
                </a:cubicBezTo>
                <a:cubicBezTo>
                  <a:pt x="272" y="460"/>
                  <a:pt x="279" y="459"/>
                  <a:pt x="286" y="459"/>
                </a:cubicBezTo>
                <a:cubicBezTo>
                  <a:pt x="297" y="459"/>
                  <a:pt x="308" y="461"/>
                  <a:pt x="318" y="464"/>
                </a:cubicBezTo>
                <a:cubicBezTo>
                  <a:pt x="323" y="423"/>
                  <a:pt x="331" y="384"/>
                  <a:pt x="342" y="348"/>
                </a:cubicBezTo>
                <a:cubicBezTo>
                  <a:pt x="405" y="365"/>
                  <a:pt x="474" y="375"/>
                  <a:pt x="545" y="377"/>
                </a:cubicBezTo>
                <a:lnTo>
                  <a:pt x="545" y="546"/>
                </a:lnTo>
                <a:lnTo>
                  <a:pt x="395" y="546"/>
                </a:lnTo>
                <a:cubicBezTo>
                  <a:pt x="397" y="555"/>
                  <a:pt x="398" y="563"/>
                  <a:pt x="398" y="572"/>
                </a:cubicBezTo>
                <a:cubicBezTo>
                  <a:pt x="398" y="581"/>
                  <a:pt x="397" y="590"/>
                  <a:pt x="395" y="598"/>
                </a:cubicBezTo>
                <a:lnTo>
                  <a:pt x="545" y="598"/>
                </a:lnTo>
                <a:lnTo>
                  <a:pt x="545" y="764"/>
                </a:lnTo>
                <a:cubicBezTo>
                  <a:pt x="474" y="766"/>
                  <a:pt x="404" y="776"/>
                  <a:pt x="341" y="793"/>
                </a:cubicBezTo>
                <a:cubicBezTo>
                  <a:pt x="331" y="758"/>
                  <a:pt x="323" y="720"/>
                  <a:pt x="318" y="680"/>
                </a:cubicBezTo>
                <a:cubicBezTo>
                  <a:pt x="308" y="683"/>
                  <a:pt x="297" y="685"/>
                  <a:pt x="286" y="685"/>
                </a:cubicBezTo>
                <a:cubicBezTo>
                  <a:pt x="279" y="685"/>
                  <a:pt x="272" y="684"/>
                  <a:pt x="265" y="683"/>
                </a:cubicBezTo>
                <a:cubicBezTo>
                  <a:pt x="271" y="727"/>
                  <a:pt x="279" y="770"/>
                  <a:pt x="290" y="809"/>
                </a:cubicBezTo>
                <a:cubicBezTo>
                  <a:pt x="261" y="819"/>
                  <a:pt x="233" y="831"/>
                  <a:pt x="208" y="845"/>
                </a:cubicBezTo>
                <a:cubicBezTo>
                  <a:pt x="156" y="775"/>
                  <a:pt x="123" y="690"/>
                  <a:pt x="118" y="598"/>
                </a:cubicBezTo>
                <a:lnTo>
                  <a:pt x="176" y="598"/>
                </a:lnTo>
                <a:cubicBezTo>
                  <a:pt x="174" y="590"/>
                  <a:pt x="173" y="581"/>
                  <a:pt x="173" y="572"/>
                </a:cubicBezTo>
                <a:cubicBezTo>
                  <a:pt x="173" y="563"/>
                  <a:pt x="174" y="555"/>
                  <a:pt x="176" y="546"/>
                </a:cubicBezTo>
                <a:lnTo>
                  <a:pt x="118" y="546"/>
                </a:lnTo>
                <a:cubicBezTo>
                  <a:pt x="122" y="478"/>
                  <a:pt x="141" y="413"/>
                  <a:pt x="172" y="356"/>
                </a:cubicBezTo>
                <a:cubicBezTo>
                  <a:pt x="129" y="353"/>
                  <a:pt x="92" y="326"/>
                  <a:pt x="76" y="288"/>
                </a:cubicBezTo>
                <a:cubicBezTo>
                  <a:pt x="27" y="372"/>
                  <a:pt x="0" y="469"/>
                  <a:pt x="0" y="572"/>
                </a:cubicBezTo>
                <a:cubicBezTo>
                  <a:pt x="0" y="888"/>
                  <a:pt x="256" y="1145"/>
                  <a:pt x="571" y="1145"/>
                </a:cubicBezTo>
                <a:cubicBezTo>
                  <a:pt x="853" y="1145"/>
                  <a:pt x="1088" y="939"/>
                  <a:pt x="1135" y="670"/>
                </a:cubicBezTo>
                <a:cubicBezTo>
                  <a:pt x="1119" y="678"/>
                  <a:pt x="1102" y="682"/>
                  <a:pt x="1084" y="682"/>
                </a:cubicBezTo>
                <a:cubicBezTo>
                  <a:pt x="1059" y="682"/>
                  <a:pt x="1036" y="674"/>
                  <a:pt x="1017" y="660"/>
                </a:cubicBezTo>
                <a:close/>
                <a:moveTo>
                  <a:pt x="758" y="312"/>
                </a:moveTo>
                <a:cubicBezTo>
                  <a:pt x="758" y="346"/>
                  <a:pt x="785" y="373"/>
                  <a:pt x="819" y="373"/>
                </a:cubicBezTo>
                <a:cubicBezTo>
                  <a:pt x="852" y="373"/>
                  <a:pt x="879" y="346"/>
                  <a:pt x="879" y="312"/>
                </a:cubicBezTo>
                <a:cubicBezTo>
                  <a:pt x="879" y="279"/>
                  <a:pt x="852" y="252"/>
                  <a:pt x="819" y="252"/>
                </a:cubicBezTo>
                <a:cubicBezTo>
                  <a:pt x="785" y="252"/>
                  <a:pt x="758" y="279"/>
                  <a:pt x="758" y="312"/>
                </a:cubicBezTo>
                <a:close/>
                <a:moveTo>
                  <a:pt x="179" y="304"/>
                </a:moveTo>
                <a:cubicBezTo>
                  <a:pt x="213" y="304"/>
                  <a:pt x="240" y="277"/>
                  <a:pt x="240" y="243"/>
                </a:cubicBezTo>
                <a:cubicBezTo>
                  <a:pt x="240" y="210"/>
                  <a:pt x="213" y="183"/>
                  <a:pt x="179" y="183"/>
                </a:cubicBezTo>
                <a:cubicBezTo>
                  <a:pt x="146" y="183"/>
                  <a:pt x="119" y="210"/>
                  <a:pt x="119" y="243"/>
                </a:cubicBezTo>
                <a:cubicBezTo>
                  <a:pt x="119" y="277"/>
                  <a:pt x="146" y="304"/>
                  <a:pt x="179" y="304"/>
                </a:cubicBezTo>
                <a:close/>
                <a:moveTo>
                  <a:pt x="286" y="633"/>
                </a:moveTo>
                <a:cubicBezTo>
                  <a:pt x="319" y="633"/>
                  <a:pt x="346" y="606"/>
                  <a:pt x="346" y="572"/>
                </a:cubicBezTo>
                <a:cubicBezTo>
                  <a:pt x="346" y="539"/>
                  <a:pt x="319" y="512"/>
                  <a:pt x="286" y="512"/>
                </a:cubicBezTo>
                <a:cubicBezTo>
                  <a:pt x="252" y="512"/>
                  <a:pt x="225" y="539"/>
                  <a:pt x="225" y="572"/>
                </a:cubicBezTo>
                <a:cubicBezTo>
                  <a:pt x="225" y="606"/>
                  <a:pt x="252" y="633"/>
                  <a:pt x="286" y="6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13"/>
          <p:cNvSpPr/>
          <p:nvPr/>
        </p:nvSpPr>
        <p:spPr>
          <a:xfrm>
            <a:off x="1625760" y="32076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5"/>
          <p:cNvGrpSpPr/>
          <p:nvPr/>
        </p:nvGrpSpPr>
        <p:grpSpPr>
          <a:xfrm>
            <a:off x="3044880" y="1434960"/>
            <a:ext cx="5554440" cy="695520"/>
            <a:chOff x="3044880" y="1434960"/>
            <a:chExt cx="5554440" cy="695520"/>
          </a:xfrm>
        </p:grpSpPr>
        <p:sp>
          <p:nvSpPr>
            <p:cNvPr id="755" name="矩形 6"/>
            <p:cNvSpPr/>
            <p:nvPr/>
          </p:nvSpPr>
          <p:spPr>
            <a:xfrm>
              <a:off x="3420360" y="1434960"/>
              <a:ext cx="4803480" cy="69552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矩形 7"/>
            <p:cNvSpPr/>
            <p:nvPr/>
          </p:nvSpPr>
          <p:spPr>
            <a:xfrm>
              <a:off x="3044880" y="1434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904160" y="1434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9"/>
          <p:cNvGrpSpPr/>
          <p:nvPr/>
        </p:nvGrpSpPr>
        <p:grpSpPr>
          <a:xfrm>
            <a:off x="3044880" y="2577960"/>
            <a:ext cx="5554440" cy="695520"/>
            <a:chOff x="3044880" y="2577960"/>
            <a:chExt cx="5554440" cy="695520"/>
          </a:xfrm>
        </p:grpSpPr>
        <p:sp>
          <p:nvSpPr>
            <p:cNvPr id="759" name="矩形 14"/>
            <p:cNvSpPr/>
            <p:nvPr/>
          </p:nvSpPr>
          <p:spPr>
            <a:xfrm>
              <a:off x="3420360" y="2577960"/>
              <a:ext cx="4803480" cy="69552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矩形 15"/>
            <p:cNvSpPr/>
            <p:nvPr/>
          </p:nvSpPr>
          <p:spPr>
            <a:xfrm>
              <a:off x="3044880" y="2577960"/>
              <a:ext cx="375480" cy="6955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椭圆 16"/>
            <p:cNvSpPr/>
            <p:nvPr/>
          </p:nvSpPr>
          <p:spPr>
            <a:xfrm>
              <a:off x="7904160" y="2577960"/>
              <a:ext cx="695160" cy="69552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17"/>
          <p:cNvGrpSpPr/>
          <p:nvPr/>
        </p:nvGrpSpPr>
        <p:grpSpPr>
          <a:xfrm>
            <a:off x="3044880" y="3722760"/>
            <a:ext cx="5554440" cy="695160"/>
            <a:chOff x="3044880" y="3722760"/>
            <a:chExt cx="5554440" cy="695160"/>
          </a:xfrm>
        </p:grpSpPr>
        <p:sp>
          <p:nvSpPr>
            <p:cNvPr id="763" name="矩形 18"/>
            <p:cNvSpPr/>
            <p:nvPr/>
          </p:nvSpPr>
          <p:spPr>
            <a:xfrm>
              <a:off x="3420360" y="3722760"/>
              <a:ext cx="4803480" cy="69516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矩形 19"/>
            <p:cNvSpPr/>
            <p:nvPr/>
          </p:nvSpPr>
          <p:spPr>
            <a:xfrm>
              <a:off x="3044880" y="3722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椭圆 20"/>
            <p:cNvSpPr/>
            <p:nvPr/>
          </p:nvSpPr>
          <p:spPr>
            <a:xfrm>
              <a:off x="7904160" y="3722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1"/>
          <p:cNvGrpSpPr/>
          <p:nvPr/>
        </p:nvGrpSpPr>
        <p:grpSpPr>
          <a:xfrm>
            <a:off x="3044880" y="4865760"/>
            <a:ext cx="5554440" cy="695160"/>
            <a:chOff x="3044880" y="4865760"/>
            <a:chExt cx="5554440" cy="695160"/>
          </a:xfrm>
        </p:grpSpPr>
        <p:sp>
          <p:nvSpPr>
            <p:cNvPr id="767" name="矩形 22"/>
            <p:cNvSpPr/>
            <p:nvPr/>
          </p:nvSpPr>
          <p:spPr>
            <a:xfrm>
              <a:off x="3420360" y="4865760"/>
              <a:ext cx="4803480" cy="6951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矩形 23"/>
            <p:cNvSpPr/>
            <p:nvPr/>
          </p:nvSpPr>
          <p:spPr>
            <a:xfrm>
              <a:off x="3044880" y="4865760"/>
              <a:ext cx="375480" cy="6951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椭圆 24"/>
            <p:cNvSpPr/>
            <p:nvPr/>
          </p:nvSpPr>
          <p:spPr>
            <a:xfrm>
              <a:off x="7904160" y="4865760"/>
              <a:ext cx="695160" cy="695160"/>
            </a:xfrm>
            <a:prstGeom prst="ellipse">
              <a:avLst/>
            </a:prstGeom>
            <a:solidFill>
              <a:srgbClr val="f2f2f2"/>
            </a:solidFill>
            <a:ln w="3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0" name="图片 25" descr=""/>
          <p:cNvPicPr/>
          <p:nvPr/>
        </p:nvPicPr>
        <p:blipFill>
          <a:blip r:embed="rId1"/>
          <a:stretch/>
        </p:blipFill>
        <p:spPr>
          <a:xfrm>
            <a:off x="8026560" y="496728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6" descr=""/>
          <p:cNvPicPr/>
          <p:nvPr/>
        </p:nvPicPr>
        <p:blipFill>
          <a:blip r:embed="rId2"/>
          <a:stretch/>
        </p:blipFill>
        <p:spPr>
          <a:xfrm>
            <a:off x="8018640" y="3822840"/>
            <a:ext cx="492120" cy="49356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7" descr=""/>
          <p:cNvPicPr/>
          <p:nvPr/>
        </p:nvPicPr>
        <p:blipFill>
          <a:blip r:embed="rId3"/>
          <a:stretch/>
        </p:blipFill>
        <p:spPr>
          <a:xfrm>
            <a:off x="8026560" y="2679840"/>
            <a:ext cx="492120" cy="49212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28" descr=""/>
          <p:cNvPicPr/>
          <p:nvPr/>
        </p:nvPicPr>
        <p:blipFill>
          <a:blip r:embed="rId4"/>
          <a:stretch/>
        </p:blipFill>
        <p:spPr>
          <a:xfrm>
            <a:off x="8018640" y="1536840"/>
            <a:ext cx="492120" cy="49212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29"/>
          <p:cNvSpPr/>
          <p:nvPr/>
        </p:nvSpPr>
        <p:spPr>
          <a:xfrm>
            <a:off x="4038480" y="1415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4038480" y="1717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1"/>
          <p:cNvSpPr/>
          <p:nvPr/>
        </p:nvSpPr>
        <p:spPr>
          <a:xfrm>
            <a:off x="4038480" y="2558880"/>
            <a:ext cx="23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4038480" y="28605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3"/>
          <p:cNvSpPr/>
          <p:nvPr/>
        </p:nvSpPr>
        <p:spPr>
          <a:xfrm>
            <a:off x="4033800" y="370368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0"/>
          <p:cNvSpPr/>
          <p:nvPr/>
        </p:nvSpPr>
        <p:spPr>
          <a:xfrm>
            <a:off x="4033800" y="400536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35"/>
          <p:cNvSpPr/>
          <p:nvPr/>
        </p:nvSpPr>
        <p:spPr>
          <a:xfrm>
            <a:off x="4033800" y="485316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0"/>
          <p:cNvSpPr/>
          <p:nvPr/>
        </p:nvSpPr>
        <p:spPr>
          <a:xfrm>
            <a:off x="4033800" y="5154480"/>
            <a:ext cx="348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14:21:38Z</dcterms:created>
  <dc:creator>deeplm</dc:creator>
  <dc:description/>
  <cp:keywords/>
  <dc:language>en-US</dc:language>
  <cp:lastModifiedBy>administrator</cp:lastModifiedBy>
  <dcterms:modified xsi:type="dcterms:W3CDTF">2015-10-18T15:25:0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