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dt" idx="7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ftr" idx="7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 type="sldNum" idx="8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E7DF-6AF6-40C2-9443-DC5DC833D4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1755-BAE3-4450-9985-5BCCA60E8B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D79-735D-4EC9-ACF3-6B40A718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208-BB08-4BA8-9CCF-3D6098FA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B0D2A-8562-4DF2-893E-DDFBCCB6090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EC0C5-157B-4C42-AE53-09F2FDAB0FB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6ED02-1546-4020-A442-1BE4761E64B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887D4-C43D-430C-B7C3-F50ACC57815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316B1-00DA-4B97-B6C6-9C6C5E00FA2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BDA95-E0F7-4E60-A5BF-C346506F4E8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81A0-EA80-42AC-A162-990F8491183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B1235-F8BF-49C6-AE8B-F560E913D9C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A4810-33A4-493D-81E8-71315C5AFCA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DDABBE-A693-4DF9-8374-E32FBD395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F51-D05D-4C39-B364-76DBC981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C11037-7768-442E-9E2F-9302F1811A3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FCD93-B9F5-4AEF-A924-3AFA70C645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2D827-5383-4241-848C-1589D7C65A9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9A77F-0A1D-4CCD-8337-8C7D6D7789C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6122C-CED4-40FB-9FC4-D8028172F27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5681B2-BCCF-4C36-9E92-D75B368023D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2F5A6-8F7E-4785-ADAD-3C541CD8030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D866E-1373-40F5-B5D0-87D1867416D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218A6-D40E-49F1-9150-728F92DBFE8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44034-8D61-4501-BB3B-6B9E756A8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48C-C272-486D-B495-95F412E9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02FE9-67DB-4FFA-891C-9B9E00E3F3F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5CAB2B-5D24-45D0-A92B-91D6310E340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4349D2-74BB-40C5-A78A-52A6F7DD465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ABECBC-58D4-4BCF-A061-60D07E8BC61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F7A83E-E4A5-4145-9B58-54300449CC9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E53A47-F041-49CA-9772-6B3D9FE8BB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7A3DFE-A92E-4A68-BDB3-AAA8EB6671D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002CF1-87A5-4278-BCC8-B239918CF1F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CC001C-CA51-4E57-95A7-8DA61920160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1606C5-7676-4562-918B-AB5B40EE0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FFE84-48C0-4B22-AF5D-7C81289AD9D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A3A1AF-8DDA-4856-9DB0-87B6DF95703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4FFCA5-DB5D-4209-9C4D-5DCF8D6C75A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33E2CF-5BCF-45D9-896E-AC3C37729A6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0636B-8708-49E5-8DCD-905F1E3E254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4B21A-D2B3-4C3F-A47F-1156E27F5A3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996A0-E025-439F-BF47-C392588A523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5ADC1-1B4D-47B4-A7AA-548157134B7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3A404-F65F-4BD6-B1B1-24AC8682ED1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C67BE-F806-4917-BFC3-40F6F7CB652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11F9B-6971-4372-A848-5F037BD86D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D976D-0195-4A30-9F21-F6C5E92295A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CC2D4-E59E-4D6D-B760-2401BA4BFCD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2CD49-38D1-452F-A56B-B5339CD49B9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556F9-1808-4839-87B6-1A8DC7B3F98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8B350-5903-48B2-8A5B-6E5467622CD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60F46-27C7-4E96-8770-5A74B21A747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9C277-4AC9-4E4D-9E53-6232C54B669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41C89-5131-4323-9FC1-2FE6C393161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8197A-0FE1-40CE-B86E-D652F68275A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E62B0-74F6-4D60-A7E8-DCAA53A1CB6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7AD27-DD19-4145-B099-46B877ED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4A88B-8AE0-4AF9-AE81-9A16E669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F8C68-DA90-4B95-BC80-ACA88382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A8E1D-2373-4F26-AC9F-AF67309B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16C55-89FF-471F-B326-BAED04E8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3F476-556A-465F-9860-C15931CC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F40A2-B929-4B37-8FF0-8865CA79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503D5-E598-4C17-A3D1-B1FDA674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CED09-03D4-4280-83C4-7928693D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0E1B6-0BD9-41B6-99DB-4DE559714B7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40E04-1B0E-44DA-AB37-CAFF01DD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67E56-A3C2-46D9-B215-16F3F4C4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600EA-CFD9-4A31-A8BB-96DD9191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884-4325-42E1-9FC4-7A4BDB22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961FE-9798-4794-AE90-C94C680339B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ECAE1F-198F-40B3-BE05-F57353B1E97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365151-4992-40AD-BAFA-084C79E86AA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5B22C1-FE5C-46F7-A047-1C538C3F134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CEA9C9-1CF5-43CB-9251-7C8FB29D4FE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35C1F3-8063-4AEF-89DE-B271EF78AD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E3B70-87C5-44EF-BE55-97B10C54234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7063B1-465A-4D76-92F8-FCB099D2A1A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2E613F-7431-451F-B146-A2CF4DC7900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0E4FA-2818-4D4E-A28B-E50028E6F5C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8C93F1-AB84-4B7D-97A4-4D3A1166A76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DC3DA5-0329-4FF7-A69D-5F8D640B6F6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BC19AA-2E40-4F36-9A6A-125BF19D7EC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77F157-CD2B-4E2E-B987-53EE81AE96A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0D55B-9DEE-4AD4-890D-302A7673E8A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8A055-4629-47B8-939E-CF46CA8FBE7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5A6E1-9DB4-42B4-9CC5-7AB860604B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3D921-E7D0-45C4-822A-FB81D885AB0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C9DDD-C437-48A6-883D-BB9ED9B6DE6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524F5-4113-4360-B8C1-7C724B0F85D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0C0B8-3F20-43BA-9F65-647B972072A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8C8D4-E3AC-4C71-9D94-B8A1DCD41D4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A93DA-F760-470A-B65D-8ED57F0210A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9B067-B5CE-459F-A8CC-F6B9898AAB0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5013C-0684-48B1-8A52-219769EBF4A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01BBE-6FCA-4902-AF6B-15CCF089031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D9B16-3582-4C79-A245-639D05225F7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A3DFF-4D19-459F-8CEC-3827DB6A6C9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A0BEB-DAFB-46C9-B003-4F6341B9EEC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B387A-1B61-4EE6-921F-EC86BEFB1A2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B7AC6-25E7-4FA5-A93B-3AD0E19A237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12A0D-B017-4EFA-B915-C1671549479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7A07F-CD80-4F33-9870-5612B4A4A6F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D5793-39A1-4E2E-8507-626C0C1B4AC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343BD-0668-4100-A421-26813080F5A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C5B3C-D60D-419E-A3ED-B18627AFEE2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EE328-2F9B-4697-B91D-791B1B82B75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C7F76-AD1B-40EA-A0E2-C7304C1D14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6F3E4-B838-47A6-A4A9-C6644400BCB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28C35-97E6-4778-A7EE-D48573D2FBA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63736-5F5C-414B-8EAE-56985DA987A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9CADB-3757-4DB3-8071-C1E2B599E61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C2DAFD-FC29-4863-8B6E-C79525F0E6F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3081B3-6EA1-45C2-9786-467C026CD16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52EF49-9E24-4304-9A87-C8DC99026D3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642F2C-05AB-4B7A-9E9C-16B61DBEEF8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CA14B7-4D4A-4860-B974-0AFE506FFCE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2B537C-CE60-4681-A56C-BE7A38FB9D3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76A315-0BB4-4162-85D4-01A88ACC5E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C4F147-A38E-4A84-9D30-8F42CB425BC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57C8A2-CE62-4EE4-A230-B02562BB791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342FF2-490B-41BF-A2CA-B26099C3E91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A909A5-F658-4EF9-81E6-24C19EED4A4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7C9EE5-1833-4DD6-8E62-1A9A7A8303B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F68D5E-B023-4027-A35A-11C498E821E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A21F1-EC34-463D-9F25-20520233676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ADB6B-41B5-486A-8F0E-51AA86D854E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E797F-16EE-489A-8E25-D46059F878B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0A353-47EC-4B43-89AE-962D4379620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5879EE-FA15-4BCD-B5F1-BDF3548B20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1B3305-C5EF-4D34-A01D-465E5F88949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F1E09-A281-4126-8046-04699F3B4AD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CBCFA-6C3D-49CB-BA49-B3FAE1269E0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F479D-55B6-45A7-BDFF-D2A85C28CF9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4C7CD-BA4E-4D15-8783-7B89909A63F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6E3D8-33A0-4821-B5F7-BD6646BEFF7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52998-7F42-45C8-B5FC-21A199EEDCF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85C17-510D-44FE-8973-CDA97F14373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C33C9-430A-4350-845C-2102B10FEC6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4DA51-1997-48CD-B5B3-0AEEBBA6811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F04DF-136E-4155-93C8-1AA559BF6C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761386-D37F-42E6-9E7D-B7153F31EE0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C6401-7192-4C12-80CE-B40DD406ED9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D74F3-F26D-4313-B3F0-3EF18A8457E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62146-0EAB-4699-80B4-8BD8520BE59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E8CD1-9DA4-4C81-8CFC-1F7245D7C6A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AA330-E13D-484F-BAC9-1855A8A0523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4F789-E064-495D-A9A2-EAB7E6D56F8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835DE-EE0E-47D3-B6C9-05578C0CBDD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CD5CB-5F51-4EA7-861F-0CD5FA99962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51342-CD1E-47A2-B8BB-33A8DABDDD6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1015B9-3522-4F28-A5B3-4E272F5C6B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311481-2607-4DCC-BF88-C3BD9B5CFB6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153A51-74B6-4207-8350-5305A18EC38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515D54-DF77-4D01-A4F7-1F0B43ECE9D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70436E-9074-41F9-8FC5-091DD6B05EB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663160-91B9-46CC-8939-D702BA7C069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426088-E971-440B-BAF8-DD6688D7A6E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DFC528-6829-45DC-A6E1-FB854867907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96AC82-A87C-4B09-A2C3-7B3A1E2DC0C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21F177-180C-4BB6-939B-365CAA2CB92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061449-261E-4B36-A938-2B1BA8ACD59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E1D99B-554C-4B56-BEA0-BBFAE091C1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EB7-3C98-4743-8165-4D88F4C4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024DA3-AD8D-4BD4-B478-1DD5DDDB8F3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7D6EBA-888A-489F-8C9D-6D09E6641B4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9F52F-4707-48AC-8E70-1A6AB9003A3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FA229A-6CA5-4A31-B4FA-B7214B47399B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1CA2F-2126-47BA-AD7F-91BA8088739D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40E25E-C1B6-4D12-B6D6-8AB294A0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4E53B8-F9E1-43D6-B329-D567C4BA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5998E1-A679-4552-BE25-EA6F7FDB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36916-6DAE-4C5C-A807-7D2059890910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76439E-DFB0-4474-B77E-BB954ED2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01A4ED-421D-469F-90EC-0DA79B22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4B4E77-A67D-4348-8286-62D4770E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637A63-F34D-47C7-8BFB-05319073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2E05B8-2819-4BA4-9D9B-61044925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3671B1-24A4-4CFC-9255-F31FA90A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B536F4-08BA-4868-84BA-C8FB89C0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D0D77C-A7B8-432E-B0E7-FDD5F5CF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20C0E1-AE30-412F-A0AB-6DF99A0F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B2281F-DD88-443C-870B-F7E1358B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50A14-71BF-4033-965F-21326C5C1B77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EC19B6-7D5B-4821-AC60-170B5D6A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1D3D45-953B-4FA1-855A-3FA3FBB8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C179B9-4A90-47CF-B4A7-11468BEC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70E595-2469-484F-A813-1DE0BCED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C01A10-7FB2-48B3-B2FC-81AE1A6F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C31272-67CF-4E3B-AFB0-01B12D59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17704E-70E2-4333-8C0F-DBBA2E60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0F1BA7-AD6C-4881-840C-A0EE9B2E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0E1482-26EE-4692-AC5A-BCDDCE68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5E97AA6-185B-4323-B34B-2E5C64BA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218C1F-6F6D-463A-88CD-D1FDA9C4604B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AF4623-9102-4D91-920D-4AD8F2C2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534C73-2CA6-423A-966F-1DC2A59C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05717D-263C-4F7F-B13D-B9B75571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366CDE-FB9E-4CAC-A32A-24537FA1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CD2807-0ABA-4BD9-A6EE-B4736DCF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203891-48E5-42DB-8A3E-1F771B17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C1B5F6-37C3-4507-AB84-939CA6F4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38D3EF-1C82-4526-A482-148B2775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2CFA90-8C46-4A62-A89B-8840B542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7397D4-6060-4638-94E0-8C72DA6B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BA5CF5-D777-491C-ACAE-4C2EF817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2CACB0-4A78-4DC8-8E7C-572740A4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41C4D7-EF95-4CED-91E9-5100CB32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4374ED-7BC3-45AF-9EC6-95EBE73B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269703-FE2B-4391-BCAB-D6E15E92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4826C2-2A8D-4B7D-B77E-F3665F0F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3ED1D4-5149-4198-9F6E-410C7FCA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1349EF-59BE-4CD6-A378-3499DDD0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916B5D-8E17-4089-A32F-C414BB11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2E75BF-E9BE-41AE-AB44-5CA0A43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97A842-D45B-4714-A010-21E8957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B6D764F-34E8-4007-B156-D0263561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F58DF9-D077-45C2-8F57-B883405C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CF6CD5-6E9B-4DE7-877A-F6F8B088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131B9D-1DC2-4780-B9B8-A73D0F22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734F69-5879-4112-82BD-062D3EC5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6AF2A2-7555-433F-A9D2-5F3DF50C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C34558-A246-461D-B0FE-DEA25D62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5F8BD5-7217-4D51-86DE-DF9BA9C1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5E9BE7-0830-4B3E-A4D4-65C51E24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371B5A-72BC-4E32-BDC1-F839071D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C8D727D-2B2F-41E3-BBF2-EBA41B72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15FBA50-74BB-4CB9-BCD6-E5C1E341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BE313B8-ABC2-4EF7-B422-E98A19C2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06E8CF-5968-4504-B122-F87BBCC9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9C6284-3035-4AC7-A965-CA0006C8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69BF3A-4B57-48AF-B763-691CD8D6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A1232F-C26B-4926-8360-2967F19C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F818B7-515F-4AC3-8C01-C172D117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9EE244-FA28-4E6D-9851-C967216E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450-5DFF-4B0B-A84B-6AA094A0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0627670-3CE3-474D-BCCC-35D61178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68ED58-51EC-48A0-BA20-58083A3E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EE688C8-1608-478D-8BD5-CA68EADB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B70361A-0731-43E7-992D-CA94D851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F40FD5-EC0C-4F7B-9CB4-EC6B2CF3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7223B10-39D9-44FF-8F5A-79974D64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8F95E1B-3D7C-4A7B-82E2-869D202F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934CC19-9A21-4D20-924D-7A338208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A153C90-B181-40A6-83B3-FBBB69A8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99D1E41-34FC-4E93-BC10-D7B9D154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758CE42-5CD4-4987-ADC0-7B9AC98D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F6C8A9E-DFA8-423F-873D-1E302C2E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D62482A-70F6-4C2B-9EDE-0F4302B9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B807842-7065-4842-A5D7-2D7F1D4D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C5A728C-E54C-42CF-99E9-3D96F405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0BA97B4-1CC9-4121-BF5D-CA0C74D0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E9BADA-6AAC-444D-BE27-53B04376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578657-0CB7-4639-9DEC-9B29E763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A18845-DD04-4D85-BD91-B1DE55AF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7D450D-DDDD-464F-B74D-BFAA2EFC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FC925C-CEBF-43DD-8910-AF6F762D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1EFEECE-2AD5-4E32-9813-1D888EB0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92420A5-7D15-41EF-A310-8FD24E54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037E9EA-0318-41A0-8AED-188D70C8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BD66047-6D92-43BA-9C05-C43597C3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92C2B40-09E6-454A-8BF1-5855A263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F9DC098-E402-4B2D-9796-4C3804A7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9A6DC02-346F-4947-BE60-50171121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FAFF59C-6E41-4B1B-A083-9E84FB9A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0AC08BF-10F8-4811-8948-F9273749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95B835A-D1C3-4367-BACF-B2CDC2F6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43490B-2283-460D-8B56-EAAB03BB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94B0E2F-9F21-45F9-9D77-773E73FD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3F9390F-52FA-4012-805B-6DDC5618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060EF6A-02A3-4C7F-8C6B-F8695300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891826A-9BC0-4FE6-9D58-489C8F53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194F0E7-D1E7-4D17-9531-16DBC380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586B798-9473-40BC-BCAA-75E4A35F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5D2FE44-9D5E-4EC5-9A7A-23ED6197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F5B05A6-B28E-4F48-9BB1-97D6DB45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9762A99-62B2-4B95-B187-A1D1867E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C7E60A0-2948-430E-B008-67A75F53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A75E39A-FCFD-4588-9B83-E13FFC25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D7FC34D-CFB8-42E5-BD5E-FFCCADE8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DB79E41-D39D-4B62-852E-B8AE91DA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D5BCDCB-A63F-4D26-B94B-F43E3285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1A70496-3E85-47D1-A563-9801E79E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9E7AFDC-C43F-4396-8799-0F9C26F7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31B7704-84ED-4DC7-8E13-377FEFAF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8AA86E1-E056-4655-87D2-F3EA9BC9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B21FEB-7706-4137-867E-75F534F5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8A606A0-9357-481C-ABF1-75154331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8D89218-4D77-41C4-A1F5-53CCA247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83405EA-8DE9-4DE8-91D7-6C5CE239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28F443B-CF13-4320-AEF6-17159E5B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481B339-6272-4535-B81B-F0A29528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B8F5083-CAE0-4B7A-9724-E834B4D1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8DFD10E-4F66-4960-906B-A94D6AD5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F165381-CCD2-452B-A9D7-96D50EE7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B4B0F97-BFC0-43CE-8375-F29B7EED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CC9A58E-FC85-4148-8629-9DFAF7E2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9BF95B-6A9B-45F2-9E21-8E6AC986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CC7EF40-352B-49A9-BEE0-25ECA933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209BA45-3FBC-40B7-BAFA-9FD443C4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8BD3BF7-EF30-4C9D-91C8-CCB16D38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57C526B-447E-4979-9D1E-A4CF9BA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9F64886-D1CE-47C8-92F0-54B94567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11FD618-EB2B-463E-9729-91C91E7C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73E252F-0C9F-41E3-B80B-8132FC51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291CBD8-94D8-48AF-B1F1-1F337066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B793912-0D9A-4CF5-8356-402A0AF4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424839A-F26C-4AC3-A28A-454AC470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D3A7EC5-9E52-4E7F-937C-6F2CE645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9ED41DB-1953-4E21-8A2F-35C6A4F9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7F1D734-11A8-4D6D-B3B4-3949E7AA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CACEAC2-76A6-45BA-8821-3E29D3B1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DA64362-B806-4FF4-9E49-A64A8409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3D0CDA-B14F-400D-949B-FADFBFBF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92D16CC-B976-4008-A1FB-32463DA6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3EDF91C-482F-4850-A923-E91838F6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34AF0B5-3A90-487E-90F5-577075E7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CDF6FC8-DBF4-4ECB-83B4-22FE9B0D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985FE6A-186A-4783-9752-DD89B40E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B3D8426-F879-4B95-A062-0B941BC2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F5927FD-836C-4AD8-85DA-4E17DE3E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EEFD678-040F-4F5B-A68A-8B8AD00A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E1DFED1-364A-481F-AC12-636DDD7B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6616DA8-C12E-42AF-80F5-D75E990C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B27A4F8-F49A-4261-A6B7-5B8ECF1C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7E7F325-C8F2-498A-B4D9-28BA783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E7E4B-2BFA-4F3D-95C6-52BDF039A5BA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FEB9426-FDB6-4010-9B71-5CB19C35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85ACA82-E46A-4ABE-B416-9EB91AAE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533A81C-8042-46FD-9C90-15934410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447-6D7D-4305-B1AD-0C381E90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1D8E-42F0-4F51-8A93-7CBB2965711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9F56-A8E7-4949-8B93-50A1EBC4FD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03B06-A084-4313-8E3D-F38000BF459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F8A9-76A1-4E51-AB2F-D194DC69686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86F7-CE4C-4C25-87E6-7AC4D391AF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37F1-F9AE-4FD6-83F5-24D451CDE85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8EF5-7EB8-4056-AAD3-76D5CAD6FF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2EA60-0573-4A3A-BE72-A5971AF4916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F125D-C242-4125-A5E0-FBDE875362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BA59C-7B87-486C-8213-BD7ECBA4D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3E3-10D7-474C-9814-5134F37E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8BD2-B935-460F-9DFE-1882A94EFAB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4F2B4-6081-4EB6-9F9E-970D86373D2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84014-8FD3-4182-9A6B-9F43E44475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62F72-1AC9-4A54-9A15-1A18BAF5599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1FE99-383D-458B-9FE7-BC889921A57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1AF1E-5B63-4966-A1A9-2CEC2862100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655AB-24FB-494D-B810-5A789D9BE56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EFA11C-50E1-42E5-B480-B7A5F55CC92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DDD192-DDD0-427E-92AE-1263573CD38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02453-EA57-43BB-BA33-660459DC8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517-6545-4470-8BBF-37DACECB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DCE9E-E4BE-4254-81FD-6A904AAE37D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EA3EF-98CF-483E-9A46-9D648004C1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05EEB-F97F-4301-A25B-382FBE791D6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014-9FDF-42B5-ACB0-95B73A6C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FB2DB4-A44E-4335-8D2A-CC1C5A263E5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9AA2F8-28DA-40DC-A9C6-CA2922F5A3C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01E58B-17BE-46A1-8FD6-415B7BDC452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2780C6-BF37-4A5E-AF48-89E492FD0F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F88A55-1D26-42CC-8723-7F5ADE88C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09A6-3576-4DAE-91D1-EA7722D6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E99C81-2EFA-4E9E-B7CE-7736B63C92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15F982-B92D-4B70-A21B-01A608047F2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7E9914-4D3D-4B78-AB54-5199EB72375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639669-5BE7-43AB-90F2-BA69CA1084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29D8DD-E199-4EB1-87C1-F3EBE5DF6F6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9193C5-C8FE-4ACA-9106-36127DF1A35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B49969-F517-4E25-9F1D-F010D4EBED0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336AF-B358-485C-8FDD-636DB68E9CE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F84C3-6C04-466F-B83D-DC9EAEC09B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F0F37-52D5-49C3-A744-EE4886EF7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CA5F-FE2D-4A15-91A2-B5A81A69A9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762B-FC3A-4D16-8D82-3EAB3A1D308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763C-9E78-4F20-8447-5A53DE17669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CF9E-C639-4C6A-8C69-5C98969DE7D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7B9F-886F-4285-87CA-6421111DFB2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69C3-F2BC-4D18-95E3-81AC4F1A70D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72BA-20CD-4AD9-98D5-D06A2E214DA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3D3D-2C3F-481B-A50A-3950958394B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556B-A5E3-46E8-A83E-D5586DC22C5F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F8F9-119A-4C56-88A9-476448C23DF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43B6-2242-4EC5-8375-65F3B4E4502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4A2D-3B5E-486E-9456-12AF16E44F1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C637-2D67-4C76-AEFA-C98A9A74A3D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F931-74BD-4580-9ED1-96C889F6DAD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AA5F-D14E-4957-A0C9-98E1C6C2756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4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4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4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C5FF-6734-400A-8871-D40A04C7F4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4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4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4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B967-F34D-4F10-85B1-E2E8B0B7FA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4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4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1A87-2F9F-4D0D-866D-A0D2858F49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1F66-BC53-414A-872C-BEB2DE5F2F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BD74-7AB1-4CAF-B859-2019ADF1C9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80C8-F022-4E37-AE20-83782145B1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FE59-0D90-440E-B398-F94A9BB007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86F1-853E-4244-A3E8-6744A29E2B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 type="dt" idx="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 type="ftr" idx="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 type="sldNum" idx="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C41A-05D0-4151-9B59-762CA52279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ftr" idx="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sldNum" idx="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F708-7C98-4139-9941-906D80B0D9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C19D-2135-44DE-A48F-97F2201EFB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416B-76D9-4035-9DDA-74AD7A9EC3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3CC5-23E6-448D-9B7B-44FD61377CF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84EE-9EC2-4CE5-BA24-4DCFC45384A1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2CB6-4428-4947-AC29-7792AB4B5BED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4E58-DA89-4B62-A601-D051D6CEBF78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TextBox 1"/>
          <p:cNvSpPr/>
          <p:nvPr/>
        </p:nvSpPr>
        <p:spPr>
          <a:xfrm>
            <a:off x="642960" y="46512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交通安全不是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问题是解决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圆角矩形标注 7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3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XXX</a:t>
            </a: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Box 12"/>
          <p:cNvSpPr/>
          <p:nvPr/>
        </p:nvSpPr>
        <p:spPr>
          <a:xfrm>
            <a:off x="4140360" y="15699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通安全无小事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 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事事注意安全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17"/>
          <p:cNvSpPr/>
          <p:nvPr/>
        </p:nvSpPr>
        <p:spPr>
          <a:xfrm>
            <a:off x="142920" y="28584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Box 3"/>
          <p:cNvSpPr/>
          <p:nvPr/>
        </p:nvSpPr>
        <p:spPr>
          <a:xfrm>
            <a:off x="1771560" y="857160"/>
            <a:ext cx="3061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解决方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4"/>
          <p:cNvSpPr/>
          <p:nvPr/>
        </p:nvSpPr>
        <p:spPr>
          <a:xfrm>
            <a:off x="1515960" y="22431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广西自治区南宁市卫国小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6"/>
          <p:cNvSpPr/>
          <p:nvPr/>
        </p:nvSpPr>
        <p:spPr>
          <a:xfrm>
            <a:off x="1724040" y="34383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南宁市卫国小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TextBox 1"/>
          <p:cNvSpPr/>
          <p:nvPr/>
        </p:nvSpPr>
        <p:spPr>
          <a:xfrm>
            <a:off x="1187280" y="80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卷首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3"/>
          <p:cNvSpPr/>
          <p:nvPr/>
        </p:nvSpPr>
        <p:spPr>
          <a:xfrm>
            <a:off x="1886040" y="2446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​​ 4"/>
          <p:cNvSpPr/>
          <p:nvPr/>
        </p:nvSpPr>
        <p:spPr>
          <a:xfrm>
            <a:off x="969840" y="1515960"/>
            <a:ext cx="417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区交通安全问题：我们的解决方案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学习项目主要是通过学生在观察学校放学时段人流量的基础上，搜集数据，并进行整理、分析，找出校门口人车混行的原因，提出了学生的校区交通安全问题解决方案。通过项目的学习，期望学生在亲身实践中，体验运用已学知识解决设计问题的过程，培养整理、分析信息的能力、问题解决的能力与协作意识、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9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TextBox 2"/>
          <p:cNvSpPr/>
          <p:nvPr/>
        </p:nvSpPr>
        <p:spPr>
          <a:xfrm>
            <a:off x="2080440" y="1609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Box 3"/>
          <p:cNvSpPr/>
          <p:nvPr/>
        </p:nvSpPr>
        <p:spPr>
          <a:xfrm>
            <a:off x="3311640" y="23954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二、学区交通安全问题原因的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Box 4"/>
          <p:cNvSpPr/>
          <p:nvPr/>
        </p:nvSpPr>
        <p:spPr>
          <a:xfrm>
            <a:off x="1071720" y="32148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三、我们的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5"/>
          <p:cNvSpPr/>
          <p:nvPr/>
        </p:nvSpPr>
        <p:spPr>
          <a:xfrm>
            <a:off x="1114920" y="80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6"/>
          <p:cNvSpPr/>
          <p:nvPr/>
        </p:nvSpPr>
        <p:spPr>
          <a:xfrm>
            <a:off x="398520" y="58752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7"/>
          <p:cNvSpPr/>
          <p:nvPr/>
        </p:nvSpPr>
        <p:spPr>
          <a:xfrm>
            <a:off x="1073160" y="4029120"/>
            <a:ext cx="32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我们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5" name="Picture 1" descr="D:\卫国小学\map01.jpg"/>
          <p:cNvPicPr/>
          <p:nvPr/>
        </p:nvPicPr>
        <p:blipFill>
          <a:blip r:embed="rId1"/>
          <a:srcRect l="2122" t="1870" r="907" b="-399"/>
          <a:stretch/>
        </p:blipFill>
        <p:spPr>
          <a:xfrm>
            <a:off x="428760" y="1428840"/>
            <a:ext cx="5286240" cy="4000320"/>
          </a:xfrm>
          <a:prstGeom prst="rect">
            <a:avLst/>
          </a:prstGeom>
          <a:ln w="0">
            <a:noFill/>
          </a:ln>
        </p:spPr>
      </p:pic>
      <p:sp>
        <p:nvSpPr>
          <p:cNvPr id="1696" name="矩形​​ 7"/>
          <p:cNvSpPr/>
          <p:nvPr/>
        </p:nvSpPr>
        <p:spPr>
          <a:xfrm>
            <a:off x="5857920" y="1359000"/>
            <a:ext cx="2500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中国广西南宁市卫国小学位于旧城商业区内，是服务于华强社区的一所学校。学校共有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802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名师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学区占地面积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2.1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平方公里，学区内人口约</a:t>
            </a:r>
            <a:r>
              <a:rPr b="0" lang="en-US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3.7</a:t>
            </a:r>
            <a:r>
              <a:rPr b="0" lang="zh-CN" sz="1800" spc="-1" strike="noStrike">
                <a:solidFill>
                  <a:srgbClr val="292929"/>
                </a:solidFill>
                <a:latin typeface="微软雅黑"/>
                <a:ea typeface="微软雅黑"/>
              </a:rPr>
              <a:t>万人，人口密度为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.84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方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8"/>
          <p:cNvSpPr/>
          <p:nvPr/>
        </p:nvSpPr>
        <p:spPr>
          <a:xfrm>
            <a:off x="1672560" y="619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acc6"/>
                </a:solidFill>
                <a:latin typeface="微软雅黑"/>
                <a:ea typeface="微软雅黑"/>
              </a:rPr>
              <a:t>我们的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9"/>
          <p:cNvSpPr/>
          <p:nvPr/>
        </p:nvSpPr>
        <p:spPr>
          <a:xfrm>
            <a:off x="115704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acc6"/>
                </a:solidFill>
                <a:latin typeface="微软雅黑"/>
                <a:ea typeface="微软雅黑"/>
              </a:rPr>
              <a:t>一、问题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10"/>
          <p:cNvSpPr/>
          <p:nvPr/>
        </p:nvSpPr>
        <p:spPr>
          <a:xfrm>
            <a:off x="285840" y="-684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3cddd"/>
                </a:solidFill>
                <a:latin typeface="微软雅黑"/>
                <a:ea typeface="微软雅黑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直接连接符 14"/>
          <p:cNvSpPr/>
          <p:nvPr/>
        </p:nvSpPr>
        <p:spPr>
          <a:xfrm>
            <a:off x="785880" y="40719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任意多边形 22"/>
          <p:cNvSpPr/>
          <p:nvPr/>
        </p:nvSpPr>
        <p:spPr>
          <a:xfrm>
            <a:off x="857160" y="2590920"/>
            <a:ext cx="4591080" cy="2554200"/>
          </a:xfrm>
          <a:custGeom>
            <a:avLst/>
            <a:gdLst/>
            <a:ahLst/>
            <a:rect l="l" t="t" r="r" b="b"/>
            <a:pathLst>
              <a:path w="4690534" h="2626370">
                <a:moveTo>
                  <a:pt x="0" y="1473200"/>
                </a:moveTo>
                <a:cubicBezTo>
                  <a:pt x="38021" y="1435179"/>
                  <a:pt x="14042" y="1451585"/>
                  <a:pt x="76200" y="1430866"/>
                </a:cubicBezTo>
                <a:lnTo>
                  <a:pt x="101600" y="1422400"/>
                </a:lnTo>
                <a:cubicBezTo>
                  <a:pt x="141852" y="1395564"/>
                  <a:pt x="117345" y="1408685"/>
                  <a:pt x="177800" y="1388533"/>
                </a:cubicBezTo>
                <a:lnTo>
                  <a:pt x="203200" y="1380066"/>
                </a:lnTo>
                <a:cubicBezTo>
                  <a:pt x="341075" y="1334109"/>
                  <a:pt x="219794" y="1371810"/>
                  <a:pt x="584200" y="1363133"/>
                </a:cubicBezTo>
                <a:cubicBezTo>
                  <a:pt x="611028" y="1354190"/>
                  <a:pt x="611553" y="1356490"/>
                  <a:pt x="635000" y="1337733"/>
                </a:cubicBezTo>
                <a:cubicBezTo>
                  <a:pt x="641233" y="1332746"/>
                  <a:pt x="645089" y="1324907"/>
                  <a:pt x="651934" y="1320800"/>
                </a:cubicBezTo>
                <a:cubicBezTo>
                  <a:pt x="659587" y="1316208"/>
                  <a:pt x="669352" y="1316324"/>
                  <a:pt x="677334" y="1312333"/>
                </a:cubicBezTo>
                <a:cubicBezTo>
                  <a:pt x="686435" y="1307782"/>
                  <a:pt x="693435" y="1299533"/>
                  <a:pt x="702734" y="1295400"/>
                </a:cubicBezTo>
                <a:cubicBezTo>
                  <a:pt x="719045" y="1288151"/>
                  <a:pt x="736601" y="1284111"/>
                  <a:pt x="753534" y="1278466"/>
                </a:cubicBezTo>
                <a:cubicBezTo>
                  <a:pt x="772841" y="1272030"/>
                  <a:pt x="787401" y="1255889"/>
                  <a:pt x="804334" y="1244600"/>
                </a:cubicBezTo>
                <a:cubicBezTo>
                  <a:pt x="824138" y="1231398"/>
                  <a:pt x="822351" y="1220379"/>
                  <a:pt x="838200" y="1202266"/>
                </a:cubicBezTo>
                <a:cubicBezTo>
                  <a:pt x="899134" y="1132628"/>
                  <a:pt x="858114" y="1181257"/>
                  <a:pt x="905934" y="1143000"/>
                </a:cubicBezTo>
                <a:cubicBezTo>
                  <a:pt x="947825" y="1109487"/>
                  <a:pt x="895796" y="1144670"/>
                  <a:pt x="939800" y="1100666"/>
                </a:cubicBezTo>
                <a:cubicBezTo>
                  <a:pt x="946995" y="1093471"/>
                  <a:pt x="956733" y="1089377"/>
                  <a:pt x="965200" y="1083733"/>
                </a:cubicBezTo>
                <a:cubicBezTo>
                  <a:pt x="980103" y="1039026"/>
                  <a:pt x="968716" y="1065760"/>
                  <a:pt x="1007534" y="1007533"/>
                </a:cubicBezTo>
                <a:cubicBezTo>
                  <a:pt x="1013178" y="999066"/>
                  <a:pt x="1016000" y="987777"/>
                  <a:pt x="1024467" y="982133"/>
                </a:cubicBezTo>
                <a:cubicBezTo>
                  <a:pt x="1032934" y="976489"/>
                  <a:pt x="1041921" y="971557"/>
                  <a:pt x="1049867" y="965200"/>
                </a:cubicBezTo>
                <a:cubicBezTo>
                  <a:pt x="1091756" y="931688"/>
                  <a:pt x="1039731" y="966868"/>
                  <a:pt x="1083734" y="922866"/>
                </a:cubicBezTo>
                <a:cubicBezTo>
                  <a:pt x="1090929" y="915671"/>
                  <a:pt x="1100667" y="911577"/>
                  <a:pt x="1109134" y="905933"/>
                </a:cubicBezTo>
                <a:lnTo>
                  <a:pt x="1143000" y="855133"/>
                </a:lnTo>
                <a:cubicBezTo>
                  <a:pt x="1152901" y="840281"/>
                  <a:pt x="1154290" y="821266"/>
                  <a:pt x="1159934" y="804333"/>
                </a:cubicBezTo>
                <a:cubicBezTo>
                  <a:pt x="1162756" y="795866"/>
                  <a:pt x="1162089" y="785244"/>
                  <a:pt x="1168400" y="778933"/>
                </a:cubicBezTo>
                <a:cubicBezTo>
                  <a:pt x="1209462" y="737871"/>
                  <a:pt x="1188983" y="753922"/>
                  <a:pt x="1227667" y="728133"/>
                </a:cubicBezTo>
                <a:cubicBezTo>
                  <a:pt x="1279785" y="649955"/>
                  <a:pt x="1213277" y="746121"/>
                  <a:pt x="1261534" y="685800"/>
                </a:cubicBezTo>
                <a:cubicBezTo>
                  <a:pt x="1267891" y="677854"/>
                  <a:pt x="1272110" y="668346"/>
                  <a:pt x="1278467" y="660400"/>
                </a:cubicBezTo>
                <a:cubicBezTo>
                  <a:pt x="1283454" y="654167"/>
                  <a:pt x="1290413" y="649699"/>
                  <a:pt x="1295400" y="643466"/>
                </a:cubicBezTo>
                <a:cubicBezTo>
                  <a:pt x="1301757" y="635520"/>
                  <a:pt x="1304388" y="624423"/>
                  <a:pt x="1312334" y="618066"/>
                </a:cubicBezTo>
                <a:cubicBezTo>
                  <a:pt x="1319303" y="612491"/>
                  <a:pt x="1329267" y="612422"/>
                  <a:pt x="1337734" y="609600"/>
                </a:cubicBezTo>
                <a:cubicBezTo>
                  <a:pt x="1343378" y="601133"/>
                  <a:pt x="1350116" y="593301"/>
                  <a:pt x="1354667" y="584200"/>
                </a:cubicBezTo>
                <a:cubicBezTo>
                  <a:pt x="1358658" y="576218"/>
                  <a:pt x="1358183" y="566226"/>
                  <a:pt x="1363134" y="558800"/>
                </a:cubicBezTo>
                <a:cubicBezTo>
                  <a:pt x="1369776" y="548837"/>
                  <a:pt x="1380869" y="542598"/>
                  <a:pt x="1388534" y="533400"/>
                </a:cubicBezTo>
                <a:cubicBezTo>
                  <a:pt x="1395048" y="525583"/>
                  <a:pt x="1399110" y="515946"/>
                  <a:pt x="1405467" y="508000"/>
                </a:cubicBezTo>
                <a:cubicBezTo>
                  <a:pt x="1410454" y="501767"/>
                  <a:pt x="1417290" y="497198"/>
                  <a:pt x="1422400" y="491066"/>
                </a:cubicBezTo>
                <a:cubicBezTo>
                  <a:pt x="1438864" y="471309"/>
                  <a:pt x="1445587" y="455584"/>
                  <a:pt x="1464734" y="440266"/>
                </a:cubicBezTo>
                <a:cubicBezTo>
                  <a:pt x="1472680" y="433909"/>
                  <a:pt x="1481667" y="428977"/>
                  <a:pt x="1490134" y="423333"/>
                </a:cubicBezTo>
                <a:lnTo>
                  <a:pt x="1524000" y="372533"/>
                </a:lnTo>
                <a:lnTo>
                  <a:pt x="1540934" y="347133"/>
                </a:lnTo>
                <a:cubicBezTo>
                  <a:pt x="1564917" y="275180"/>
                  <a:pt x="1531468" y="362909"/>
                  <a:pt x="1566334" y="304800"/>
                </a:cubicBezTo>
                <a:cubicBezTo>
                  <a:pt x="1593599" y="259358"/>
                  <a:pt x="1549608" y="296195"/>
                  <a:pt x="1600200" y="262466"/>
                </a:cubicBezTo>
                <a:cubicBezTo>
                  <a:pt x="1616684" y="213017"/>
                  <a:pt x="1595770" y="258430"/>
                  <a:pt x="1634067" y="220133"/>
                </a:cubicBezTo>
                <a:cubicBezTo>
                  <a:pt x="1680199" y="174001"/>
                  <a:pt x="1636354" y="193970"/>
                  <a:pt x="1684867" y="177800"/>
                </a:cubicBezTo>
                <a:cubicBezTo>
                  <a:pt x="1690511" y="172155"/>
                  <a:pt x="1695158" y="165294"/>
                  <a:pt x="1701800" y="160866"/>
                </a:cubicBezTo>
                <a:cubicBezTo>
                  <a:pt x="1717488" y="150407"/>
                  <a:pt x="1762207" y="132640"/>
                  <a:pt x="1778000" y="127000"/>
                </a:cubicBezTo>
                <a:cubicBezTo>
                  <a:pt x="1803214" y="117995"/>
                  <a:pt x="1827946" y="106851"/>
                  <a:pt x="1854200" y="101600"/>
                </a:cubicBezTo>
                <a:cubicBezTo>
                  <a:pt x="1883308" y="95778"/>
                  <a:pt x="1902493" y="92639"/>
                  <a:pt x="1930400" y="84666"/>
                </a:cubicBezTo>
                <a:cubicBezTo>
                  <a:pt x="1938981" y="82214"/>
                  <a:pt x="1947333" y="79022"/>
                  <a:pt x="1955800" y="76200"/>
                </a:cubicBezTo>
                <a:cubicBezTo>
                  <a:pt x="1964267" y="70555"/>
                  <a:pt x="1971847" y="63274"/>
                  <a:pt x="1981200" y="59266"/>
                </a:cubicBezTo>
                <a:cubicBezTo>
                  <a:pt x="1993361" y="54054"/>
                  <a:pt x="2047766" y="44742"/>
                  <a:pt x="2057400" y="42333"/>
                </a:cubicBezTo>
                <a:cubicBezTo>
                  <a:pt x="2089167" y="34391"/>
                  <a:pt x="2082747" y="31470"/>
                  <a:pt x="2116667" y="16933"/>
                </a:cubicBezTo>
                <a:cubicBezTo>
                  <a:pt x="2133677" y="9643"/>
                  <a:pt x="2158741" y="4298"/>
                  <a:pt x="2175934" y="0"/>
                </a:cubicBezTo>
                <a:cubicBezTo>
                  <a:pt x="2294467" y="2822"/>
                  <a:pt x="2413084" y="3202"/>
                  <a:pt x="2531534" y="8466"/>
                </a:cubicBezTo>
                <a:cubicBezTo>
                  <a:pt x="2540450" y="8862"/>
                  <a:pt x="2548952" y="12942"/>
                  <a:pt x="2556934" y="16933"/>
                </a:cubicBezTo>
                <a:cubicBezTo>
                  <a:pt x="2566035" y="21484"/>
                  <a:pt x="2573867" y="28222"/>
                  <a:pt x="2582334" y="33866"/>
                </a:cubicBezTo>
                <a:cubicBezTo>
                  <a:pt x="2608123" y="72550"/>
                  <a:pt x="2592072" y="52071"/>
                  <a:pt x="2633134" y="93133"/>
                </a:cubicBezTo>
                <a:cubicBezTo>
                  <a:pt x="2640329" y="100328"/>
                  <a:pt x="2650588" y="103709"/>
                  <a:pt x="2658534" y="110066"/>
                </a:cubicBezTo>
                <a:cubicBezTo>
                  <a:pt x="2684787" y="131069"/>
                  <a:pt x="2666116" y="126557"/>
                  <a:pt x="2700867" y="143933"/>
                </a:cubicBezTo>
                <a:cubicBezTo>
                  <a:pt x="2708849" y="147924"/>
                  <a:pt x="2718465" y="148066"/>
                  <a:pt x="2726267" y="152400"/>
                </a:cubicBezTo>
                <a:cubicBezTo>
                  <a:pt x="2744057" y="162283"/>
                  <a:pt x="2760134" y="174977"/>
                  <a:pt x="2777067" y="186266"/>
                </a:cubicBezTo>
                <a:lnTo>
                  <a:pt x="2802467" y="203200"/>
                </a:lnTo>
                <a:cubicBezTo>
                  <a:pt x="2810160" y="214739"/>
                  <a:pt x="2822927" y="237489"/>
                  <a:pt x="2836334" y="245533"/>
                </a:cubicBezTo>
                <a:cubicBezTo>
                  <a:pt x="2843987" y="250125"/>
                  <a:pt x="2853752" y="250009"/>
                  <a:pt x="2861734" y="254000"/>
                </a:cubicBezTo>
                <a:cubicBezTo>
                  <a:pt x="2870835" y="258551"/>
                  <a:pt x="2877835" y="266800"/>
                  <a:pt x="2887134" y="270933"/>
                </a:cubicBezTo>
                <a:cubicBezTo>
                  <a:pt x="2903445" y="278182"/>
                  <a:pt x="2921001" y="282222"/>
                  <a:pt x="2937934" y="287866"/>
                </a:cubicBezTo>
                <a:lnTo>
                  <a:pt x="2963334" y="296333"/>
                </a:lnTo>
                <a:cubicBezTo>
                  <a:pt x="2971801" y="299155"/>
                  <a:pt x="2981308" y="299850"/>
                  <a:pt x="2988734" y="304800"/>
                </a:cubicBezTo>
                <a:cubicBezTo>
                  <a:pt x="2997201" y="310444"/>
                  <a:pt x="3005033" y="317182"/>
                  <a:pt x="3014134" y="321733"/>
                </a:cubicBezTo>
                <a:cubicBezTo>
                  <a:pt x="3027672" y="328502"/>
                  <a:pt x="3060734" y="335047"/>
                  <a:pt x="3073400" y="338666"/>
                </a:cubicBezTo>
                <a:cubicBezTo>
                  <a:pt x="3081981" y="341118"/>
                  <a:pt x="3090333" y="344311"/>
                  <a:pt x="3098800" y="347133"/>
                </a:cubicBezTo>
                <a:cubicBezTo>
                  <a:pt x="3104445" y="352777"/>
                  <a:pt x="3108889" y="359959"/>
                  <a:pt x="3115734" y="364066"/>
                </a:cubicBezTo>
                <a:cubicBezTo>
                  <a:pt x="3123387" y="368658"/>
                  <a:pt x="3134165" y="366958"/>
                  <a:pt x="3141134" y="372533"/>
                </a:cubicBezTo>
                <a:cubicBezTo>
                  <a:pt x="3149080" y="378890"/>
                  <a:pt x="3150872" y="390738"/>
                  <a:pt x="3158067" y="397933"/>
                </a:cubicBezTo>
                <a:cubicBezTo>
                  <a:pt x="3165262" y="405128"/>
                  <a:pt x="3175741" y="408244"/>
                  <a:pt x="3183467" y="414866"/>
                </a:cubicBezTo>
                <a:cubicBezTo>
                  <a:pt x="3195589" y="425256"/>
                  <a:pt x="3206045" y="437444"/>
                  <a:pt x="3217334" y="448733"/>
                </a:cubicBezTo>
                <a:lnTo>
                  <a:pt x="3242734" y="474133"/>
                </a:lnTo>
                <a:cubicBezTo>
                  <a:pt x="3252712" y="484111"/>
                  <a:pt x="3265760" y="490499"/>
                  <a:pt x="3276600" y="499533"/>
                </a:cubicBezTo>
                <a:cubicBezTo>
                  <a:pt x="3324856" y="539746"/>
                  <a:pt x="3256136" y="491533"/>
                  <a:pt x="3318934" y="533400"/>
                </a:cubicBezTo>
                <a:cubicBezTo>
                  <a:pt x="3330223" y="550333"/>
                  <a:pt x="3335867" y="572911"/>
                  <a:pt x="3352800" y="584200"/>
                </a:cubicBezTo>
                <a:cubicBezTo>
                  <a:pt x="3391484" y="609989"/>
                  <a:pt x="3371005" y="593938"/>
                  <a:pt x="3412067" y="635000"/>
                </a:cubicBezTo>
                <a:cubicBezTo>
                  <a:pt x="3486274" y="709207"/>
                  <a:pt x="3395463" y="615074"/>
                  <a:pt x="3454400" y="685800"/>
                </a:cubicBezTo>
                <a:cubicBezTo>
                  <a:pt x="3491099" y="729839"/>
                  <a:pt x="3466350" y="694833"/>
                  <a:pt x="3505200" y="728133"/>
                </a:cubicBezTo>
                <a:cubicBezTo>
                  <a:pt x="3517322" y="738523"/>
                  <a:pt x="3527778" y="750711"/>
                  <a:pt x="3539067" y="762000"/>
                </a:cubicBezTo>
                <a:cubicBezTo>
                  <a:pt x="3546262" y="769195"/>
                  <a:pt x="3549299" y="779742"/>
                  <a:pt x="3556000" y="787400"/>
                </a:cubicBezTo>
                <a:cubicBezTo>
                  <a:pt x="3616934" y="857038"/>
                  <a:pt x="3575914" y="808409"/>
                  <a:pt x="3623734" y="846666"/>
                </a:cubicBezTo>
                <a:cubicBezTo>
                  <a:pt x="3629967" y="851653"/>
                  <a:pt x="3633527" y="860030"/>
                  <a:pt x="3640667" y="863600"/>
                </a:cubicBezTo>
                <a:cubicBezTo>
                  <a:pt x="3651075" y="868804"/>
                  <a:pt x="3663245" y="869244"/>
                  <a:pt x="3674534" y="872066"/>
                </a:cubicBezTo>
                <a:cubicBezTo>
                  <a:pt x="3737093" y="934629"/>
                  <a:pt x="3639939" y="842518"/>
                  <a:pt x="3716867" y="897466"/>
                </a:cubicBezTo>
                <a:cubicBezTo>
                  <a:pt x="3729858" y="906745"/>
                  <a:pt x="3739445" y="920044"/>
                  <a:pt x="3750734" y="931333"/>
                </a:cubicBezTo>
                <a:cubicBezTo>
                  <a:pt x="3757929" y="938528"/>
                  <a:pt x="3768188" y="941909"/>
                  <a:pt x="3776134" y="948266"/>
                </a:cubicBezTo>
                <a:cubicBezTo>
                  <a:pt x="3782367" y="953253"/>
                  <a:pt x="3786681" y="960410"/>
                  <a:pt x="3793067" y="965200"/>
                </a:cubicBezTo>
                <a:cubicBezTo>
                  <a:pt x="3812755" y="979966"/>
                  <a:pt x="3851473" y="1006152"/>
                  <a:pt x="3877734" y="1016000"/>
                </a:cubicBezTo>
                <a:cubicBezTo>
                  <a:pt x="3888629" y="1020086"/>
                  <a:pt x="3900311" y="1021644"/>
                  <a:pt x="3911600" y="1024466"/>
                </a:cubicBezTo>
                <a:cubicBezTo>
                  <a:pt x="3984394" y="1072997"/>
                  <a:pt x="3892293" y="1014812"/>
                  <a:pt x="3962400" y="1049866"/>
                </a:cubicBezTo>
                <a:cubicBezTo>
                  <a:pt x="4020871" y="1079102"/>
                  <a:pt x="3951181" y="1057646"/>
                  <a:pt x="4021667" y="1075266"/>
                </a:cubicBezTo>
                <a:cubicBezTo>
                  <a:pt x="4027311" y="1080911"/>
                  <a:pt x="4031755" y="1088093"/>
                  <a:pt x="4038600" y="1092200"/>
                </a:cubicBezTo>
                <a:cubicBezTo>
                  <a:pt x="4048080" y="1097888"/>
                  <a:pt x="4090493" y="1106921"/>
                  <a:pt x="4097867" y="1109133"/>
                </a:cubicBezTo>
                <a:cubicBezTo>
                  <a:pt x="4097902" y="1109143"/>
                  <a:pt x="4161350" y="1130294"/>
                  <a:pt x="4174067" y="1134533"/>
                </a:cubicBezTo>
                <a:cubicBezTo>
                  <a:pt x="4186041" y="1138524"/>
                  <a:pt x="4196215" y="1146779"/>
                  <a:pt x="4207934" y="1151466"/>
                </a:cubicBezTo>
                <a:cubicBezTo>
                  <a:pt x="4224507" y="1158095"/>
                  <a:pt x="4243882" y="1158499"/>
                  <a:pt x="4258734" y="1168400"/>
                </a:cubicBezTo>
                <a:lnTo>
                  <a:pt x="4334934" y="1219200"/>
                </a:lnTo>
                <a:cubicBezTo>
                  <a:pt x="4342360" y="1224151"/>
                  <a:pt x="4351867" y="1224844"/>
                  <a:pt x="4360334" y="1227666"/>
                </a:cubicBezTo>
                <a:cubicBezTo>
                  <a:pt x="4398323" y="1265657"/>
                  <a:pt x="4353208" y="1225589"/>
                  <a:pt x="4402667" y="1253066"/>
                </a:cubicBezTo>
                <a:cubicBezTo>
                  <a:pt x="4420457" y="1262949"/>
                  <a:pt x="4453467" y="1286933"/>
                  <a:pt x="4453467" y="1286933"/>
                </a:cubicBezTo>
                <a:cubicBezTo>
                  <a:pt x="4456289" y="1295400"/>
                  <a:pt x="4456359" y="1305364"/>
                  <a:pt x="4461934" y="1312333"/>
                </a:cubicBezTo>
                <a:cubicBezTo>
                  <a:pt x="4468291" y="1320279"/>
                  <a:pt x="4479388" y="1322909"/>
                  <a:pt x="4487334" y="1329266"/>
                </a:cubicBezTo>
                <a:cubicBezTo>
                  <a:pt x="4547655" y="1377523"/>
                  <a:pt x="4451489" y="1311015"/>
                  <a:pt x="4529667" y="1363133"/>
                </a:cubicBezTo>
                <a:cubicBezTo>
                  <a:pt x="4540501" y="1379384"/>
                  <a:pt x="4562869" y="1416534"/>
                  <a:pt x="4580467" y="1422400"/>
                </a:cubicBezTo>
                <a:lnTo>
                  <a:pt x="4605867" y="1430866"/>
                </a:lnTo>
                <a:cubicBezTo>
                  <a:pt x="4614334" y="1436511"/>
                  <a:pt x="4624072" y="1440605"/>
                  <a:pt x="4631267" y="1447800"/>
                </a:cubicBezTo>
                <a:cubicBezTo>
                  <a:pt x="4651392" y="1467925"/>
                  <a:pt x="4656751" y="1498851"/>
                  <a:pt x="4665134" y="1524000"/>
                </a:cubicBezTo>
                <a:lnTo>
                  <a:pt x="4673600" y="1549400"/>
                </a:lnTo>
                <a:lnTo>
                  <a:pt x="4682067" y="1574800"/>
                </a:lnTo>
                <a:lnTo>
                  <a:pt x="4690534" y="1600200"/>
                </a:lnTo>
                <a:cubicBezTo>
                  <a:pt x="4687712" y="1634067"/>
                  <a:pt x="4688732" y="1668476"/>
                  <a:pt x="4682067" y="1701800"/>
                </a:cubicBezTo>
                <a:cubicBezTo>
                  <a:pt x="4680071" y="1711778"/>
                  <a:pt x="4671835" y="1719542"/>
                  <a:pt x="4665134" y="1727200"/>
                </a:cubicBezTo>
                <a:cubicBezTo>
                  <a:pt x="4619198" y="1779698"/>
                  <a:pt x="4639463" y="1763563"/>
                  <a:pt x="4588934" y="1778000"/>
                </a:cubicBezTo>
                <a:cubicBezTo>
                  <a:pt x="4580353" y="1780452"/>
                  <a:pt x="4572337" y="1784999"/>
                  <a:pt x="4563534" y="1786466"/>
                </a:cubicBezTo>
                <a:cubicBezTo>
                  <a:pt x="4430394" y="1808656"/>
                  <a:pt x="4536403" y="1783089"/>
                  <a:pt x="4445000" y="1803400"/>
                </a:cubicBezTo>
                <a:cubicBezTo>
                  <a:pt x="4433641" y="1805924"/>
                  <a:pt x="4422279" y="1808522"/>
                  <a:pt x="4411134" y="1811866"/>
                </a:cubicBezTo>
                <a:cubicBezTo>
                  <a:pt x="4394037" y="1816995"/>
                  <a:pt x="4360334" y="1828800"/>
                  <a:pt x="4360334" y="1828800"/>
                </a:cubicBezTo>
                <a:cubicBezTo>
                  <a:pt x="4354689" y="1834444"/>
                  <a:pt x="4348387" y="1839500"/>
                  <a:pt x="4343400" y="1845733"/>
                </a:cubicBezTo>
                <a:cubicBezTo>
                  <a:pt x="4337043" y="1853679"/>
                  <a:pt x="4334413" y="1864776"/>
                  <a:pt x="4326467" y="1871133"/>
                </a:cubicBezTo>
                <a:cubicBezTo>
                  <a:pt x="4319498" y="1876708"/>
                  <a:pt x="4309534" y="1876778"/>
                  <a:pt x="4301067" y="1879600"/>
                </a:cubicBezTo>
                <a:cubicBezTo>
                  <a:pt x="4294181" y="1900257"/>
                  <a:pt x="4292079" y="1913988"/>
                  <a:pt x="4275667" y="1930400"/>
                </a:cubicBezTo>
                <a:cubicBezTo>
                  <a:pt x="4268472" y="1937595"/>
                  <a:pt x="4258734" y="1941689"/>
                  <a:pt x="4250267" y="1947333"/>
                </a:cubicBezTo>
                <a:cubicBezTo>
                  <a:pt x="4164665" y="2075735"/>
                  <a:pt x="4257321" y="1943947"/>
                  <a:pt x="4191000" y="2023533"/>
                </a:cubicBezTo>
                <a:cubicBezTo>
                  <a:pt x="4155723" y="2065866"/>
                  <a:pt x="4195234" y="2034822"/>
                  <a:pt x="4148667" y="2065866"/>
                </a:cubicBezTo>
                <a:cubicBezTo>
                  <a:pt x="4128516" y="2126320"/>
                  <a:pt x="4141635" y="2101815"/>
                  <a:pt x="4114800" y="2142066"/>
                </a:cubicBezTo>
                <a:lnTo>
                  <a:pt x="4097867" y="2192866"/>
                </a:lnTo>
                <a:cubicBezTo>
                  <a:pt x="4088898" y="2219774"/>
                  <a:pt x="4094627" y="2249656"/>
                  <a:pt x="4089400" y="2277533"/>
                </a:cubicBezTo>
                <a:cubicBezTo>
                  <a:pt x="4086111" y="2295077"/>
                  <a:pt x="4078111" y="2311400"/>
                  <a:pt x="4072467" y="2328333"/>
                </a:cubicBezTo>
                <a:cubicBezTo>
                  <a:pt x="4065020" y="2350673"/>
                  <a:pt x="4051814" y="2354149"/>
                  <a:pt x="4038600" y="2370666"/>
                </a:cubicBezTo>
                <a:cubicBezTo>
                  <a:pt x="4032243" y="2378612"/>
                  <a:pt x="4028024" y="2388120"/>
                  <a:pt x="4021667" y="2396066"/>
                </a:cubicBezTo>
                <a:cubicBezTo>
                  <a:pt x="4000704" y="2422271"/>
                  <a:pt x="4007341" y="2405927"/>
                  <a:pt x="3979334" y="2429933"/>
                </a:cubicBezTo>
                <a:cubicBezTo>
                  <a:pt x="3967212" y="2440323"/>
                  <a:pt x="3956756" y="2452511"/>
                  <a:pt x="3945467" y="2463800"/>
                </a:cubicBezTo>
                <a:cubicBezTo>
                  <a:pt x="3935291" y="2473976"/>
                  <a:pt x="3917182" y="2469144"/>
                  <a:pt x="3903134" y="2472266"/>
                </a:cubicBezTo>
                <a:cubicBezTo>
                  <a:pt x="3891775" y="2474790"/>
                  <a:pt x="3880456" y="2477536"/>
                  <a:pt x="3869267" y="2480733"/>
                </a:cubicBezTo>
                <a:cubicBezTo>
                  <a:pt x="3860686" y="2483185"/>
                  <a:pt x="3852791" y="2489110"/>
                  <a:pt x="3843867" y="2489200"/>
                </a:cubicBezTo>
                <a:lnTo>
                  <a:pt x="2184400" y="2497666"/>
                </a:lnTo>
                <a:cubicBezTo>
                  <a:pt x="2170289" y="2500488"/>
                  <a:pt x="2155950" y="2502347"/>
                  <a:pt x="2142067" y="2506133"/>
                </a:cubicBezTo>
                <a:cubicBezTo>
                  <a:pt x="2124847" y="2510829"/>
                  <a:pt x="2108978" y="2520852"/>
                  <a:pt x="2091267" y="2523066"/>
                </a:cubicBezTo>
                <a:lnTo>
                  <a:pt x="2023534" y="2531533"/>
                </a:lnTo>
                <a:cubicBezTo>
                  <a:pt x="1739034" y="2626370"/>
                  <a:pt x="1410422" y="2617855"/>
                  <a:pt x="1126067" y="2523066"/>
                </a:cubicBezTo>
                <a:cubicBezTo>
                  <a:pt x="1117600" y="2514599"/>
                  <a:pt x="1109865" y="2505331"/>
                  <a:pt x="1100667" y="2497666"/>
                </a:cubicBezTo>
                <a:cubicBezTo>
                  <a:pt x="1092850" y="2491152"/>
                  <a:pt x="1082796" y="2487578"/>
                  <a:pt x="1075267" y="2480733"/>
                </a:cubicBezTo>
                <a:cubicBezTo>
                  <a:pt x="1051641" y="2459255"/>
                  <a:pt x="1030112" y="2435578"/>
                  <a:pt x="1007534" y="2413000"/>
                </a:cubicBezTo>
                <a:lnTo>
                  <a:pt x="965200" y="2370666"/>
                </a:lnTo>
                <a:cubicBezTo>
                  <a:pt x="958005" y="2363471"/>
                  <a:pt x="955462" y="2352461"/>
                  <a:pt x="948267" y="2345266"/>
                </a:cubicBezTo>
                <a:cubicBezTo>
                  <a:pt x="941072" y="2338071"/>
                  <a:pt x="930684" y="2334847"/>
                  <a:pt x="922867" y="2328333"/>
                </a:cubicBezTo>
                <a:cubicBezTo>
                  <a:pt x="913669" y="2320668"/>
                  <a:pt x="906918" y="2310284"/>
                  <a:pt x="897467" y="2302933"/>
                </a:cubicBezTo>
                <a:cubicBezTo>
                  <a:pt x="881403" y="2290438"/>
                  <a:pt x="861058" y="2283457"/>
                  <a:pt x="846667" y="2269066"/>
                </a:cubicBezTo>
                <a:cubicBezTo>
                  <a:pt x="794790" y="2217189"/>
                  <a:pt x="851291" y="2271820"/>
                  <a:pt x="778934" y="2209800"/>
                </a:cubicBezTo>
                <a:cubicBezTo>
                  <a:pt x="772873" y="2204605"/>
                  <a:pt x="768132" y="2197976"/>
                  <a:pt x="762000" y="2192866"/>
                </a:cubicBezTo>
                <a:cubicBezTo>
                  <a:pt x="751160" y="2183832"/>
                  <a:pt x="738112" y="2177444"/>
                  <a:pt x="728134" y="2167466"/>
                </a:cubicBezTo>
                <a:cubicBezTo>
                  <a:pt x="718156" y="2157488"/>
                  <a:pt x="711768" y="2144440"/>
                  <a:pt x="702734" y="2133600"/>
                </a:cubicBezTo>
                <a:cubicBezTo>
                  <a:pt x="687652" y="2115502"/>
                  <a:pt x="680909" y="2113405"/>
                  <a:pt x="660400" y="2099733"/>
                </a:cubicBezTo>
                <a:cubicBezTo>
                  <a:pt x="657578" y="2091266"/>
                  <a:pt x="657121" y="2081595"/>
                  <a:pt x="651934" y="2074333"/>
                </a:cubicBezTo>
                <a:cubicBezTo>
                  <a:pt x="642655" y="2061342"/>
                  <a:pt x="629356" y="2051755"/>
                  <a:pt x="618067" y="2040466"/>
                </a:cubicBezTo>
                <a:cubicBezTo>
                  <a:pt x="609600" y="2031999"/>
                  <a:pt x="599309" y="2025029"/>
                  <a:pt x="592667" y="2015066"/>
                </a:cubicBezTo>
                <a:cubicBezTo>
                  <a:pt x="580092" y="1996204"/>
                  <a:pt x="576037" y="1986522"/>
                  <a:pt x="558800" y="1972733"/>
                </a:cubicBezTo>
                <a:cubicBezTo>
                  <a:pt x="550854" y="1966376"/>
                  <a:pt x="541346" y="1962157"/>
                  <a:pt x="533400" y="1955800"/>
                </a:cubicBezTo>
                <a:cubicBezTo>
                  <a:pt x="473079" y="1907543"/>
                  <a:pt x="569245" y="1974051"/>
                  <a:pt x="491067" y="1921933"/>
                </a:cubicBezTo>
                <a:cubicBezTo>
                  <a:pt x="485423" y="1913466"/>
                  <a:pt x="480491" y="1904479"/>
                  <a:pt x="474134" y="1896533"/>
                </a:cubicBezTo>
                <a:cubicBezTo>
                  <a:pt x="460348" y="1879301"/>
                  <a:pt x="450656" y="1875237"/>
                  <a:pt x="431800" y="1862666"/>
                </a:cubicBezTo>
                <a:cubicBezTo>
                  <a:pt x="393506" y="1805224"/>
                  <a:pt x="412325" y="1826256"/>
                  <a:pt x="381000" y="1794933"/>
                </a:cubicBezTo>
                <a:lnTo>
                  <a:pt x="347134" y="1693333"/>
                </a:lnTo>
                <a:cubicBezTo>
                  <a:pt x="341268" y="1675735"/>
                  <a:pt x="304118" y="1653367"/>
                  <a:pt x="287867" y="1642533"/>
                </a:cubicBezTo>
                <a:cubicBezTo>
                  <a:pt x="282223" y="1634066"/>
                  <a:pt x="277556" y="1624859"/>
                  <a:pt x="270934" y="1617133"/>
                </a:cubicBezTo>
                <a:cubicBezTo>
                  <a:pt x="260544" y="1605011"/>
                  <a:pt x="248356" y="1594555"/>
                  <a:pt x="237067" y="1583266"/>
                </a:cubicBezTo>
                <a:lnTo>
                  <a:pt x="211667" y="1557866"/>
                </a:lnTo>
                <a:cubicBezTo>
                  <a:pt x="197277" y="1543476"/>
                  <a:pt x="177800" y="1535289"/>
                  <a:pt x="160867" y="1524000"/>
                </a:cubicBezTo>
                <a:lnTo>
                  <a:pt x="135467" y="1507066"/>
                </a:lnTo>
                <a:cubicBezTo>
                  <a:pt x="127774" y="1495527"/>
                  <a:pt x="115007" y="1472777"/>
                  <a:pt x="101600" y="1464733"/>
                </a:cubicBezTo>
                <a:cubicBezTo>
                  <a:pt x="93947" y="1460141"/>
                  <a:pt x="80792" y="1463919"/>
                  <a:pt x="76200" y="1456266"/>
                </a:cubicBezTo>
                <a:cubicBezTo>
                  <a:pt x="70392" y="1446586"/>
                  <a:pt x="76200" y="1433689"/>
                  <a:pt x="76200" y="1422400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圆角矩形标注 23"/>
          <p:cNvSpPr/>
          <p:nvPr/>
        </p:nvSpPr>
        <p:spPr>
          <a:xfrm>
            <a:off x="3000240" y="2357280"/>
            <a:ext cx="1714680" cy="428760"/>
          </a:xfrm>
          <a:prstGeom prst="wedgeRoundRectCallout">
            <a:avLst>
              <a:gd name="adj1" fmla="val -49319"/>
              <a:gd name="adj2" fmla="val 22705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6"/>
          <p:cNvSpPr/>
          <p:nvPr/>
        </p:nvSpPr>
        <p:spPr>
          <a:xfrm>
            <a:off x="3325680" y="2408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f6228"/>
                </a:solidFill>
                <a:latin typeface="微软雅黑"/>
                <a:ea typeface="微软雅黑"/>
              </a:rPr>
              <a:t>华强社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4" name="TextBox 7" descr=""/>
          <p:cNvPicPr/>
          <p:nvPr/>
        </p:nvPicPr>
        <p:blipFill>
          <a:blip r:embed="rId2"/>
          <a:stretch/>
        </p:blipFill>
        <p:spPr>
          <a:xfrm>
            <a:off x="2554200" y="1920960"/>
            <a:ext cx="47116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任意多边形 2"/>
          <p:cNvSpPr/>
          <p:nvPr/>
        </p:nvSpPr>
        <p:spPr>
          <a:xfrm>
            <a:off x="1986120" y="2943360"/>
            <a:ext cx="596880" cy="65700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3"/>
          <p:cNvSpPr/>
          <p:nvPr/>
        </p:nvSpPr>
        <p:spPr>
          <a:xfrm>
            <a:off x="2583000" y="2949480"/>
            <a:ext cx="6561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</a:t>
            </a:r>
            <a:r>
              <a:rPr b="0" lang="en-US" sz="2800" spc="-1" strike="noStrike">
                <a:solidFill>
                  <a:srgbClr val="ceeab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6"/>
          <p:cNvSpPr/>
          <p:nvPr/>
        </p:nvSpPr>
        <p:spPr>
          <a:xfrm>
            <a:off x="0" y="2182680"/>
            <a:ext cx="690084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直角三角形 5"/>
          <p:cNvSpPr/>
          <p:nvPr/>
        </p:nvSpPr>
        <p:spPr>
          <a:xfrm>
            <a:off x="6900840" y="2179800"/>
            <a:ext cx="76680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矩形 11"/>
          <p:cNvSpPr/>
          <p:nvPr/>
        </p:nvSpPr>
        <p:spPr>
          <a:xfrm>
            <a:off x="1316160" y="3921120"/>
            <a:ext cx="6472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SUSAN</dc:creator>
  <dc:description/>
  <cp:keywords/>
  <dc:language>en-US</dc:language>
  <cp:lastModifiedBy>kan</cp:lastModifiedBy>
  <dcterms:modified xsi:type="dcterms:W3CDTF">2015-08-23T05:17:29Z</dcterms:modified>
  <cp:revision>2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