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ED65-CB4F-4AB3-A32A-DCC9F3461C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B957-4198-4E1F-AC57-81E985299F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C92C-10C2-4711-A888-5BAC10A362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8673-797E-49AD-A249-95E75AD7D3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87CD-A625-4708-ACE7-74E5E8C865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DC63-4E50-4992-9C42-AA066AD822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6E6D-BACC-4896-B736-8DD7CE5029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40C4-4580-40C5-9922-FD9B908CB2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0FEF-3041-4DA5-9FF2-F43C438C0F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79F2A-12D7-4006-95DD-82430C4A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446B-8CF2-43AA-838F-DBF41CD2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8AB38-BE60-45C1-921B-CE2DCA77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A141A-194E-4182-94F1-CF7F085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C06AE-32FB-4AEB-B489-0BA9F4D8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A67D3-E085-4A41-B58B-EDA2F935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F2D52-671E-4122-886B-9F906BF4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04EB2-453B-49CC-ACA0-AEDB0BA8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474AC-BF78-49BF-ABB8-3EC1A5D7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CBBB3-73C3-489E-9EAB-24BD91C3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E9517-3722-406E-8F70-BAC569B8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1FBC3-596B-4FDB-B9BE-579ABCBA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6F0EC-5187-45EB-A031-CB7E3995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4178F-FB79-494D-A469-F59E5F8F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97E59-5F28-4E25-80CC-64FEF385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664FD-916B-4635-93F0-A4CA432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37C61-42D4-4CFC-B23F-06FBF683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7E21E-D04F-4EFC-8D8E-329BF5D1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0E934-9685-4A55-9398-A16481AB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A4A79-FBC3-4014-A3DB-F9EB13A8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11B10-73CB-45FA-84A6-19BC3B93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CC523-F93F-43A7-A711-0DF62495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5B0DC-9597-40A6-B1AA-3985AA0D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7EE3C-EE54-4AB0-84C5-B1DD14F0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59905-F962-44AE-A78A-CBA9B5C7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CE944-F5C8-4C2D-8FBC-4C05C418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A11AC-6875-476B-8274-F72593B5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50DF1-6F80-4DF0-9B0E-F63D5B7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80A36-AB49-4FBA-ADE2-1B455A86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D0E7A-C4D5-41DD-A137-D69455E3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CBD-D7B3-4AB4-BD6A-F71F886E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2A3BC-6205-4979-B2DC-E33FCB45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C6B11-9E64-4502-82CF-6DA323D1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25A6B-7225-4038-952C-10D12F94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A576A-BFCD-4BC9-ABD7-64708066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8AE1E-A464-4625-AA64-96BD0708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2C80E-57E2-4631-82FE-B62CD650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28567-47CC-4617-8EA5-57CC6098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1DF50-E7EC-46C4-8EAE-98E4A9A8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72DC1-0992-4A1F-99E6-00A63885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CF70C-E3AD-44C9-AD70-86E73DF6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31F-14FD-4CB7-AB22-B45CB554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66CC1-A5A2-4AEB-91B3-840C96B8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4F24B-B1D0-4110-8124-D37B532B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6C69F-BFC2-4E82-B6D6-96E57EF7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31CE2-57E3-4505-94D6-0D415E71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E1857-5047-43F8-90BC-680F1C52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F11-1AB4-4CC7-9DBA-24B4DC5B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67F-F900-470E-BF1C-02FBB567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A95-80B2-4FDD-A419-EEB35D36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784-3239-4756-AF18-BD5AFC4E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E2B-345D-4E32-AC2B-5DEED2FB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53D-6ED6-44A7-916C-5EA5A33D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FDC-8E6F-4EF3-A52F-F7273884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58F-BAEA-4442-9BB1-E0C3644E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197-7E07-4303-89CE-0083719E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59D-A119-4463-BB09-80F8DDE2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E4A9-27F8-4590-8F2F-ABEBCC39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AA1D-F60E-47F5-B422-B24D406C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34E6-76D4-4F87-9D89-EF57757D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5C1C-74C8-43D7-8AE0-7623C915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F333-B96A-49C2-83FA-9FED79F1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D367-470A-42F5-9A16-636532A0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B51D-0AF0-4163-99C8-1565A063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B02E-8F4D-4A49-9E8B-36DDC4B1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172E-48C7-4358-A743-F6476536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1D44-BFF2-42E2-AFBD-133291D4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88EE-CAB6-4F04-ACEC-C15B7C5C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D474-4F50-4A67-9E9C-5327549E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1883-5387-4111-8F00-4E41F651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6505-1F53-4945-A273-0AF90C8E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0204-8D18-4C4E-9F0E-FA02F7FC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AEB8-E718-40A6-BD6D-20AEB9D2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A742-D042-454C-A2DB-C793B5A4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0B8A-F1B4-4608-B9C8-01C153C1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5A5A-6548-4AC0-858A-BE4AC806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C785B-BA28-486C-B08E-8721539A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157C-702C-4CD6-BD33-73D941D8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E59EB-85F4-4910-A203-F2F786C7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2969-4389-4218-B2F8-2AF62BBB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C165-FB42-4CC9-936C-05913BF6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24B2-92E0-4767-855F-AD5D87EF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2161-31CD-4EEC-8837-340CAE6F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431C3-0A57-44EE-A074-A11EFF9C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2BCD-E05E-4669-A406-B6BF7C4A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D00C-54C9-4499-84B2-6C915FEB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A5B8A-82D4-4EFF-A574-4E648ECA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D1B72-09B8-4435-9208-C7E3300D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AC7A1-56FB-446B-80DA-A2F7FC7C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55A50-3BFB-45CD-B36E-1FDD2E15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F41A-61E4-4B78-AE2A-5C50EF00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AE921-9788-476F-92CA-050D60ED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B8199-1A60-4673-BAEE-285BB8F5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435E4-0DD8-482D-951E-8268A482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F5866-E41E-42AD-A98A-2CFF9600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F8D69-FBBE-47BB-AAD5-3B61B8FF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1726-F3F1-4B52-AFF0-D04EE3FA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EA85B-770F-42A4-9D57-669EF147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D24C3-038F-4E53-AAEF-EBBD2A11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6A24A-DB8D-49E3-9659-F74B8D81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F1AF-B5A4-44FD-81FD-7B48CEE9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4BE6C-D18D-4DA7-8F90-A275B53B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4180-32CB-4164-A14F-5A7156E7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22818-28BF-4D97-9D23-75171390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9BB1D-0C4C-4D23-95E7-A149F58D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3D750-6779-463D-A5E2-3CCA9619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FAC7F-186C-4226-8E5B-21B234A4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14E30-5DBD-41D4-A711-D1C58007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8B3AA-E26A-4DCD-B8BB-22DE2B2E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8937E-C007-4CF3-B910-4D2CA429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2BB26-80A1-4CF8-A86B-EC37604F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698D2-D223-427C-9DE4-EDB8F2F4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05043-36B1-4DFE-BA86-8C140DDA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6B3BF-67ED-4BE8-ACE0-D09D128A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C274B-999E-4972-AD86-A98329C0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7CF4-4F2F-4311-A8FE-44B4CA93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9BFA0-313D-421F-8AC6-0C6F49B7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FEF69-6375-4F47-8B11-CA3A54E1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CF451-B75E-4518-A6A2-8258F142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7F454-5B73-47FF-9F56-09278856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2DB4D-5C21-474D-A004-116F55A3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F2CCF-DEDA-4D01-8420-5D7C3FD5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46693-137C-4BE4-8BE1-C282E761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C3D92-9470-4FB2-BFC2-474718C5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8962C-27FB-4657-92AB-A48E5A2D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9FD1E-966D-4BB2-9325-1D2E7810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FF50E-D7E4-467B-8749-D098DA5D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84AB4-B01A-4DC3-8BCE-B602436A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9DBC1-0293-4F08-8B3B-9714A7C1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53D13-C96A-4E9B-AEEB-AA261A40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4DAD7-422D-44EA-BB9B-BB3696A4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2E6D4-5499-44B0-B205-E0C75CDF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77CB-2472-4567-BA57-A49A4792646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B755-03B2-43AE-93DB-5DF12EC857E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EDF4-A7A2-4ECA-B950-CD24C8E3C56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B248-B8FE-45E2-9613-D7F72F1AAA9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3CD4-97CE-4342-B5DB-79FC6FE6AAFA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BF49-B09B-4CD9-A333-848077FC03F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80C6-7027-4A35-ADD4-0676CB1B004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ED24-157F-4FF4-9567-4A06D032531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0B68-2B3E-4D30-A047-0B524295C5B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B265-9500-4CBA-9DC6-3308C8E957F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7CAE-BEA2-4071-8129-F42FE3B206E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723F-1132-437D-9B5A-29A5F26A6A7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CD04-B3B4-4117-9B98-752F4251E5E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DAAF-A508-4481-8F4C-199968B33B3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D9B9-5599-464F-A668-A418ACAF657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2374-3558-4860-ABC7-700B830E380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85B0-C4BA-41F9-B43B-78D83D49078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A177-7BD3-401D-8F6D-7D6C8EB7F46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34D8-A2D5-4215-A621-9E9DC8252FA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470C-5623-4D18-BCED-EBC4A676D6E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5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2680" indent="-203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03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DB5F-C7CB-4FB7-9ACE-5827112233D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3856-4EF9-417A-A905-523FAFC6C75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11" descr=""/>
          <p:cNvPicPr/>
          <p:nvPr/>
        </p:nvPicPr>
        <p:blipFill>
          <a:blip r:embed="rId1"/>
          <a:stretch/>
        </p:blipFill>
        <p:spPr>
          <a:xfrm>
            <a:off x="2406600" y="2924280"/>
            <a:ext cx="4465800" cy="566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"/>
          <p:cNvSpPr/>
          <p:nvPr/>
        </p:nvSpPr>
        <p:spPr>
          <a:xfrm>
            <a:off x="1838160" y="1619280"/>
            <a:ext cx="554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IOS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效果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2263680" y="1619280"/>
            <a:ext cx="4680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"/>
          <p:cNvSpPr/>
          <p:nvPr/>
        </p:nvSpPr>
        <p:spPr>
          <a:xfrm>
            <a:off x="2263680" y="2198520"/>
            <a:ext cx="4680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"/>
          <p:cNvSpPr/>
          <p:nvPr/>
        </p:nvSpPr>
        <p:spPr>
          <a:xfrm flipV="1">
            <a:off x="4782960" y="1187280"/>
            <a:ext cx="505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"/>
          <p:cNvSpPr/>
          <p:nvPr/>
        </p:nvSpPr>
        <p:spPr>
          <a:xfrm flipV="1">
            <a:off x="3848040" y="2198520"/>
            <a:ext cx="504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8" hidden="1"/>
          <p:cNvSpPr/>
          <p:nvPr/>
        </p:nvSpPr>
        <p:spPr>
          <a:xfrm>
            <a:off x="4351320" y="2843280"/>
            <a:ext cx="503280" cy="504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 hidden="1"/>
          <p:cNvSpPr/>
          <p:nvPr/>
        </p:nvSpPr>
        <p:spPr>
          <a:xfrm rot="16200000">
            <a:off x="4423320" y="2804400"/>
            <a:ext cx="3650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2"/>
          <p:cNvSpPr/>
          <p:nvPr/>
        </p:nvSpPr>
        <p:spPr>
          <a:xfrm>
            <a:off x="234468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25"/>
          <p:cNvSpPr/>
          <p:nvPr/>
        </p:nvSpPr>
        <p:spPr>
          <a:xfrm>
            <a:off x="332100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6"/>
          <p:cNvSpPr/>
          <p:nvPr/>
        </p:nvSpPr>
        <p:spPr>
          <a:xfrm>
            <a:off x="429732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阅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7"/>
          <p:cNvSpPr/>
          <p:nvPr/>
        </p:nvSpPr>
        <p:spPr>
          <a:xfrm>
            <a:off x="527364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8"/>
          <p:cNvSpPr/>
          <p:nvPr/>
        </p:nvSpPr>
        <p:spPr>
          <a:xfrm>
            <a:off x="624996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21"/>
          <p:cNvSpPr/>
          <p:nvPr/>
        </p:nvSpPr>
        <p:spPr>
          <a:xfrm>
            <a:off x="4395960" y="4519440"/>
            <a:ext cx="420480" cy="42084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"/>
          <p:cNvSpPr/>
          <p:nvPr/>
        </p:nvSpPr>
        <p:spPr>
          <a:xfrm>
            <a:off x="4444920" y="4562640"/>
            <a:ext cx="322200" cy="334800"/>
          </a:xfrm>
          <a:prstGeom prst="ellipse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22"/>
          <p:cNvSpPr/>
          <p:nvPr/>
        </p:nvSpPr>
        <p:spPr>
          <a:xfrm>
            <a:off x="4511520" y="4635360"/>
            <a:ext cx="187560" cy="18900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2"/>
          <p:cNvSpPr/>
          <p:nvPr/>
        </p:nvSpPr>
        <p:spPr>
          <a:xfrm>
            <a:off x="1332000" y="466560"/>
            <a:ext cx="64764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3"/>
          <p:cNvSpPr/>
          <p:nvPr/>
        </p:nvSpPr>
        <p:spPr>
          <a:xfrm>
            <a:off x="2263680" y="2771640"/>
            <a:ext cx="7905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13"/>
          <p:cNvSpPr/>
          <p:nvPr/>
        </p:nvSpPr>
        <p:spPr>
          <a:xfrm>
            <a:off x="3236760" y="2771640"/>
            <a:ext cx="7923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4"/>
          <p:cNvSpPr/>
          <p:nvPr/>
        </p:nvSpPr>
        <p:spPr>
          <a:xfrm>
            <a:off x="421020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5"/>
          <p:cNvSpPr/>
          <p:nvPr/>
        </p:nvSpPr>
        <p:spPr>
          <a:xfrm>
            <a:off x="518328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6"/>
          <p:cNvSpPr/>
          <p:nvPr/>
        </p:nvSpPr>
        <p:spPr>
          <a:xfrm>
            <a:off x="615636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625" autoRev="1" fill="hold"/>
                                        <p:tgtEl>
                                          <p:spTgt spid="4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3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5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5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3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5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3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-2.28612E-006 -4.89562E-006 L -2.28612E-006 0.05293 E">
                                      <p:cBhvr>
                                        <p:cTn id="41" dur="35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51579E-007 -4.89562E-006 L 4.51579E-007 0.05293 E">
                                      <p:cBhvr>
                                        <p:cTn id="43" dur="35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-4.12771E-007 -4.89562E-006 L -4.12771E-007 0.05293 E">
                                      <p:cBhvr>
                                        <p:cTn id="45" dur="35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27712E-006 -4.89562E-006 L -1.27712E-006 0.05293 E">
                                      <p:cBhvr>
                                        <p:cTn id="47" dur="35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2.14147E-006 -4.89562E-006 L -2.14147E-006 0.05293 E">
                                      <p:cBhvr>
                                        <p:cTn id="49" dur="35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5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3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698E-006 -2.95795E-006 L -4.7698E-006 0.02764 E">
                                      <p:cBhvr>
                                        <p:cTn id="55" dur="25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3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5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5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3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3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3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2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625" autoRev="1" fill="hold"/>
                                        <p:tgtEl>
                                          <p:spTgt spid="4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2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625" autoRev="1" fill="hold"/>
                                        <p:tgtEl>
                                          <p:spTgt spid="5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1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625" autoRev="1" fill="hold"/>
                                        <p:tgtEl>
                                          <p:spTgt spid="5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1"/>
          <p:cNvSpPr/>
          <p:nvPr/>
        </p:nvSpPr>
        <p:spPr>
          <a:xfrm>
            <a:off x="743040" y="900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前必读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2"/>
          <p:cNvSpPr/>
          <p:nvPr/>
        </p:nvSpPr>
        <p:spPr>
          <a:xfrm>
            <a:off x="1174680" y="1471680"/>
            <a:ext cx="640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模板适用于多种场合，主要用于分类较多的情况，一个标题，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分项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255680" y="1905120"/>
            <a:ext cx="398520" cy="398520"/>
            <a:chOff x="1255680" y="1905120"/>
            <a:chExt cx="398520" cy="398520"/>
          </a:xfrm>
        </p:grpSpPr>
        <p:pic>
          <p:nvPicPr>
            <p:cNvPr id="512" name="Picture 11" descr="home">
              <a:hlinkClick r:id="" action="ppaction://hlinkshowjump?jump=firstslide"/>
            </p:cNvPr>
            <p:cNvPicPr/>
            <p:nvPr/>
          </p:nvPicPr>
          <p:blipFill>
            <a:blip r:embed="rId1">
              <a:lum bright="42000"/>
            </a:blip>
            <a:stretch/>
          </p:blipFill>
          <p:spPr>
            <a:xfrm>
              <a:off x="1311120" y="195912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AutoShape 12"/>
            <p:cNvSpPr/>
            <p:nvPr/>
          </p:nvSpPr>
          <p:spPr>
            <a:xfrm>
              <a:off x="1255680" y="1905120"/>
              <a:ext cx="398520" cy="398520"/>
            </a:xfrm>
            <a:custGeom>
              <a:avLst/>
              <a:gdLst>
                <a:gd name="textAreaLeft" fmla="*/ 58320 w 398520"/>
                <a:gd name="textAreaRight" fmla="*/ 340200 w 398520"/>
                <a:gd name="textAreaTop" fmla="*/ 58320 h 398520"/>
                <a:gd name="textAreaBottom" fmla="*/ 3402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78" y="10800"/>
                  </a:moveTo>
                  <a:cubicBezTo>
                    <a:pt x="378" y="16556"/>
                    <a:pt x="5044" y="21222"/>
                    <a:pt x="10800" y="21222"/>
                  </a:cubicBezTo>
                  <a:cubicBezTo>
                    <a:pt x="16556" y="21222"/>
                    <a:pt x="21222" y="16556"/>
                    <a:pt x="21222" y="10800"/>
                  </a:cubicBezTo>
                  <a:cubicBezTo>
                    <a:pt x="21222" y="5044"/>
                    <a:pt x="16556" y="378"/>
                    <a:pt x="10800" y="378"/>
                  </a:cubicBezTo>
                  <a:cubicBezTo>
                    <a:pt x="5044" y="378"/>
                    <a:pt x="378" y="5044"/>
                    <a:pt x="378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文本框 6"/>
          <p:cNvSpPr/>
          <p:nvPr/>
        </p:nvSpPr>
        <p:spPr>
          <a:xfrm>
            <a:off x="1738440" y="1959120"/>
            <a:ext cx="557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左上角的这个标志代表回到主页，记得在它上面点击哦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"/>
          <p:cNvGrpSpPr/>
          <p:nvPr/>
        </p:nvGrpSpPr>
        <p:grpSpPr>
          <a:xfrm>
            <a:off x="1239840" y="2536920"/>
            <a:ext cx="930240" cy="1019160"/>
            <a:chOff x="1239840" y="2536920"/>
            <a:chExt cx="930240" cy="1019160"/>
          </a:xfrm>
        </p:grpSpPr>
        <p:sp>
          <p:nvSpPr>
            <p:cNvPr id="516" name="矩形 3"/>
            <p:cNvSpPr/>
            <p:nvPr/>
          </p:nvSpPr>
          <p:spPr>
            <a:xfrm>
              <a:off x="1239840" y="2536920"/>
              <a:ext cx="930240" cy="10191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12"/>
            <p:cNvSpPr/>
            <p:nvPr/>
          </p:nvSpPr>
          <p:spPr>
            <a:xfrm>
              <a:off x="1336320" y="3174840"/>
              <a:ext cx="710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图片 24" descr=""/>
            <p:cNvPicPr/>
            <p:nvPr/>
          </p:nvPicPr>
          <p:blipFill>
            <a:blip r:embed="rId2"/>
            <a:srcRect l="0" t="0" r="87759" b="0"/>
            <a:stretch/>
          </p:blipFill>
          <p:spPr>
            <a:xfrm>
              <a:off x="1411920" y="2536920"/>
              <a:ext cx="642600" cy="6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文本框 11"/>
          <p:cNvSpPr/>
          <p:nvPr/>
        </p:nvSpPr>
        <p:spPr>
          <a:xfrm>
            <a:off x="2195640" y="2481120"/>
            <a:ext cx="5964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分项，文字、图片可替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的分项，单击会自动切换到相应的页面哦，记得要在它的上面单击才有效哦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2"/>
          <p:cNvSpPr/>
          <p:nvPr/>
        </p:nvSpPr>
        <p:spPr>
          <a:xfrm>
            <a:off x="6083280" y="42102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赶紧试试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3"/>
          <p:cNvSpPr/>
          <p:nvPr/>
        </p:nvSpPr>
        <p:spPr>
          <a:xfrm>
            <a:off x="1116000" y="3705120"/>
            <a:ext cx="6997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一个分项内容页就不要点击回到首页啦，直接在页面点击就可以到结束页了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24" name="矩形 3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12"/>
            <p:cNvSpPr/>
            <p:nvPr/>
          </p:nvSpPr>
          <p:spPr>
            <a:xfrm>
              <a:off x="142344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6" name="图片 24" descr=""/>
            <p:cNvPicPr/>
            <p:nvPr/>
          </p:nvPicPr>
          <p:blipFill>
            <a:blip r:embed="rId1"/>
            <a:srcRect l="0" t="0" r="87759" b="0"/>
            <a:stretch/>
          </p:blipFill>
          <p:spPr>
            <a:xfrm>
              <a:off x="1523160" y="1179360"/>
              <a:ext cx="54720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7" name="图片 1" descr=""/>
          <p:cNvPicPr/>
          <p:nvPr/>
        </p:nvPicPr>
        <p:blipFill>
          <a:blip r:embed="rId2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9"/>
          <p:cNvSpPr/>
          <p:nvPr/>
        </p:nvSpPr>
        <p:spPr>
          <a:xfrm>
            <a:off x="2451240" y="1359000"/>
            <a:ext cx="52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1"/>
          <p:cNvSpPr/>
          <p:nvPr/>
        </p:nvSpPr>
        <p:spPr>
          <a:xfrm>
            <a:off x="1555920" y="2344680"/>
            <a:ext cx="59292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36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5"/>
          <p:cNvGrpSpPr/>
          <p:nvPr/>
        </p:nvGrpSpPr>
        <p:grpSpPr>
          <a:xfrm>
            <a:off x="1341360" y="1177920"/>
            <a:ext cx="792360" cy="865080"/>
            <a:chOff x="1341360" y="1177920"/>
            <a:chExt cx="792360" cy="865080"/>
          </a:xfrm>
        </p:grpSpPr>
        <p:sp>
          <p:nvSpPr>
            <p:cNvPr id="539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文本框 11"/>
            <p:cNvSpPr/>
            <p:nvPr/>
          </p:nvSpPr>
          <p:spPr>
            <a:xfrm>
              <a:off x="1429200" y="171936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阅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图片 13" descr=""/>
            <p:cNvPicPr/>
            <p:nvPr/>
          </p:nvPicPr>
          <p:blipFill>
            <a:blip r:embed="rId2"/>
            <a:srcRect l="43274" t="0" r="43830" b="0"/>
            <a:stretch/>
          </p:blipFill>
          <p:spPr>
            <a:xfrm>
              <a:off x="1458000" y="1186920"/>
              <a:ext cx="576360" cy="56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文本框 14"/>
          <p:cNvSpPr/>
          <p:nvPr/>
        </p:nvSpPr>
        <p:spPr>
          <a:xfrm>
            <a:off x="248292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4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51" name="矩形 10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11"/>
            <p:cNvSpPr/>
            <p:nvPr/>
          </p:nvSpPr>
          <p:spPr>
            <a:xfrm>
              <a:off x="143208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图片 13" descr=""/>
            <p:cNvPicPr/>
            <p:nvPr/>
          </p:nvPicPr>
          <p:blipFill>
            <a:blip r:embed="rId2"/>
            <a:srcRect l="64435" t="0" r="21054" b="0"/>
            <a:stretch/>
          </p:blipFill>
          <p:spPr>
            <a:xfrm>
              <a:off x="1438920" y="1188360"/>
              <a:ext cx="64836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文本框 14"/>
          <p:cNvSpPr/>
          <p:nvPr/>
        </p:nvSpPr>
        <p:spPr>
          <a:xfrm>
            <a:off x="2413080" y="1359000"/>
            <a:ext cx="507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60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5"/>
          <p:cNvGrpSpPr/>
          <p:nvPr/>
        </p:nvGrpSpPr>
        <p:grpSpPr>
          <a:xfrm>
            <a:off x="1341360" y="1170000"/>
            <a:ext cx="792360" cy="873000"/>
            <a:chOff x="1341360" y="1170000"/>
            <a:chExt cx="792360" cy="873000"/>
          </a:xfrm>
        </p:grpSpPr>
        <p:sp>
          <p:nvSpPr>
            <p:cNvPr id="563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图片 11" descr=""/>
            <p:cNvPicPr/>
            <p:nvPr/>
          </p:nvPicPr>
          <p:blipFill>
            <a:blip r:embed="rId2"/>
            <a:srcRect l="84789" t="0" r="0" b="0"/>
            <a:stretch/>
          </p:blipFill>
          <p:spPr>
            <a:xfrm>
              <a:off x="1381320" y="1170000"/>
              <a:ext cx="679680" cy="5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文本框 13"/>
            <p:cNvSpPr/>
            <p:nvPr/>
          </p:nvSpPr>
          <p:spPr>
            <a:xfrm>
              <a:off x="1434960" y="171972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下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文本框 14"/>
          <p:cNvSpPr/>
          <p:nvPr/>
        </p:nvSpPr>
        <p:spPr>
          <a:xfrm>
            <a:off x="248436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2"/>
          <p:cNvSpPr/>
          <p:nvPr/>
        </p:nvSpPr>
        <p:spPr>
          <a:xfrm>
            <a:off x="8172360" y="478800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8118360" y="4842000"/>
            <a:ext cx="57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"/>
          <p:cNvSpPr/>
          <p:nvPr/>
        </p:nvSpPr>
        <p:spPr>
          <a:xfrm>
            <a:off x="3708360" y="2124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3"/>
          <p:cNvSpPr/>
          <p:nvPr/>
        </p:nvSpPr>
        <p:spPr>
          <a:xfrm>
            <a:off x="4680000" y="281628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4"/>
          <p:cNvSpPr/>
          <p:nvPr/>
        </p:nvSpPr>
        <p:spPr>
          <a:xfrm>
            <a:off x="3203640" y="196200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5"/>
          <p:cNvSpPr/>
          <p:nvPr/>
        </p:nvSpPr>
        <p:spPr>
          <a:xfrm>
            <a:off x="4522680" y="19080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6"/>
          <p:cNvSpPr/>
          <p:nvPr/>
        </p:nvSpPr>
        <p:spPr>
          <a:xfrm>
            <a:off x="4675320" y="2771640"/>
            <a:ext cx="10764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835280" y="1908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跟我一样成为高校联盟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P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员吗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2627280" y="274644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527280" y="2425680"/>
            <a:ext cx="20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就猛击  了解详情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MQ</dc:creator>
  <dc:description/>
  <cp:keywords/>
  <dc:language>en-US</dc:language>
  <cp:lastModifiedBy>姜天宝</cp:lastModifiedBy>
  <dcterms:modified xsi:type="dcterms:W3CDTF">2014-11-09T12:24:53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