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8999538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D2EC-AFD8-4DBE-B652-0EE05E5FE0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DED3-6F86-45A4-8383-1A338A63AA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6AB5-F5F6-4546-A6DD-93E3BDD315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9D3B-46AC-4576-87CA-C66E26CC42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931D-BBB1-4573-9326-832DF2A559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18F9-0F63-4F19-9A54-EF690EDC1F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32BC-867A-4B43-A897-1F7BC4170E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80DD-6459-49FF-B52F-6F3ABA33F1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DB38-0F13-421D-82A9-6AA472066F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74CAD-441B-4A37-9DF9-66FF7FF7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67D08-A9AF-4D18-A62B-E545CA64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BBDF8-EE99-456C-B38A-2929F388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76416-8BDA-41F2-8BDC-22CEAD7C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12927-4412-4E34-9684-7BFEB123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A3DAA-62F5-43E6-B42A-1538D6DE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FA365-1C8B-4D5D-811B-BE8377C2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67F8F-F48D-4144-8D18-96D9AEF0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1066C-18CF-4A8A-80F3-A7D80308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9FB22-F05B-4475-A892-ECB8B6AA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2F220-EB55-4E1C-ADE3-50E7C303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14531-E1AC-4FEB-A920-469D0F15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DEC4F-0B01-48B7-97D9-81AD49DF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826F3-4B44-4C57-901C-F97D433A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A865D-E903-4869-AB90-229C05C2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C40C1-6683-4FBA-8927-C35BF608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863C0-CC29-469E-A387-3781A474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90C92-6257-447A-82B0-EF9D438D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B3B2B-5265-497F-805E-8C7C92C3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9A7D6-FA27-44B5-BC0C-E6825ECE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C970B-9CA0-4115-B51B-451CB0CC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724EC-E7B0-45E2-869D-A3D459B3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8AAF5-6035-4E04-8F80-E2CC181A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14C70-3C5E-4FCC-AD00-32D58ACC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E9B98-8512-45B7-BED8-63032E40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1A4FE-6E04-47C0-B012-2EA46024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4B814-F118-41F0-913F-62FEA63B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E55B5-4804-402A-98D5-F08A957E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4F3F1-FEEA-4797-A4FD-111F6189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D3B32-AF68-4EC8-A090-D0B6394B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16C0-A4B5-4DC9-936B-14769210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78FC9-B288-43C1-9A42-C7BC11DE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F4B3F-E5D3-4216-AAB5-C8640EC8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75278-A5DB-400C-B4BC-4D931F05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691A3-197F-49B6-9BAF-68CB477D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93E27-5AE6-4D10-8820-25939E97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0AC17-66FB-4DF7-934F-2901D844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A20A9-2855-463F-AF13-7198CEF4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A11DE-5993-42A5-871E-EEEE4AD8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CB227-7269-4566-99B3-47472FF5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34F8D-CA9E-465E-8E98-95EE8E59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C8D1-247C-42B9-B077-E6C2AB4C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2F51A-2D8B-4805-BFBC-2672F2A0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72BFF-4BE0-4E90-B7C4-E1759B08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6B993-77C1-4970-B19B-EE7C643D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51B44-90D2-4770-8AF2-3A0CBA37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32EFA-0912-4F86-97E0-2B1B2D80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C1C-D5F4-46DE-B892-9BA0A04F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4648-22BE-401B-A2D3-00A47545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73ED-BFE3-43CE-A386-F704AA17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FE45-D315-4B58-BCA6-0FBFD50D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DC3-3C53-49DB-87D8-0417FA59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612A-6FD0-473F-BFFA-6073A5AA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6F8-7E34-4418-8C6E-D00647C2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318-F4F3-4B59-98FF-BA823F40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1BA3-8745-4BB0-97B4-91E2C272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D4A-06CC-446E-8CED-9180024A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7556-68E4-4B03-A32A-3B4E0069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6C84-C1E8-45C2-A8AA-F91832E2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B626-E68D-4C95-B224-DAAA7266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6CA9-156E-4A25-8A0C-EBBD0B06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D03E-B473-46E0-916E-84D3B266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DA8E-2639-4443-B7B8-618022D4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9545-4E64-441A-99CB-C0479F4E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DEEE-7168-4120-9C38-EFA8A90C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CD9D-91AF-4B10-B98B-02EB8E7E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AC02-65F5-4C26-8AF1-1A3B6A60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1FBD-C77F-45CE-97CB-79B0899C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8164-C0EC-422E-BCCD-A265616A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03C21-F099-4150-A1C0-166E1F2C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B53FC-65FC-4B5E-AED9-46700E73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A9A36-798C-480C-BD54-EB558EEF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F0BF2-C68A-48CD-9247-D2AE49EC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0338-EBF1-45C2-AEAC-37EBEBFA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5EA52-686E-49E1-8869-7FEA25E3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CEE45-E696-41E4-9E9D-1B9EB609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C28D1-970D-4775-A1C1-C504CF33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15C70-53A3-4615-885D-2E6230BD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18E5D-45F4-442B-9B03-8FA0CC66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915A-B7EB-4CCC-99D7-4136543B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5F467-1FB5-4C33-ADBB-751A1AE1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DBE81-8CD1-4634-AEFF-4A06F257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20903-D4E5-40ED-8892-0DAE648A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60258-E1BD-40D1-AE15-682A67E3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8726F-177C-4F60-9DEA-816EF221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E9F93-BEF1-40D6-B126-50DB3B40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7ADA6-29E2-42FB-9B54-F58583B3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2CFD6-691F-43FF-92D8-9964FAA2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23099-DF8C-425F-8DC5-1DA1E7C7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93727-36FE-4178-9A99-415228D1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BF974-BEC6-41EE-B385-790A41EF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C4D7F-6E3D-43D5-A11B-EE366BD8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01AF3-BFA3-4B6A-B789-49F4D4F7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5D394-3766-41AE-9D8C-F44DBE07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ECAA3-0A77-49D1-BA86-4DC73168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B5F45-5D2D-4F9E-9FA0-20E049C4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0BC24-A358-43D4-A5F2-247067A0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6AEC1-71FE-4E64-89EB-2B8197E8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41112-BFD4-4F9C-8CB1-FF33B40C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50F1D-FDCC-4F56-A93E-1C8C6DBF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14597-8F13-4DC9-B70F-9C0F743B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FA69F-03DE-477A-94C7-ACF2A5B5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EA081-8ACB-4DC9-8B8E-6718E540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77CB1-0D10-4620-9D92-A1F086AE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C0B24-B36A-442A-BBAE-F6C34FDF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C4013-9B50-41DC-B2EA-AA68D874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9DD0F-4E4F-4506-8EF0-41036340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49CFF-922E-4D96-B27B-5C2ADD4A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276B2-DD1A-4E99-AA30-4B934156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0822E-7886-4768-A04C-CCAC295D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FF9D7-4C6D-4C9B-A3FB-E6C594F0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6C42E-AC38-4327-9465-ABB9443D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DFE40-A5EF-4E02-9561-92B1C361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FBA23-6A8F-429E-9687-7B32BD04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E1951-BD14-411E-BD73-1767F40F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2BD9C-3E9D-4E34-B97B-5ADFCD4B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1A841-D086-4A0B-B1E7-22E703E1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FFECC-EB61-4D5D-B13E-723E1C2E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E673D-B6B1-4E0E-94D8-CF444D48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0F40E-1983-44A4-A3FC-7D19EAEC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EFCE4-CD57-4062-B59A-E76712A3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4D800-A58A-4E0C-AF0A-73AA8407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9452E-2697-498B-9921-8DA45906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13995-D0BE-411C-8C4B-549572F3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C29E5-CCBE-4351-AB05-A4081E51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448F6-6B8E-4718-98C1-4BFF8553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545E0-809C-46D1-8A43-FA1A2800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12421-3761-4AED-B624-1BE091D6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AC2AC-B231-45CD-A322-0DCE4EAF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8F463-E42D-4530-9898-FC925847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B5D0A-A340-4F63-9359-80D692C8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6F706-9AE4-4CBC-98BC-9E071D28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BFD7-4F3C-47A8-8511-75D495B16573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25F3-B709-4094-A4E2-EAFD6B7BAAC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4F82-35F2-408A-B01B-35ECB1922020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90CB-6C9A-47BE-95A0-99180AE3955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DF76-CAC9-426D-A75E-809B21266BF8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96D6-048C-4050-965A-FCB3A5CADD4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7410-ADF5-41C8-89CC-EC1474EEC1B7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2954-A463-4D69-B537-2850F2AC001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65DA-33A4-40C5-8E57-E826B8624D23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1C8C-AAF5-459A-A69C-E337771D387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FEF1-540F-4238-906C-9E715D5A421D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7CB6-EDDC-4A2B-A9D9-825903CDCC2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4F38-577E-4110-9E2D-4AF9D6D528C5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6479-C1F0-4302-9E76-2B0C9536BAF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7452-F6EF-4899-8A37-D605DA9CC3D0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81D7-C9C4-40F6-BD8A-63C341E3DD8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83FF-90F7-4C1A-820D-DEC9FDDA4917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6440-3561-4CB2-8CA5-61460114ACC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0508-884F-4763-813C-1626E06A9CF4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5C67-CFCB-411F-8004-9764D630E95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3120" indent="-303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5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2680" indent="-203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417680" indent="-2034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B06F-4221-4154-AD54-0A9F91D20707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2EB9-CBB0-42CA-9A71-5E08D682355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图片 11" descr=""/>
          <p:cNvPicPr/>
          <p:nvPr/>
        </p:nvPicPr>
        <p:blipFill>
          <a:blip r:embed="rId1"/>
          <a:stretch/>
        </p:blipFill>
        <p:spPr>
          <a:xfrm>
            <a:off x="2406600" y="2924280"/>
            <a:ext cx="4465800" cy="566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3"/>
          <p:cNvSpPr/>
          <p:nvPr/>
        </p:nvSpPr>
        <p:spPr>
          <a:xfrm>
            <a:off x="1838160" y="1619280"/>
            <a:ext cx="554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IOS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效果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"/>
          <p:cNvSpPr/>
          <p:nvPr/>
        </p:nvSpPr>
        <p:spPr>
          <a:xfrm>
            <a:off x="2263680" y="1619280"/>
            <a:ext cx="4680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5"/>
          <p:cNvSpPr/>
          <p:nvPr/>
        </p:nvSpPr>
        <p:spPr>
          <a:xfrm>
            <a:off x="2263680" y="2198520"/>
            <a:ext cx="4680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"/>
          <p:cNvSpPr/>
          <p:nvPr/>
        </p:nvSpPr>
        <p:spPr>
          <a:xfrm flipV="1">
            <a:off x="4782960" y="1187280"/>
            <a:ext cx="5050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7"/>
          <p:cNvSpPr/>
          <p:nvPr/>
        </p:nvSpPr>
        <p:spPr>
          <a:xfrm flipV="1">
            <a:off x="3848040" y="2198520"/>
            <a:ext cx="50472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8" hidden="1"/>
          <p:cNvSpPr/>
          <p:nvPr/>
        </p:nvSpPr>
        <p:spPr>
          <a:xfrm>
            <a:off x="4351320" y="2843280"/>
            <a:ext cx="503280" cy="50472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 hidden="1"/>
          <p:cNvSpPr/>
          <p:nvPr/>
        </p:nvSpPr>
        <p:spPr>
          <a:xfrm rot="16200000">
            <a:off x="4423320" y="2804400"/>
            <a:ext cx="3650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2"/>
          <p:cNvSpPr/>
          <p:nvPr/>
        </p:nvSpPr>
        <p:spPr>
          <a:xfrm>
            <a:off x="234468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记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25"/>
          <p:cNvSpPr/>
          <p:nvPr/>
        </p:nvSpPr>
        <p:spPr>
          <a:xfrm>
            <a:off x="332100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办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26"/>
          <p:cNvSpPr/>
          <p:nvPr/>
        </p:nvSpPr>
        <p:spPr>
          <a:xfrm>
            <a:off x="429732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阅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7"/>
          <p:cNvSpPr/>
          <p:nvPr/>
        </p:nvSpPr>
        <p:spPr>
          <a:xfrm>
            <a:off x="527364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置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8"/>
          <p:cNvSpPr/>
          <p:nvPr/>
        </p:nvSpPr>
        <p:spPr>
          <a:xfrm>
            <a:off x="624996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椭圆 21"/>
          <p:cNvSpPr/>
          <p:nvPr/>
        </p:nvSpPr>
        <p:spPr>
          <a:xfrm>
            <a:off x="4395960" y="4519440"/>
            <a:ext cx="420480" cy="420840"/>
          </a:xfrm>
          <a:prstGeom prst="ellipse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1"/>
          <p:cNvSpPr/>
          <p:nvPr/>
        </p:nvSpPr>
        <p:spPr>
          <a:xfrm>
            <a:off x="4444920" y="4562640"/>
            <a:ext cx="322200" cy="334800"/>
          </a:xfrm>
          <a:prstGeom prst="ellipse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椭圆 22"/>
          <p:cNvSpPr/>
          <p:nvPr/>
        </p:nvSpPr>
        <p:spPr>
          <a:xfrm>
            <a:off x="4511520" y="4635360"/>
            <a:ext cx="187560" cy="189000"/>
          </a:xfrm>
          <a:prstGeom prst="ellipse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椭圆 2"/>
          <p:cNvSpPr/>
          <p:nvPr/>
        </p:nvSpPr>
        <p:spPr>
          <a:xfrm>
            <a:off x="1332000" y="466560"/>
            <a:ext cx="64764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3"/>
          <p:cNvSpPr/>
          <p:nvPr/>
        </p:nvSpPr>
        <p:spPr>
          <a:xfrm>
            <a:off x="2263680" y="2771640"/>
            <a:ext cx="79056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13"/>
          <p:cNvSpPr/>
          <p:nvPr/>
        </p:nvSpPr>
        <p:spPr>
          <a:xfrm>
            <a:off x="3236760" y="2771640"/>
            <a:ext cx="79236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14"/>
          <p:cNvSpPr/>
          <p:nvPr/>
        </p:nvSpPr>
        <p:spPr>
          <a:xfrm>
            <a:off x="421020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15"/>
          <p:cNvSpPr/>
          <p:nvPr/>
        </p:nvSpPr>
        <p:spPr>
          <a:xfrm>
            <a:off x="518328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16"/>
          <p:cNvSpPr/>
          <p:nvPr/>
        </p:nvSpPr>
        <p:spPr>
          <a:xfrm>
            <a:off x="615636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2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625" autoRev="1" fill="hold"/>
                                        <p:tgtEl>
                                          <p:spTgt spid="4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3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35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5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5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5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5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5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35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5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3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5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3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5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35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5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35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-2.28612E-006 -4.89562E-006 L -2.28612E-006 0.05293 E">
                                      <p:cBhvr>
                                        <p:cTn id="41" dur="35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4.51579E-007 -4.89562E-006 L 4.51579E-007 0.05293 E">
                                      <p:cBhvr>
                                        <p:cTn id="43" dur="35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-4.12771E-007 -4.89562E-006 L -4.12771E-007 0.05293 E">
                                      <p:cBhvr>
                                        <p:cTn id="45" dur="35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27712E-006 -4.89562E-006 L -1.27712E-006 0.05293 E">
                                      <p:cBhvr>
                                        <p:cTn id="47" dur="35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2.14147E-006 -4.89562E-006 L -2.14147E-006 0.05293 E">
                                      <p:cBhvr>
                                        <p:cTn id="49" dur="35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5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35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7698E-006 -2.95795E-006 L -4.7698E-006 0.02764 E">
                                      <p:cBhvr>
                                        <p:cTn id="55" dur="25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5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35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5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35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5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3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5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35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4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35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6" repeatCount="indefinite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25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625" autoRev="1" fill="hold"/>
                                        <p:tgtEl>
                                          <p:spTgt spid="4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25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625" autoRev="1" fill="hold"/>
                                        <p:tgtEl>
                                          <p:spTgt spid="5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 repeatCount="indefinite">
                                  <p:stCondLst>
                                    <p:cond delay="18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2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625" autoRev="1" fill="hold"/>
                                        <p:tgtEl>
                                          <p:spTgt spid="5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文本框 1"/>
          <p:cNvSpPr/>
          <p:nvPr/>
        </p:nvSpPr>
        <p:spPr>
          <a:xfrm>
            <a:off x="743040" y="900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》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前必读哦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2"/>
          <p:cNvSpPr/>
          <p:nvPr/>
        </p:nvSpPr>
        <p:spPr>
          <a:xfrm>
            <a:off x="1174680" y="1471680"/>
            <a:ext cx="640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模板适用于多种场合，主要用于分类较多的情况，一个标题，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分项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1255680" y="1905120"/>
            <a:ext cx="398520" cy="398520"/>
            <a:chOff x="1255680" y="1905120"/>
            <a:chExt cx="398520" cy="398520"/>
          </a:xfrm>
        </p:grpSpPr>
        <p:pic>
          <p:nvPicPr>
            <p:cNvPr id="512" name="Picture 11" descr="home">
              <a:hlinkClick r:id="" action="ppaction://hlinkshowjump?jump=firstslide"/>
            </p:cNvPr>
            <p:cNvPicPr/>
            <p:nvPr/>
          </p:nvPicPr>
          <p:blipFill>
            <a:blip r:embed="rId1">
              <a:lum bright="42000"/>
            </a:blip>
            <a:stretch/>
          </p:blipFill>
          <p:spPr>
            <a:xfrm>
              <a:off x="1311120" y="1959120"/>
              <a:ext cx="289080" cy="2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AutoShape 12"/>
            <p:cNvSpPr/>
            <p:nvPr/>
          </p:nvSpPr>
          <p:spPr>
            <a:xfrm>
              <a:off x="1255680" y="1905120"/>
              <a:ext cx="398520" cy="398520"/>
            </a:xfrm>
            <a:custGeom>
              <a:avLst/>
              <a:gdLst>
                <a:gd name="textAreaLeft" fmla="*/ 58320 w 398520"/>
                <a:gd name="textAreaRight" fmla="*/ 340200 w 398520"/>
                <a:gd name="textAreaTop" fmla="*/ 58320 h 398520"/>
                <a:gd name="textAreaBottom" fmla="*/ 34020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78" y="10800"/>
                  </a:moveTo>
                  <a:cubicBezTo>
                    <a:pt x="378" y="16556"/>
                    <a:pt x="5044" y="21222"/>
                    <a:pt x="10800" y="21222"/>
                  </a:cubicBezTo>
                  <a:cubicBezTo>
                    <a:pt x="16556" y="21222"/>
                    <a:pt x="21222" y="16556"/>
                    <a:pt x="21222" y="10800"/>
                  </a:cubicBezTo>
                  <a:cubicBezTo>
                    <a:pt x="21222" y="5044"/>
                    <a:pt x="16556" y="378"/>
                    <a:pt x="10800" y="378"/>
                  </a:cubicBezTo>
                  <a:cubicBezTo>
                    <a:pt x="5044" y="378"/>
                    <a:pt x="378" y="5044"/>
                    <a:pt x="378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文本框 6"/>
          <p:cNvSpPr/>
          <p:nvPr/>
        </p:nvSpPr>
        <p:spPr>
          <a:xfrm>
            <a:off x="1738440" y="1959120"/>
            <a:ext cx="557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面左上角的这个标志代表回到主页，记得在它上面点击哦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8"/>
          <p:cNvGrpSpPr/>
          <p:nvPr/>
        </p:nvGrpSpPr>
        <p:grpSpPr>
          <a:xfrm>
            <a:off x="1239840" y="2536920"/>
            <a:ext cx="930240" cy="1019160"/>
            <a:chOff x="1239840" y="2536920"/>
            <a:chExt cx="930240" cy="1019160"/>
          </a:xfrm>
        </p:grpSpPr>
        <p:sp>
          <p:nvSpPr>
            <p:cNvPr id="516" name="矩形 3"/>
            <p:cNvSpPr/>
            <p:nvPr/>
          </p:nvSpPr>
          <p:spPr>
            <a:xfrm>
              <a:off x="1239840" y="2536920"/>
              <a:ext cx="930240" cy="10191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文本框 12"/>
            <p:cNvSpPr/>
            <p:nvPr/>
          </p:nvSpPr>
          <p:spPr>
            <a:xfrm>
              <a:off x="1336320" y="3174840"/>
              <a:ext cx="710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记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图片 24" descr=""/>
            <p:cNvPicPr/>
            <p:nvPr/>
          </p:nvPicPr>
          <p:blipFill>
            <a:blip r:embed="rId2"/>
            <a:srcRect l="0" t="0" r="87759" b="0"/>
            <a:stretch/>
          </p:blipFill>
          <p:spPr>
            <a:xfrm>
              <a:off x="1411920" y="2536920"/>
              <a:ext cx="642600" cy="66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文本框 11"/>
          <p:cNvSpPr/>
          <p:nvPr/>
        </p:nvSpPr>
        <p:spPr>
          <a:xfrm>
            <a:off x="2195640" y="2481120"/>
            <a:ext cx="5964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分项，文字、图片可替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来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页的分项，单击会自动切换到相应的页面哦，记得要在它的上面单击才有效哦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12"/>
          <p:cNvSpPr/>
          <p:nvPr/>
        </p:nvSpPr>
        <p:spPr>
          <a:xfrm>
            <a:off x="6083280" y="421020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》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赶紧试试吧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13"/>
          <p:cNvSpPr/>
          <p:nvPr/>
        </p:nvSpPr>
        <p:spPr>
          <a:xfrm>
            <a:off x="1116000" y="3705120"/>
            <a:ext cx="6997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后一个分项内容页就不要点击回到首页啦，直接在页面点击就可以到结束页了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1341360" y="1179360"/>
            <a:ext cx="792360" cy="863640"/>
            <a:chOff x="1341360" y="1179360"/>
            <a:chExt cx="792360" cy="863640"/>
          </a:xfrm>
        </p:grpSpPr>
        <p:sp>
          <p:nvSpPr>
            <p:cNvPr id="524" name="矩形 3"/>
            <p:cNvSpPr/>
            <p:nvPr/>
          </p:nvSpPr>
          <p:spPr>
            <a:xfrm>
              <a:off x="1341360" y="1179360"/>
              <a:ext cx="792360" cy="8636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12"/>
            <p:cNvSpPr/>
            <p:nvPr/>
          </p:nvSpPr>
          <p:spPr>
            <a:xfrm>
              <a:off x="1423440" y="172008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记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6" name="图片 24" descr=""/>
            <p:cNvPicPr/>
            <p:nvPr/>
          </p:nvPicPr>
          <p:blipFill>
            <a:blip r:embed="rId1"/>
            <a:srcRect l="0" t="0" r="87759" b="0"/>
            <a:stretch/>
          </p:blipFill>
          <p:spPr>
            <a:xfrm>
              <a:off x="1523160" y="1179360"/>
              <a:ext cx="547200" cy="56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7" name="图片 1" descr=""/>
          <p:cNvPicPr/>
          <p:nvPr/>
        </p:nvPicPr>
        <p:blipFill>
          <a:blip r:embed="rId2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28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9"/>
          <p:cNvSpPr/>
          <p:nvPr/>
        </p:nvSpPr>
        <p:spPr>
          <a:xfrm>
            <a:off x="2451240" y="1359000"/>
            <a:ext cx="52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2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11"/>
          <p:cNvSpPr/>
          <p:nvPr/>
        </p:nvSpPr>
        <p:spPr>
          <a:xfrm>
            <a:off x="1555920" y="2344680"/>
            <a:ext cx="59292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36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5"/>
          <p:cNvGrpSpPr/>
          <p:nvPr/>
        </p:nvGrpSpPr>
        <p:grpSpPr>
          <a:xfrm>
            <a:off x="1341360" y="1177920"/>
            <a:ext cx="792360" cy="865080"/>
            <a:chOff x="1341360" y="1177920"/>
            <a:chExt cx="792360" cy="865080"/>
          </a:xfrm>
        </p:grpSpPr>
        <p:sp>
          <p:nvSpPr>
            <p:cNvPr id="539" name="矩形 10"/>
            <p:cNvSpPr/>
            <p:nvPr/>
          </p:nvSpPr>
          <p:spPr>
            <a:xfrm>
              <a:off x="1341360" y="1177920"/>
              <a:ext cx="792360" cy="86508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文本框 11"/>
            <p:cNvSpPr/>
            <p:nvPr/>
          </p:nvSpPr>
          <p:spPr>
            <a:xfrm>
              <a:off x="1429200" y="171936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阅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1" name="图片 13" descr=""/>
            <p:cNvPicPr/>
            <p:nvPr/>
          </p:nvPicPr>
          <p:blipFill>
            <a:blip r:embed="rId2"/>
            <a:srcRect l="43274" t="0" r="43830" b="0"/>
            <a:stretch/>
          </p:blipFill>
          <p:spPr>
            <a:xfrm>
              <a:off x="1458000" y="1186920"/>
              <a:ext cx="576360" cy="56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文本框 14"/>
          <p:cNvSpPr/>
          <p:nvPr/>
        </p:nvSpPr>
        <p:spPr>
          <a:xfrm>
            <a:off x="2482920" y="1359000"/>
            <a:ext cx="529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48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5"/>
          <p:cNvGrpSpPr/>
          <p:nvPr/>
        </p:nvGrpSpPr>
        <p:grpSpPr>
          <a:xfrm>
            <a:off x="1341360" y="1179360"/>
            <a:ext cx="792360" cy="863640"/>
            <a:chOff x="1341360" y="1179360"/>
            <a:chExt cx="792360" cy="863640"/>
          </a:xfrm>
        </p:grpSpPr>
        <p:sp>
          <p:nvSpPr>
            <p:cNvPr id="551" name="矩形 10"/>
            <p:cNvSpPr/>
            <p:nvPr/>
          </p:nvSpPr>
          <p:spPr>
            <a:xfrm>
              <a:off x="1341360" y="1179360"/>
              <a:ext cx="792360" cy="8636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文本框 11"/>
            <p:cNvSpPr/>
            <p:nvPr/>
          </p:nvSpPr>
          <p:spPr>
            <a:xfrm>
              <a:off x="1432080" y="172008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置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3" name="图片 13" descr=""/>
            <p:cNvPicPr/>
            <p:nvPr/>
          </p:nvPicPr>
          <p:blipFill>
            <a:blip r:embed="rId2"/>
            <a:srcRect l="64435" t="0" r="21054" b="0"/>
            <a:stretch/>
          </p:blipFill>
          <p:spPr>
            <a:xfrm>
              <a:off x="1438920" y="1188360"/>
              <a:ext cx="64836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4" name="文本框 14"/>
          <p:cNvSpPr/>
          <p:nvPr/>
        </p:nvSpPr>
        <p:spPr>
          <a:xfrm>
            <a:off x="2413080" y="1359000"/>
            <a:ext cx="507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56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60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5"/>
          <p:cNvGrpSpPr/>
          <p:nvPr/>
        </p:nvGrpSpPr>
        <p:grpSpPr>
          <a:xfrm>
            <a:off x="1341360" y="1170000"/>
            <a:ext cx="792360" cy="873000"/>
            <a:chOff x="1341360" y="1170000"/>
            <a:chExt cx="792360" cy="873000"/>
          </a:xfrm>
        </p:grpSpPr>
        <p:sp>
          <p:nvSpPr>
            <p:cNvPr id="563" name="矩形 10"/>
            <p:cNvSpPr/>
            <p:nvPr/>
          </p:nvSpPr>
          <p:spPr>
            <a:xfrm>
              <a:off x="1341360" y="1177920"/>
              <a:ext cx="792360" cy="86508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图片 11" descr=""/>
            <p:cNvPicPr/>
            <p:nvPr/>
          </p:nvPicPr>
          <p:blipFill>
            <a:blip r:embed="rId2"/>
            <a:srcRect l="84789" t="0" r="0" b="0"/>
            <a:stretch/>
          </p:blipFill>
          <p:spPr>
            <a:xfrm>
              <a:off x="1381320" y="1170000"/>
              <a:ext cx="679680" cy="56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文本框 13"/>
            <p:cNvSpPr/>
            <p:nvPr/>
          </p:nvSpPr>
          <p:spPr>
            <a:xfrm>
              <a:off x="1434960" y="171972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下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文本框 14"/>
          <p:cNvSpPr/>
          <p:nvPr/>
        </p:nvSpPr>
        <p:spPr>
          <a:xfrm>
            <a:off x="2484360" y="1359000"/>
            <a:ext cx="529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68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2"/>
          <p:cNvSpPr/>
          <p:nvPr/>
        </p:nvSpPr>
        <p:spPr>
          <a:xfrm>
            <a:off x="8172360" y="478800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4"/>
          <p:cNvSpPr/>
          <p:nvPr/>
        </p:nvSpPr>
        <p:spPr>
          <a:xfrm>
            <a:off x="8118360" y="4842000"/>
            <a:ext cx="57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文本框 1"/>
          <p:cNvSpPr/>
          <p:nvPr/>
        </p:nvSpPr>
        <p:spPr>
          <a:xfrm>
            <a:off x="3708360" y="2124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3"/>
          <p:cNvSpPr/>
          <p:nvPr/>
        </p:nvSpPr>
        <p:spPr>
          <a:xfrm>
            <a:off x="4680000" y="2816280"/>
            <a:ext cx="13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4"/>
          <p:cNvSpPr/>
          <p:nvPr/>
        </p:nvSpPr>
        <p:spPr>
          <a:xfrm>
            <a:off x="3203640" y="1962000"/>
            <a:ext cx="13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5"/>
          <p:cNvSpPr/>
          <p:nvPr/>
        </p:nvSpPr>
        <p:spPr>
          <a:xfrm>
            <a:off x="4522680" y="190800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6"/>
          <p:cNvSpPr/>
          <p:nvPr/>
        </p:nvSpPr>
        <p:spPr>
          <a:xfrm>
            <a:off x="4675320" y="2771640"/>
            <a:ext cx="10764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1835280" y="1908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跟我一样成为高校联盟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P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员吗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2627280" y="2746440"/>
            <a:ext cx="38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527280" y="2425680"/>
            <a:ext cx="20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就猛击  了解详情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MQ</dc:creator>
  <dc:description/>
  <cp:keywords/>
  <dc:language>en-US</dc:language>
  <cp:lastModifiedBy>姜天宝</cp:lastModifiedBy>
  <dcterms:modified xsi:type="dcterms:W3CDTF">2014-11-09T12:24:53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