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44D-2193-4EA7-8888-AC43E77E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ED7-7342-4762-83D1-62F5EB1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BC5CF-4103-4535-8CC3-3066792460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BAF3-1531-4935-82DC-35424C4C18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B7AB-CA5D-49F9-BC53-903601F2BEA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39AB-EB63-4577-B1C8-6E0217B862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3CF91-E740-4C69-AF4F-03A55D6B63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5E2BB-9634-4404-AD07-4F28DCD87D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FBAC5-F10D-4A1E-931F-7BA050BDBE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F366-0EB5-415B-B88E-FE7A40CB78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A37A-C1CD-4F98-A3B6-F9F215AB427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102E6-8087-42F4-93AC-DCB489C14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F8C-507D-4E3E-A616-B4E7F42A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CBDC2-2CFD-41B2-BE49-60A90015B9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FC9AC-57C5-4748-BDDD-B95779B037A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16B01-3C38-4DB5-95D4-4E06558733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C2C36-29ED-4E98-8772-FC1BFCC3DB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D9202-0D81-47A5-BD13-2B3AD22F3F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C6CF5-AEFB-4F8F-97C8-E6194A4933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711E2-CA50-4961-9C90-5D47EEF9C4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B38D3-31A4-4B48-8C93-334C0815550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A84E5-D6B1-4A33-BFFE-981F47D2600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1B29C-B3C8-4CF7-A8C9-805F11F4C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8E3-6BAB-4DD0-8D78-D0231637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F3F42-D9EC-43E0-9ED1-ED4E56C488D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B88DE8-05D3-4022-A4A1-AE2BD038598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D224EB-57AA-4A2F-AFF2-04EC4DD25F0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BA1D9C-0E68-4CA6-B0AE-409CC6A627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C0D7C4-FE3D-4B1B-AE09-2B9D2C5D17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D95FE9-AEE0-4B43-B9D8-7E94CB89EC7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941896-56BC-4A32-9709-740E92D79C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AAE98-034F-4C68-AA17-362C2F0CC9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9557F9-D91C-4F2C-B67B-96AE43AE45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E212F9-0589-4547-800C-508A65282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E9241-19FD-476A-9F24-CDF33D22B1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9D2670-9188-4A6D-B0C2-CD5B758C220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425255-4F39-4745-B29D-044D1BFAFE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7054E0-0DC5-42A8-A16D-6EC04CA91CE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924C-68EB-4F35-A7C2-E763D7E12C1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EDEA9-2D50-428E-BB52-192AFF2FC6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6415-8DB5-45EF-93C7-B2E392F7DD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6AA2D-E95A-4F04-B095-7275552E927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9A5FD-89E0-485A-BD78-FDC4BB027E5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9A67-9C07-408F-92D6-343A3740FC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908EB-0BB1-440C-BD7E-6783DE7A28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C6296-AEE5-4392-A183-4366EEAB9BE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ACE5-2048-47ED-8D52-087BA78EC76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33627-FED5-4C6E-8350-9B5DB90C4CE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4EECE-7FBC-4DF7-88F2-EF871007D08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47E16-33AD-41A4-8D0C-64F45090343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612A5-DA6D-4E44-9C28-30F2884B9BE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F92EB-C30A-42A9-B491-B5D04EF6A49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6B610-F7DD-45D9-80C3-723322529C1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828DC-0837-4932-B1A6-70048E6D996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6C042-BBC2-4EE7-B79B-24D6B1DC506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AD0C-B39B-429B-9489-4B0E4D6F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156AE-8FAB-4630-B703-E6955F9C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239D9-E07B-467E-B783-23FAB182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3D3E0-B7ED-46DA-91AF-FB4B79B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5F819-CC9A-4685-BAFE-8685D0F4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4EB66-6469-40B0-9A49-268C5EA9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274C8-8FED-4FF9-8551-02655434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E671B-4E0C-4FC5-B26E-626E4760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E3C14-A02F-4C3E-A1AB-1AE74A9F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72C1-7C31-4E9F-85A7-1013112046D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57D2-CE53-448E-8FB2-EA5D67AA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04CA5-0E05-462F-AC4B-A910AFDE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BCAC-7BD8-4FFE-AAF1-7C0B4015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BA4-04CB-4856-B2BF-0170C851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C4614-B3AA-4929-9178-E191D0AF4DD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2A76B-8678-40BC-AED5-C3DE5AD4DA2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D260C-6882-4B1F-8190-6FE52976EFD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1A987-05EF-4604-B62A-5D71A4A2A20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75A64-06E1-4401-BF61-837B2D18B39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47EAEC-735A-4D20-B88E-90BF44CF2D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F3097-BC01-4E90-91AF-C9B48C562B0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545AC-0D23-4D38-A3D2-2DB41919153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75DF96-2E55-4A24-9352-2BCDC19830B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586C9C-CF8F-4B0C-80DA-E727A0D7BA6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68F41-810C-40BE-9AEC-5F8C7841436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98BCE6-619F-4D88-8CB1-1BAE2FF6FAA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ED08A7-A6CF-424D-86F0-4BD427789F6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B3301F-E87F-4B23-BA8D-E87FA360D43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3E99B-8AB4-411F-A05F-2308CB7A9FB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0CEA4-3156-4A6A-A18E-E9872411BD4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21DA4-E820-4C6D-A329-7EFF5F07C9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E6599-08A7-4FBE-AE9D-65FD381BF5B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0988B-750B-4628-B74D-198D563BC14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D09B7-920D-48EA-B485-523BDC7D1CF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4351D-6F69-44F8-A666-B3AE1ADA37B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89AC8-B481-4C5B-926A-8ABD898373D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8FCDB-2938-4172-A991-D90C73AFD17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59314-EF3E-4FF3-9C0A-332A217B4B4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9AA9F-951D-41B6-B4D4-D11F61C0FF8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15BCB-A367-4359-9CB6-A61440F3ACA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BFA00-D560-45E2-976B-101B530792F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B180A-5309-4A89-8F2B-0EBC71F05FA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19BA3-4028-43F1-8260-512158B66E1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62E5E-00AE-4BFB-8042-F37059FC5DD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3301D-F0C0-4153-94E0-70B933B699E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0B52D-C4C3-4865-A429-243CC4B3075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15D6A-068D-4C82-B1EA-2E8BFA70DB0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12193-7588-47C2-9F7D-676818EC410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0AA98-E64B-4CFE-A5CD-8DAC8888AF8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FEE3B-AD32-400D-8FB6-13BECE50C28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2C898-81EC-42B9-B4F0-679ACBFA9A1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BD87-09E5-4989-A9DA-420D9EF0DF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1FCDE3-D3EB-418E-ADF3-CA731DF3BA3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F4E17-D3A3-4EC0-A562-07BCB383EF4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D3EC8-782C-411C-86C9-BD028B05628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FE1E5-F846-4EBF-81D3-D512837E09E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DF3592-3EBB-47AF-92E5-6602A503411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9F2421-9B9E-407E-8647-ECC84A55727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868A57-FBFD-4BD1-871E-3031A3CE7F1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8A1366-17DC-42B7-9D78-CB791F08F60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B857D3-1215-40DF-9223-F83437320A1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B71803-1459-4EDF-84C3-78F02FB4B20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F63969-ADD8-4C14-978C-61ED0D7D82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3CFDF-0B27-4394-81FB-C23844BAD46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0B2757-6A19-4858-ACA3-A2F764BA138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CE40E6-DE0E-4526-8065-0D394963520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DDB28B-4382-45DD-80FA-7A30CA0BCBF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6FEAAA-A3FE-4E9B-8ADB-20845D9EDA6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F45E77-8CC3-43AA-9B0D-18543D73388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AC169-31E0-4DBE-BA55-B0153AA9B55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36255-FB50-4DC2-B052-2D97E719C85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E0985-B032-4414-8632-5E71CC60FED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AE470-ABFE-4BC3-99FA-63EA4AEF442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E7E91-88E8-45C3-AEFC-7FEBF57500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CD3FB8-924E-447E-BD5E-34B77FB9AA6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3855E-8739-441C-BCDB-7448F82AF69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4A59E-1C0C-4B74-B5F9-EEEC1669DE8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24B90-5636-491C-B5C2-F86E1069B75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6042B-9DFF-459D-BC9C-CFEE461B8F8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C0323-E4B3-472E-A6AD-C74DA0B19E1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C3865-DD45-499A-9FA4-C069C2D0D13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73068-AE0E-42A1-8D23-FD2774C136C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9947F-379C-41D7-B873-A0BF8808051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70010-6982-48D8-BD70-682435F0FBB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28A83-EB7A-4276-B2B2-B7B8CA645D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CA905-2027-4423-BDF8-D073F4E3E10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1774E-AEA3-4071-8A14-199F4044C1B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93B7D-E7A0-443C-8103-7DB74B6FC1F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9A6F1-A4FF-42EA-9078-5EF3780D1EA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BED3E-A95A-4FD9-A143-974FDEF7089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290B5-A58E-484A-B040-11D2372A089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435D6-D2D4-4850-B009-143B319E04F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D5FB5-4A97-4520-B66F-9FA37DA6EE9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197D9-352E-4F41-A164-A219ACC92EA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230F1-E166-4D4B-8FEB-65180C39182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0E8464-BFCC-46A4-96B0-198C5A7637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727A3-92D9-4DB4-8C59-3FF6EFCDD2D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CA5331-4CB2-43DE-8EB0-EB895E9105C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12891B-502B-44D9-8BD1-9FF6C613557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1C8E33-CD02-4B54-919D-3337386CB5A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A76CA0-2BFE-44CC-808A-34F49070A55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585EA2-32E0-4F4A-B7FD-13297D7DF86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975305-46AF-4FE9-9734-EAF9A94EE00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633035-5624-47C8-99AA-71EAA2AA5E7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E17C84-257B-4FC1-9A06-F3B0C66E28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6E77C-8162-4547-AF13-CC2EF73CFCF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BE5358-05F6-41A3-A16A-3D1FD336E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6E0-44E9-4A53-A5C6-543C4655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08A49-D3D0-4546-83A2-3FA981EC37C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4F964E-EB2A-44DA-9BFB-BC9104DB363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BC4CC-ECE7-439D-B7CB-A9F473A8A80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A58EB-2CA1-4E68-94AC-C81352856E5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695AB-9C31-4A1D-A362-2629114EE26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83B0F3-6C96-43D1-B48F-5CE95102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F061A8-7C0C-411C-A9D6-020BECFE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D492F2-82B2-4091-9734-80AC550A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C8C13-4912-4DA7-94F8-EA0BFF5733F2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69F193-E2F6-4C85-92C4-1953036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B69DC3-A4C5-45B3-98AE-2822D9D0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48C81B-0DC1-4B21-AF53-D0DC1C9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8727C4-9461-464D-8D9B-4802BCEB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49DBC3-89B3-4222-AE27-AAB4822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389E91-6C86-4571-BA52-28338291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2EE16B-BE88-49FA-B7D2-7DDA366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47B340-27DF-499F-BB8C-65019285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8E8E2D-3541-49E5-BFA8-8912552F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FC2E2-28A9-4770-9D5C-7C16C250DF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D087F0-F18B-4F5D-99F9-14776643D2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4D6-C0FC-480D-99FF-EC0B630C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FEA1-DA6D-440F-A5A3-32398F934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0EB-4816-4A94-9EB4-CC85EB9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E4D2-0801-4E76-B5D3-D5BE14FF40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CD9F-0343-4468-8ED0-184E6BC1CB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0E66-2731-4419-8ED3-94AC3B69C2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7FC1-4A1B-4081-9BA8-8E4040C0D8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958B-E6D6-406F-B669-A4F5E54916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4701A-298E-420F-8F45-39C8D3FD5E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8EB9-3912-444C-A2D7-2646A174D4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67DD-E58B-4296-92A3-E2303AD3DE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A5A2-2725-4D37-8D88-B74F04144B7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B4F6-80EC-497A-BF8B-12DED7969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AF9-6B72-4246-9B91-15385820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9FC7-5FCF-4152-A590-652FB7C1FE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E123F-5013-4E55-B4BE-38B65C2035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28E88-9B1A-4670-B01E-9FD67913B5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835D0-3C71-4768-A119-0F618966FB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66EC1-C2B2-4D74-8D93-CCBC94B267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C179C-1C07-46A7-8D9E-3DFE263B0E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648B5-379F-40C3-BFFB-F1C2253A34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B699D-A5D9-4965-8F9B-A3BC5BFA90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A3BB9-62A8-4E11-A6EA-AABFE3EFDE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141AA-769F-4A58-AD7A-FDB57E41A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543-0792-479D-BB7C-CB290912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F6039-4A69-4367-80A5-275DB67D80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07211-ED7D-438C-89CB-FBB086F314C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30771-C55D-4CA9-8183-DCCF892698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509-5C85-430F-BE87-567DDC60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6C3109-4C0D-42FA-8D85-B2C67FDFD3F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B42220-8B36-4CC1-81ED-629ACE6DC1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D733AC-A94E-4536-B5B2-C66E3BB6FA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0FC5B-531D-465F-B140-FBCECE0924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52927-1CCD-4B80-A196-E92C7CE93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107-BCE6-40DD-8208-22AAC968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19413-4FE1-45B9-BCA1-315C72C2F3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EE9EF3-5AC0-4046-809F-502E3A79863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EC5A8-E569-413B-81D5-98943144111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C0AA66-4013-4600-98DC-CE2BE74EA0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A3E5FF-962B-4EAD-B39A-813A77E6780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FDB93-D4FE-42F6-A459-33AA43080A4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86D7A5-9079-44A7-AEA0-D47AFEC5ABC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385B-FE6E-482D-A87C-9DABD592A9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17D27-A653-4B20-8A81-F3ABB3B1321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227A6-C8C1-42C9-93AB-9654D8BAB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C47-EF15-4A30-A163-956CE49A72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3027-08EA-4159-9BA6-FCAC470B5B4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B08-289C-426C-99EE-9D655391D30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43E4-89EE-4CE7-9A35-8AA7B338FA2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5F85-076D-44A2-AE18-7DAE37B6D77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8297-5E07-4FB5-BF22-8CFF9AF7495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707-C05E-43EB-970E-7EA145FC479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AB9-8F7A-4D87-9DF9-272B8B26416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30D6-EABF-448D-BFD4-19E41A15A8D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F59F-DA55-446C-A3F9-C9A58AA2DAC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33FF-D401-463B-81FD-666984CB9D7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FCCF-96C9-4226-8E9E-912F654ACDE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32E5-ACF6-4998-9975-D5C00309FF0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E18A-A2D6-4D31-9C63-72A0A3474DE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C9E3-82BA-4D38-818D-7BD1C6F6995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EA21-8A5B-4BA2-B0CE-FC154BE0572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564F-DCEE-4321-89B3-B42E629CC3D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EDD8-6318-4A17-9423-9141B3B05C1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D98-2C6A-46C1-B083-C4A7355D6F2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Box 2"/>
          <p:cNvSpPr/>
          <p:nvPr/>
        </p:nvSpPr>
        <p:spPr>
          <a:xfrm>
            <a:off x="1510200" y="160956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3"/>
          <p:cNvSpPr/>
          <p:nvPr/>
        </p:nvSpPr>
        <p:spPr>
          <a:xfrm>
            <a:off x="3311640" y="239544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4"/>
          <p:cNvSpPr/>
          <p:nvPr/>
        </p:nvSpPr>
        <p:spPr>
          <a:xfrm>
            <a:off x="1071720" y="321480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7"/>
          <p:cNvSpPr/>
          <p:nvPr/>
        </p:nvSpPr>
        <p:spPr>
          <a:xfrm>
            <a:off x="1073160" y="4029120"/>
            <a:ext cx="32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 action="ppaction://hlinksldjump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197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任意多边形 22"/>
          <p:cNvSpPr/>
          <p:nvPr/>
        </p:nvSpPr>
        <p:spPr>
          <a:xfrm>
            <a:off x="857160" y="2590920"/>
            <a:ext cx="4591080" cy="2554200"/>
          </a:xfrm>
          <a:prstGeom prst="pie">
            <a:avLst/>
          </a:pr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Microsoft</cp:lastModifiedBy>
  <dcterms:modified xsi:type="dcterms:W3CDTF">2016-04-20T01:55:21Z</dcterms:modified>
  <cp:revision>2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