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BCD.wav" ContentType="audio/x-wav"/>
  <Override PartName="/ppt/media/image1.png" ContentType="image/png"/>
  <Override PartName="/ppt/media/image2.png" ContentType="image/png"/>
  <Override PartName="/ppt/media/beat2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935-18C5-4D9D-A509-07C3FC39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5EB-A744-4AD9-95E0-68ED53DD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E0C-C390-4338-813B-618B4771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364-32A4-4E89-ABC3-791F63D6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AD4-7DB0-43D5-8557-3207D2E5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9A2-5797-4DC2-B274-8EDCC4F2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641-E15F-4AB5-9A87-588360CF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0FD-896A-4598-B691-08C07931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A6F-D9BD-4B5F-8EB1-E0F39ED8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67B-6321-4C83-8911-DDAAD9AF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756-6EDB-4A0F-835E-E69B4C59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3CC-894B-4098-8091-EDE3B2CD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F779-D572-4D7D-80E5-E1F98AC593C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beat2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620640"/>
            <a:ext cx="9144000" cy="532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987640" y="249228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alibri"/>
              <a:ea typeface="Calibri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332000" y="7750080"/>
            <a:ext cx="12952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WordArt 19"/>
          <p:cNvSpPr txBox="1"/>
          <p:nvPr/>
        </p:nvSpPr>
        <p:spPr>
          <a:xfrm rot="10800000">
            <a:off x="2986560" y="321156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62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6200000"/>
              </a:gradFill>
              <a:latin typeface="Calibri"/>
              <a:ea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220840" y="2808360"/>
            <a:ext cx="4367160" cy="2313000"/>
            <a:chOff x="2220840" y="2808360"/>
            <a:chExt cx="4367160" cy="2313000"/>
          </a:xfrm>
        </p:grpSpPr>
        <p:grpSp>
          <p:nvGrpSpPr>
            <p:cNvPr id="145" name="Group 4"/>
            <p:cNvGrpSpPr/>
            <p:nvPr/>
          </p:nvGrpSpPr>
          <p:grpSpPr>
            <a:xfrm>
              <a:off x="2220840" y="3933720"/>
              <a:ext cx="4367160" cy="1187640"/>
              <a:chOff x="2220840" y="3933720"/>
              <a:chExt cx="4367160" cy="1187640"/>
            </a:xfrm>
          </p:grpSpPr>
          <p:grpSp>
            <p:nvGrpSpPr>
              <p:cNvPr id="146" name="Group 5"/>
              <p:cNvGrpSpPr/>
              <p:nvPr/>
            </p:nvGrpSpPr>
            <p:grpSpPr>
              <a:xfrm>
                <a:off x="2220840" y="3933720"/>
                <a:ext cx="1808280" cy="1187640"/>
                <a:chOff x="2220840" y="3933720"/>
                <a:chExt cx="1808280" cy="1187640"/>
              </a:xfrm>
            </p:grpSpPr>
            <p:sp>
              <p:nvSpPr>
                <p:cNvPr id="147" name="WordArt 6"/>
                <p:cNvSpPr txBox="1"/>
                <p:nvPr/>
              </p:nvSpPr>
              <p:spPr>
                <a:xfrm>
                  <a:off x="2660760" y="4503600"/>
                  <a:ext cx="1368360" cy="61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se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8" name="WordArt 7"/>
                <p:cNvSpPr txBox="1"/>
                <p:nvPr/>
              </p:nvSpPr>
              <p:spPr>
                <a:xfrm>
                  <a:off x="2660760" y="4071960"/>
                  <a:ext cx="8636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h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9" name="WordArt 8"/>
                <p:cNvSpPr txBox="1"/>
                <p:nvPr/>
              </p:nvSpPr>
              <p:spPr>
                <a:xfrm>
                  <a:off x="2220840" y="3933720"/>
                  <a:ext cx="360360" cy="1187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I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50" name="WordArt 9"/>
              <p:cNvSpPr txBox="1"/>
              <p:nvPr/>
            </p:nvSpPr>
            <p:spPr>
              <a:xfrm>
                <a:off x="4067280" y="3995640"/>
                <a:ext cx="2520720" cy="11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Girl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1" name="WordArt 10"/>
              <p:cNvSpPr txBox="1"/>
              <p:nvPr/>
            </p:nvSpPr>
            <p:spPr>
              <a:xfrm>
                <a:off x="3610080" y="4086360"/>
                <a:ext cx="444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of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52" name="WordArt 11"/>
            <p:cNvSpPr txBox="1"/>
            <p:nvPr/>
          </p:nvSpPr>
          <p:spPr>
            <a:xfrm>
              <a:off x="2220840" y="2808360"/>
              <a:ext cx="216072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Y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3" name="WordArt 13"/>
            <p:cNvSpPr txBox="1"/>
            <p:nvPr/>
          </p:nvSpPr>
          <p:spPr>
            <a:xfrm>
              <a:off x="4140360" y="3357720"/>
              <a:ext cx="2447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ream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4" name="WordArt 15"/>
          <p:cNvSpPr txBox="1"/>
          <p:nvPr/>
        </p:nvSpPr>
        <p:spPr>
          <a:xfrm>
            <a:off x="3357720" y="2968560"/>
            <a:ext cx="7696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17"/>
          <p:cNvSpPr txBox="1"/>
          <p:nvPr/>
        </p:nvSpPr>
        <p:spPr>
          <a:xfrm>
            <a:off x="3622680" y="2959200"/>
            <a:ext cx="3168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WordArt 18"/>
          <p:cNvSpPr txBox="1"/>
          <p:nvPr/>
        </p:nvSpPr>
        <p:spPr>
          <a:xfrm>
            <a:off x="4211640" y="2697120"/>
            <a:ext cx="6872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WordArt 19"/>
          <p:cNvSpPr txBox="1"/>
          <p:nvPr/>
        </p:nvSpPr>
        <p:spPr>
          <a:xfrm>
            <a:off x="5186520" y="2689200"/>
            <a:ext cx="5047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2415 -0.10695 E">
                                      <p:cBhvr>
                                        <p:cTn id="143" dur="2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entr" presetID="2" presetSubtype="2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1116000" y="2637000"/>
            <a:ext cx="5688000" cy="1388880"/>
            <a:chOff x="1116000" y="2637000"/>
            <a:chExt cx="5688000" cy="1388880"/>
          </a:xfrm>
        </p:grpSpPr>
        <p:sp>
          <p:nvSpPr>
            <p:cNvPr id="162" name="WordArt 15"/>
            <p:cNvSpPr txBox="1"/>
            <p:nvPr/>
          </p:nvSpPr>
          <p:spPr>
            <a:xfrm>
              <a:off x="3381480" y="2955960"/>
              <a:ext cx="76968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63" name="Group 23"/>
            <p:cNvGrpSpPr/>
            <p:nvPr/>
          </p:nvGrpSpPr>
          <p:grpSpPr>
            <a:xfrm>
              <a:off x="1116000" y="2637000"/>
              <a:ext cx="5688000" cy="1388880"/>
              <a:chOff x="1116000" y="2637000"/>
              <a:chExt cx="5688000" cy="1388880"/>
            </a:xfrm>
          </p:grpSpPr>
          <p:grpSp>
            <p:nvGrpSpPr>
              <p:cNvPr id="164" name="Group 5"/>
              <p:cNvGrpSpPr/>
              <p:nvPr/>
            </p:nvGrpSpPr>
            <p:grpSpPr>
              <a:xfrm>
                <a:off x="1116000" y="2637000"/>
                <a:ext cx="2184480" cy="1155600"/>
                <a:chOff x="1116000" y="2637000"/>
                <a:chExt cx="2184480" cy="1155600"/>
              </a:xfrm>
            </p:grpSpPr>
            <p:grpSp>
              <p:nvGrpSpPr>
                <p:cNvPr id="165" name="Group 6"/>
                <p:cNvGrpSpPr/>
                <p:nvPr/>
              </p:nvGrpSpPr>
              <p:grpSpPr>
                <a:xfrm>
                  <a:off x="1116000" y="3199320"/>
                  <a:ext cx="2184120" cy="593280"/>
                  <a:chOff x="1116000" y="3199320"/>
                  <a:chExt cx="2184120" cy="593280"/>
                </a:xfrm>
              </p:grpSpPr>
              <p:grpSp>
                <p:nvGrpSpPr>
                  <p:cNvPr id="166" name="Group 7"/>
                  <p:cNvGrpSpPr/>
                  <p:nvPr/>
                </p:nvGrpSpPr>
                <p:grpSpPr>
                  <a:xfrm>
                    <a:off x="1116000" y="3199320"/>
                    <a:ext cx="904320" cy="593280"/>
                    <a:chOff x="1116000" y="3199320"/>
                    <a:chExt cx="904320" cy="593280"/>
                  </a:xfrm>
                </p:grpSpPr>
                <p:sp>
                  <p:nvSpPr>
                    <p:cNvPr id="167" name="WordArt 8"/>
                    <p:cNvSpPr txBox="1"/>
                    <p:nvPr/>
                  </p:nvSpPr>
                  <p:spPr>
                    <a:xfrm>
                      <a:off x="1335960" y="3484080"/>
                      <a:ext cx="684360" cy="305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se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8" name="WordArt 9"/>
                    <p:cNvSpPr txBox="1"/>
                    <p:nvPr/>
                  </p:nvSpPr>
                  <p:spPr>
                    <a:xfrm>
                      <a:off x="1335960" y="3268080"/>
                      <a:ext cx="431640" cy="192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th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9" name="WordArt 10"/>
                    <p:cNvSpPr txBox="1"/>
                    <p:nvPr/>
                  </p:nvSpPr>
                  <p:spPr>
                    <a:xfrm>
                      <a:off x="1116000" y="3199320"/>
                      <a:ext cx="180000" cy="593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</p:grpSp>
              <p:sp>
                <p:nvSpPr>
                  <p:cNvPr id="170" name="WordArt 11"/>
                  <p:cNvSpPr txBox="1"/>
                  <p:nvPr/>
                </p:nvSpPr>
                <p:spPr>
                  <a:xfrm>
                    <a:off x="2039400" y="3229920"/>
                    <a:ext cx="1260720" cy="562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irl</a:t>
                    </a:r>
                    <a:endPara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71" name="WordArt 12"/>
                  <p:cNvSpPr txBox="1"/>
                  <p:nvPr/>
                </p:nvSpPr>
                <p:spPr>
                  <a:xfrm>
                    <a:off x="1810800" y="3275280"/>
                    <a:ext cx="222120" cy="180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of</a:t>
                    </a:r>
                    <a:endParaRPr b="1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sp>
              <p:nvSpPr>
                <p:cNvPr id="172" name="WordArt 13"/>
                <p:cNvSpPr txBox="1"/>
                <p:nvPr/>
              </p:nvSpPr>
              <p:spPr>
                <a:xfrm>
                  <a:off x="1116000" y="2637000"/>
                  <a:ext cx="1080720" cy="52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73" name="WordArt 14"/>
                <p:cNvSpPr txBox="1"/>
                <p:nvPr/>
              </p:nvSpPr>
              <p:spPr>
                <a:xfrm>
                  <a:off x="2076120" y="2911320"/>
                  <a:ext cx="122436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dream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74" name="WordArt 16"/>
              <p:cNvSpPr txBox="1"/>
              <p:nvPr/>
            </p:nvSpPr>
            <p:spPr>
              <a:xfrm>
                <a:off x="3635280" y="2936880"/>
                <a:ext cx="3168720" cy="10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hining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5" name="WordArt 17"/>
              <p:cNvSpPr txBox="1"/>
              <p:nvPr/>
            </p:nvSpPr>
            <p:spPr>
              <a:xfrm>
                <a:off x="4218120" y="2657520"/>
                <a:ext cx="687240" cy="236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Lik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6" name="WordArt 18"/>
              <p:cNvSpPr txBox="1"/>
              <p:nvPr/>
            </p:nvSpPr>
            <p:spPr>
              <a:xfrm>
                <a:off x="5192640" y="2649600"/>
                <a:ext cx="504720" cy="2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77" name="WordArt 22"/>
          <p:cNvSpPr txBox="1"/>
          <p:nvPr/>
        </p:nvSpPr>
        <p:spPr>
          <a:xfrm>
            <a:off x="3635280" y="2936880"/>
            <a:ext cx="522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WordArt 25"/>
          <p:cNvSpPr txBox="1"/>
          <p:nvPr/>
        </p:nvSpPr>
        <p:spPr>
          <a:xfrm>
            <a:off x="4371840" y="2868480"/>
            <a:ext cx="1352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3" dur="50" fill="hold"/>
                                        <p:tgtEl>
                                          <p:spTgt spid="17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2" name="Group 23"/>
          <p:cNvGrpSpPr/>
          <p:nvPr/>
        </p:nvGrpSpPr>
        <p:grpSpPr>
          <a:xfrm>
            <a:off x="3576600" y="2827440"/>
            <a:ext cx="2147760" cy="1106280"/>
            <a:chOff x="3576600" y="2827440"/>
            <a:chExt cx="2147760" cy="1106280"/>
          </a:xfrm>
        </p:grpSpPr>
        <p:sp>
          <p:nvSpPr>
            <p:cNvPr id="183" name="WordArt 21"/>
            <p:cNvSpPr txBox="1"/>
            <p:nvPr/>
          </p:nvSpPr>
          <p:spPr>
            <a:xfrm>
              <a:off x="3576600" y="2827440"/>
              <a:ext cx="65088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4" name="WordArt 22"/>
            <p:cNvSpPr txBox="1"/>
            <p:nvPr/>
          </p:nvSpPr>
          <p:spPr>
            <a:xfrm>
              <a:off x="4371840" y="2868480"/>
              <a:ext cx="135252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9" dur="18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3254400" y="2670120"/>
            <a:ext cx="2792160" cy="1439640"/>
            <a:chOff x="3254400" y="2670120"/>
            <a:chExt cx="2792160" cy="1439640"/>
          </a:xfrm>
        </p:grpSpPr>
        <p:sp>
          <p:nvSpPr>
            <p:cNvPr id="189" name="WordArt 6"/>
            <p:cNvSpPr txBox="1"/>
            <p:nvPr/>
          </p:nvSpPr>
          <p:spPr>
            <a:xfrm>
              <a:off x="3254400" y="2670120"/>
              <a:ext cx="84600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0" name="WordArt 7"/>
            <p:cNvSpPr txBox="1"/>
            <p:nvPr/>
          </p:nvSpPr>
          <p:spPr>
            <a:xfrm>
              <a:off x="4288320" y="2723400"/>
              <a:ext cx="175824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1" name="WordArt 16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4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96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197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3276720" y="2724120"/>
            <a:ext cx="2770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1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215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7" dur="6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2712960" y="2438280"/>
            <a:ext cx="388008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3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6" name="WordArt 5"/>
          <p:cNvSpPr txBox="1"/>
          <p:nvPr/>
        </p:nvSpPr>
        <p:spPr>
          <a:xfrm rot="18900000">
            <a:off x="5003640" y="3068640"/>
            <a:ext cx="18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41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66667E-006 -3.33333E-006 C -0.01094 -0.03102 -0.01997 -0.06389 -0.03976 -0.07592 C -0.05955 -0.08773 -0.10087 -0.08426 -0.1191 -0.07199 C -0.13733 -0.05995 -0.14271 -0.01736 -0.14879 -0.00301 E">
                                      <p:cBhvr>
                                        <p:cTn id="243" dur="2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400000">
                                      <p:cBhvr>
                                        <p:cTn id="245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146376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167004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ARR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4965840" y="3068640"/>
            <a:ext cx="766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5664240" y="3267000"/>
            <a:ext cx="120024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3" name="WordArt 16"/>
          <p:cNvSpPr txBox="1"/>
          <p:nvPr/>
        </p:nvSpPr>
        <p:spPr>
          <a:xfrm>
            <a:off x="5946840" y="3059280"/>
            <a:ext cx="1504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5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6" nodeType="afterEffect" fill="hold" presetClass="exit" presetID="17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1670040" y="3048120"/>
            <a:ext cx="5781600" cy="855720"/>
            <a:chOff x="1670040" y="3048120"/>
            <a:chExt cx="5781600" cy="855720"/>
          </a:xfrm>
        </p:grpSpPr>
        <p:sp>
          <p:nvSpPr>
            <p:cNvPr id="219" name="WordArt 5"/>
            <p:cNvSpPr txBox="1"/>
            <p:nvPr/>
          </p:nvSpPr>
          <p:spPr>
            <a:xfrm>
              <a:off x="1670040" y="3048120"/>
              <a:ext cx="3298680" cy="83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0" name="WordArt 6"/>
            <p:cNvSpPr txBox="1"/>
            <p:nvPr/>
          </p:nvSpPr>
          <p:spPr>
            <a:xfrm>
              <a:off x="4965840" y="3068640"/>
              <a:ext cx="766800" cy="83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1" name="WordArt 8"/>
            <p:cNvSpPr txBox="1"/>
            <p:nvPr/>
          </p:nvSpPr>
          <p:spPr>
            <a:xfrm>
              <a:off x="5946840" y="3059280"/>
              <a:ext cx="150480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22" name="WordArt 1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4" dur="4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5400000">
                                      <p:cBhvr>
                                        <p:cTn id="286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72222E-006 -2.96296E-006 L -0.17986 0.0669 E">
                                      <p:cBhvr>
                                        <p:cTn id="288" dur="4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706920" y="2739960"/>
            <a:ext cx="42048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</a:rPr>
              <a:t>I</a:t>
            </a:r>
            <a:endParaRPr b="1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3419640" y="3244680"/>
            <a:ext cx="21603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am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419640" y="2708280"/>
            <a:ext cx="2160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standing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7.40741E-007 L -0.09375 7.40741E-007 E">
                                      <p:cBhvr>
                                        <p:cTn id="29" dur="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2843280" y="3352680"/>
            <a:ext cx="172800" cy="1155600"/>
            <a:chOff x="2843280" y="3352680"/>
            <a:chExt cx="172800" cy="1155600"/>
          </a:xfrm>
        </p:grpSpPr>
        <p:sp>
          <p:nvSpPr>
            <p:cNvPr id="227" name="WordArt 6"/>
            <p:cNvSpPr txBox="1"/>
            <p:nvPr/>
          </p:nvSpPr>
          <p:spPr>
            <a:xfrm rot="16200000">
              <a:off x="2598120" y="4093920"/>
              <a:ext cx="659520" cy="16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8" name="WordArt 7"/>
            <p:cNvSpPr txBox="1"/>
            <p:nvPr/>
          </p:nvSpPr>
          <p:spPr>
            <a:xfrm rot="16200000">
              <a:off x="2855160" y="3688560"/>
              <a:ext cx="1530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9" name="WordArt 8"/>
            <p:cNvSpPr txBox="1"/>
            <p:nvPr/>
          </p:nvSpPr>
          <p:spPr>
            <a:xfrm rot="16200000">
              <a:off x="2776320" y="3421800"/>
              <a:ext cx="300600" cy="16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5292720" y="2395440"/>
            <a:ext cx="8712360" cy="2340000"/>
            <a:chOff x="5292720" y="2395440"/>
            <a:chExt cx="8712360" cy="2340000"/>
          </a:xfrm>
        </p:grpSpPr>
        <p:grpSp>
          <p:nvGrpSpPr>
            <p:cNvPr id="231" name="Group 13"/>
            <p:cNvGrpSpPr/>
            <p:nvPr/>
          </p:nvGrpSpPr>
          <p:grpSpPr>
            <a:xfrm>
              <a:off x="5292720" y="2395440"/>
              <a:ext cx="6408720" cy="2340000"/>
              <a:chOff x="5292720" y="2395440"/>
              <a:chExt cx="6408720" cy="2340000"/>
            </a:xfrm>
          </p:grpSpPr>
          <p:sp>
            <p:nvSpPr>
              <p:cNvPr id="232" name="WordArt 9"/>
              <p:cNvSpPr txBox="1"/>
              <p:nvPr/>
            </p:nvSpPr>
            <p:spPr>
              <a:xfrm>
                <a:off x="5292720" y="2400480"/>
                <a:ext cx="792000" cy="23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3" name="Rectangle 10"/>
              <p:cNvSpPr/>
              <p:nvPr/>
            </p:nvSpPr>
            <p:spPr>
              <a:xfrm>
                <a:off x="5292720" y="2395440"/>
                <a:ext cx="6408720" cy="23400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4" name="WordArt 11"/>
              <p:cNvSpPr txBox="1"/>
              <p:nvPr/>
            </p:nvSpPr>
            <p:spPr>
              <a:xfrm>
                <a:off x="6299280" y="2421000"/>
                <a:ext cx="4105080" cy="231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ou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5" name="WordArt 12"/>
              <p:cNvSpPr txBox="1"/>
              <p:nvPr/>
            </p:nvSpPr>
            <p:spPr>
              <a:xfrm>
                <a:off x="10544040" y="2421000"/>
                <a:ext cx="1084320" cy="23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36" name="WordArt 20"/>
            <p:cNvSpPr txBox="1"/>
            <p:nvPr/>
          </p:nvSpPr>
          <p:spPr>
            <a:xfrm>
              <a:off x="1292076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7" name="WordArt 2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1" dur="2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3" dur="2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-0.90573 -3.7037E-007 E">
                                      <p:cBhvr>
                                        <p:cTn id="305" dur="2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6 L -0.57882 -7.40741E-006 E">
                                      <p:cBhvr>
                                        <p:cTn id="310" dur="2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WordArt 9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2395440"/>
            <a:ext cx="6300720" cy="234000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826920" y="2421000"/>
            <a:ext cx="41054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5072040" y="2421000"/>
            <a:ext cx="1084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4" name="WordArt 13"/>
          <p:cNvSpPr txBox="1"/>
          <p:nvPr/>
        </p:nvSpPr>
        <p:spPr>
          <a:xfrm>
            <a:off x="6372360" y="2421000"/>
            <a:ext cx="10839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14"/>
          <p:cNvSpPr txBox="1"/>
          <p:nvPr/>
        </p:nvSpPr>
        <p:spPr>
          <a:xfrm>
            <a:off x="7520040" y="3068640"/>
            <a:ext cx="1084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9"/>
          <p:cNvGrpSpPr/>
          <p:nvPr/>
        </p:nvGrpSpPr>
        <p:grpSpPr>
          <a:xfrm>
            <a:off x="1062000" y="1328760"/>
            <a:ext cx="6043680" cy="1968480"/>
            <a:chOff x="1062000" y="1328760"/>
            <a:chExt cx="6043680" cy="1968480"/>
          </a:xfrm>
        </p:grpSpPr>
        <p:sp>
          <p:nvSpPr>
            <p:cNvPr id="247" name="WordArt 17"/>
            <p:cNvSpPr txBox="1"/>
            <p:nvPr/>
          </p:nvSpPr>
          <p:spPr>
            <a:xfrm>
              <a:off x="1062000" y="1328760"/>
              <a:ext cx="20829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8" name="WordArt 18"/>
            <p:cNvSpPr txBox="1"/>
            <p:nvPr/>
          </p:nvSpPr>
          <p:spPr>
            <a:xfrm>
              <a:off x="3287520" y="1353960"/>
              <a:ext cx="38181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49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-2268360" y="2327400"/>
            <a:ext cx="10872720" cy="2408040"/>
            <a:chOff x="-2268360" y="2327400"/>
            <a:chExt cx="10872720" cy="2408040"/>
          </a:xfrm>
        </p:grpSpPr>
        <p:sp>
          <p:nvSpPr>
            <p:cNvPr id="252" name="WordArt 4"/>
            <p:cNvSpPr txBox="1"/>
            <p:nvPr/>
          </p:nvSpPr>
          <p:spPr>
            <a:xfrm>
              <a:off x="5292720" y="2400480"/>
              <a:ext cx="792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0" y="2395440"/>
              <a:ext cx="6300720" cy="23400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WordArt 6"/>
            <p:cNvSpPr txBox="1"/>
            <p:nvPr/>
          </p:nvSpPr>
          <p:spPr>
            <a:xfrm>
              <a:off x="826920" y="2421000"/>
              <a:ext cx="4105440" cy="23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WordArt 8"/>
            <p:cNvSpPr txBox="1"/>
            <p:nvPr/>
          </p:nvSpPr>
          <p:spPr>
            <a:xfrm>
              <a:off x="6372360" y="2421000"/>
              <a:ext cx="108396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752004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7" name="WordArt 10"/>
            <p:cNvSpPr txBox="1"/>
            <p:nvPr/>
          </p:nvSpPr>
          <p:spPr>
            <a:xfrm>
              <a:off x="-2268360" y="2327400"/>
              <a:ext cx="2016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f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58" name="Group 11"/>
            <p:cNvGrpSpPr/>
            <p:nvPr/>
          </p:nvGrpSpPr>
          <p:grpSpPr>
            <a:xfrm>
              <a:off x="-2196720" y="3352680"/>
              <a:ext cx="173160" cy="1155960"/>
              <a:chOff x="-2196720" y="3352680"/>
              <a:chExt cx="173160" cy="1155960"/>
            </a:xfrm>
          </p:grpSpPr>
          <p:sp>
            <p:nvSpPr>
              <p:cNvPr id="259" name="WordArt 12"/>
              <p:cNvSpPr txBox="1"/>
              <p:nvPr/>
            </p:nvSpPr>
            <p:spPr>
              <a:xfrm rot="16200000">
                <a:off x="-2441520" y="4093920"/>
                <a:ext cx="659520" cy="16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ARR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" name="WordArt 13"/>
              <p:cNvSpPr txBox="1"/>
              <p:nvPr/>
            </p:nvSpPr>
            <p:spPr>
              <a:xfrm rot="16200000">
                <a:off x="-2184480" y="3688200"/>
                <a:ext cx="153000" cy="16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1" name="WordArt 14"/>
              <p:cNvSpPr txBox="1"/>
              <p:nvPr/>
            </p:nvSpPr>
            <p:spPr>
              <a:xfrm rot="16200000">
                <a:off x="-2263320" y="3421440"/>
                <a:ext cx="300600" cy="16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25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35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288 -0.18287 E">
                                      <p:cBhvr>
                                        <p:cTn id="337" dur="2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30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63" name="WordArt 27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WordArt 29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65" name="WordArt 18"/>
          <p:cNvSpPr txBox="1"/>
          <p:nvPr/>
        </p:nvSpPr>
        <p:spPr>
          <a:xfrm rot="16200000">
            <a:off x="807120" y="2027880"/>
            <a:ext cx="1230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6" name="WordArt 19"/>
          <p:cNvSpPr txBox="1"/>
          <p:nvPr/>
        </p:nvSpPr>
        <p:spPr>
          <a:xfrm rot="16200000">
            <a:off x="1245240" y="826200"/>
            <a:ext cx="32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7" name="WordArt 20"/>
          <p:cNvSpPr txBox="1"/>
          <p:nvPr/>
        </p:nvSpPr>
        <p:spPr>
          <a:xfrm rot="16200000">
            <a:off x="1342080" y="578520"/>
            <a:ext cx="3254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21"/>
          <p:cNvSpPr txBox="1"/>
          <p:nvPr/>
        </p:nvSpPr>
        <p:spPr>
          <a:xfrm rot="16200000">
            <a:off x="1091520" y="3301200"/>
            <a:ext cx="60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69" name="Group 22"/>
          <p:cNvGrpSpPr/>
          <p:nvPr/>
        </p:nvGrpSpPr>
        <p:grpSpPr>
          <a:xfrm>
            <a:off x="1353960" y="3881160"/>
            <a:ext cx="347760" cy="52200"/>
            <a:chOff x="1353960" y="3881160"/>
            <a:chExt cx="347760" cy="52200"/>
          </a:xfrm>
        </p:grpSpPr>
        <p:sp>
          <p:nvSpPr>
            <p:cNvPr id="270" name="WordArt 23"/>
            <p:cNvSpPr txBox="1"/>
            <p:nvPr/>
          </p:nvSpPr>
          <p:spPr>
            <a:xfrm rot="10800000">
              <a:off x="1503360" y="3882240"/>
              <a:ext cx="19836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WordArt 24"/>
            <p:cNvSpPr txBox="1"/>
            <p:nvPr/>
          </p:nvSpPr>
          <p:spPr>
            <a:xfrm rot="10800000">
              <a:off x="1457280" y="3881160"/>
              <a:ext cx="4608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WordArt 25"/>
            <p:cNvSpPr txBox="1"/>
            <p:nvPr/>
          </p:nvSpPr>
          <p:spPr>
            <a:xfrm rot="10800000">
              <a:off x="1353960" y="3884040"/>
              <a:ext cx="90360" cy="48960"/>
            </a:xfrm>
            <a:prstGeom prst="rect">
              <a:avLst/>
            </a:prstGeom>
          </p:spPr>
          <p:txBody>
            <a:bodyPr wrap="none" lIns="90000" rIns="90000" tIns="2520" bIns="2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3" name="WordArt 28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0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11111E-006 C 0.00087 -0.00671 0.00226 -0.01343 0.00417 -0.01852 C 0.01702 -0.02222 0.05105 -0.03264 0.079 -0.03333 C 0.11962 -0.02755 0.18177 -0.15394 0.24844 0.01667 C 0.31511 0.18727 0.41355 0.81458 0.479 0.99074 C 0.54445 1.1669 0.66025 1.16412 0.6415 1.07407 E">
                                      <p:cBhvr>
                                        <p:cTn id="352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736 -0.07616 C 0.01407 -0.08194 0.0125 -0.09005 0.00886 -0.09468 C 0.00591 -0.11065 0.00973 -0.09468 0.00486 -0.10579 C -0.00694 -0.07893 -0.05746 0.26088 -0.07569 0.42384 C -0.09392 0.58634 -0.09878 0.77708 -0.10486 0.86991 E">
                                      <p:cBhvr>
                                        <p:cTn id="354" dur="3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0.00225 -0.01806 0.00764 -0.02686 0.01389 -0.03519 C 0.01475 -0.03612 0.0151 -0.03866 0.01597 -0.03889 C 0.02135 -0.04005 0.0217 -0.05788 0.03385 -0.06644 C 0.046 -0.075 0.05104 -0.14306 0.08941 -0.09051 C 0.12777 -0.03797 0.22604 0.1074 0.26441 0.24837 C 0.30277 0.38935 0.31649 0.74189 0.31996 0.75578 E">
                                      <p:cBhvr>
                                        <p:cTn id="356" dur="3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58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60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2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3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6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8" dur="3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70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0">
                                      <p:cBhvr>
                                        <p:cTn id="372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1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78" name="WordArt 20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22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WordArt 17"/>
          <p:cNvSpPr txBox="1"/>
          <p:nvPr/>
        </p:nvSpPr>
        <p:spPr>
          <a:xfrm>
            <a:off x="1044720" y="1406520"/>
            <a:ext cx="633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WordArt 19"/>
          <p:cNvSpPr txBox="1"/>
          <p:nvPr/>
        </p:nvSpPr>
        <p:spPr>
          <a:xfrm>
            <a:off x="5076720" y="342252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6" name="Group 12"/>
          <p:cNvGrpSpPr/>
          <p:nvPr/>
        </p:nvGrpSpPr>
        <p:grpSpPr>
          <a:xfrm>
            <a:off x="1044720" y="1413000"/>
            <a:ext cx="7848000" cy="3744360"/>
            <a:chOff x="1044720" y="1413000"/>
            <a:chExt cx="7848000" cy="3744360"/>
          </a:xfrm>
        </p:grpSpPr>
        <p:sp>
          <p:nvSpPr>
            <p:cNvPr id="287" name="WordArt 10"/>
            <p:cNvSpPr txBox="1"/>
            <p:nvPr/>
          </p:nvSpPr>
          <p:spPr>
            <a:xfrm>
              <a:off x="1044720" y="1413000"/>
              <a:ext cx="633564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WordArt 11"/>
            <p:cNvSpPr txBox="1"/>
            <p:nvPr/>
          </p:nvSpPr>
          <p:spPr>
            <a:xfrm>
              <a:off x="5076720" y="3428640"/>
              <a:ext cx="381600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9" name="WordArt 13"/>
          <p:cNvSpPr txBox="1"/>
          <p:nvPr/>
        </p:nvSpPr>
        <p:spPr>
          <a:xfrm rot="5400000">
            <a:off x="1890360" y="305136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99" dur="600" fill="hold"/>
                                        <p:tgtEl>
                                          <p:spTgt spid="2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1" dur="6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85185E-006 L -0.35833 -0.0419 E">
                                      <p:cBhvr>
                                        <p:cTn id="403" dur="6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9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2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747720" y="1027080"/>
            <a:ext cx="1871280" cy="3922560"/>
            <a:chOff x="747720" y="1027080"/>
            <a:chExt cx="1871280" cy="3922560"/>
          </a:xfrm>
        </p:grpSpPr>
        <p:sp>
          <p:nvSpPr>
            <p:cNvPr id="293" name="WordArt 5"/>
            <p:cNvSpPr txBox="1"/>
            <p:nvPr/>
          </p:nvSpPr>
          <p:spPr>
            <a:xfrm rot="16200000">
              <a:off x="-349920" y="2880720"/>
              <a:ext cx="3166920" cy="97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4" name="WordArt 6"/>
            <p:cNvSpPr txBox="1"/>
            <p:nvPr/>
          </p:nvSpPr>
          <p:spPr>
            <a:xfrm rot="16200000">
              <a:off x="1233360" y="1548720"/>
              <a:ext cx="1907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5" name="WordArt 7"/>
          <p:cNvSpPr txBox="1"/>
          <p:nvPr/>
        </p:nvSpPr>
        <p:spPr>
          <a:xfrm>
            <a:off x="1881360" y="305928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2843280" y="1052640"/>
            <a:ext cx="244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9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747720" y="1027080"/>
            <a:ext cx="8263080" cy="4443480"/>
            <a:chOff x="747720" y="1027080"/>
            <a:chExt cx="8263080" cy="4443480"/>
          </a:xfrm>
        </p:grpSpPr>
        <p:grpSp>
          <p:nvGrpSpPr>
            <p:cNvPr id="300" name="Group 4"/>
            <p:cNvGrpSpPr/>
            <p:nvPr/>
          </p:nvGrpSpPr>
          <p:grpSpPr>
            <a:xfrm>
              <a:off x="747720" y="1027080"/>
              <a:ext cx="1871280" cy="3922560"/>
              <a:chOff x="747720" y="1027080"/>
              <a:chExt cx="1871280" cy="3922560"/>
            </a:xfrm>
          </p:grpSpPr>
          <p:sp>
            <p:nvSpPr>
              <p:cNvPr id="301" name="WordArt 5"/>
              <p:cNvSpPr txBox="1"/>
              <p:nvPr/>
            </p:nvSpPr>
            <p:spPr>
              <a:xfrm rot="16200000">
                <a:off x="-349920" y="2880720"/>
                <a:ext cx="3166920" cy="97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2" name="WordArt 6"/>
              <p:cNvSpPr txBox="1"/>
              <p:nvPr/>
            </p:nvSpPr>
            <p:spPr>
              <a:xfrm rot="16200000">
                <a:off x="1233360" y="1548720"/>
                <a:ext cx="190728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3" name="WordArt 7"/>
            <p:cNvSpPr txBox="1"/>
            <p:nvPr/>
          </p:nvSpPr>
          <p:spPr>
            <a:xfrm>
              <a:off x="1881360" y="3059280"/>
              <a:ext cx="7129440" cy="24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WordArt 9"/>
            <p:cNvSpPr txBox="1"/>
            <p:nvPr/>
          </p:nvSpPr>
          <p:spPr>
            <a:xfrm>
              <a:off x="2843280" y="1052640"/>
              <a:ext cx="244944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6" name="WordArt 12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2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7" dur="2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40365 -1.11111E-006 E">
                                      <p:cBhvr>
                                        <p:cTn id="429" dur="2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11" name="Group 5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12" name="WordArt 6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3" name="WordArt 7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4" name="WordArt 8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5" name="WordArt 9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6" name="WordArt 10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7" name="WordArt 11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8" name="WordArt 13"/>
          <p:cNvSpPr txBox="1"/>
          <p:nvPr/>
        </p:nvSpPr>
        <p:spPr>
          <a:xfrm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9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20000">
                                      <p:cBhvr>
                                        <p:cTn id="447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24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25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6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7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9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0" name="WordArt 13"/>
          <p:cNvSpPr txBox="1"/>
          <p:nvPr/>
        </p:nvSpPr>
        <p:spPr>
          <a:xfrm rot="1020000">
            <a:off x="248400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2" name="WordArt 15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80000">
                                      <p:cBhvr>
                                        <p:cTn id="46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"/>
          <p:cNvGrpSpPr/>
          <p:nvPr/>
        </p:nvGrpSpPr>
        <p:grpSpPr>
          <a:xfrm>
            <a:off x="2843280" y="2708280"/>
            <a:ext cx="2736720" cy="1573200"/>
            <a:chOff x="2843280" y="2708280"/>
            <a:chExt cx="2736720" cy="1573200"/>
          </a:xfrm>
        </p:grpSpPr>
        <p:sp>
          <p:nvSpPr>
            <p:cNvPr id="53" name="WordArt 2"/>
            <p:cNvSpPr txBox="1"/>
            <p:nvPr/>
          </p:nvSpPr>
          <p:spPr>
            <a:xfrm>
              <a:off x="2843280" y="2739960"/>
              <a:ext cx="420480" cy="14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4" name="WordArt 3"/>
            <p:cNvSpPr txBox="1"/>
            <p:nvPr/>
          </p:nvSpPr>
          <p:spPr>
            <a:xfrm>
              <a:off x="3419640" y="3244680"/>
              <a:ext cx="21603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am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WordArt 4"/>
            <p:cNvSpPr txBox="1"/>
            <p:nvPr/>
          </p:nvSpPr>
          <p:spPr>
            <a:xfrm>
              <a:off x="3419640" y="2708280"/>
              <a:ext cx="216036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standing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6" name="Group 5"/>
          <p:cNvGrpSpPr/>
          <p:nvPr/>
        </p:nvGrpSpPr>
        <p:grpSpPr>
          <a:xfrm>
            <a:off x="2843280" y="2409840"/>
            <a:ext cx="420480" cy="1655640"/>
            <a:chOff x="2843280" y="2409840"/>
            <a:chExt cx="420480" cy="1655640"/>
          </a:xfrm>
        </p:grpSpPr>
        <p:sp>
          <p:nvSpPr>
            <p:cNvPr id="57" name="WordArt 6"/>
            <p:cNvSpPr txBox="1"/>
            <p:nvPr/>
          </p:nvSpPr>
          <p:spPr>
            <a:xfrm>
              <a:off x="2843280" y="2841480"/>
              <a:ext cx="4204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7"/>
            <p:cNvSpPr txBox="1"/>
            <p:nvPr/>
          </p:nvSpPr>
          <p:spPr>
            <a:xfrm>
              <a:off x="2843280" y="2409840"/>
              <a:ext cx="4204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9" name="WordArt 8"/>
          <p:cNvSpPr txBox="1"/>
          <p:nvPr/>
        </p:nvSpPr>
        <p:spPr>
          <a:xfrm>
            <a:off x="3346560" y="2913120"/>
            <a:ext cx="1441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n</a:t>
            </a:r>
            <a:endParaRPr b="1" lang="en-US" sz="6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4859280" y="3735360"/>
            <a:ext cx="720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the</a:t>
            </a:r>
            <a:endParaRPr b="1" lang="en-US" sz="14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7.72612E-007 L 2.77778E-007 0.21004 E">
                                      <p:cBhvr>
                                        <p:cTn id="42" dur="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0" nodeType="afterEffect" fill="hold" presetClass="entr" presetID="19" presetSubtype="10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7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38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39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0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1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2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3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" name="WordArt 12"/>
          <p:cNvSpPr txBox="1"/>
          <p:nvPr/>
        </p:nvSpPr>
        <p:spPr>
          <a:xfrm rot="540000"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5" name="WordArt 14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WordArt 15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7" name="WordArt 16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7"/>
          <p:cNvSpPr txBox="1"/>
          <p:nvPr/>
        </p:nvSpPr>
        <p:spPr>
          <a:xfrm rot="240000">
            <a:off x="2556000" y="203040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xit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-0.00949 C 0.00035 -0.01528 0.00348 -0.01945 0.00973 -0.02292 C 0.01736 -0.03241 0.00747 -0.0213 0.01632 -0.02732 C 0.01771 -0.02801 0.01771 -0.02963 0.01875 -0.03079 C 0.02032 -0.03171 0.02205 -0.0331 0.02396 -0.03403 C 0.03021 -0.0375 0.03716 -0.03889 0.04323 -0.0419 C 0.04723 -0.04375 0.05209 -0.04722 0.05608 -0.04931 C 0.06945 -0.04931 0.08282 -0.04931 0.09601 -0.04861 C 0.10052 -0.04815 0.10886 -0.04607 0.10886 -0.04583 C 0.11736 -0.04144 0.12813 -0.03912 0.13733 -0.03519 C 0.1408 -0.03357 0.14358 -0.03102 0.1474 -0.0294 C 0.14983 -0.02847 0.15521 -0.02732 0.15521 -0.02708 C 0.16077 -0.02246 0.1691 -0.01898 0.1717 -0.01181 C 0.17275 -0.00949 0.17448 -0.00533 0.17448 -0.00509 C 0.175 -0.00255 0.17153 0.02778 0.17466 0.02847 C 0.17761 0.02893 0.1783 -0.00255 0.18073 -0.00394 C 0.18229 -0.00463 0.18334 -0.00556 0.18473 -0.00625 C 0.18716 -0.00926 0.19497 -0.01528 0.19879 -0.01736 C 0.20209 -0.01921 0.2092 -0.02176 0.2092 -0.02153 C 0.24427 -0.02107 0.26268 -0.02107 0.29271 -0.01736 C 0.29497 -0.01667 0.29705 -0.01574 0.29914 -0.01528 C 0.30174 -0.01412 0.30434 -0.01366 0.30695 -0.01296 C 0.31129 -0.01134 0.31997 -0.00857 0.31997 -0.00833 C 0.32604 -0.00301 0.33108 -0.00463 0.33785 -0.0007 C 0.34306 0.00254 0.35087 0.00879 0.35712 0.01065 C 0.36407 0.01667 0.37414 0.02222 0.38264 0.02708 C 0.38629 0.03287 0.39098 0.03657 0.39566 0.04167 C 0.40226 0.04884 0.39462 0.02824 0.39948 0.03634 C 0.40104 0.03866 0.39844 0.03796 0.40087 0.03958 C 0.40521 0.0419 0.41146 0.04815 0.41146 0.05092 E">
                                      <p:cBhvr>
                                        <p:cTn id="479" dur="2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">
                                      <p:cBhvr>
                                        <p:cTn id="481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540000">
                                      <p:cBhvr>
                                        <p:cTn id="483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">
                                      <p:cBhvr>
                                        <p:cTn id="485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52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53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54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5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56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7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58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59" name="Group 21"/>
          <p:cNvGrpSpPr/>
          <p:nvPr/>
        </p:nvGrpSpPr>
        <p:grpSpPr>
          <a:xfrm>
            <a:off x="2444400" y="1931760"/>
            <a:ext cx="6273360" cy="2966040"/>
            <a:chOff x="2444400" y="1931760"/>
            <a:chExt cx="6273360" cy="2966040"/>
          </a:xfrm>
        </p:grpSpPr>
        <p:sp>
          <p:nvSpPr>
            <p:cNvPr id="360" name="WordArt 12"/>
            <p:cNvSpPr txBox="1"/>
            <p:nvPr/>
          </p:nvSpPr>
          <p:spPr>
            <a:xfrm rot="240000">
              <a:off x="2484360" y="331308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WordArt 13"/>
            <p:cNvSpPr txBox="1"/>
            <p:nvPr/>
          </p:nvSpPr>
          <p:spPr>
            <a:xfrm rot="240000">
              <a:off x="6587640" y="2163240"/>
              <a:ext cx="193212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2" name="WordArt 16"/>
            <p:cNvSpPr txBox="1"/>
            <p:nvPr/>
          </p:nvSpPr>
          <p:spPr>
            <a:xfrm rot="240000">
              <a:off x="2556000" y="2060640"/>
              <a:ext cx="374328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AL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3" name="WordArt 17"/>
          <p:cNvSpPr txBox="1"/>
          <p:nvPr/>
        </p:nvSpPr>
        <p:spPr>
          <a:xfrm rot="60000">
            <a:off x="255564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4" name="WordArt 19"/>
          <p:cNvSpPr txBox="1"/>
          <p:nvPr/>
        </p:nvSpPr>
        <p:spPr>
          <a:xfrm>
            <a:off x="2411280" y="458136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5" name="WordArt 22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">
                                      <p:cBhvr>
                                        <p:cTn id="503" dur="1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9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70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71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2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3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4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WordArt 12"/>
          <p:cNvSpPr txBox="1"/>
          <p:nvPr/>
        </p:nvSpPr>
        <p:spPr>
          <a:xfrm rot="60000">
            <a:off x="248436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7" name="WordArt 13"/>
          <p:cNvSpPr txBox="1"/>
          <p:nvPr/>
        </p:nvSpPr>
        <p:spPr>
          <a:xfrm rot="60000">
            <a:off x="6588000" y="2133360"/>
            <a:ext cx="193212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15"/>
          <p:cNvSpPr txBox="1"/>
          <p:nvPr/>
        </p:nvSpPr>
        <p:spPr>
          <a:xfrm rot="60000">
            <a:off x="2555640" y="210996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WordArt 17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0" name="WordArt 19"/>
          <p:cNvSpPr txBox="1"/>
          <p:nvPr/>
        </p:nvSpPr>
        <p:spPr>
          <a:xfrm>
            <a:off x="255600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20"/>
          <p:cNvSpPr txBox="1"/>
          <p:nvPr/>
        </p:nvSpPr>
        <p:spPr>
          <a:xfrm>
            <a:off x="2554200" y="1154160"/>
            <a:ext cx="35290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104 -0.00856 0.00208 -0.01181 0.00694 -0.01667 C 0.01163 -0.02685 0.01996 -0.03264 0.02673 -0.03889 C 0.02777 -0.03958 0.03368 -0.04722 0.03541 -0.04815 C 0.03906 -0.05046 0.0434 -0.05046 0.04652 -0.0537 C 0.0533 -0.06042 0.06093 -0.06528 0.06892 -0.06852 C 0.08576 -0.06782 0.1026 -0.06829 0.11944 -0.06667 C 0.13889 -0.06481 0.15399 -0.04583 0.17135 -0.03704 C 0.17586 -0.03194 0.18489 -0.02176 0.18993 -0.01852 C 0.19218 -0.0169 0.19722 -0.01481 0.19722 -0.01458 C 0.19913 -0.0162 0.20416 -0.01968 0.2059 -0.02222 C 0.21267 -0.03241 0.20607 -0.02801 0.21336 -0.03148 C 0.21927 -0.04329 0.22656 -0.04838 0.23559 -0.0537 C 0.24791 -0.05301 0.26041 -0.05278 0.27257 -0.05185 C 0.28402 -0.05093 0.29514 -0.04421 0.3059 -0.03889 C 0.31753 -0.0331 0.33038 -0.03056 0.34166 -0.02407 C 0.34739 -0.02083 0.35243 -0.01643 0.35781 -0.01296 C 0.36007 -0.01134 0.36302 -0.01134 0.3651 -0.00926 C 0.36805 -0.00648 0.37448 -3.7037E-007 0.37795 -3.7037E-007 E">
                                      <p:cBhvr>
                                        <p:cTn id="509" dur="1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5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7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9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5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86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87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88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89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1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WordArt 15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93" name="Group 20"/>
          <p:cNvGrpSpPr/>
          <p:nvPr/>
        </p:nvGrpSpPr>
        <p:grpSpPr>
          <a:xfrm>
            <a:off x="2484360" y="1125360"/>
            <a:ext cx="6264360" cy="3527640"/>
            <a:chOff x="2484360" y="1125360"/>
            <a:chExt cx="6264360" cy="3527640"/>
          </a:xfrm>
        </p:grpSpPr>
        <p:sp>
          <p:nvSpPr>
            <p:cNvPr id="394" name="WordArt 12"/>
            <p:cNvSpPr txBox="1"/>
            <p:nvPr/>
          </p:nvSpPr>
          <p:spPr>
            <a:xfrm>
              <a:off x="2484360" y="328284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95" name="Group 19"/>
            <p:cNvGrpSpPr/>
            <p:nvPr/>
          </p:nvGrpSpPr>
          <p:grpSpPr>
            <a:xfrm>
              <a:off x="2556000" y="1125360"/>
              <a:ext cx="6192720" cy="2256120"/>
              <a:chOff x="2556000" y="1125360"/>
              <a:chExt cx="6192720" cy="2256120"/>
            </a:xfrm>
          </p:grpSpPr>
          <p:sp>
            <p:nvSpPr>
              <p:cNvPr id="396" name="WordArt 13"/>
              <p:cNvSpPr txBox="1"/>
              <p:nvPr/>
            </p:nvSpPr>
            <p:spPr>
              <a:xfrm>
                <a:off x="6588000" y="2133720"/>
                <a:ext cx="193212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B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7" name="WordArt 14"/>
              <p:cNvSpPr txBox="1"/>
              <p:nvPr/>
            </p:nvSpPr>
            <p:spPr>
              <a:xfrm>
                <a:off x="2556000" y="2109960"/>
                <a:ext cx="374328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TAL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8" name="WordArt 16"/>
              <p:cNvSpPr txBox="1"/>
              <p:nvPr/>
            </p:nvSpPr>
            <p:spPr>
              <a:xfrm>
                <a:off x="6012000" y="1125360"/>
                <a:ext cx="2736720" cy="98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GU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9" name="WordArt 17"/>
              <p:cNvSpPr txBox="1"/>
              <p:nvPr/>
            </p:nvSpPr>
            <p:spPr>
              <a:xfrm>
                <a:off x="2556000" y="1138320"/>
                <a:ext cx="3528720" cy="98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E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00" name="WordArt 18"/>
          <p:cNvSpPr txBox="1"/>
          <p:nvPr/>
        </p:nvSpPr>
        <p:spPr>
          <a:xfrm>
            <a:off x="2556000" y="90792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DSO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3.88889E-006 0.11018 E">
                                      <p:cBhvr>
                                        <p:cTn id="532" dur="1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4"/>
          <p:cNvGrpSpPr/>
          <p:nvPr/>
        </p:nvGrpSpPr>
        <p:grpSpPr>
          <a:xfrm>
            <a:off x="108000" y="836640"/>
            <a:ext cx="8640720" cy="4570560"/>
            <a:chOff x="108000" y="836640"/>
            <a:chExt cx="8640720" cy="4570560"/>
          </a:xfrm>
        </p:grpSpPr>
        <p:sp>
          <p:nvSpPr>
            <p:cNvPr id="402" name="Rectangle 4"/>
            <p:cNvSpPr/>
            <p:nvPr/>
          </p:nvSpPr>
          <p:spPr>
            <a:xfrm>
              <a:off x="108000" y="836640"/>
              <a:ext cx="2268360" cy="45370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108000" y="1125360"/>
              <a:ext cx="2220840" cy="4132440"/>
              <a:chOff x="108000" y="1125360"/>
              <a:chExt cx="2220840" cy="413244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67920" y="1125360"/>
                <a:ext cx="1960920" cy="936000"/>
                <a:chOff x="367920" y="1125360"/>
                <a:chExt cx="1960920" cy="936000"/>
              </a:xfrm>
            </p:grpSpPr>
            <p:sp>
              <p:nvSpPr>
                <p:cNvPr id="405" name="WordArt 7"/>
                <p:cNvSpPr txBox="1"/>
                <p:nvPr/>
              </p:nvSpPr>
              <p:spPr>
                <a:xfrm>
                  <a:off x="367920" y="1125360"/>
                  <a:ext cx="1582560" cy="48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on't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06" name="WordArt 8"/>
                <p:cNvSpPr txBox="1"/>
                <p:nvPr/>
              </p:nvSpPr>
              <p:spPr>
                <a:xfrm>
                  <a:off x="1375560" y="1629360"/>
                  <a:ext cx="953280" cy="43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You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07" name="WordArt 9"/>
              <p:cNvSpPr txBox="1"/>
              <p:nvPr/>
            </p:nvSpPr>
            <p:spPr>
              <a:xfrm rot="5400000">
                <a:off x="-1072080" y="2872440"/>
                <a:ext cx="3565440" cy="12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ar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8" name="WordArt 10"/>
              <p:cNvSpPr txBox="1"/>
              <p:nvPr/>
            </p:nvSpPr>
            <p:spPr>
              <a:xfrm rot="5400000">
                <a:off x="1271160" y="2353680"/>
                <a:ext cx="122472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09" name="WordArt 11"/>
            <p:cNvSpPr txBox="1"/>
            <p:nvPr/>
          </p:nvSpPr>
          <p:spPr>
            <a:xfrm>
              <a:off x="1620720" y="3500280"/>
              <a:ext cx="503280" cy="187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0" name="Group 22"/>
            <p:cNvGrpSpPr/>
            <p:nvPr/>
          </p:nvGrpSpPr>
          <p:grpSpPr>
            <a:xfrm>
              <a:off x="2484360" y="907920"/>
              <a:ext cx="6264360" cy="4499280"/>
              <a:chOff x="2484360" y="907920"/>
              <a:chExt cx="6264360" cy="4499280"/>
            </a:xfrm>
          </p:grpSpPr>
          <p:grpSp>
            <p:nvGrpSpPr>
              <p:cNvPr id="411" name="Group 13"/>
              <p:cNvGrpSpPr/>
              <p:nvPr/>
            </p:nvGrpSpPr>
            <p:grpSpPr>
              <a:xfrm>
                <a:off x="2484360" y="1879560"/>
                <a:ext cx="6264360" cy="3527640"/>
                <a:chOff x="2484360" y="1879560"/>
                <a:chExt cx="6264360" cy="3527640"/>
              </a:xfrm>
            </p:grpSpPr>
            <p:sp>
              <p:nvSpPr>
                <p:cNvPr id="412" name="WordArt 14"/>
                <p:cNvSpPr txBox="1"/>
                <p:nvPr/>
              </p:nvSpPr>
              <p:spPr>
                <a:xfrm>
                  <a:off x="2484360" y="4037040"/>
                  <a:ext cx="6193080" cy="1370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ULD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413" name="Group 15"/>
                <p:cNvGrpSpPr/>
                <p:nvPr/>
              </p:nvGrpSpPr>
              <p:grpSpPr>
                <a:xfrm>
                  <a:off x="2556000" y="1879560"/>
                  <a:ext cx="6192720" cy="2256120"/>
                  <a:chOff x="2556000" y="1879560"/>
                  <a:chExt cx="6192720" cy="2256120"/>
                </a:xfrm>
              </p:grpSpPr>
              <p:sp>
                <p:nvSpPr>
                  <p:cNvPr id="414" name="WordArt 16"/>
                  <p:cNvSpPr txBox="1"/>
                  <p:nvPr/>
                </p:nvSpPr>
                <p:spPr>
                  <a:xfrm>
                    <a:off x="6588000" y="2887920"/>
                    <a:ext cx="193212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BE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5" name="WordArt 17"/>
                  <p:cNvSpPr txBox="1"/>
                  <p:nvPr/>
                </p:nvSpPr>
                <p:spPr>
                  <a:xfrm>
                    <a:off x="2556000" y="2864160"/>
                    <a:ext cx="374328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TALL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6" name="WordArt 18"/>
                  <p:cNvSpPr txBox="1"/>
                  <p:nvPr/>
                </p:nvSpPr>
                <p:spPr>
                  <a:xfrm>
                    <a:off x="6012000" y="1879560"/>
                    <a:ext cx="2736720" cy="986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GU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7" name="WordArt 19"/>
                  <p:cNvSpPr txBox="1"/>
                  <p:nvPr/>
                </p:nvSpPr>
                <p:spPr>
                  <a:xfrm>
                    <a:off x="2556000" y="1892520"/>
                    <a:ext cx="3528720" cy="985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ER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418" name="WordArt 20"/>
              <p:cNvSpPr txBox="1"/>
              <p:nvPr/>
            </p:nvSpPr>
            <p:spPr>
              <a:xfrm>
                <a:off x="2556000" y="907920"/>
                <a:ext cx="6192720" cy="10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HANDSO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19" name="Group 25"/>
          <p:cNvGrpSpPr/>
          <p:nvPr/>
        </p:nvGrpSpPr>
        <p:grpSpPr>
          <a:xfrm>
            <a:off x="179280" y="3068640"/>
            <a:ext cx="8323200" cy="2808360"/>
            <a:chOff x="179280" y="3068640"/>
            <a:chExt cx="8323200" cy="2808360"/>
          </a:xfrm>
        </p:grpSpPr>
        <p:sp>
          <p:nvSpPr>
            <p:cNvPr id="420" name="WordArt 26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1" name="WordArt 27"/>
            <p:cNvSpPr txBox="1"/>
            <p:nvPr/>
          </p:nvSpPr>
          <p:spPr>
            <a:xfrm>
              <a:off x="4826160" y="4005360"/>
              <a:ext cx="16174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2" name="WordArt 28"/>
            <p:cNvSpPr txBox="1"/>
            <p:nvPr/>
          </p:nvSpPr>
          <p:spPr>
            <a:xfrm>
              <a:off x="7367760" y="3357720"/>
              <a:ext cx="1134720" cy="24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t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23" name="Group 29"/>
            <p:cNvGrpSpPr/>
            <p:nvPr/>
          </p:nvGrpSpPr>
          <p:grpSpPr>
            <a:xfrm>
              <a:off x="6659640" y="3068640"/>
              <a:ext cx="576360" cy="1080720"/>
              <a:chOff x="6659640" y="3068640"/>
              <a:chExt cx="576360" cy="108072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6659640" y="3531240"/>
                <a:ext cx="576360" cy="618120"/>
              </a:xfrm>
              <a:custGeom>
                <a:avLst/>
                <a:gdLst>
                  <a:gd name="textAreaLeft" fmla="*/ 82440 w 576360"/>
                  <a:gd name="textAreaRight" fmla="*/ 493920 w 576360"/>
                  <a:gd name="textAreaTop" fmla="*/ 88560 h 618120"/>
                  <a:gd name="textAreaBottom" fmla="*/ 529560 h 61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559" y="21600"/>
                    </a:lnTo>
                    <a:lnTo>
                      <a:pt x="1904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5" name="Rectangle 31"/>
              <p:cNvSpPr/>
              <p:nvPr/>
            </p:nvSpPr>
            <p:spPr>
              <a:xfrm>
                <a:off x="6659640" y="3068640"/>
                <a:ext cx="576360" cy="4626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26" name="WordArt 32"/>
            <p:cNvSpPr txBox="1"/>
            <p:nvPr/>
          </p:nvSpPr>
          <p:spPr>
            <a:xfrm>
              <a:off x="17928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W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2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9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0" name="WordArt 31"/>
          <p:cNvSpPr txBox="1"/>
          <p:nvPr/>
        </p:nvSpPr>
        <p:spPr>
          <a:xfrm>
            <a:off x="4826160" y="4076640"/>
            <a:ext cx="1761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1" name="WordArt 33"/>
          <p:cNvSpPr txBox="1"/>
          <p:nvPr/>
        </p:nvSpPr>
        <p:spPr>
          <a:xfrm>
            <a:off x="7367760" y="3357720"/>
            <a:ext cx="1134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t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9640" y="3068640"/>
            <a:ext cx="576360" cy="1080720"/>
            <a:chOff x="6659640" y="3068640"/>
            <a:chExt cx="576360" cy="1080720"/>
          </a:xfrm>
        </p:grpSpPr>
        <p:sp>
          <p:nvSpPr>
            <p:cNvPr id="433" name="AutoShape 32"/>
            <p:cNvSpPr/>
            <p:nvPr/>
          </p:nvSpPr>
          <p:spPr>
            <a:xfrm>
              <a:off x="6659640" y="3531240"/>
              <a:ext cx="576360" cy="618120"/>
            </a:xfrm>
            <a:custGeom>
              <a:avLst/>
              <a:gdLst>
                <a:gd name="textAreaLeft" fmla="*/ 82440 w 576360"/>
                <a:gd name="textAreaRight" fmla="*/ 493920 w 576360"/>
                <a:gd name="textAreaTop" fmla="*/ 88560 h 618120"/>
                <a:gd name="textAreaBottom" fmla="*/ 529560 h 61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9" y="21600"/>
                  </a:lnTo>
                  <a:lnTo>
                    <a:pt x="190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Rectangle 34"/>
            <p:cNvSpPr/>
            <p:nvPr/>
          </p:nvSpPr>
          <p:spPr>
            <a:xfrm>
              <a:off x="6659640" y="3068640"/>
              <a:ext cx="576360" cy="4626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35" name="WordArt 36"/>
          <p:cNvSpPr txBox="1"/>
          <p:nvPr/>
        </p:nvSpPr>
        <p:spPr>
          <a:xfrm>
            <a:off x="17928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W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6" name="WordArt 46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L 0.04721 0.03634 E">
                                      <p:cBhvr>
                                        <p:cTn id="559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61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C -0.00295 -0.01158 -0.00747 -0.02037 -0.01111 -0.03149 C -0.01945 -0.05672 -0.03021 -0.08079 -0.04167 -0.10371 C -0.04775 -0.09167 -0.03872 -0.05996 -0.0375 -0.04445 C -0.0342 -0.00116 -0.02952 0.04051 -0.02361 0.08333 C -0.02049 0.10555 -0.01875 0.13148 -0.01111 0.15185 C -0.01007 0.16574 -0.0099 0.17338 -0.00556 0.18518 C -0.00313 0.20092 -0.00382 0.22013 0.00277 0.23333 C 0.00468 0.24838 0.00503 0.26527 0.00833 0.27963 C 0.00885 0.28217 0.01041 0.28449 0.01111 0.28703 C 0.0118 0.28935 0.01198 0.29189 0.0125 0.29444 C 0.01302 0.3 0.01302 0.30555 0.01389 0.31111 C 0.01527 0.3199 0.01944 0.32662 0.02083 0.33518 C 0.02257 0.34537 0.02239 0.35463 0.025 0.36481 C 0.02777 0.37615 0.03333 0.39166 0.03333 0.4037 E">
                                      <p:cBhvr>
                                        <p:cTn id="563" dur="3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6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C 0.01962 -0.03009 0.03924 -0.06019 0.07083 -0.06667 C 0.10243 -0.07315 0.16024 -0.14676 0.19028 -0.03889 C 0.22031 0.06898 0.2382 0.48079 0.25139 0.58148 E">
                                      <p:cBhvr>
                                        <p:cTn id="567" dur="6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4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0" name="WordArt 5"/>
          <p:cNvSpPr txBox="1"/>
          <p:nvPr/>
        </p:nvSpPr>
        <p:spPr>
          <a:xfrm rot="10800000">
            <a:off x="4825800" y="4076280"/>
            <a:ext cx="18334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1" name="WordArt 11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2" name="WordArt 16"/>
          <p:cNvSpPr txBox="1"/>
          <p:nvPr/>
        </p:nvSpPr>
        <p:spPr>
          <a:xfrm>
            <a:off x="3348000" y="3357720"/>
            <a:ext cx="33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3" name="WordArt 17"/>
          <p:cNvSpPr txBox="1"/>
          <p:nvPr/>
        </p:nvSpPr>
        <p:spPr>
          <a:xfrm>
            <a:off x="4284720" y="335772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4" name="WordArt 18"/>
          <p:cNvSpPr txBox="1"/>
          <p:nvPr/>
        </p:nvSpPr>
        <p:spPr>
          <a:xfrm>
            <a:off x="5148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5" name="WordArt 19"/>
          <p:cNvSpPr txBox="1"/>
          <p:nvPr/>
        </p:nvSpPr>
        <p:spPr>
          <a:xfrm>
            <a:off x="565308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6" name="WordArt 20"/>
          <p:cNvSpPr txBox="1"/>
          <p:nvPr/>
        </p:nvSpPr>
        <p:spPr>
          <a:xfrm>
            <a:off x="6156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4.44444E-006 L -0.13385 4.44444E-006 E">
                                      <p:cBhvr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autoRev="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400000">
                                      <p:cBhvr>
                                        <p:cTn id="585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400000">
                                      <p:cBhvr>
                                        <p:cTn id="591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autoRev="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2400000">
                                      <p:cBhvr>
                                        <p:cTn id="597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0">
                                      <p:cBhvr>
                                        <p:cTn id="603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2"/>
          <p:cNvGrpSpPr/>
          <p:nvPr/>
        </p:nvGrpSpPr>
        <p:grpSpPr>
          <a:xfrm>
            <a:off x="466560" y="3357720"/>
            <a:ext cx="6192720" cy="2519280"/>
            <a:chOff x="466560" y="3357720"/>
            <a:chExt cx="6192720" cy="2519280"/>
          </a:xfrm>
        </p:grpSpPr>
        <p:sp>
          <p:nvSpPr>
            <p:cNvPr id="450" name="WordArt 4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1" name="WordArt 5"/>
            <p:cNvSpPr txBox="1"/>
            <p:nvPr/>
          </p:nvSpPr>
          <p:spPr>
            <a:xfrm rot="10800000">
              <a:off x="4825800" y="4076280"/>
              <a:ext cx="183348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2" name="WordArt 6"/>
            <p:cNvSpPr txBox="1"/>
            <p:nvPr/>
          </p:nvSpPr>
          <p:spPr>
            <a:xfrm>
              <a:off x="46656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WordArt 7"/>
            <p:cNvSpPr txBox="1"/>
            <p:nvPr/>
          </p:nvSpPr>
          <p:spPr>
            <a:xfrm>
              <a:off x="3348000" y="3357720"/>
              <a:ext cx="8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WordArt 8"/>
            <p:cNvSpPr txBox="1"/>
            <p:nvPr/>
          </p:nvSpPr>
          <p:spPr>
            <a:xfrm>
              <a:off x="4284720" y="3357720"/>
              <a:ext cx="718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a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5" name="WordArt 9"/>
            <p:cNvSpPr txBox="1"/>
            <p:nvPr/>
          </p:nvSpPr>
          <p:spPr>
            <a:xfrm>
              <a:off x="5148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WordArt 10"/>
            <p:cNvSpPr txBox="1"/>
            <p:nvPr/>
          </p:nvSpPr>
          <p:spPr>
            <a:xfrm>
              <a:off x="565308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WordArt 11"/>
            <p:cNvSpPr txBox="1"/>
            <p:nvPr/>
          </p:nvSpPr>
          <p:spPr>
            <a:xfrm>
              <a:off x="6156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58" name="WordArt 13"/>
          <p:cNvSpPr txBox="1"/>
          <p:nvPr/>
        </p:nvSpPr>
        <p:spPr>
          <a:xfrm>
            <a:off x="2700360" y="1484280"/>
            <a:ext cx="54007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9" dur="3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17309 -0.20463 E">
                                      <p:cBhvr>
                                        <p:cTn id="611" dur="3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300" fill="hold"/>
                                        <p:tgtEl>
                                          <p:spTgt spid="449"/>
                                        </p:tgtEl>
                                      </p:cBhvr>
                                      <p:to x="55000" y="5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3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1258920" y="1484280"/>
            <a:ext cx="6842160" cy="4681440"/>
            <a:chOff x="1258920" y="1484280"/>
            <a:chExt cx="6842160" cy="4681440"/>
          </a:xfrm>
        </p:grpSpPr>
        <p:grpSp>
          <p:nvGrpSpPr>
            <p:cNvPr id="462" name="Group 15"/>
            <p:cNvGrpSpPr/>
            <p:nvPr/>
          </p:nvGrpSpPr>
          <p:grpSpPr>
            <a:xfrm>
              <a:off x="1267200" y="1484280"/>
              <a:ext cx="6833880" cy="3444840"/>
              <a:chOff x="1267200" y="1484280"/>
              <a:chExt cx="6833880" cy="3444840"/>
            </a:xfrm>
          </p:grpSpPr>
          <p:grpSp>
            <p:nvGrpSpPr>
              <p:cNvPr id="463" name="Group 2"/>
              <p:cNvGrpSpPr/>
              <p:nvPr/>
            </p:nvGrpSpPr>
            <p:grpSpPr>
              <a:xfrm>
                <a:off x="1267200" y="1523880"/>
                <a:ext cx="1385640" cy="3404880"/>
                <a:chOff x="1267200" y="1523880"/>
                <a:chExt cx="1385640" cy="3404880"/>
              </a:xfrm>
            </p:grpSpPr>
            <p:sp>
              <p:nvSpPr>
                <p:cNvPr id="464" name="WordArt 3"/>
                <p:cNvSpPr txBox="1"/>
                <p:nvPr/>
              </p:nvSpPr>
              <p:spPr>
                <a:xfrm rot="5400000">
                  <a:off x="1287000" y="2849760"/>
                  <a:ext cx="9504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o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5" name="WordArt 4"/>
                <p:cNvSpPr txBox="1"/>
                <p:nvPr/>
              </p:nvSpPr>
              <p:spPr>
                <a:xfrm rot="16200000">
                  <a:off x="1258560" y="3929400"/>
                  <a:ext cx="10080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n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6" name="WordArt 5"/>
                <p:cNvSpPr txBox="1"/>
                <p:nvPr/>
              </p:nvSpPr>
              <p:spPr>
                <a:xfrm rot="5400000">
                  <a:off x="1230480" y="1606320"/>
                  <a:ext cx="1504800" cy="1339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7" name="WordArt 6"/>
                <p:cNvSpPr txBox="1"/>
                <p:nvPr/>
              </p:nvSpPr>
              <p:spPr>
                <a:xfrm rot="5400000">
                  <a:off x="2247480" y="3157560"/>
                  <a:ext cx="4546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m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8" name="WordArt 7"/>
                <p:cNvSpPr txBox="1"/>
                <p:nvPr/>
              </p:nvSpPr>
              <p:spPr>
                <a:xfrm rot="5400000">
                  <a:off x="2277000" y="3642480"/>
                  <a:ext cx="3952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a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9" name="WordArt 8"/>
                <p:cNvSpPr txBox="1"/>
                <p:nvPr/>
              </p:nvSpPr>
              <p:spPr>
                <a:xfrm rot="5400000">
                  <a:off x="2356200" y="403884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0" name="WordArt 9"/>
                <p:cNvSpPr txBox="1"/>
                <p:nvPr/>
              </p:nvSpPr>
              <p:spPr>
                <a:xfrm rot="5400000">
                  <a:off x="2356200" y="431640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1" name="WordArt 10"/>
                <p:cNvSpPr txBox="1"/>
                <p:nvPr/>
              </p:nvSpPr>
              <p:spPr>
                <a:xfrm rot="5400000">
                  <a:off x="2356200" y="459288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72" name="WordArt 13"/>
              <p:cNvSpPr txBox="1"/>
              <p:nvPr/>
            </p:nvSpPr>
            <p:spPr>
              <a:xfrm>
                <a:off x="2700360" y="1484280"/>
                <a:ext cx="5400720" cy="344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73" name="Rectangle 14"/>
            <p:cNvSpPr/>
            <p:nvPr/>
          </p:nvSpPr>
          <p:spPr>
            <a:xfrm rot="5400000">
              <a:off x="4176000" y="2240280"/>
              <a:ext cx="1008000" cy="684216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4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22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300" fill="hold"/>
                                        <p:tgtEl>
                                          <p:spTgt spid="46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31112 -0.15208 E">
                                      <p:cBhvr>
                                        <p:cTn id="626" dur="3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900000" y="1413360"/>
            <a:ext cx="1378080" cy="2734920"/>
            <a:chOff x="900000" y="1413360"/>
            <a:chExt cx="1378080" cy="2734920"/>
          </a:xfrm>
        </p:grpSpPr>
        <p:grpSp>
          <p:nvGrpSpPr>
            <p:cNvPr id="477" name="Group 4"/>
            <p:cNvGrpSpPr/>
            <p:nvPr/>
          </p:nvGrpSpPr>
          <p:grpSpPr>
            <a:xfrm>
              <a:off x="915840" y="3593880"/>
              <a:ext cx="1362240" cy="554400"/>
              <a:chOff x="915840" y="3593880"/>
              <a:chExt cx="1362240" cy="554400"/>
            </a:xfrm>
          </p:grpSpPr>
          <p:sp>
            <p:nvSpPr>
              <p:cNvPr id="478" name="WordArt 5"/>
              <p:cNvSpPr txBox="1"/>
              <p:nvPr/>
            </p:nvSpPr>
            <p:spPr>
              <a:xfrm>
                <a:off x="1454400" y="3751920"/>
                <a:ext cx="38016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o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9" name="WordArt 6"/>
              <p:cNvSpPr txBox="1"/>
              <p:nvPr/>
            </p:nvSpPr>
            <p:spPr>
              <a:xfrm rot="10800000">
                <a:off x="1874880" y="3751560"/>
                <a:ext cx="40320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n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0" name="WordArt 7"/>
              <p:cNvSpPr txBox="1"/>
              <p:nvPr/>
            </p:nvSpPr>
            <p:spPr>
              <a:xfrm>
                <a:off x="915840" y="3593880"/>
                <a:ext cx="60192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1" name="WordArt 8"/>
              <p:cNvSpPr txBox="1"/>
              <p:nvPr/>
            </p:nvSpPr>
            <p:spPr>
              <a:xfrm>
                <a:off x="1549440" y="3593880"/>
                <a:ext cx="1818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2" name="WordArt 9"/>
              <p:cNvSpPr txBox="1"/>
              <p:nvPr/>
            </p:nvSpPr>
            <p:spPr>
              <a:xfrm>
                <a:off x="1755720" y="3593880"/>
                <a:ext cx="158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3" name="WordArt 10"/>
              <p:cNvSpPr txBox="1"/>
              <p:nvPr/>
            </p:nvSpPr>
            <p:spPr>
              <a:xfrm>
                <a:off x="194580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11"/>
              <p:cNvSpPr txBox="1"/>
              <p:nvPr/>
            </p:nvSpPr>
            <p:spPr>
              <a:xfrm>
                <a:off x="205668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12"/>
              <p:cNvSpPr txBox="1"/>
              <p:nvPr/>
            </p:nvSpPr>
            <p:spPr>
              <a:xfrm>
                <a:off x="216756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6" name="WordArt 13"/>
            <p:cNvSpPr txBox="1"/>
            <p:nvPr/>
          </p:nvSpPr>
          <p:spPr>
            <a:xfrm rot="16200000">
              <a:off x="508320" y="1805040"/>
              <a:ext cx="216144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WordArt 17"/>
          <p:cNvSpPr txBox="1"/>
          <p:nvPr/>
        </p:nvSpPr>
        <p:spPr>
          <a:xfrm>
            <a:off x="284328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89" name="WordArt 18"/>
          <p:cNvSpPr txBox="1"/>
          <p:nvPr/>
        </p:nvSpPr>
        <p:spPr>
          <a:xfrm>
            <a:off x="68436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0" name="WordArt 19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7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3"/>
          <p:cNvGrpSpPr/>
          <p:nvPr/>
        </p:nvGrpSpPr>
        <p:grpSpPr>
          <a:xfrm>
            <a:off x="2843280" y="2409840"/>
            <a:ext cx="2736720" cy="3301920"/>
            <a:chOff x="2843280" y="2409840"/>
            <a:chExt cx="2736720" cy="3301920"/>
          </a:xfrm>
        </p:grpSpPr>
        <p:grpSp>
          <p:nvGrpSpPr>
            <p:cNvPr id="64" name="Group 2"/>
            <p:cNvGrpSpPr/>
            <p:nvPr/>
          </p:nvGrpSpPr>
          <p:grpSpPr>
            <a:xfrm>
              <a:off x="2843280" y="4138560"/>
              <a:ext cx="2736720" cy="1573200"/>
              <a:chOff x="2843280" y="4138560"/>
              <a:chExt cx="2736720" cy="1573200"/>
            </a:xfrm>
          </p:grpSpPr>
          <p:sp>
            <p:nvSpPr>
              <p:cNvPr id="65" name="WordArt 3"/>
              <p:cNvSpPr txBox="1"/>
              <p:nvPr/>
            </p:nvSpPr>
            <p:spPr>
              <a:xfrm>
                <a:off x="2843280" y="4170240"/>
                <a:ext cx="420480" cy="14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6" name="WordArt 4"/>
              <p:cNvSpPr txBox="1"/>
              <p:nvPr/>
            </p:nvSpPr>
            <p:spPr>
              <a:xfrm>
                <a:off x="3419640" y="4674960"/>
                <a:ext cx="216036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am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7" name="WordArt 5"/>
              <p:cNvSpPr txBox="1"/>
              <p:nvPr/>
            </p:nvSpPr>
            <p:spPr>
              <a:xfrm>
                <a:off x="3419640" y="4138560"/>
                <a:ext cx="216036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standing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8" name="Group 6"/>
            <p:cNvGrpSpPr/>
            <p:nvPr/>
          </p:nvGrpSpPr>
          <p:grpSpPr>
            <a:xfrm>
              <a:off x="2843280" y="2409840"/>
              <a:ext cx="420480" cy="1655640"/>
              <a:chOff x="2843280" y="2409840"/>
              <a:chExt cx="420480" cy="1655640"/>
            </a:xfrm>
          </p:grpSpPr>
          <p:sp>
            <p:nvSpPr>
              <p:cNvPr id="69" name="WordArt 7"/>
              <p:cNvSpPr txBox="1"/>
              <p:nvPr/>
            </p:nvSpPr>
            <p:spPr>
              <a:xfrm>
                <a:off x="2843280" y="2841480"/>
                <a:ext cx="420480" cy="12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0" name="WordArt 8"/>
              <p:cNvSpPr txBox="1"/>
              <p:nvPr/>
            </p:nvSpPr>
            <p:spPr>
              <a:xfrm>
                <a:off x="2843280" y="2409840"/>
                <a:ext cx="420480" cy="2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1" name="WordArt 9"/>
            <p:cNvSpPr txBox="1"/>
            <p:nvPr/>
          </p:nvSpPr>
          <p:spPr>
            <a:xfrm>
              <a:off x="3346560" y="2913120"/>
              <a:ext cx="1441440" cy="118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n</a:t>
              </a:r>
              <a:endPara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" name="WordArt 10"/>
            <p:cNvSpPr txBox="1"/>
            <p:nvPr/>
          </p:nvSpPr>
          <p:spPr>
            <a:xfrm>
              <a:off x="4859280" y="3735360"/>
              <a:ext cx="7207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the</a:t>
              </a:r>
              <a:endPara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3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3564000" y="328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Lin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3492360" y="2943360"/>
            <a:ext cx="93528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hil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7093080" y="1268280"/>
            <a:ext cx="205092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6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1.28614E-006 L -0.2125 -0.13 E">
                                      <p:cBhvr>
                                        <p:cTn id="61" dur="1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3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WordArt 17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AutoShape 28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WordArt 29"/>
          <p:cNvSpPr txBox="1"/>
          <p:nvPr/>
        </p:nvSpPr>
        <p:spPr>
          <a:xfrm rot="10800000">
            <a:off x="2368440" y="3141720"/>
            <a:ext cx="167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498" name="WordArt 30"/>
          <p:cNvSpPr txBox="1"/>
          <p:nvPr/>
        </p:nvSpPr>
        <p:spPr>
          <a:xfrm>
            <a:off x="4067280" y="3591000"/>
            <a:ext cx="15112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99" name="Group 35"/>
          <p:cNvGrpSpPr/>
          <p:nvPr/>
        </p:nvGrpSpPr>
        <p:grpSpPr>
          <a:xfrm>
            <a:off x="1507680" y="1509840"/>
            <a:ext cx="2348640" cy="3408120"/>
            <a:chOff x="1507680" y="1509840"/>
            <a:chExt cx="2348640" cy="3408120"/>
          </a:xfrm>
        </p:grpSpPr>
        <p:sp>
          <p:nvSpPr>
            <p:cNvPr id="500" name="AutoShape 33"/>
            <p:cNvSpPr/>
            <p:nvPr/>
          </p:nvSpPr>
          <p:spPr>
            <a:xfrm rot="1800000">
              <a:off x="1944360" y="3085920"/>
              <a:ext cx="403200" cy="185508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080"/>
                <a:gd name="textAreaBottom" fmla="*/ 1835640 h 1855080"/>
              </a:gdLst>
              <a:ahLst/>
              <a:rect l="textAreaLeft" t="textAreaTop" r="textAreaRight" b="textAreaBottom"/>
              <a:pathLst>
                <a:path w="21600" h="99310">
                  <a:moveTo>
                    <a:pt x="3600" y="0"/>
                  </a:moveTo>
                  <a:arcTo wR="3600" hR="3600" stAng="16200000" swAng="-5400000"/>
                  <a:lnTo>
                    <a:pt x="0" y="95710"/>
                  </a:lnTo>
                  <a:arcTo wR="3600" hR="3600" stAng="10800000" swAng="-5400000"/>
                  <a:lnTo>
                    <a:pt x="18000" y="99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1" name="AutoShape 34"/>
            <p:cNvSpPr/>
            <p:nvPr/>
          </p:nvSpPr>
          <p:spPr>
            <a:xfrm rot="12600000">
              <a:off x="3016080" y="1486080"/>
              <a:ext cx="403200" cy="185544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440"/>
                <a:gd name="textAreaBottom" fmla="*/ 1836000 h 1855440"/>
              </a:gdLst>
              <a:ahLst/>
              <a:rect l="textAreaLeft" t="textAreaTop" r="textAreaRight" b="textAreaBottom"/>
              <a:pathLst>
                <a:path w="21600" h="99329">
                  <a:moveTo>
                    <a:pt x="3600" y="0"/>
                  </a:moveTo>
                  <a:arcTo wR="3600" hR="3600" stAng="16200000" swAng="-5400000"/>
                  <a:lnTo>
                    <a:pt x="0" y="95729"/>
                  </a:lnTo>
                  <a:arcTo wR="3600" hR="3600" stAng="10800000" swAng="-5400000"/>
                  <a:lnTo>
                    <a:pt x="18000" y="9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2" name="Rectangle 1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800000">
                                      <p:cBhvr>
                                        <p:cTn id="69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32400000">
                                      <p:cBhvr>
                                        <p:cTn id="703" dur="2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1.85185E-006 C 0.00747 -0.05324 0.01511 -0.10648 0.02431 -0.10741 C 0.03351 -0.10833 0.04427 -0.05694 0.05504 -0.00555 E">
                                      <p:cBhvr>
                                        <p:cTn id="705" dur="2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800000">
                                      <p:cBhvr>
                                        <p:cTn id="70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09" name="AutoShape 14"/>
          <p:cNvSpPr/>
          <p:nvPr/>
        </p:nvSpPr>
        <p:spPr>
          <a:xfrm rot="13500000">
            <a:off x="2915280" y="203220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AutoShape 16"/>
          <p:cNvSpPr/>
          <p:nvPr/>
        </p:nvSpPr>
        <p:spPr>
          <a:xfrm rot="8100000">
            <a:off x="1852200" y="203112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WordArt 17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2" name="WordArt 18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700000">
                                      <p:cBhvr>
                                        <p:cTn id="718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0" dur="3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700000">
                                      <p:cBhvr>
                                        <p:cTn id="725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7" dur="3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1" name="AutoShape 9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AutoShape 10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WordArt 11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4" name="WordArt 12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26" name="Group 19"/>
          <p:cNvGrpSpPr/>
          <p:nvPr/>
        </p:nvGrpSpPr>
        <p:grpSpPr>
          <a:xfrm>
            <a:off x="0" y="620640"/>
            <a:ext cx="9144000" cy="5543640"/>
            <a:chOff x="0" y="620640"/>
            <a:chExt cx="9144000" cy="5543640"/>
          </a:xfrm>
        </p:grpSpPr>
        <p:sp>
          <p:nvSpPr>
            <p:cNvPr id="527" name="Rectangle 16"/>
            <p:cNvSpPr/>
            <p:nvPr/>
          </p:nvSpPr>
          <p:spPr>
            <a:xfrm>
              <a:off x="0" y="620640"/>
              <a:ext cx="9144000" cy="5543640"/>
            </a:xfrm>
            <a:prstGeom prst="rect">
              <a:avLst/>
            </a:prstGeom>
            <a:solidFill>
              <a:srgbClr val="00409e"/>
            </a:solidFill>
            <a:ln w="9360">
              <a:solidFill>
                <a:srgbClr val="004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WordArt 18"/>
            <p:cNvSpPr txBox="1"/>
            <p:nvPr/>
          </p:nvSpPr>
          <p:spPr>
            <a:xfrm>
              <a:off x="2484360" y="2923920"/>
              <a:ext cx="3875040" cy="12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40" dur="2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742" dur="2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4" dur="2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6" dur="2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4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WordArt 7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4" name="AutoShape 8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AutoShape 9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WordArt 10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7" name="WordArt 11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8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WordArt 15"/>
          <p:cNvSpPr txBox="1"/>
          <p:nvPr/>
        </p:nvSpPr>
        <p:spPr>
          <a:xfrm>
            <a:off x="2484360" y="2924280"/>
            <a:ext cx="387504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1" name="WordArt 16"/>
          <p:cNvSpPr txBox="1"/>
          <p:nvPr/>
        </p:nvSpPr>
        <p:spPr>
          <a:xfrm rot="900000">
            <a:off x="2916360" y="2868480"/>
            <a:ext cx="3024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WordArt 17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780000">
                                      <p:cBhvr>
                                        <p:cTn id="762" dur="2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1200000">
                                      <p:cBhvr>
                                        <p:cTn id="77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49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2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WordArt 16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5" name="WordArt 17"/>
          <p:cNvSpPr txBox="1"/>
          <p:nvPr/>
        </p:nvSpPr>
        <p:spPr>
          <a:xfrm rot="900000">
            <a:off x="5554440" y="2197080"/>
            <a:ext cx="2376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WordArt 18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">
                                      <p:cBhvr>
                                        <p:cTn id="796" dur="4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1080000">
                                      <p:cBhvr>
                                        <p:cTn id="809" dur="4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WordArt 16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WordArt 17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822" dur="2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3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WordArt 6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7" name="WordArt 8"/>
          <p:cNvSpPr txBox="1"/>
          <p:nvPr/>
        </p:nvSpPr>
        <p:spPr>
          <a:xfrm rot="20192400">
            <a:off x="3995640" y="1844280"/>
            <a:ext cx="107964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WordArt 9"/>
          <p:cNvSpPr txBox="1"/>
          <p:nvPr/>
        </p:nvSpPr>
        <p:spPr>
          <a:xfrm rot="323400">
            <a:off x="2484000" y="2692440"/>
            <a:ext cx="4670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9" name="WordArt 10"/>
          <p:cNvSpPr txBox="1"/>
          <p:nvPr/>
        </p:nvSpPr>
        <p:spPr>
          <a:xfrm rot="21078600">
            <a:off x="1979640" y="1484280"/>
            <a:ext cx="3665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WordArt 11"/>
          <p:cNvSpPr txBox="1"/>
          <p:nvPr/>
        </p:nvSpPr>
        <p:spPr>
          <a:xfrm rot="417000">
            <a:off x="3995280" y="2707920"/>
            <a:ext cx="3024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1" name="WordArt 12"/>
          <p:cNvSpPr txBox="1"/>
          <p:nvPr/>
        </p:nvSpPr>
        <p:spPr>
          <a:xfrm rot="21340800">
            <a:off x="2627280" y="2204640"/>
            <a:ext cx="38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2" name="WordArt 13"/>
          <p:cNvSpPr txBox="1"/>
          <p:nvPr/>
        </p:nvSpPr>
        <p:spPr>
          <a:xfrm rot="20615400">
            <a:off x="2410920" y="270828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9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WordArt 14"/>
          <p:cNvSpPr txBox="1"/>
          <p:nvPr/>
        </p:nvSpPr>
        <p:spPr>
          <a:xfrm rot="1800000">
            <a:off x="2556000" y="2637000"/>
            <a:ext cx="4895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600000">
                                      <p:cBhvr>
                                        <p:cTn id="839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20000">
                                      <p:cBhvr>
                                        <p:cTn id="856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480000">
                                      <p:cBhvr>
                                        <p:cTn id="869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80000">
                                      <p:cBhvr>
                                        <p:cTn id="882" dur="3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-720000">
                                      <p:cBhvr>
                                        <p:cTn id="89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900000">
                                      <p:cBhvr>
                                        <p:cTn id="90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840000">
                                      <p:cBhvr>
                                        <p:cTn id="921" dur="3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7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800000">
                                      <p:cBhvr>
                                        <p:cTn id="928" dur="7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34" dur="700" fill="hold"/>
                                        <p:tgtEl>
                                          <p:spTgt spid="57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18"/>
          <p:cNvGrpSpPr/>
          <p:nvPr/>
        </p:nvGrpSpPr>
        <p:grpSpPr>
          <a:xfrm>
            <a:off x="2548080" y="-4708440"/>
            <a:ext cx="6200640" cy="8921160"/>
            <a:chOff x="2548080" y="-4708440"/>
            <a:chExt cx="6200640" cy="8921160"/>
          </a:xfrm>
        </p:grpSpPr>
        <p:pic>
          <p:nvPicPr>
            <p:cNvPr id="578" name="Picture 16" descr=""/>
            <p:cNvPicPr/>
            <p:nvPr/>
          </p:nvPicPr>
          <p:blipFill>
            <a:blip r:embed="rId1"/>
            <a:stretch/>
          </p:blipFill>
          <p:spPr>
            <a:xfrm>
              <a:off x="2548080" y="-4708440"/>
              <a:ext cx="6200640" cy="74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17" descr=""/>
            <p:cNvPicPr/>
            <p:nvPr/>
          </p:nvPicPr>
          <p:blipFill>
            <a:blip r:embed="rId2"/>
            <a:stretch/>
          </p:blipFill>
          <p:spPr>
            <a:xfrm>
              <a:off x="2781360" y="3593880"/>
              <a:ext cx="3581280" cy="618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0" name="Group 18"/>
          <p:cNvGrpSpPr/>
          <p:nvPr/>
        </p:nvGrpSpPr>
        <p:grpSpPr>
          <a:xfrm>
            <a:off x="1171440" y="1844640"/>
            <a:ext cx="5200920" cy="2664000"/>
            <a:chOff x="1171440" y="1844640"/>
            <a:chExt cx="5200920" cy="2664000"/>
          </a:xfrm>
        </p:grpSpPr>
        <p:grpSp>
          <p:nvGrpSpPr>
            <p:cNvPr id="81" name="Group 2"/>
            <p:cNvGrpSpPr/>
            <p:nvPr/>
          </p:nvGrpSpPr>
          <p:grpSpPr>
            <a:xfrm>
              <a:off x="1171440" y="1844640"/>
              <a:ext cx="2187360" cy="2641320"/>
              <a:chOff x="1171440" y="1844640"/>
              <a:chExt cx="2187360" cy="2641320"/>
            </a:xfrm>
          </p:grpSpPr>
          <p:grpSp>
            <p:nvGrpSpPr>
              <p:cNvPr id="82" name="Group 3"/>
              <p:cNvGrpSpPr/>
              <p:nvPr/>
            </p:nvGrpSpPr>
            <p:grpSpPr>
              <a:xfrm>
                <a:off x="1171440" y="3227400"/>
                <a:ext cx="2187360" cy="1258560"/>
                <a:chOff x="1171440" y="3227400"/>
                <a:chExt cx="2187360" cy="1258560"/>
              </a:xfrm>
            </p:grpSpPr>
            <p:sp>
              <p:nvSpPr>
                <p:cNvPr id="83" name="WordArt 4"/>
                <p:cNvSpPr txBox="1"/>
                <p:nvPr/>
              </p:nvSpPr>
              <p:spPr>
                <a:xfrm>
                  <a:off x="1171440" y="3252600"/>
                  <a:ext cx="335880" cy="1180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4" name="WordArt 5"/>
                <p:cNvSpPr txBox="1"/>
                <p:nvPr/>
              </p:nvSpPr>
              <p:spPr>
                <a:xfrm>
                  <a:off x="1631880" y="3656520"/>
                  <a:ext cx="1726920" cy="82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am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85" name="WordArt 6"/>
                <p:cNvSpPr txBox="1"/>
                <p:nvPr/>
              </p:nvSpPr>
              <p:spPr>
                <a:xfrm>
                  <a:off x="1631880" y="3227400"/>
                  <a:ext cx="1726920" cy="429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standing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86" name="Group 7"/>
              <p:cNvGrpSpPr/>
              <p:nvPr/>
            </p:nvGrpSpPr>
            <p:grpSpPr>
              <a:xfrm>
                <a:off x="1171440" y="1844640"/>
                <a:ext cx="335880" cy="1324440"/>
                <a:chOff x="1171440" y="1844640"/>
                <a:chExt cx="335880" cy="1324440"/>
              </a:xfrm>
            </p:grpSpPr>
            <p:sp>
              <p:nvSpPr>
                <p:cNvPr id="87" name="WordArt 8"/>
                <p:cNvSpPr txBox="1"/>
                <p:nvPr/>
              </p:nvSpPr>
              <p:spPr>
                <a:xfrm>
                  <a:off x="1171440" y="2189880"/>
                  <a:ext cx="335880" cy="979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8" name="WordArt 9"/>
                <p:cNvSpPr txBox="1"/>
                <p:nvPr/>
              </p:nvSpPr>
              <p:spPr>
                <a:xfrm>
                  <a:off x="1171440" y="1844640"/>
                  <a:ext cx="335880" cy="229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89" name="WordArt 10"/>
              <p:cNvSpPr txBox="1"/>
              <p:nvPr/>
            </p:nvSpPr>
            <p:spPr>
              <a:xfrm>
                <a:off x="1573560" y="2247120"/>
                <a:ext cx="1152000" cy="94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n</a:t>
                </a:r>
                <a:endPara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WordArt 11"/>
              <p:cNvSpPr txBox="1"/>
              <p:nvPr/>
            </p:nvSpPr>
            <p:spPr>
              <a:xfrm>
                <a:off x="2782800" y="2904840"/>
                <a:ext cx="5760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the</a:t>
                </a:r>
                <a:endPara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1" name="WordArt 14"/>
            <p:cNvSpPr txBox="1"/>
            <p:nvPr/>
          </p:nvSpPr>
          <p:spPr>
            <a:xfrm>
              <a:off x="3564000" y="3284640"/>
              <a:ext cx="2808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Lin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" name="WordArt 15"/>
            <p:cNvSpPr txBox="1"/>
            <p:nvPr/>
          </p:nvSpPr>
          <p:spPr>
            <a:xfrm>
              <a:off x="3492360" y="2943360"/>
              <a:ext cx="93528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Whil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3" name="WordArt 19"/>
          <p:cNvSpPr txBox="1"/>
          <p:nvPr/>
        </p:nvSpPr>
        <p:spPr>
          <a:xfrm>
            <a:off x="4786200" y="3284640"/>
            <a:ext cx="4033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Holding</a:t>
            </a:r>
            <a:endParaRPr b="0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8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8 -3.00486E-006 L 0 -3.00486E-006 E">
                                      <p:cBhvr>
                                        <p:cTn id="77" dur="1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8"/>
          <p:cNvSpPr txBox="1"/>
          <p:nvPr/>
        </p:nvSpPr>
        <p:spPr>
          <a:xfrm>
            <a:off x="-18830880" y="511200"/>
            <a:ext cx="1868472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44a8"/>
                  </a:solidFill>
                  <a:miter/>
                </a:ln>
                <a:solidFill>
                  <a:srgbClr val="00409e"/>
                </a:solidFill>
                <a:latin typeface="Arial Black"/>
              </a:rPr>
              <a:t>CONFETT</a:t>
            </a:r>
            <a:endParaRPr b="0" lang="en-US" sz="8000" spc="1" strike="noStrike">
              <a:ln w="9360">
                <a:solidFill>
                  <a:srgbClr val="0044a8"/>
                </a:solidFill>
                <a:miter/>
              </a:ln>
              <a:solidFill>
                <a:srgbClr val="00409e"/>
              </a:solidFill>
              <a:latin typeface="Arial Black"/>
              <a:ea typeface="Arial Black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395280" y="2101680"/>
            <a:ext cx="8424720" cy="2392560"/>
            <a:chOff x="395280" y="2101680"/>
            <a:chExt cx="8424720" cy="2392560"/>
          </a:xfrm>
        </p:grpSpPr>
        <p:sp>
          <p:nvSpPr>
            <p:cNvPr id="96" name="WordArt 17"/>
            <p:cNvSpPr txBox="1"/>
            <p:nvPr/>
          </p:nvSpPr>
          <p:spPr>
            <a:xfrm>
              <a:off x="4786200" y="3284640"/>
              <a:ext cx="4033800" cy="120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Holding</a:t>
              </a:r>
              <a:endPara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7" name="Group 4"/>
            <p:cNvGrpSpPr/>
            <p:nvPr/>
          </p:nvGrpSpPr>
          <p:grpSpPr>
            <a:xfrm>
              <a:off x="395280" y="2101680"/>
              <a:ext cx="4160880" cy="2130480"/>
              <a:chOff x="395280" y="2101680"/>
              <a:chExt cx="4160880" cy="2130480"/>
            </a:xfrm>
          </p:grpSpPr>
          <p:grpSp>
            <p:nvGrpSpPr>
              <p:cNvPr id="98" name="Group 5"/>
              <p:cNvGrpSpPr/>
              <p:nvPr/>
            </p:nvGrpSpPr>
            <p:grpSpPr>
              <a:xfrm>
                <a:off x="395280" y="2101680"/>
                <a:ext cx="1749960" cy="2112120"/>
                <a:chOff x="395280" y="2101680"/>
                <a:chExt cx="1749960" cy="2112120"/>
              </a:xfrm>
            </p:grpSpPr>
            <p:grpSp>
              <p:nvGrpSpPr>
                <p:cNvPr id="99" name="Group 6"/>
                <p:cNvGrpSpPr/>
                <p:nvPr/>
              </p:nvGrpSpPr>
              <p:grpSpPr>
                <a:xfrm>
                  <a:off x="395280" y="3207600"/>
                  <a:ext cx="1749600" cy="1006200"/>
                  <a:chOff x="395280" y="3207600"/>
                  <a:chExt cx="1749600" cy="1006200"/>
                </a:xfrm>
              </p:grpSpPr>
              <p:sp>
                <p:nvSpPr>
                  <p:cNvPr id="100" name="WordArt 7"/>
                  <p:cNvSpPr txBox="1"/>
                  <p:nvPr/>
                </p:nvSpPr>
                <p:spPr>
                  <a:xfrm>
                    <a:off x="395280" y="3227760"/>
                    <a:ext cx="268560" cy="944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1" name="WordArt 8"/>
                  <p:cNvSpPr txBox="1"/>
                  <p:nvPr/>
                </p:nvSpPr>
                <p:spPr>
                  <a:xfrm>
                    <a:off x="763560" y="3550680"/>
                    <a:ext cx="1381320" cy="66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am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02" name="WordArt 9"/>
                  <p:cNvSpPr txBox="1"/>
                  <p:nvPr/>
                </p:nvSpPr>
                <p:spPr>
                  <a:xfrm>
                    <a:off x="763560" y="3207600"/>
                    <a:ext cx="1381320" cy="34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standing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103" name="Group 10"/>
                <p:cNvGrpSpPr/>
                <p:nvPr/>
              </p:nvGrpSpPr>
              <p:grpSpPr>
                <a:xfrm>
                  <a:off x="395280" y="2101680"/>
                  <a:ext cx="268560" cy="1059120"/>
                  <a:chOff x="395280" y="2101680"/>
                  <a:chExt cx="268560" cy="1059120"/>
                </a:xfrm>
              </p:grpSpPr>
              <p:sp>
                <p:nvSpPr>
                  <p:cNvPr id="104" name="WordArt 11"/>
                  <p:cNvSpPr txBox="1"/>
                  <p:nvPr/>
                </p:nvSpPr>
                <p:spPr>
                  <a:xfrm>
                    <a:off x="395280" y="2377800"/>
                    <a:ext cx="268560" cy="783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5" name="WordArt 12"/>
                  <p:cNvSpPr txBox="1"/>
                  <p:nvPr/>
                </p:nvSpPr>
                <p:spPr>
                  <a:xfrm>
                    <a:off x="395280" y="2101680"/>
                    <a:ext cx="268560" cy="183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sp>
              <p:nvSpPr>
                <p:cNvPr id="106" name="WordArt 13"/>
                <p:cNvSpPr txBox="1"/>
                <p:nvPr/>
              </p:nvSpPr>
              <p:spPr>
                <a:xfrm>
                  <a:off x="716760" y="2423520"/>
                  <a:ext cx="921600" cy="75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n</a:t>
                  </a:r>
                  <a:endPara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7" name="WordArt 14"/>
                <p:cNvSpPr txBox="1"/>
                <p:nvPr/>
              </p:nvSpPr>
              <p:spPr>
                <a:xfrm>
                  <a:off x="1684440" y="2949480"/>
                  <a:ext cx="460800" cy="21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the</a:t>
                  </a:r>
                  <a:endPara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08" name="WordArt 15"/>
              <p:cNvSpPr txBox="1"/>
              <p:nvPr/>
            </p:nvSpPr>
            <p:spPr>
              <a:xfrm>
                <a:off x="2309400" y="3253320"/>
                <a:ext cx="2246760" cy="9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Lin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9" name="WordArt 16"/>
              <p:cNvSpPr txBox="1"/>
              <p:nvPr/>
            </p:nvSpPr>
            <p:spPr>
              <a:xfrm>
                <a:off x="2251800" y="2980080"/>
                <a:ext cx="7480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Whil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0" name="Rectangle 26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WordArt 21"/>
          <p:cNvSpPr txBox="1"/>
          <p:nvPr/>
        </p:nvSpPr>
        <p:spPr>
          <a:xfrm rot="15618000">
            <a:off x="3636000" y="3170520"/>
            <a:ext cx="3603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WordArt 22"/>
          <p:cNvSpPr txBox="1"/>
          <p:nvPr/>
        </p:nvSpPr>
        <p:spPr>
          <a:xfrm>
            <a:off x="4067280" y="3747960"/>
            <a:ext cx="1368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WordArt 25"/>
          <p:cNvSpPr txBox="1"/>
          <p:nvPr/>
        </p:nvSpPr>
        <p:spPr>
          <a:xfrm>
            <a:off x="4067280" y="3316320"/>
            <a:ext cx="863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WordArt 24"/>
          <p:cNvSpPr txBox="1"/>
          <p:nvPr/>
        </p:nvSpPr>
        <p:spPr>
          <a:xfrm>
            <a:off x="3627360" y="3178080"/>
            <a:ext cx="360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9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627360" y="3178080"/>
            <a:ext cx="1808280" cy="1187640"/>
            <a:chOff x="3627360" y="3178080"/>
            <a:chExt cx="1808280" cy="1187640"/>
          </a:xfrm>
        </p:grpSpPr>
        <p:sp>
          <p:nvSpPr>
            <p:cNvPr id="124" name="WordArt 5"/>
            <p:cNvSpPr txBox="1"/>
            <p:nvPr/>
          </p:nvSpPr>
          <p:spPr>
            <a:xfrm>
              <a:off x="4067280" y="374796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5" name="WordArt 7"/>
            <p:cNvSpPr txBox="1"/>
            <p:nvPr/>
          </p:nvSpPr>
          <p:spPr>
            <a:xfrm>
              <a:off x="4067280" y="3316320"/>
              <a:ext cx="86364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6" name="WordArt 8"/>
            <p:cNvSpPr txBox="1"/>
            <p:nvPr/>
          </p:nvSpPr>
          <p:spPr>
            <a:xfrm>
              <a:off x="3627360" y="3178080"/>
              <a:ext cx="360360" cy="11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7" name="WordArt 10"/>
          <p:cNvSpPr txBox="1"/>
          <p:nvPr/>
        </p:nvSpPr>
        <p:spPr>
          <a:xfrm>
            <a:off x="4067280" y="3240000"/>
            <a:ext cx="252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3610080" y="3330720"/>
            <a:ext cx="444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15296 0 E">
                                      <p:cBhvr>
                                        <p:cTn id="116" dur="1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2220840" y="3178080"/>
            <a:ext cx="4367160" cy="1187640"/>
            <a:chOff x="2220840" y="3178080"/>
            <a:chExt cx="4367160" cy="1187640"/>
          </a:xfrm>
        </p:grpSpPr>
        <p:grpSp>
          <p:nvGrpSpPr>
            <p:cNvPr id="132" name="Group 5"/>
            <p:cNvGrpSpPr/>
            <p:nvPr/>
          </p:nvGrpSpPr>
          <p:grpSpPr>
            <a:xfrm>
              <a:off x="2220840" y="3178080"/>
              <a:ext cx="1808280" cy="1187640"/>
              <a:chOff x="2220840" y="3178080"/>
              <a:chExt cx="1808280" cy="1187640"/>
            </a:xfrm>
          </p:grpSpPr>
          <p:sp>
            <p:nvSpPr>
              <p:cNvPr id="133" name="WordArt 6"/>
              <p:cNvSpPr txBox="1"/>
              <p:nvPr/>
            </p:nvSpPr>
            <p:spPr>
              <a:xfrm>
                <a:off x="2660760" y="3747960"/>
                <a:ext cx="13683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e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4" name="WordArt 7"/>
              <p:cNvSpPr txBox="1"/>
              <p:nvPr/>
            </p:nvSpPr>
            <p:spPr>
              <a:xfrm>
                <a:off x="2660760" y="3316320"/>
                <a:ext cx="863640" cy="38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5" name="WordArt 8"/>
              <p:cNvSpPr txBox="1"/>
              <p:nvPr/>
            </p:nvSpPr>
            <p:spPr>
              <a:xfrm>
                <a:off x="2220840" y="3178080"/>
                <a:ext cx="360360" cy="118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6" name="WordArt 9"/>
            <p:cNvSpPr txBox="1"/>
            <p:nvPr/>
          </p:nvSpPr>
          <p:spPr>
            <a:xfrm>
              <a:off x="4067280" y="3240000"/>
              <a:ext cx="2520720" cy="112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irl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WordArt 10"/>
            <p:cNvSpPr txBox="1"/>
            <p:nvPr/>
          </p:nvSpPr>
          <p:spPr>
            <a:xfrm>
              <a:off x="3610080" y="3330720"/>
              <a:ext cx="444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f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8" name="WordArt 11"/>
          <p:cNvSpPr txBox="1"/>
          <p:nvPr/>
        </p:nvSpPr>
        <p:spPr>
          <a:xfrm>
            <a:off x="2220840" y="2808360"/>
            <a:ext cx="21607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WordArt 13"/>
          <p:cNvSpPr txBox="1"/>
          <p:nvPr/>
        </p:nvSpPr>
        <p:spPr>
          <a:xfrm>
            <a:off x="4140360" y="3357720"/>
            <a:ext cx="24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ea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0 L 2.77778E-006 0.10741 E">
                                      <p:cBhvr>
                                        <p:cTn id="129" dur="1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3:33:37Z</dcterms:created>
  <dc:creator>KJS</dc:creator>
  <dc:description/>
  <dc:language>en-US</dc:language>
  <cp:lastModifiedBy>huwanxin</cp:lastModifiedBy>
  <dcterms:modified xsi:type="dcterms:W3CDTF">2012-07-09T01:59:23Z</dcterms:modified>
  <cp:revision>30</cp:revision>
  <dc:subject/>
  <dc:title>슬라이드 1</dc:title>
</cp:coreProperties>
</file>