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AB67-EE64-42DE-A90D-B14DA7AC9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37EB-A50F-4B7F-9811-8084B0064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798F-0C32-42D0-A9BA-C07B2C11B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7400-85BE-4AF1-A27B-C3F879610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2862-52DB-4875-B384-FFD44FA7C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0F08-6116-4351-8ABA-BF7892BA9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C8F9-F6E5-4994-AB37-E78FA34E7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61AC-EC60-422D-A11B-9D710293F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0E4E-A6B0-4E3C-80B5-2F39AEB7A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0858-854E-4032-BE94-C1F0F4FC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7636-0854-4851-83EC-C086F8CB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8C4B-2D8E-40C7-83F9-3D6ECB37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1B938-5F3B-4E4A-838C-7F26636ACB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image" Target="../media/image53.png"/><Relationship Id="rId13" Type="http://schemas.openxmlformats.org/officeDocument/2006/relationships/image" Target="../media/image54.png"/><Relationship Id="rId14" Type="http://schemas.openxmlformats.org/officeDocument/2006/relationships/image" Target="../media/image55.png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image" Target="../media/image2.png"/><Relationship Id="rId8" Type="http://schemas.openxmlformats.org/officeDocument/2006/relationships/image" Target="../media/image6.png"/><Relationship Id="rId9" Type="http://schemas.openxmlformats.org/officeDocument/2006/relationships/image" Target="../media/image2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image" Target="../media/image32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36.png"/><Relationship Id="rId8" Type="http://schemas.openxmlformats.org/officeDocument/2006/relationships/image" Target="../media/image4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684360" y="3573360"/>
            <a:ext cx="6261120" cy="1584360"/>
            <a:chOff x="684360" y="3573360"/>
            <a:chExt cx="6261120" cy="1584360"/>
          </a:xfrm>
        </p:grpSpPr>
        <p:sp>
          <p:nvSpPr>
            <p:cNvPr id="42" name="Rectangle 3"/>
            <p:cNvSpPr/>
            <p:nvPr/>
          </p:nvSpPr>
          <p:spPr>
            <a:xfrm>
              <a:off x="684360" y="3573360"/>
              <a:ext cx="6261120" cy="93564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000000"/>
                  </a:solidFill>
                  <a:latin typeface="方正粗宋简体"/>
                  <a:ea typeface="方正粗宋简体"/>
                </a:rPr>
                <a:t>POWERPOINY</a:t>
              </a:r>
              <a:r>
                <a:rPr b="1" lang="zh-CN" sz="3800" spc="-1" strike="noStrike">
                  <a:solidFill>
                    <a:srgbClr val="000000"/>
                  </a:solidFill>
                  <a:latin typeface="方正粗宋简体"/>
                  <a:ea typeface="方正粗宋简体"/>
                </a:rPr>
                <a:t>幻灯片模板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2053080" y="4380840"/>
              <a:ext cx="4315320" cy="77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方正准圆简体"/>
                  <a:ea typeface="方正准圆简体"/>
                </a:rPr>
                <a:t>单击添加署名或公司信息</a:t>
              </a:r>
              <a:r>
                <a:rPr b="0" lang="zh-CN" sz="1600" spc="-1" strike="noStrike">
                  <a:solidFill>
                    <a:srgbClr val="000000"/>
                  </a:solidFill>
                  <a:latin typeface="方正准圆简体"/>
                  <a:ea typeface="方正准圆简体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Rectangle 7"/>
          <p:cNvSpPr/>
          <p:nvPr/>
        </p:nvSpPr>
        <p:spPr>
          <a:xfrm>
            <a:off x="612720" y="404640"/>
            <a:ext cx="1368360" cy="505080"/>
          </a:xfrm>
          <a:prstGeom prst="rect">
            <a:avLst/>
          </a:prstGeom>
          <a:solidFill>
            <a:srgbClr val="ffcc00"/>
          </a:soli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2"/>
          <p:cNvSpPr/>
          <p:nvPr/>
        </p:nvSpPr>
        <p:spPr>
          <a:xfrm>
            <a:off x="0" y="982800"/>
            <a:ext cx="9144000" cy="59036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3"/>
          <p:cNvGrpSpPr/>
          <p:nvPr/>
        </p:nvGrpSpPr>
        <p:grpSpPr>
          <a:xfrm>
            <a:off x="971640" y="2009880"/>
            <a:ext cx="7178400" cy="4083120"/>
            <a:chOff x="971640" y="2009880"/>
            <a:chExt cx="7178400" cy="4083120"/>
          </a:xfrm>
        </p:grpSpPr>
        <p:sp>
          <p:nvSpPr>
            <p:cNvPr id="317" name="Rectangle 17"/>
            <p:cNvSpPr/>
            <p:nvPr/>
          </p:nvSpPr>
          <p:spPr>
            <a:xfrm>
              <a:off x="3291120" y="2125440"/>
              <a:ext cx="4858920" cy="3778920"/>
            </a:xfrm>
            <a:prstGeom prst="roundRect">
              <a:avLst>
                <a:gd name="adj" fmla="val 2269"/>
              </a:avLst>
            </a:prstGeom>
            <a:noFill/>
            <a:ln w="2556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lvl="2" algn="ctr">
                <a:lnSpc>
                  <a:spcPct val="100000"/>
                </a:lnSpc>
                <a:tabLst>
                  <a:tab algn="l" pos="0"/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8" name="Rectangle 17" descr=""/>
            <p:cNvPicPr/>
            <p:nvPr/>
          </p:nvPicPr>
          <p:blipFill>
            <a:blip r:embed="rId1"/>
            <a:stretch/>
          </p:blipFill>
          <p:spPr>
            <a:xfrm>
              <a:off x="1951200" y="2101680"/>
              <a:ext cx="2296800" cy="389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六边形 64" descr=""/>
            <p:cNvPicPr/>
            <p:nvPr/>
          </p:nvPicPr>
          <p:blipFill>
            <a:blip r:embed="rId2"/>
            <a:stretch/>
          </p:blipFill>
          <p:spPr>
            <a:xfrm>
              <a:off x="6242040" y="2619000"/>
              <a:ext cx="1809720" cy="159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TextBox 96"/>
            <p:cNvSpPr/>
            <p:nvPr/>
          </p:nvSpPr>
          <p:spPr>
            <a:xfrm>
              <a:off x="6723360" y="3114360"/>
              <a:ext cx="85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1" name="六边形 67" descr=""/>
            <p:cNvPicPr/>
            <p:nvPr/>
          </p:nvPicPr>
          <p:blipFill>
            <a:blip r:embed="rId3"/>
            <a:stretch/>
          </p:blipFill>
          <p:spPr>
            <a:xfrm>
              <a:off x="6242040" y="3880440"/>
              <a:ext cx="1809720" cy="160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TextBox 97"/>
            <p:cNvSpPr/>
            <p:nvPr/>
          </p:nvSpPr>
          <p:spPr>
            <a:xfrm>
              <a:off x="6761520" y="4379040"/>
              <a:ext cx="780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3" name="六边形 70" descr=""/>
            <p:cNvPicPr/>
            <p:nvPr/>
          </p:nvPicPr>
          <p:blipFill>
            <a:blip r:embed="rId4"/>
            <a:stretch/>
          </p:blipFill>
          <p:spPr>
            <a:xfrm>
              <a:off x="5089680" y="2009880"/>
              <a:ext cx="1811520" cy="160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TextBox 98"/>
            <p:cNvSpPr/>
            <p:nvPr/>
          </p:nvSpPr>
          <p:spPr>
            <a:xfrm>
              <a:off x="5578560" y="2582640"/>
              <a:ext cx="840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5" name="六边形 73" descr=""/>
            <p:cNvPicPr/>
            <p:nvPr/>
          </p:nvPicPr>
          <p:blipFill>
            <a:blip r:embed="rId5"/>
            <a:stretch/>
          </p:blipFill>
          <p:spPr>
            <a:xfrm>
              <a:off x="5089680" y="3252240"/>
              <a:ext cx="1811520" cy="160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TextBox 99"/>
            <p:cNvSpPr/>
            <p:nvPr/>
          </p:nvSpPr>
          <p:spPr>
            <a:xfrm>
              <a:off x="5612040" y="3760200"/>
              <a:ext cx="772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7" name="六边形 76" descr=""/>
            <p:cNvPicPr/>
            <p:nvPr/>
          </p:nvPicPr>
          <p:blipFill>
            <a:blip r:embed="rId6"/>
            <a:stretch/>
          </p:blipFill>
          <p:spPr>
            <a:xfrm>
              <a:off x="5089680" y="4490280"/>
              <a:ext cx="1811520" cy="160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TextBox 100"/>
            <p:cNvSpPr/>
            <p:nvPr/>
          </p:nvSpPr>
          <p:spPr>
            <a:xfrm>
              <a:off x="5585040" y="5001120"/>
              <a:ext cx="82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9" name="六边形 79" descr=""/>
            <p:cNvPicPr/>
            <p:nvPr/>
          </p:nvPicPr>
          <p:blipFill>
            <a:blip r:embed="rId7"/>
            <a:stretch/>
          </p:blipFill>
          <p:spPr>
            <a:xfrm>
              <a:off x="3932640" y="2619000"/>
              <a:ext cx="1809720" cy="159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TextBox 108"/>
            <p:cNvSpPr/>
            <p:nvPr/>
          </p:nvSpPr>
          <p:spPr>
            <a:xfrm>
              <a:off x="4399200" y="3114360"/>
              <a:ext cx="87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1" name="六边形 82" descr=""/>
            <p:cNvPicPr/>
            <p:nvPr/>
          </p:nvPicPr>
          <p:blipFill>
            <a:blip r:embed="rId8"/>
            <a:stretch/>
          </p:blipFill>
          <p:spPr>
            <a:xfrm>
              <a:off x="3932640" y="3880440"/>
              <a:ext cx="1809720" cy="160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TextBox 109"/>
            <p:cNvSpPr/>
            <p:nvPr/>
          </p:nvSpPr>
          <p:spPr>
            <a:xfrm>
              <a:off x="4448160" y="4379040"/>
              <a:ext cx="779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3" name="Group 20"/>
            <p:cNvGrpSpPr/>
            <p:nvPr/>
          </p:nvGrpSpPr>
          <p:grpSpPr>
            <a:xfrm>
              <a:off x="971640" y="3690360"/>
              <a:ext cx="1980000" cy="576360"/>
              <a:chOff x="971640" y="3690360"/>
              <a:chExt cx="1980000" cy="576360"/>
            </a:xfrm>
          </p:grpSpPr>
          <p:pic>
            <p:nvPicPr>
              <p:cNvPr id="334" name="双波形 35" descr=""/>
              <p:cNvPicPr/>
              <p:nvPr/>
            </p:nvPicPr>
            <p:blipFill>
              <a:blip r:embed="rId9"/>
              <a:stretch/>
            </p:blipFill>
            <p:spPr>
              <a:xfrm>
                <a:off x="971640" y="3690360"/>
                <a:ext cx="1980000" cy="576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5" name="TextBox 22" descr=""/>
              <p:cNvPicPr/>
              <p:nvPr/>
            </p:nvPicPr>
            <p:blipFill>
              <a:blip r:embed="rId10"/>
              <a:stretch/>
            </p:blipFill>
            <p:spPr>
              <a:xfrm>
                <a:off x="1216440" y="3845520"/>
                <a:ext cx="1485000" cy="317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36" name="Group 23"/>
            <p:cNvGrpSpPr/>
            <p:nvPr/>
          </p:nvGrpSpPr>
          <p:grpSpPr>
            <a:xfrm>
              <a:off x="971640" y="4725000"/>
              <a:ext cx="1980000" cy="574560"/>
              <a:chOff x="971640" y="4725000"/>
              <a:chExt cx="1980000" cy="574560"/>
            </a:xfrm>
          </p:grpSpPr>
          <p:pic>
            <p:nvPicPr>
              <p:cNvPr id="337" name="双波形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971640" y="4725000"/>
                <a:ext cx="1980000" cy="57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8" name="TextBox 22" descr=""/>
              <p:cNvPicPr/>
              <p:nvPr/>
            </p:nvPicPr>
            <p:blipFill>
              <a:blip r:embed="rId12"/>
              <a:stretch/>
            </p:blipFill>
            <p:spPr>
              <a:xfrm>
                <a:off x="1216440" y="4889520"/>
                <a:ext cx="1485000" cy="313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39" name="Group 26"/>
            <p:cNvGrpSpPr/>
            <p:nvPr/>
          </p:nvGrpSpPr>
          <p:grpSpPr>
            <a:xfrm>
              <a:off x="971640" y="2655360"/>
              <a:ext cx="1980000" cy="576360"/>
              <a:chOff x="971640" y="2655360"/>
              <a:chExt cx="1980000" cy="576360"/>
            </a:xfrm>
          </p:grpSpPr>
          <p:pic>
            <p:nvPicPr>
              <p:cNvPr id="340" name="双波形 37" descr=""/>
              <p:cNvPicPr/>
              <p:nvPr/>
            </p:nvPicPr>
            <p:blipFill>
              <a:blip r:embed="rId13"/>
              <a:stretch/>
            </p:blipFill>
            <p:spPr>
              <a:xfrm>
                <a:off x="971640" y="2655360"/>
                <a:ext cx="1980000" cy="576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1" name="TextBox 22" descr=""/>
              <p:cNvPicPr/>
              <p:nvPr/>
            </p:nvPicPr>
            <p:blipFill>
              <a:blip r:embed="rId14"/>
              <a:stretch/>
            </p:blipFill>
            <p:spPr>
              <a:xfrm>
                <a:off x="1216440" y="2803320"/>
                <a:ext cx="1485000" cy="315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2"/>
          <p:cNvSpPr/>
          <p:nvPr/>
        </p:nvSpPr>
        <p:spPr>
          <a:xfrm>
            <a:off x="0" y="982800"/>
            <a:ext cx="9144000" cy="59036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3"/>
          <p:cNvGrpSpPr/>
          <p:nvPr/>
        </p:nvGrpSpPr>
        <p:grpSpPr>
          <a:xfrm>
            <a:off x="3851280" y="2817720"/>
            <a:ext cx="1809360" cy="1784160"/>
            <a:chOff x="3851280" y="2817720"/>
            <a:chExt cx="1809360" cy="1784160"/>
          </a:xfrm>
        </p:grpSpPr>
        <p:pic>
          <p:nvPicPr>
            <p:cNvPr id="344" name="Picture 4" descr="circuler_1"/>
            <p:cNvPicPr/>
            <p:nvPr/>
          </p:nvPicPr>
          <p:blipFill>
            <a:blip r:embed="rId1"/>
            <a:stretch/>
          </p:blipFill>
          <p:spPr>
            <a:xfrm>
              <a:off x="3851280" y="2817720"/>
              <a:ext cx="1809360" cy="177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Oval 5"/>
            <p:cNvSpPr/>
            <p:nvPr/>
          </p:nvSpPr>
          <p:spPr>
            <a:xfrm>
              <a:off x="3851280" y="2817720"/>
              <a:ext cx="1797120" cy="1784160"/>
            </a:xfrm>
            <a:prstGeom prst="ellipse">
              <a:avLst/>
            </a:prstGeom>
            <a:solidFill>
              <a:srgbClr val="dddddd"/>
            </a:solidFill>
            <a:ln cap="rnd" w="1908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>
                  <a:solidFill>
                    <a:srgbClr val="009999"/>
                  </a:solidFill>
                  <a:latin typeface="Arial"/>
                </a:rPr>
                <a:t>单击此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>
                  <a:solidFill>
                    <a:srgbClr val="009999"/>
                  </a:solidFill>
                  <a:latin typeface="Arial"/>
                </a:rPr>
                <a:t>添加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Group 6"/>
          <p:cNvGrpSpPr/>
          <p:nvPr/>
        </p:nvGrpSpPr>
        <p:grpSpPr>
          <a:xfrm>
            <a:off x="3130920" y="1844640"/>
            <a:ext cx="3209400" cy="3742920"/>
            <a:chOff x="3130920" y="1844640"/>
            <a:chExt cx="3209400" cy="3742920"/>
          </a:xfrm>
        </p:grpSpPr>
        <p:sp>
          <p:nvSpPr>
            <p:cNvPr id="347" name="未知"/>
            <p:cNvSpPr/>
            <p:nvPr/>
          </p:nvSpPr>
          <p:spPr>
            <a:xfrm rot="5400000">
              <a:off x="2503440" y="2471760"/>
              <a:ext cx="3395160" cy="2140920"/>
            </a:xfrm>
            <a:custGeom>
              <a:avLst/>
              <a:gdLst/>
              <a:ahLst/>
              <a:rect l="l" t="t" r="r" b="b"/>
              <a:pathLst>
                <a:path w="2848" h="1795">
                  <a:moveTo>
                    <a:pt x="224" y="449"/>
                  </a:moveTo>
                  <a:lnTo>
                    <a:pt x="224" y="449"/>
                  </a:lnTo>
                  <a:lnTo>
                    <a:pt x="224" y="484"/>
                  </a:lnTo>
                  <a:lnTo>
                    <a:pt x="226" y="519"/>
                  </a:lnTo>
                  <a:lnTo>
                    <a:pt x="228" y="553"/>
                  </a:lnTo>
                  <a:lnTo>
                    <a:pt x="231" y="587"/>
                  </a:lnTo>
                  <a:lnTo>
                    <a:pt x="235" y="620"/>
                  </a:lnTo>
                  <a:lnTo>
                    <a:pt x="240" y="654"/>
                  </a:lnTo>
                  <a:lnTo>
                    <a:pt x="246" y="687"/>
                  </a:lnTo>
                  <a:lnTo>
                    <a:pt x="252" y="720"/>
                  </a:lnTo>
                  <a:lnTo>
                    <a:pt x="259" y="754"/>
                  </a:lnTo>
                  <a:lnTo>
                    <a:pt x="267" y="785"/>
                  </a:lnTo>
                  <a:lnTo>
                    <a:pt x="275" y="817"/>
                  </a:lnTo>
                  <a:lnTo>
                    <a:pt x="285" y="849"/>
                  </a:lnTo>
                  <a:lnTo>
                    <a:pt x="295" y="881"/>
                  </a:lnTo>
                  <a:lnTo>
                    <a:pt x="306" y="912"/>
                  </a:lnTo>
                  <a:lnTo>
                    <a:pt x="318" y="942"/>
                  </a:lnTo>
                  <a:lnTo>
                    <a:pt x="329" y="973"/>
                  </a:lnTo>
                  <a:lnTo>
                    <a:pt x="342" y="1003"/>
                  </a:lnTo>
                  <a:lnTo>
                    <a:pt x="357" y="1032"/>
                  </a:lnTo>
                  <a:lnTo>
                    <a:pt x="371" y="1062"/>
                  </a:lnTo>
                  <a:lnTo>
                    <a:pt x="386" y="1090"/>
                  </a:lnTo>
                  <a:lnTo>
                    <a:pt x="403" y="1118"/>
                  </a:lnTo>
                  <a:lnTo>
                    <a:pt x="419" y="1147"/>
                  </a:lnTo>
                  <a:lnTo>
                    <a:pt x="436" y="1174"/>
                  </a:lnTo>
                  <a:lnTo>
                    <a:pt x="453" y="1201"/>
                  </a:lnTo>
                  <a:lnTo>
                    <a:pt x="472" y="1228"/>
                  </a:lnTo>
                  <a:lnTo>
                    <a:pt x="491" y="1254"/>
                  </a:lnTo>
                  <a:lnTo>
                    <a:pt x="511" y="1280"/>
                  </a:lnTo>
                  <a:lnTo>
                    <a:pt x="531" y="1305"/>
                  </a:lnTo>
                  <a:lnTo>
                    <a:pt x="553" y="1330"/>
                  </a:lnTo>
                  <a:lnTo>
                    <a:pt x="574" y="1353"/>
                  </a:lnTo>
                  <a:lnTo>
                    <a:pt x="595" y="1377"/>
                  </a:lnTo>
                  <a:lnTo>
                    <a:pt x="618" y="1401"/>
                  </a:lnTo>
                  <a:lnTo>
                    <a:pt x="641" y="1423"/>
                  </a:lnTo>
                  <a:lnTo>
                    <a:pt x="665" y="1445"/>
                  </a:lnTo>
                  <a:lnTo>
                    <a:pt x="690" y="1467"/>
                  </a:lnTo>
                  <a:lnTo>
                    <a:pt x="713" y="1487"/>
                  </a:lnTo>
                  <a:lnTo>
                    <a:pt x="739" y="1508"/>
                  </a:lnTo>
                  <a:lnTo>
                    <a:pt x="764" y="1527"/>
                  </a:lnTo>
                  <a:lnTo>
                    <a:pt x="791" y="1546"/>
                  </a:lnTo>
                  <a:lnTo>
                    <a:pt x="817" y="1565"/>
                  </a:lnTo>
                  <a:lnTo>
                    <a:pt x="844" y="1582"/>
                  </a:lnTo>
                  <a:lnTo>
                    <a:pt x="872" y="1600"/>
                  </a:lnTo>
                  <a:lnTo>
                    <a:pt x="900" y="1617"/>
                  </a:lnTo>
                  <a:lnTo>
                    <a:pt x="928" y="1632"/>
                  </a:lnTo>
                  <a:lnTo>
                    <a:pt x="957" y="1647"/>
                  </a:lnTo>
                  <a:lnTo>
                    <a:pt x="986" y="1662"/>
                  </a:lnTo>
                  <a:lnTo>
                    <a:pt x="1016" y="1676"/>
                  </a:lnTo>
                  <a:lnTo>
                    <a:pt x="1046" y="1689"/>
                  </a:lnTo>
                  <a:lnTo>
                    <a:pt x="1076" y="1702"/>
                  </a:lnTo>
                  <a:lnTo>
                    <a:pt x="1106" y="1714"/>
                  </a:lnTo>
                  <a:lnTo>
                    <a:pt x="1138" y="1724"/>
                  </a:lnTo>
                  <a:lnTo>
                    <a:pt x="1169" y="1734"/>
                  </a:lnTo>
                  <a:lnTo>
                    <a:pt x="1201" y="1743"/>
                  </a:lnTo>
                  <a:lnTo>
                    <a:pt x="1233" y="1752"/>
                  </a:lnTo>
                  <a:lnTo>
                    <a:pt x="1266" y="1761"/>
                  </a:lnTo>
                  <a:lnTo>
                    <a:pt x="1299" y="1768"/>
                  </a:lnTo>
                  <a:lnTo>
                    <a:pt x="1332" y="1774"/>
                  </a:lnTo>
                  <a:lnTo>
                    <a:pt x="1365" y="1780"/>
                  </a:lnTo>
                  <a:lnTo>
                    <a:pt x="1398" y="1784"/>
                  </a:lnTo>
                  <a:lnTo>
                    <a:pt x="1432" y="1788"/>
                  </a:lnTo>
                  <a:lnTo>
                    <a:pt x="1467" y="1790"/>
                  </a:lnTo>
                  <a:lnTo>
                    <a:pt x="1501" y="1793"/>
                  </a:lnTo>
                  <a:lnTo>
                    <a:pt x="1535" y="1794"/>
                  </a:lnTo>
                  <a:lnTo>
                    <a:pt x="1569" y="1795"/>
                  </a:lnTo>
                  <a:lnTo>
                    <a:pt x="1569" y="1795"/>
                  </a:lnTo>
                  <a:lnTo>
                    <a:pt x="1625" y="1794"/>
                  </a:lnTo>
                  <a:lnTo>
                    <a:pt x="1680" y="1790"/>
                  </a:lnTo>
                  <a:lnTo>
                    <a:pt x="1735" y="1784"/>
                  </a:lnTo>
                  <a:lnTo>
                    <a:pt x="1789" y="1777"/>
                  </a:lnTo>
                  <a:lnTo>
                    <a:pt x="1842" y="1767"/>
                  </a:lnTo>
                  <a:lnTo>
                    <a:pt x="1894" y="1755"/>
                  </a:lnTo>
                  <a:lnTo>
                    <a:pt x="1946" y="1742"/>
                  </a:lnTo>
                  <a:lnTo>
                    <a:pt x="1997" y="1725"/>
                  </a:lnTo>
                  <a:lnTo>
                    <a:pt x="2046" y="1708"/>
                  </a:lnTo>
                  <a:lnTo>
                    <a:pt x="2096" y="1688"/>
                  </a:lnTo>
                  <a:lnTo>
                    <a:pt x="2143" y="1666"/>
                  </a:lnTo>
                  <a:lnTo>
                    <a:pt x="2191" y="1643"/>
                  </a:lnTo>
                  <a:lnTo>
                    <a:pt x="2237" y="1618"/>
                  </a:lnTo>
                  <a:lnTo>
                    <a:pt x="2281" y="1592"/>
                  </a:lnTo>
                  <a:lnTo>
                    <a:pt x="2325" y="1562"/>
                  </a:lnTo>
                  <a:lnTo>
                    <a:pt x="2368" y="1533"/>
                  </a:lnTo>
                  <a:lnTo>
                    <a:pt x="2408" y="1501"/>
                  </a:lnTo>
                  <a:lnTo>
                    <a:pt x="2448" y="1468"/>
                  </a:lnTo>
                  <a:lnTo>
                    <a:pt x="2487" y="1434"/>
                  </a:lnTo>
                  <a:lnTo>
                    <a:pt x="2525" y="1397"/>
                  </a:lnTo>
                  <a:lnTo>
                    <a:pt x="2560" y="1359"/>
                  </a:lnTo>
                  <a:lnTo>
                    <a:pt x="2594" y="1322"/>
                  </a:lnTo>
                  <a:lnTo>
                    <a:pt x="2627" y="1280"/>
                  </a:lnTo>
                  <a:lnTo>
                    <a:pt x="2658" y="1239"/>
                  </a:lnTo>
                  <a:lnTo>
                    <a:pt x="2689" y="1196"/>
                  </a:lnTo>
                  <a:lnTo>
                    <a:pt x="2716" y="1153"/>
                  </a:lnTo>
                  <a:lnTo>
                    <a:pt x="2743" y="1108"/>
                  </a:lnTo>
                  <a:lnTo>
                    <a:pt x="2768" y="1062"/>
                  </a:lnTo>
                  <a:lnTo>
                    <a:pt x="2790" y="1015"/>
                  </a:lnTo>
                  <a:lnTo>
                    <a:pt x="2812" y="966"/>
                  </a:lnTo>
                  <a:lnTo>
                    <a:pt x="2832" y="918"/>
                  </a:lnTo>
                  <a:lnTo>
                    <a:pt x="2848" y="867"/>
                  </a:lnTo>
                  <a:lnTo>
                    <a:pt x="2728" y="987"/>
                  </a:lnTo>
                  <a:lnTo>
                    <a:pt x="2728" y="987"/>
                  </a:lnTo>
                  <a:lnTo>
                    <a:pt x="2721" y="994"/>
                  </a:lnTo>
                  <a:lnTo>
                    <a:pt x="2711" y="999"/>
                  </a:lnTo>
                  <a:lnTo>
                    <a:pt x="2702" y="1002"/>
                  </a:lnTo>
                  <a:lnTo>
                    <a:pt x="2691" y="1003"/>
                  </a:lnTo>
                  <a:lnTo>
                    <a:pt x="2691" y="1003"/>
                  </a:lnTo>
                  <a:lnTo>
                    <a:pt x="2681" y="1002"/>
                  </a:lnTo>
                  <a:lnTo>
                    <a:pt x="2671" y="999"/>
                  </a:lnTo>
                  <a:lnTo>
                    <a:pt x="2662" y="994"/>
                  </a:lnTo>
                  <a:lnTo>
                    <a:pt x="2653" y="987"/>
                  </a:lnTo>
                  <a:lnTo>
                    <a:pt x="2415" y="749"/>
                  </a:lnTo>
                  <a:lnTo>
                    <a:pt x="2415" y="749"/>
                  </a:lnTo>
                  <a:lnTo>
                    <a:pt x="2403" y="782"/>
                  </a:lnTo>
                  <a:lnTo>
                    <a:pt x="2390" y="813"/>
                  </a:lnTo>
                  <a:lnTo>
                    <a:pt x="2375" y="844"/>
                  </a:lnTo>
                  <a:lnTo>
                    <a:pt x="2359" y="875"/>
                  </a:lnTo>
                  <a:lnTo>
                    <a:pt x="2343" y="905"/>
                  </a:lnTo>
                  <a:lnTo>
                    <a:pt x="2325" y="933"/>
                  </a:lnTo>
                  <a:lnTo>
                    <a:pt x="2306" y="961"/>
                  </a:lnTo>
                  <a:lnTo>
                    <a:pt x="2286" y="990"/>
                  </a:lnTo>
                  <a:lnTo>
                    <a:pt x="2265" y="1016"/>
                  </a:lnTo>
                  <a:lnTo>
                    <a:pt x="2243" y="1042"/>
                  </a:lnTo>
                  <a:lnTo>
                    <a:pt x="2220" y="1066"/>
                  </a:lnTo>
                  <a:lnTo>
                    <a:pt x="2196" y="1091"/>
                  </a:lnTo>
                  <a:lnTo>
                    <a:pt x="2172" y="1114"/>
                  </a:lnTo>
                  <a:lnTo>
                    <a:pt x="2146" y="1136"/>
                  </a:lnTo>
                  <a:lnTo>
                    <a:pt x="2120" y="1157"/>
                  </a:lnTo>
                  <a:lnTo>
                    <a:pt x="2093" y="1179"/>
                  </a:lnTo>
                  <a:lnTo>
                    <a:pt x="2064" y="1198"/>
                  </a:lnTo>
                  <a:lnTo>
                    <a:pt x="2036" y="1215"/>
                  </a:lnTo>
                  <a:lnTo>
                    <a:pt x="2006" y="1233"/>
                  </a:lnTo>
                  <a:lnTo>
                    <a:pt x="1976" y="1249"/>
                  </a:lnTo>
                  <a:lnTo>
                    <a:pt x="1945" y="1264"/>
                  </a:lnTo>
                  <a:lnTo>
                    <a:pt x="1914" y="1278"/>
                  </a:lnTo>
                  <a:lnTo>
                    <a:pt x="1882" y="1291"/>
                  </a:lnTo>
                  <a:lnTo>
                    <a:pt x="1849" y="1301"/>
                  </a:lnTo>
                  <a:lnTo>
                    <a:pt x="1816" y="1312"/>
                  </a:lnTo>
                  <a:lnTo>
                    <a:pt x="1782" y="1320"/>
                  </a:lnTo>
                  <a:lnTo>
                    <a:pt x="1748" y="1329"/>
                  </a:lnTo>
                  <a:lnTo>
                    <a:pt x="1713" y="1334"/>
                  </a:lnTo>
                  <a:lnTo>
                    <a:pt x="1678" y="1339"/>
                  </a:lnTo>
                  <a:lnTo>
                    <a:pt x="1643" y="1343"/>
                  </a:lnTo>
                  <a:lnTo>
                    <a:pt x="1606" y="1345"/>
                  </a:lnTo>
                  <a:lnTo>
                    <a:pt x="1569" y="1346"/>
                  </a:lnTo>
                  <a:lnTo>
                    <a:pt x="1569" y="1346"/>
                  </a:lnTo>
                  <a:lnTo>
                    <a:pt x="1523" y="1345"/>
                  </a:lnTo>
                  <a:lnTo>
                    <a:pt x="1478" y="1342"/>
                  </a:lnTo>
                  <a:lnTo>
                    <a:pt x="1434" y="1336"/>
                  </a:lnTo>
                  <a:lnTo>
                    <a:pt x="1389" y="1327"/>
                  </a:lnTo>
                  <a:lnTo>
                    <a:pt x="1345" y="1318"/>
                  </a:lnTo>
                  <a:lnTo>
                    <a:pt x="1303" y="1306"/>
                  </a:lnTo>
                  <a:lnTo>
                    <a:pt x="1261" y="1292"/>
                  </a:lnTo>
                  <a:lnTo>
                    <a:pt x="1221" y="1275"/>
                  </a:lnTo>
                  <a:lnTo>
                    <a:pt x="1181" y="1258"/>
                  </a:lnTo>
                  <a:lnTo>
                    <a:pt x="1142" y="1238"/>
                  </a:lnTo>
                  <a:lnTo>
                    <a:pt x="1104" y="1216"/>
                  </a:lnTo>
                  <a:lnTo>
                    <a:pt x="1069" y="1193"/>
                  </a:lnTo>
                  <a:lnTo>
                    <a:pt x="1033" y="1168"/>
                  </a:lnTo>
                  <a:lnTo>
                    <a:pt x="999" y="1141"/>
                  </a:lnTo>
                  <a:lnTo>
                    <a:pt x="966" y="1114"/>
                  </a:lnTo>
                  <a:lnTo>
                    <a:pt x="935" y="1083"/>
                  </a:lnTo>
                  <a:lnTo>
                    <a:pt x="906" y="1052"/>
                  </a:lnTo>
                  <a:lnTo>
                    <a:pt x="877" y="1019"/>
                  </a:lnTo>
                  <a:lnTo>
                    <a:pt x="850" y="986"/>
                  </a:lnTo>
                  <a:lnTo>
                    <a:pt x="825" y="951"/>
                  </a:lnTo>
                  <a:lnTo>
                    <a:pt x="803" y="914"/>
                  </a:lnTo>
                  <a:lnTo>
                    <a:pt x="781" y="876"/>
                  </a:lnTo>
                  <a:lnTo>
                    <a:pt x="760" y="839"/>
                  </a:lnTo>
                  <a:lnTo>
                    <a:pt x="743" y="798"/>
                  </a:lnTo>
                  <a:lnTo>
                    <a:pt x="727" y="757"/>
                  </a:lnTo>
                  <a:lnTo>
                    <a:pt x="713" y="716"/>
                  </a:lnTo>
                  <a:lnTo>
                    <a:pt x="700" y="673"/>
                  </a:lnTo>
                  <a:lnTo>
                    <a:pt x="691" y="630"/>
                  </a:lnTo>
                  <a:lnTo>
                    <a:pt x="683" y="586"/>
                  </a:lnTo>
                  <a:lnTo>
                    <a:pt x="677" y="541"/>
                  </a:lnTo>
                  <a:lnTo>
                    <a:pt x="674" y="495"/>
                  </a:lnTo>
                  <a:lnTo>
                    <a:pt x="673" y="449"/>
                  </a:lnTo>
                  <a:lnTo>
                    <a:pt x="897" y="449"/>
                  </a:lnTo>
                  <a:lnTo>
                    <a:pt x="449" y="0"/>
                  </a:lnTo>
                  <a:lnTo>
                    <a:pt x="0" y="449"/>
                  </a:lnTo>
                  <a:lnTo>
                    <a:pt x="224" y="449"/>
                  </a:lnTo>
                  <a:close/>
                </a:path>
              </a:pathLst>
            </a:custGeom>
            <a:gradFill rotWithShape="0">
              <a:gsLst>
                <a:gs pos="0">
                  <a:srgbClr val="ffc800"/>
                </a:gs>
                <a:gs pos="100000">
                  <a:srgbClr val="ff6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未知"/>
            <p:cNvSpPr/>
            <p:nvPr/>
          </p:nvSpPr>
          <p:spPr>
            <a:xfrm rot="5400000">
              <a:off x="3572280" y="2819520"/>
              <a:ext cx="3396240" cy="2139480"/>
            </a:xfrm>
            <a:custGeom>
              <a:avLst/>
              <a:gdLst/>
              <a:ahLst/>
              <a:rect l="l" t="t" r="r" b="b"/>
              <a:pathLst>
                <a:path w="2849" h="1794">
                  <a:moveTo>
                    <a:pt x="2625" y="1345"/>
                  </a:moveTo>
                  <a:lnTo>
                    <a:pt x="2625" y="1345"/>
                  </a:lnTo>
                  <a:lnTo>
                    <a:pt x="2623" y="1311"/>
                  </a:lnTo>
                  <a:lnTo>
                    <a:pt x="2622" y="1276"/>
                  </a:lnTo>
                  <a:lnTo>
                    <a:pt x="2620" y="1242"/>
                  </a:lnTo>
                  <a:lnTo>
                    <a:pt x="2618" y="1208"/>
                  </a:lnTo>
                  <a:lnTo>
                    <a:pt x="2614" y="1174"/>
                  </a:lnTo>
                  <a:lnTo>
                    <a:pt x="2609" y="1141"/>
                  </a:lnTo>
                  <a:lnTo>
                    <a:pt x="2603" y="1106"/>
                  </a:lnTo>
                  <a:lnTo>
                    <a:pt x="2597" y="1075"/>
                  </a:lnTo>
                  <a:lnTo>
                    <a:pt x="2590" y="1041"/>
                  </a:lnTo>
                  <a:lnTo>
                    <a:pt x="2582" y="1008"/>
                  </a:lnTo>
                  <a:lnTo>
                    <a:pt x="2574" y="977"/>
                  </a:lnTo>
                  <a:lnTo>
                    <a:pt x="2564" y="945"/>
                  </a:lnTo>
                  <a:lnTo>
                    <a:pt x="2554" y="914"/>
                  </a:lnTo>
                  <a:lnTo>
                    <a:pt x="2543" y="882"/>
                  </a:lnTo>
                  <a:lnTo>
                    <a:pt x="2531" y="851"/>
                  </a:lnTo>
                  <a:lnTo>
                    <a:pt x="2518" y="822"/>
                  </a:lnTo>
                  <a:lnTo>
                    <a:pt x="2505" y="791"/>
                  </a:lnTo>
                  <a:lnTo>
                    <a:pt x="2491" y="762"/>
                  </a:lnTo>
                  <a:lnTo>
                    <a:pt x="2477" y="732"/>
                  </a:lnTo>
                  <a:lnTo>
                    <a:pt x="2462" y="704"/>
                  </a:lnTo>
                  <a:lnTo>
                    <a:pt x="2446" y="675"/>
                  </a:lnTo>
                  <a:lnTo>
                    <a:pt x="2430" y="647"/>
                  </a:lnTo>
                  <a:lnTo>
                    <a:pt x="2412" y="620"/>
                  </a:lnTo>
                  <a:lnTo>
                    <a:pt x="2394" y="593"/>
                  </a:lnTo>
                  <a:lnTo>
                    <a:pt x="2377" y="567"/>
                  </a:lnTo>
                  <a:lnTo>
                    <a:pt x="2357" y="540"/>
                  </a:lnTo>
                  <a:lnTo>
                    <a:pt x="2338" y="515"/>
                  </a:lnTo>
                  <a:lnTo>
                    <a:pt x="2318" y="489"/>
                  </a:lnTo>
                  <a:lnTo>
                    <a:pt x="2296" y="464"/>
                  </a:lnTo>
                  <a:lnTo>
                    <a:pt x="2275" y="440"/>
                  </a:lnTo>
                  <a:lnTo>
                    <a:pt x="2253" y="417"/>
                  </a:lnTo>
                  <a:lnTo>
                    <a:pt x="2230" y="393"/>
                  </a:lnTo>
                  <a:lnTo>
                    <a:pt x="2207" y="371"/>
                  </a:lnTo>
                  <a:lnTo>
                    <a:pt x="2183" y="350"/>
                  </a:lnTo>
                  <a:lnTo>
                    <a:pt x="2159" y="328"/>
                  </a:lnTo>
                  <a:lnTo>
                    <a:pt x="2135" y="307"/>
                  </a:lnTo>
                  <a:lnTo>
                    <a:pt x="2110" y="287"/>
                  </a:lnTo>
                  <a:lnTo>
                    <a:pt x="2084" y="267"/>
                  </a:lnTo>
                  <a:lnTo>
                    <a:pt x="2058" y="248"/>
                  </a:lnTo>
                  <a:lnTo>
                    <a:pt x="2031" y="229"/>
                  </a:lnTo>
                  <a:lnTo>
                    <a:pt x="2003" y="211"/>
                  </a:lnTo>
                  <a:lnTo>
                    <a:pt x="1976" y="195"/>
                  </a:lnTo>
                  <a:lnTo>
                    <a:pt x="1948" y="178"/>
                  </a:lnTo>
                  <a:lnTo>
                    <a:pt x="1920" y="162"/>
                  </a:lnTo>
                  <a:lnTo>
                    <a:pt x="1891" y="146"/>
                  </a:lnTo>
                  <a:lnTo>
                    <a:pt x="1862" y="132"/>
                  </a:lnTo>
                  <a:lnTo>
                    <a:pt x="1832" y="118"/>
                  </a:lnTo>
                  <a:lnTo>
                    <a:pt x="1803" y="105"/>
                  </a:lnTo>
                  <a:lnTo>
                    <a:pt x="1772" y="93"/>
                  </a:lnTo>
                  <a:lnTo>
                    <a:pt x="1741" y="81"/>
                  </a:lnTo>
                  <a:lnTo>
                    <a:pt x="1711" y="71"/>
                  </a:lnTo>
                  <a:lnTo>
                    <a:pt x="1679" y="60"/>
                  </a:lnTo>
                  <a:lnTo>
                    <a:pt x="1647" y="51"/>
                  </a:lnTo>
                  <a:lnTo>
                    <a:pt x="1615" y="43"/>
                  </a:lnTo>
                  <a:lnTo>
                    <a:pt x="1583" y="34"/>
                  </a:lnTo>
                  <a:lnTo>
                    <a:pt x="1550" y="27"/>
                  </a:lnTo>
                  <a:lnTo>
                    <a:pt x="1517" y="20"/>
                  </a:lnTo>
                  <a:lnTo>
                    <a:pt x="1484" y="15"/>
                  </a:lnTo>
                  <a:lnTo>
                    <a:pt x="1450" y="11"/>
                  </a:lnTo>
                  <a:lnTo>
                    <a:pt x="1417" y="7"/>
                  </a:lnTo>
                  <a:lnTo>
                    <a:pt x="1382" y="4"/>
                  </a:lnTo>
                  <a:lnTo>
                    <a:pt x="1348" y="1"/>
                  </a:lnTo>
                  <a:lnTo>
                    <a:pt x="1314" y="0"/>
                  </a:lnTo>
                  <a:lnTo>
                    <a:pt x="1278" y="0"/>
                  </a:lnTo>
                  <a:lnTo>
                    <a:pt x="1278" y="0"/>
                  </a:lnTo>
                  <a:lnTo>
                    <a:pt x="1223" y="1"/>
                  </a:lnTo>
                  <a:lnTo>
                    <a:pt x="1167" y="4"/>
                  </a:lnTo>
                  <a:lnTo>
                    <a:pt x="1113" y="9"/>
                  </a:lnTo>
                  <a:lnTo>
                    <a:pt x="1060" y="18"/>
                  </a:lnTo>
                  <a:lnTo>
                    <a:pt x="1007" y="27"/>
                  </a:lnTo>
                  <a:lnTo>
                    <a:pt x="954" y="39"/>
                  </a:lnTo>
                  <a:lnTo>
                    <a:pt x="903" y="53"/>
                  </a:lnTo>
                  <a:lnTo>
                    <a:pt x="852" y="68"/>
                  </a:lnTo>
                  <a:lnTo>
                    <a:pt x="801" y="86"/>
                  </a:lnTo>
                  <a:lnTo>
                    <a:pt x="753" y="106"/>
                  </a:lnTo>
                  <a:lnTo>
                    <a:pt x="704" y="128"/>
                  </a:lnTo>
                  <a:lnTo>
                    <a:pt x="658" y="151"/>
                  </a:lnTo>
                  <a:lnTo>
                    <a:pt x="612" y="176"/>
                  </a:lnTo>
                  <a:lnTo>
                    <a:pt x="568" y="203"/>
                  </a:lnTo>
                  <a:lnTo>
                    <a:pt x="524" y="231"/>
                  </a:lnTo>
                  <a:lnTo>
                    <a:pt x="481" y="261"/>
                  </a:lnTo>
                  <a:lnTo>
                    <a:pt x="440" y="293"/>
                  </a:lnTo>
                  <a:lnTo>
                    <a:pt x="400" y="326"/>
                  </a:lnTo>
                  <a:lnTo>
                    <a:pt x="362" y="361"/>
                  </a:lnTo>
                  <a:lnTo>
                    <a:pt x="324" y="397"/>
                  </a:lnTo>
                  <a:lnTo>
                    <a:pt x="289" y="435"/>
                  </a:lnTo>
                  <a:lnTo>
                    <a:pt x="255" y="473"/>
                  </a:lnTo>
                  <a:lnTo>
                    <a:pt x="222" y="514"/>
                  </a:lnTo>
                  <a:lnTo>
                    <a:pt x="190" y="555"/>
                  </a:lnTo>
                  <a:lnTo>
                    <a:pt x="160" y="597"/>
                  </a:lnTo>
                  <a:lnTo>
                    <a:pt x="132" y="641"/>
                  </a:lnTo>
                  <a:lnTo>
                    <a:pt x="106" y="686"/>
                  </a:lnTo>
                  <a:lnTo>
                    <a:pt x="81" y="732"/>
                  </a:lnTo>
                  <a:lnTo>
                    <a:pt x="57" y="779"/>
                  </a:lnTo>
                  <a:lnTo>
                    <a:pt x="36" y="828"/>
                  </a:lnTo>
                  <a:lnTo>
                    <a:pt x="17" y="877"/>
                  </a:lnTo>
                  <a:lnTo>
                    <a:pt x="0" y="927"/>
                  </a:lnTo>
                  <a:lnTo>
                    <a:pt x="120" y="806"/>
                  </a:lnTo>
                  <a:lnTo>
                    <a:pt x="120" y="806"/>
                  </a:lnTo>
                  <a:lnTo>
                    <a:pt x="128" y="801"/>
                  </a:lnTo>
                  <a:lnTo>
                    <a:pt x="138" y="795"/>
                  </a:lnTo>
                  <a:lnTo>
                    <a:pt x="147" y="792"/>
                  </a:lnTo>
                  <a:lnTo>
                    <a:pt x="158" y="791"/>
                  </a:lnTo>
                  <a:lnTo>
                    <a:pt x="158" y="791"/>
                  </a:lnTo>
                  <a:lnTo>
                    <a:pt x="167" y="792"/>
                  </a:lnTo>
                  <a:lnTo>
                    <a:pt x="178" y="795"/>
                  </a:lnTo>
                  <a:lnTo>
                    <a:pt x="186" y="801"/>
                  </a:lnTo>
                  <a:lnTo>
                    <a:pt x="194" y="806"/>
                  </a:lnTo>
                  <a:lnTo>
                    <a:pt x="433" y="1045"/>
                  </a:lnTo>
                  <a:lnTo>
                    <a:pt x="433" y="1045"/>
                  </a:lnTo>
                  <a:lnTo>
                    <a:pt x="446" y="1013"/>
                  </a:lnTo>
                  <a:lnTo>
                    <a:pt x="459" y="981"/>
                  </a:lnTo>
                  <a:lnTo>
                    <a:pt x="473" y="951"/>
                  </a:lnTo>
                  <a:lnTo>
                    <a:pt x="488" y="920"/>
                  </a:lnTo>
                  <a:lnTo>
                    <a:pt x="506" y="890"/>
                  </a:lnTo>
                  <a:lnTo>
                    <a:pt x="524" y="861"/>
                  </a:lnTo>
                  <a:lnTo>
                    <a:pt x="543" y="832"/>
                  </a:lnTo>
                  <a:lnTo>
                    <a:pt x="563" y="805"/>
                  </a:lnTo>
                  <a:lnTo>
                    <a:pt x="584" y="778"/>
                  </a:lnTo>
                  <a:lnTo>
                    <a:pt x="605" y="752"/>
                  </a:lnTo>
                  <a:lnTo>
                    <a:pt x="628" y="727"/>
                  </a:lnTo>
                  <a:lnTo>
                    <a:pt x="653" y="704"/>
                  </a:lnTo>
                  <a:lnTo>
                    <a:pt x="677" y="680"/>
                  </a:lnTo>
                  <a:lnTo>
                    <a:pt x="702" y="658"/>
                  </a:lnTo>
                  <a:lnTo>
                    <a:pt x="729" y="636"/>
                  </a:lnTo>
                  <a:lnTo>
                    <a:pt x="756" y="616"/>
                  </a:lnTo>
                  <a:lnTo>
                    <a:pt x="784" y="596"/>
                  </a:lnTo>
                  <a:lnTo>
                    <a:pt x="813" y="579"/>
                  </a:lnTo>
                  <a:lnTo>
                    <a:pt x="843" y="561"/>
                  </a:lnTo>
                  <a:lnTo>
                    <a:pt x="872" y="546"/>
                  </a:lnTo>
                  <a:lnTo>
                    <a:pt x="903" y="530"/>
                  </a:lnTo>
                  <a:lnTo>
                    <a:pt x="935" y="516"/>
                  </a:lnTo>
                  <a:lnTo>
                    <a:pt x="967" y="504"/>
                  </a:lnTo>
                  <a:lnTo>
                    <a:pt x="1000" y="492"/>
                  </a:lnTo>
                  <a:lnTo>
                    <a:pt x="1033" y="482"/>
                  </a:lnTo>
                  <a:lnTo>
                    <a:pt x="1066" y="473"/>
                  </a:lnTo>
                  <a:lnTo>
                    <a:pt x="1100" y="465"/>
                  </a:lnTo>
                  <a:lnTo>
                    <a:pt x="1136" y="459"/>
                  </a:lnTo>
                  <a:lnTo>
                    <a:pt x="1171" y="455"/>
                  </a:lnTo>
                  <a:lnTo>
                    <a:pt x="1206" y="451"/>
                  </a:lnTo>
                  <a:lnTo>
                    <a:pt x="1242" y="449"/>
                  </a:lnTo>
                  <a:lnTo>
                    <a:pt x="1278" y="448"/>
                  </a:lnTo>
                  <a:lnTo>
                    <a:pt x="1278" y="448"/>
                  </a:lnTo>
                  <a:lnTo>
                    <a:pt x="1324" y="449"/>
                  </a:lnTo>
                  <a:lnTo>
                    <a:pt x="1371" y="452"/>
                  </a:lnTo>
                  <a:lnTo>
                    <a:pt x="1415" y="458"/>
                  </a:lnTo>
                  <a:lnTo>
                    <a:pt x="1459" y="466"/>
                  </a:lnTo>
                  <a:lnTo>
                    <a:pt x="1503" y="476"/>
                  </a:lnTo>
                  <a:lnTo>
                    <a:pt x="1545" y="489"/>
                  </a:lnTo>
                  <a:lnTo>
                    <a:pt x="1587" y="503"/>
                  </a:lnTo>
                  <a:lnTo>
                    <a:pt x="1628" y="518"/>
                  </a:lnTo>
                  <a:lnTo>
                    <a:pt x="1668" y="536"/>
                  </a:lnTo>
                  <a:lnTo>
                    <a:pt x="1706" y="556"/>
                  </a:lnTo>
                  <a:lnTo>
                    <a:pt x="1744" y="577"/>
                  </a:lnTo>
                  <a:lnTo>
                    <a:pt x="1780" y="601"/>
                  </a:lnTo>
                  <a:lnTo>
                    <a:pt x="1816" y="626"/>
                  </a:lnTo>
                  <a:lnTo>
                    <a:pt x="1850" y="653"/>
                  </a:lnTo>
                  <a:lnTo>
                    <a:pt x="1882" y="681"/>
                  </a:lnTo>
                  <a:lnTo>
                    <a:pt x="1913" y="711"/>
                  </a:lnTo>
                  <a:lnTo>
                    <a:pt x="1943" y="742"/>
                  </a:lnTo>
                  <a:lnTo>
                    <a:pt x="1970" y="775"/>
                  </a:lnTo>
                  <a:lnTo>
                    <a:pt x="1998" y="809"/>
                  </a:lnTo>
                  <a:lnTo>
                    <a:pt x="2022" y="843"/>
                  </a:lnTo>
                  <a:lnTo>
                    <a:pt x="2046" y="880"/>
                  </a:lnTo>
                  <a:lnTo>
                    <a:pt x="2067" y="917"/>
                  </a:lnTo>
                  <a:lnTo>
                    <a:pt x="2087" y="956"/>
                  </a:lnTo>
                  <a:lnTo>
                    <a:pt x="2105" y="995"/>
                  </a:lnTo>
                  <a:lnTo>
                    <a:pt x="2122" y="1037"/>
                  </a:lnTo>
                  <a:lnTo>
                    <a:pt x="2136" y="1078"/>
                  </a:lnTo>
                  <a:lnTo>
                    <a:pt x="2148" y="1121"/>
                  </a:lnTo>
                  <a:lnTo>
                    <a:pt x="2158" y="1164"/>
                  </a:lnTo>
                  <a:lnTo>
                    <a:pt x="2165" y="1208"/>
                  </a:lnTo>
                  <a:lnTo>
                    <a:pt x="2171" y="1254"/>
                  </a:lnTo>
                  <a:lnTo>
                    <a:pt x="2175" y="1299"/>
                  </a:lnTo>
                  <a:lnTo>
                    <a:pt x="2176" y="1345"/>
                  </a:lnTo>
                  <a:lnTo>
                    <a:pt x="1952" y="1345"/>
                  </a:lnTo>
                  <a:lnTo>
                    <a:pt x="2400" y="1794"/>
                  </a:lnTo>
                  <a:lnTo>
                    <a:pt x="2849" y="1345"/>
                  </a:lnTo>
                  <a:lnTo>
                    <a:pt x="2625" y="1345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bbe0e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WordArt 9"/>
          <p:cNvSpPr txBox="1"/>
          <p:nvPr/>
        </p:nvSpPr>
        <p:spPr>
          <a:xfrm rot="5400000">
            <a:off x="3713040" y="2590560"/>
            <a:ext cx="2414520" cy="2284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1339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双击此处添加标题文字</a:t>
            </a:r>
            <a:endParaRPr b="0" lang="en-US" sz="800" spc="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350" name="WordArt 10"/>
          <p:cNvSpPr txBox="1"/>
          <p:nvPr/>
        </p:nvSpPr>
        <p:spPr>
          <a:xfrm rot="16200000">
            <a:off x="3300480" y="2708280"/>
            <a:ext cx="2130480" cy="1984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3705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双击此处添加标题文字</a:t>
            </a:r>
            <a:endParaRPr b="0" lang="en-US" sz="800" spc="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351" name="Line 11"/>
          <p:cNvSpPr/>
          <p:nvPr/>
        </p:nvSpPr>
        <p:spPr>
          <a:xfrm flipH="1">
            <a:off x="6448320" y="3700440"/>
            <a:ext cx="2108160" cy="0"/>
          </a:xfrm>
          <a:prstGeom prst="line">
            <a:avLst/>
          </a:prstGeom>
          <a:ln cap="rnd" w="19080">
            <a:solidFill>
              <a:srgbClr val="333399"/>
            </a:solidFill>
            <a:custDash>
              <a:ds d="100000" sp="1000"/>
            </a:custDash>
            <a:miter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WordArt 12"/>
          <p:cNvSpPr txBox="1"/>
          <p:nvPr/>
        </p:nvSpPr>
        <p:spPr>
          <a:xfrm>
            <a:off x="2590920" y="1522440"/>
            <a:ext cx="4298760" cy="3994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6833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1" strike="noStrike">
                <a:ln w="0">
                  <a:noFill/>
                </a:ln>
                <a:solidFill>
                  <a:srgbClr val="009999"/>
                </a:solidFill>
                <a:latin typeface="黑体"/>
              </a:rPr>
              <a:t>双击此处添加标题文字内容</a:t>
            </a:r>
            <a:endParaRPr b="0" lang="en-US" sz="800" spc="1" strike="noStrike">
              <a:ln w="0">
                <a:noFill/>
              </a:ln>
              <a:solidFill>
                <a:srgbClr val="009999"/>
              </a:solidFill>
              <a:latin typeface="黑体"/>
              <a:ea typeface="黑体"/>
            </a:endParaRPr>
          </a:p>
        </p:txBody>
      </p:sp>
      <p:sp>
        <p:nvSpPr>
          <p:cNvPr id="353" name="AutoShape 13"/>
          <p:cNvSpPr/>
          <p:nvPr/>
        </p:nvSpPr>
        <p:spPr>
          <a:xfrm>
            <a:off x="6684840" y="3286080"/>
            <a:ext cx="1704960" cy="3589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单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14"/>
          <p:cNvSpPr/>
          <p:nvPr/>
        </p:nvSpPr>
        <p:spPr>
          <a:xfrm>
            <a:off x="1019160" y="3284640"/>
            <a:ext cx="1704960" cy="35856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单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5"/>
          <p:cNvSpPr/>
          <p:nvPr/>
        </p:nvSpPr>
        <p:spPr>
          <a:xfrm>
            <a:off x="755640" y="3699000"/>
            <a:ext cx="2278080" cy="0"/>
          </a:xfrm>
          <a:prstGeom prst="line">
            <a:avLst/>
          </a:prstGeom>
          <a:ln cap="rnd" w="19080">
            <a:solidFill>
              <a:srgbClr val="333399"/>
            </a:solidFill>
            <a:custDash>
              <a:ds d="100000" sp="1000"/>
            </a:custDash>
            <a:miter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16"/>
          <p:cNvSpPr/>
          <p:nvPr/>
        </p:nvSpPr>
        <p:spPr>
          <a:xfrm>
            <a:off x="3443400" y="5661000"/>
            <a:ext cx="2593800" cy="504720"/>
          </a:xfrm>
          <a:prstGeom prst="ellipse">
            <a:avLst/>
          </a:prstGeom>
          <a:gradFill rotWithShape="0">
            <a:gsLst>
              <a:gs pos="0">
                <a:srgbClr val="000000">
                  <a:alpha val="7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7"/>
          <p:cNvSpPr/>
          <p:nvPr/>
        </p:nvSpPr>
        <p:spPr>
          <a:xfrm>
            <a:off x="7012080" y="3760920"/>
            <a:ext cx="109512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8"/>
          <p:cNvSpPr/>
          <p:nvPr/>
        </p:nvSpPr>
        <p:spPr>
          <a:xfrm>
            <a:off x="1335240" y="3760920"/>
            <a:ext cx="109512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2"/>
          <p:cNvSpPr/>
          <p:nvPr/>
        </p:nvSpPr>
        <p:spPr>
          <a:xfrm>
            <a:off x="0" y="982800"/>
            <a:ext cx="9144000" cy="59036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3" descr="chinamap1"/>
          <p:cNvPicPr/>
          <p:nvPr/>
        </p:nvPicPr>
        <p:blipFill>
          <a:blip r:embed="rId1"/>
          <a:stretch/>
        </p:blipFill>
        <p:spPr>
          <a:xfrm>
            <a:off x="1116000" y="1413000"/>
            <a:ext cx="5318280" cy="48402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85"/>
          <p:cNvPicPr/>
          <p:nvPr/>
        </p:nvPicPr>
        <p:blipFill>
          <a:blip r:embed="rId2"/>
          <a:stretch/>
        </p:blipFill>
        <p:spPr>
          <a:xfrm>
            <a:off x="6300720" y="3645000"/>
            <a:ext cx="240984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03320" y="57240"/>
            <a:ext cx="893736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982800"/>
            <a:ext cx="9144000" cy="58752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3"/>
          <p:cNvGrpSpPr/>
          <p:nvPr/>
        </p:nvGrpSpPr>
        <p:grpSpPr>
          <a:xfrm>
            <a:off x="1908000" y="1298520"/>
            <a:ext cx="5616360" cy="5010120"/>
            <a:chOff x="1908000" y="1298520"/>
            <a:chExt cx="5616360" cy="5010120"/>
          </a:xfrm>
        </p:grpSpPr>
        <p:grpSp>
          <p:nvGrpSpPr>
            <p:cNvPr id="47" name="Group 4"/>
            <p:cNvGrpSpPr/>
            <p:nvPr/>
          </p:nvGrpSpPr>
          <p:grpSpPr>
            <a:xfrm>
              <a:off x="1908000" y="1298520"/>
              <a:ext cx="5614560" cy="857880"/>
              <a:chOff x="1908000" y="1298520"/>
              <a:chExt cx="5614560" cy="857880"/>
            </a:xfrm>
          </p:grpSpPr>
          <p:pic>
            <p:nvPicPr>
              <p:cNvPr id="48" name="Picture 5" descr="未标题2_03"/>
              <p:cNvPicPr/>
              <p:nvPr/>
            </p:nvPicPr>
            <p:blipFill>
              <a:blip r:embed="rId1"/>
              <a:stretch/>
            </p:blipFill>
            <p:spPr>
              <a:xfrm>
                <a:off x="2382840" y="1376640"/>
                <a:ext cx="5139720" cy="70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" name="Picture 6" descr="未标题2_07"/>
              <p:cNvPicPr/>
              <p:nvPr/>
            </p:nvPicPr>
            <p:blipFill>
              <a:blip r:embed="rId2"/>
              <a:stretch/>
            </p:blipFill>
            <p:spPr>
              <a:xfrm>
                <a:off x="1908000" y="1298520"/>
                <a:ext cx="856080" cy="857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" name="Text Box 7"/>
              <p:cNvSpPr/>
              <p:nvPr/>
            </p:nvSpPr>
            <p:spPr>
              <a:xfrm>
                <a:off x="2778840" y="1496160"/>
                <a:ext cx="458640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单击添加文字内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Group 8"/>
            <p:cNvGrpSpPr/>
            <p:nvPr/>
          </p:nvGrpSpPr>
          <p:grpSpPr>
            <a:xfrm>
              <a:off x="1908000" y="2348280"/>
              <a:ext cx="5614560" cy="856440"/>
              <a:chOff x="1908000" y="2348280"/>
              <a:chExt cx="5614560" cy="856440"/>
            </a:xfrm>
          </p:grpSpPr>
          <p:pic>
            <p:nvPicPr>
              <p:cNvPr id="52" name="Picture 9" descr="未标题2_03"/>
              <p:cNvPicPr/>
              <p:nvPr/>
            </p:nvPicPr>
            <p:blipFill>
              <a:blip r:embed="rId3"/>
              <a:stretch/>
            </p:blipFill>
            <p:spPr>
              <a:xfrm>
                <a:off x="2382840" y="2426400"/>
                <a:ext cx="5139720" cy="700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Picture 10" descr="未标题2_07-03"/>
              <p:cNvPicPr/>
              <p:nvPr/>
            </p:nvPicPr>
            <p:blipFill>
              <a:blip r:embed="rId4"/>
              <a:stretch/>
            </p:blipFill>
            <p:spPr>
              <a:xfrm>
                <a:off x="1908000" y="2348280"/>
                <a:ext cx="856080" cy="85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Text Box 11"/>
              <p:cNvSpPr/>
              <p:nvPr/>
            </p:nvSpPr>
            <p:spPr>
              <a:xfrm>
                <a:off x="2778840" y="2557440"/>
                <a:ext cx="4586400" cy="4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单击添加文字内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Group 12"/>
            <p:cNvGrpSpPr/>
            <p:nvPr/>
          </p:nvGrpSpPr>
          <p:grpSpPr>
            <a:xfrm>
              <a:off x="1908000" y="3396600"/>
              <a:ext cx="5614560" cy="855720"/>
              <a:chOff x="1908000" y="3396600"/>
              <a:chExt cx="5614560" cy="855720"/>
            </a:xfrm>
          </p:grpSpPr>
          <p:pic>
            <p:nvPicPr>
              <p:cNvPr id="56" name="Picture 13" descr="未标题2_03"/>
              <p:cNvPicPr/>
              <p:nvPr/>
            </p:nvPicPr>
            <p:blipFill>
              <a:blip r:embed="rId5"/>
              <a:stretch/>
            </p:blipFill>
            <p:spPr>
              <a:xfrm>
                <a:off x="2382840" y="3474360"/>
                <a:ext cx="5139720" cy="69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" name="Picture 14" descr="未标题2_07-04"/>
              <p:cNvPicPr/>
              <p:nvPr/>
            </p:nvPicPr>
            <p:blipFill>
              <a:blip r:embed="rId6"/>
              <a:stretch/>
            </p:blipFill>
            <p:spPr>
              <a:xfrm>
                <a:off x="1908000" y="3396600"/>
                <a:ext cx="856080" cy="855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Text Box 15"/>
              <p:cNvSpPr/>
              <p:nvPr/>
            </p:nvSpPr>
            <p:spPr>
              <a:xfrm>
                <a:off x="2778840" y="3606840"/>
                <a:ext cx="4586400" cy="40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单击添加文字内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Group 16"/>
            <p:cNvGrpSpPr/>
            <p:nvPr/>
          </p:nvGrpSpPr>
          <p:grpSpPr>
            <a:xfrm>
              <a:off x="1908000" y="4444200"/>
              <a:ext cx="5614200" cy="856440"/>
              <a:chOff x="1908000" y="4444200"/>
              <a:chExt cx="5614200" cy="856440"/>
            </a:xfrm>
          </p:grpSpPr>
          <p:pic>
            <p:nvPicPr>
              <p:cNvPr id="60" name="Picture 17" descr="未标题2_03"/>
              <p:cNvPicPr/>
              <p:nvPr/>
            </p:nvPicPr>
            <p:blipFill>
              <a:blip r:embed="rId7"/>
              <a:stretch/>
            </p:blipFill>
            <p:spPr>
              <a:xfrm>
                <a:off x="2382120" y="4520880"/>
                <a:ext cx="5140080" cy="70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" name="Picture 18" descr="未标题2_07-05"/>
              <p:cNvPicPr/>
              <p:nvPr/>
            </p:nvPicPr>
            <p:blipFill>
              <a:blip r:embed="rId8"/>
              <a:stretch/>
            </p:blipFill>
            <p:spPr>
              <a:xfrm>
                <a:off x="1908000" y="4444200"/>
                <a:ext cx="856440" cy="85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Text Box 19"/>
              <p:cNvSpPr/>
              <p:nvPr/>
            </p:nvSpPr>
            <p:spPr>
              <a:xfrm>
                <a:off x="2779560" y="4646520"/>
                <a:ext cx="4585680" cy="40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单击添加文字内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" name="Group 20"/>
            <p:cNvGrpSpPr/>
            <p:nvPr/>
          </p:nvGrpSpPr>
          <p:grpSpPr>
            <a:xfrm>
              <a:off x="1920240" y="5452200"/>
              <a:ext cx="5604120" cy="856440"/>
              <a:chOff x="1920240" y="5452200"/>
              <a:chExt cx="5604120" cy="856440"/>
            </a:xfrm>
          </p:grpSpPr>
          <p:pic>
            <p:nvPicPr>
              <p:cNvPr id="64" name="Picture 21" descr="未标题2_03"/>
              <p:cNvPicPr/>
              <p:nvPr/>
            </p:nvPicPr>
            <p:blipFill>
              <a:blip r:embed="rId9"/>
              <a:stretch/>
            </p:blipFill>
            <p:spPr>
              <a:xfrm>
                <a:off x="2383920" y="5530680"/>
                <a:ext cx="5140440" cy="69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Picture 22" descr="未标题2_07-06"/>
              <p:cNvPicPr/>
              <p:nvPr/>
            </p:nvPicPr>
            <p:blipFill>
              <a:blip r:embed="rId10"/>
              <a:stretch/>
            </p:blipFill>
            <p:spPr>
              <a:xfrm>
                <a:off x="1920240" y="5452200"/>
                <a:ext cx="855720" cy="85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" name="Text Box 23"/>
              <p:cNvSpPr/>
              <p:nvPr/>
            </p:nvSpPr>
            <p:spPr>
              <a:xfrm>
                <a:off x="2779560" y="5657760"/>
                <a:ext cx="4585680" cy="40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单击添加文字内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0" y="982800"/>
            <a:ext cx="9109080" cy="59036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3"/>
          <p:cNvGrpSpPr/>
          <p:nvPr/>
        </p:nvGrpSpPr>
        <p:grpSpPr>
          <a:xfrm>
            <a:off x="625320" y="1968480"/>
            <a:ext cx="7836120" cy="3836520"/>
            <a:chOff x="625320" y="1968480"/>
            <a:chExt cx="7836120" cy="3836520"/>
          </a:xfrm>
        </p:grpSpPr>
        <p:sp>
          <p:nvSpPr>
            <p:cNvPr id="69" name="圆角矩形 1"/>
            <p:cNvSpPr/>
            <p:nvPr/>
          </p:nvSpPr>
          <p:spPr>
            <a:xfrm>
              <a:off x="753480" y="1971360"/>
              <a:ext cx="7693560" cy="2702880"/>
            </a:xfrm>
            <a:prstGeom prst="roundRect">
              <a:avLst>
                <a:gd name="adj" fmla="val 3056"/>
              </a:avLst>
            </a:prstGeom>
            <a:noFill/>
            <a:ln w="2556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lvl="2" algn="ctr">
                <a:lnSpc>
                  <a:spcPct val="100000"/>
                </a:lnSpc>
                <a:tabLst>
                  <a:tab algn="l" pos="0"/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圆角矩形 30" descr=""/>
            <p:cNvPicPr/>
            <p:nvPr/>
          </p:nvPicPr>
          <p:blipFill>
            <a:blip r:embed="rId1"/>
            <a:stretch/>
          </p:blipFill>
          <p:spPr>
            <a:xfrm>
              <a:off x="3354840" y="1968480"/>
              <a:ext cx="2370600" cy="91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圆角矩形 31" descr=""/>
            <p:cNvPicPr/>
            <p:nvPr/>
          </p:nvPicPr>
          <p:blipFill>
            <a:blip r:embed="rId2"/>
            <a:stretch/>
          </p:blipFill>
          <p:spPr>
            <a:xfrm>
              <a:off x="5849280" y="1968480"/>
              <a:ext cx="2370600" cy="91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圆角矩形 19" descr=""/>
            <p:cNvPicPr/>
            <p:nvPr/>
          </p:nvPicPr>
          <p:blipFill>
            <a:blip r:embed="rId3"/>
            <a:stretch/>
          </p:blipFill>
          <p:spPr>
            <a:xfrm>
              <a:off x="625320" y="2515320"/>
              <a:ext cx="2851560" cy="222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圆角矩形 29" descr=""/>
            <p:cNvPicPr/>
            <p:nvPr/>
          </p:nvPicPr>
          <p:blipFill>
            <a:blip r:embed="rId4"/>
            <a:stretch/>
          </p:blipFill>
          <p:spPr>
            <a:xfrm>
              <a:off x="866520" y="1968480"/>
              <a:ext cx="2370600" cy="91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矩形 8" descr=""/>
            <p:cNvPicPr/>
            <p:nvPr/>
          </p:nvPicPr>
          <p:blipFill>
            <a:blip r:embed="rId5"/>
            <a:stretch/>
          </p:blipFill>
          <p:spPr>
            <a:xfrm>
              <a:off x="1189440" y="2180520"/>
              <a:ext cx="1725120" cy="56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矩形 9" descr=""/>
            <p:cNvPicPr/>
            <p:nvPr/>
          </p:nvPicPr>
          <p:blipFill>
            <a:blip r:embed="rId6"/>
            <a:stretch/>
          </p:blipFill>
          <p:spPr>
            <a:xfrm>
              <a:off x="6171840" y="2180520"/>
              <a:ext cx="1719000" cy="56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圆角矩形 11" descr=""/>
            <p:cNvPicPr/>
            <p:nvPr/>
          </p:nvPicPr>
          <p:blipFill>
            <a:blip r:embed="rId7"/>
            <a:stretch/>
          </p:blipFill>
          <p:spPr>
            <a:xfrm>
              <a:off x="5601600" y="2515320"/>
              <a:ext cx="2859840" cy="222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矩形 26"/>
            <p:cNvSpPr/>
            <p:nvPr/>
          </p:nvSpPr>
          <p:spPr>
            <a:xfrm>
              <a:off x="5974560" y="3011760"/>
              <a:ext cx="21229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最大的原创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素材站，最强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制作团队，最高端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高手学堂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爱好者汇集的大本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…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" name="矩形 14" descr=""/>
            <p:cNvPicPr/>
            <p:nvPr/>
          </p:nvPicPr>
          <p:blipFill>
            <a:blip r:embed="rId8"/>
            <a:stretch/>
          </p:blipFill>
          <p:spPr>
            <a:xfrm>
              <a:off x="3683880" y="2180520"/>
              <a:ext cx="1719000" cy="56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圆角矩形 16" descr=""/>
            <p:cNvPicPr/>
            <p:nvPr/>
          </p:nvPicPr>
          <p:blipFill>
            <a:blip r:embed="rId9"/>
            <a:stretch/>
          </p:blipFill>
          <p:spPr>
            <a:xfrm>
              <a:off x="3113280" y="2515320"/>
              <a:ext cx="2857680" cy="222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矩形 25"/>
            <p:cNvSpPr/>
            <p:nvPr/>
          </p:nvSpPr>
          <p:spPr>
            <a:xfrm>
              <a:off x="3440520" y="3011760"/>
              <a:ext cx="22086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5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年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制作经验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500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件经典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案例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600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套精美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000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套创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图表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00%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客户满意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…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Box 32"/>
            <p:cNvSpPr/>
            <p:nvPr/>
          </p:nvSpPr>
          <p:spPr>
            <a:xfrm>
              <a:off x="1002960" y="3044160"/>
              <a:ext cx="2103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锐普以不同于传统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制作模式，创造全新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体验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燕尾形 22" descr=""/>
            <p:cNvPicPr/>
            <p:nvPr/>
          </p:nvPicPr>
          <p:blipFill>
            <a:blip r:embed="rId10"/>
            <a:stretch/>
          </p:blipFill>
          <p:spPr>
            <a:xfrm>
              <a:off x="1540800" y="4557240"/>
              <a:ext cx="1020600" cy="880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3" name="Group 18"/>
            <p:cNvGrpSpPr/>
            <p:nvPr/>
          </p:nvGrpSpPr>
          <p:grpSpPr>
            <a:xfrm>
              <a:off x="838080" y="5284440"/>
              <a:ext cx="7471800" cy="520560"/>
              <a:chOff x="838080" y="5284440"/>
              <a:chExt cx="7471800" cy="520560"/>
            </a:xfrm>
          </p:grpSpPr>
          <p:pic>
            <p:nvPicPr>
              <p:cNvPr id="84" name="Rectangle 20" descr=""/>
              <p:cNvPicPr/>
              <p:nvPr/>
            </p:nvPicPr>
            <p:blipFill>
              <a:blip r:embed="rId11"/>
              <a:stretch/>
            </p:blipFill>
            <p:spPr>
              <a:xfrm>
                <a:off x="838080" y="5284440"/>
                <a:ext cx="7471800" cy="52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矩形 21" descr=""/>
              <p:cNvPicPr/>
              <p:nvPr/>
            </p:nvPicPr>
            <p:blipFill>
              <a:blip r:embed="rId12"/>
              <a:stretch/>
            </p:blipFill>
            <p:spPr>
              <a:xfrm>
                <a:off x="1617120" y="5420520"/>
                <a:ext cx="5919120" cy="3409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6" name="燕尾形 27" descr=""/>
            <p:cNvPicPr/>
            <p:nvPr/>
          </p:nvPicPr>
          <p:blipFill>
            <a:blip r:embed="rId13"/>
            <a:stretch/>
          </p:blipFill>
          <p:spPr>
            <a:xfrm>
              <a:off x="4035240" y="4557240"/>
              <a:ext cx="1015920" cy="88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燕尾形 28" descr=""/>
            <p:cNvPicPr/>
            <p:nvPr/>
          </p:nvPicPr>
          <p:blipFill>
            <a:blip r:embed="rId14"/>
            <a:stretch/>
          </p:blipFill>
          <p:spPr>
            <a:xfrm>
              <a:off x="6523560" y="4557240"/>
              <a:ext cx="1015920" cy="880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982800"/>
            <a:ext cx="9144000" cy="58752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5"/>
          <p:cNvSpPr/>
          <p:nvPr/>
        </p:nvSpPr>
        <p:spPr>
          <a:xfrm>
            <a:off x="658800" y="1687680"/>
            <a:ext cx="7826400" cy="4241520"/>
          </a:xfrm>
          <a:prstGeom prst="roundRect">
            <a:avLst>
              <a:gd name="adj" fmla="val 3231"/>
            </a:avLst>
          </a:prstGeom>
          <a:noFill/>
          <a:ln w="2556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787320" y="1824120"/>
            <a:ext cx="7569360" cy="3986280"/>
          </a:xfrm>
          <a:prstGeom prst="roundRect">
            <a:avLst>
              <a:gd name="adj" fmla="val 3486"/>
            </a:avLst>
          </a:prstGeom>
          <a:solidFill>
            <a:srgbClr val="ffffff"/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8"/>
          <p:cNvSpPr/>
          <p:nvPr/>
        </p:nvSpPr>
        <p:spPr>
          <a:xfrm>
            <a:off x="1427040" y="2392200"/>
            <a:ext cx="0" cy="2880000"/>
          </a:xfrm>
          <a:prstGeom prst="line">
            <a:avLst/>
          </a:prstGeom>
          <a:ln w="25560">
            <a:solidFill>
              <a:srgbClr val="7f7f7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8"/>
          <p:cNvSpPr/>
          <p:nvPr/>
        </p:nvSpPr>
        <p:spPr>
          <a:xfrm>
            <a:off x="1419120" y="5270400"/>
            <a:ext cx="5399280" cy="0"/>
          </a:xfrm>
          <a:prstGeom prst="line">
            <a:avLst/>
          </a:prstGeom>
          <a:ln w="25560">
            <a:solidFill>
              <a:srgbClr val="5959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7"/>
          <p:cNvGrpSpPr/>
          <p:nvPr/>
        </p:nvGrpSpPr>
        <p:grpSpPr>
          <a:xfrm>
            <a:off x="1474920" y="1305000"/>
            <a:ext cx="6194160" cy="647640"/>
            <a:chOff x="1474920" y="1305000"/>
            <a:chExt cx="6194160" cy="647640"/>
          </a:xfrm>
        </p:grpSpPr>
        <p:sp>
          <p:nvSpPr>
            <p:cNvPr id="94" name="AutoShape 3"/>
            <p:cNvSpPr/>
            <p:nvPr/>
          </p:nvSpPr>
          <p:spPr>
            <a:xfrm>
              <a:off x="1474920" y="1305000"/>
              <a:ext cx="619416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3"/>
            <p:cNvSpPr/>
            <p:nvPr/>
          </p:nvSpPr>
          <p:spPr>
            <a:xfrm>
              <a:off x="1474920" y="1395360"/>
              <a:ext cx="6194160" cy="466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ee0b"/>
                </a:gs>
                <a:gs pos="100000">
                  <a:srgbClr val="04600d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Line 5"/>
          <p:cNvSpPr/>
          <p:nvPr/>
        </p:nvSpPr>
        <p:spPr>
          <a:xfrm>
            <a:off x="3905280" y="2571840"/>
            <a:ext cx="0" cy="270036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6"/>
          <p:cNvSpPr/>
          <p:nvPr/>
        </p:nvSpPr>
        <p:spPr>
          <a:xfrm>
            <a:off x="5138640" y="2571840"/>
            <a:ext cx="0" cy="270036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7"/>
          <p:cNvSpPr/>
          <p:nvPr/>
        </p:nvSpPr>
        <p:spPr>
          <a:xfrm>
            <a:off x="6380280" y="2571840"/>
            <a:ext cx="0" cy="270036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2664000" y="2571840"/>
            <a:ext cx="0" cy="270036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4"/>
          <p:cNvSpPr/>
          <p:nvPr/>
        </p:nvSpPr>
        <p:spPr>
          <a:xfrm>
            <a:off x="1890720" y="3070080"/>
            <a:ext cx="1620720" cy="324000"/>
          </a:xfrm>
          <a:prstGeom prst="roundRect">
            <a:avLst>
              <a:gd name="adj" fmla="val 16667"/>
            </a:avLst>
          </a:prstGeom>
          <a:solidFill>
            <a:srgbClr val="ffc000">
              <a:alpha val="29000"/>
            </a:srgbClr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32"/>
          <p:cNvSpPr/>
          <p:nvPr/>
        </p:nvSpPr>
        <p:spPr>
          <a:xfrm>
            <a:off x="1430280" y="3475080"/>
            <a:ext cx="4952880" cy="1225440"/>
          </a:xfrm>
          <a:custGeom>
            <a:avLst/>
            <a:gdLst>
              <a:gd name="textAreaLeft" fmla="*/ 0 w 4952880"/>
              <a:gd name="textAreaRight" fmla="*/ 4953240 w 4952880"/>
              <a:gd name="textAreaTop" fmla="*/ 0 h 1225440"/>
              <a:gd name="textAreaBottom" fmla="*/ 1225800 h 1225440"/>
            </a:gdLst>
            <a:ahLst/>
            <a:rect l="textAreaLeft" t="textAreaTop" r="textAreaRight" b="textAreaBottom"/>
            <a:pathLst>
              <a:path w="3651" h="903">
                <a:moveTo>
                  <a:pt x="0" y="162"/>
                </a:moveTo>
                <a:cubicBezTo>
                  <a:pt x="144" y="249"/>
                  <a:pt x="498" y="651"/>
                  <a:pt x="666" y="747"/>
                </a:cubicBezTo>
                <a:cubicBezTo>
                  <a:pt x="894" y="903"/>
                  <a:pt x="1047" y="801"/>
                  <a:pt x="1122" y="732"/>
                </a:cubicBezTo>
                <a:cubicBezTo>
                  <a:pt x="1473" y="348"/>
                  <a:pt x="1521" y="267"/>
                  <a:pt x="1626" y="174"/>
                </a:cubicBezTo>
                <a:cubicBezTo>
                  <a:pt x="1797" y="0"/>
                  <a:pt x="1923" y="18"/>
                  <a:pt x="2121" y="141"/>
                </a:cubicBezTo>
                <a:cubicBezTo>
                  <a:pt x="2331" y="306"/>
                  <a:pt x="2433" y="399"/>
                  <a:pt x="2583" y="491"/>
                </a:cubicBezTo>
                <a:cubicBezTo>
                  <a:pt x="2772" y="603"/>
                  <a:pt x="3003" y="501"/>
                  <a:pt x="3087" y="467"/>
                </a:cubicBezTo>
                <a:cubicBezTo>
                  <a:pt x="3240" y="402"/>
                  <a:pt x="3518" y="235"/>
                  <a:pt x="3651" y="186"/>
                </a:cubicBezTo>
              </a:path>
            </a:pathLst>
          </a:custGeom>
          <a:noFill/>
          <a:ln w="19080">
            <a:solidFill>
              <a:srgbClr val="ff9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4"/>
          <p:cNvSpPr/>
          <p:nvPr/>
        </p:nvSpPr>
        <p:spPr>
          <a:xfrm>
            <a:off x="1398600" y="3676680"/>
            <a:ext cx="54000" cy="54000"/>
          </a:xfrm>
          <a:prstGeom prst="rect">
            <a:avLst/>
          </a:prstGeom>
          <a:solidFill>
            <a:srgbClr val="be6d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9"/>
          <p:cNvSpPr/>
          <p:nvPr/>
        </p:nvSpPr>
        <p:spPr>
          <a:xfrm>
            <a:off x="2638440" y="4568760"/>
            <a:ext cx="54000" cy="54000"/>
          </a:xfrm>
          <a:prstGeom prst="rect">
            <a:avLst/>
          </a:prstGeom>
          <a:solidFill>
            <a:srgbClr val="be6d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4"/>
          <p:cNvSpPr/>
          <p:nvPr/>
        </p:nvSpPr>
        <p:spPr>
          <a:xfrm>
            <a:off x="5110200" y="4179960"/>
            <a:ext cx="54000" cy="54000"/>
          </a:xfrm>
          <a:prstGeom prst="rect">
            <a:avLst/>
          </a:prstGeom>
          <a:solidFill>
            <a:srgbClr val="be6d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9"/>
          <p:cNvSpPr/>
          <p:nvPr/>
        </p:nvSpPr>
        <p:spPr>
          <a:xfrm>
            <a:off x="6356520" y="3697200"/>
            <a:ext cx="53640" cy="54000"/>
          </a:xfrm>
          <a:prstGeom prst="rect">
            <a:avLst/>
          </a:prstGeom>
          <a:solidFill>
            <a:srgbClr val="be6d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59"/>
          <p:cNvSpPr/>
          <p:nvPr/>
        </p:nvSpPr>
        <p:spPr>
          <a:xfrm>
            <a:off x="1436760" y="3067200"/>
            <a:ext cx="4951440" cy="1199880"/>
          </a:xfrm>
          <a:custGeom>
            <a:avLst/>
            <a:gdLst>
              <a:gd name="textAreaLeft" fmla="*/ 0 w 4951440"/>
              <a:gd name="textAreaRight" fmla="*/ 4951800 w 4951440"/>
              <a:gd name="textAreaTop" fmla="*/ 0 h 1199880"/>
              <a:gd name="textAreaBottom" fmla="*/ 1200240 h 1199880"/>
            </a:gdLst>
            <a:ahLst/>
            <a:rect l="textAreaLeft" t="textAreaTop" r="textAreaRight" b="textAreaBottom"/>
            <a:pathLst>
              <a:path w="3650" h="885">
                <a:moveTo>
                  <a:pt x="0" y="885"/>
                </a:moveTo>
                <a:cubicBezTo>
                  <a:pt x="459" y="784"/>
                  <a:pt x="685" y="729"/>
                  <a:pt x="917" y="664"/>
                </a:cubicBezTo>
                <a:cubicBezTo>
                  <a:pt x="1106" y="612"/>
                  <a:pt x="1642" y="428"/>
                  <a:pt x="1828" y="346"/>
                </a:cubicBezTo>
                <a:cubicBezTo>
                  <a:pt x="1964" y="290"/>
                  <a:pt x="2356" y="94"/>
                  <a:pt x="2463" y="69"/>
                </a:cubicBezTo>
                <a:cubicBezTo>
                  <a:pt x="2742" y="0"/>
                  <a:pt x="2882" y="116"/>
                  <a:pt x="2944" y="154"/>
                </a:cubicBezTo>
                <a:cubicBezTo>
                  <a:pt x="3150" y="288"/>
                  <a:pt x="3477" y="649"/>
                  <a:pt x="3650" y="774"/>
                </a:cubicBezTo>
              </a:path>
            </a:pathLst>
          </a:custGeom>
          <a:noFill/>
          <a:ln w="190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1"/>
          <p:cNvSpPr/>
          <p:nvPr/>
        </p:nvSpPr>
        <p:spPr>
          <a:xfrm>
            <a:off x="1389240" y="4229280"/>
            <a:ext cx="72720" cy="7128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6"/>
          <p:cNvSpPr/>
          <p:nvPr/>
        </p:nvSpPr>
        <p:spPr>
          <a:xfrm>
            <a:off x="2629080" y="3930480"/>
            <a:ext cx="72720" cy="716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1"/>
          <p:cNvSpPr/>
          <p:nvPr/>
        </p:nvSpPr>
        <p:spPr>
          <a:xfrm>
            <a:off x="5100480" y="3110040"/>
            <a:ext cx="73080" cy="7128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6"/>
          <p:cNvSpPr/>
          <p:nvPr/>
        </p:nvSpPr>
        <p:spPr>
          <a:xfrm>
            <a:off x="6346800" y="4064040"/>
            <a:ext cx="71640" cy="7128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80"/>
          <p:cNvSpPr/>
          <p:nvPr/>
        </p:nvSpPr>
        <p:spPr>
          <a:xfrm>
            <a:off x="1455840" y="2577960"/>
            <a:ext cx="4935600" cy="2062440"/>
          </a:xfrm>
          <a:custGeom>
            <a:avLst/>
            <a:gdLst>
              <a:gd name="textAreaLeft" fmla="*/ 0 w 4935600"/>
              <a:gd name="textAreaRight" fmla="*/ 4935960 w 4935600"/>
              <a:gd name="textAreaTop" fmla="*/ 0 h 2062440"/>
              <a:gd name="textAreaBottom" fmla="*/ 2062800 h 2062440"/>
            </a:gdLst>
            <a:ahLst/>
            <a:rect l="textAreaLeft" t="textAreaTop" r="textAreaRight" b="textAreaBottom"/>
            <a:pathLst>
              <a:path w="3638" h="1520">
                <a:moveTo>
                  <a:pt x="0" y="1520"/>
                </a:moveTo>
                <a:cubicBezTo>
                  <a:pt x="182" y="1501"/>
                  <a:pt x="419" y="1465"/>
                  <a:pt x="616" y="1422"/>
                </a:cubicBezTo>
                <a:cubicBezTo>
                  <a:pt x="875" y="1378"/>
                  <a:pt x="1091" y="1240"/>
                  <a:pt x="1250" y="1120"/>
                </a:cubicBezTo>
                <a:cubicBezTo>
                  <a:pt x="1430" y="991"/>
                  <a:pt x="1697" y="796"/>
                  <a:pt x="1820" y="706"/>
                </a:cubicBezTo>
                <a:cubicBezTo>
                  <a:pt x="1982" y="589"/>
                  <a:pt x="2174" y="415"/>
                  <a:pt x="2288" y="334"/>
                </a:cubicBezTo>
                <a:cubicBezTo>
                  <a:pt x="2696" y="0"/>
                  <a:pt x="2912" y="236"/>
                  <a:pt x="3034" y="338"/>
                </a:cubicBezTo>
                <a:cubicBezTo>
                  <a:pt x="3338" y="636"/>
                  <a:pt x="3526" y="894"/>
                  <a:pt x="3638" y="982"/>
                </a:cubicBezTo>
              </a:path>
            </a:pathLst>
          </a:custGeom>
          <a:noFill/>
          <a:ln w="19080">
            <a:solidFill>
              <a:srgbClr val="0460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82"/>
          <p:cNvSpPr/>
          <p:nvPr/>
        </p:nvSpPr>
        <p:spPr>
          <a:xfrm>
            <a:off x="1380960" y="4592520"/>
            <a:ext cx="90720" cy="88920"/>
          </a:xfrm>
          <a:prstGeom prst="rect">
            <a:avLst/>
          </a:prstGeom>
          <a:solidFill>
            <a:srgbClr val="046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87"/>
          <p:cNvSpPr/>
          <p:nvPr/>
        </p:nvSpPr>
        <p:spPr>
          <a:xfrm>
            <a:off x="2620800" y="4340160"/>
            <a:ext cx="90720" cy="88920"/>
          </a:xfrm>
          <a:prstGeom prst="rect">
            <a:avLst/>
          </a:prstGeom>
          <a:solidFill>
            <a:srgbClr val="046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92"/>
          <p:cNvSpPr/>
          <p:nvPr/>
        </p:nvSpPr>
        <p:spPr>
          <a:xfrm>
            <a:off x="5092560" y="2754360"/>
            <a:ext cx="90720" cy="88920"/>
          </a:xfrm>
          <a:prstGeom prst="rect">
            <a:avLst/>
          </a:prstGeom>
          <a:solidFill>
            <a:srgbClr val="046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97"/>
          <p:cNvSpPr/>
          <p:nvPr/>
        </p:nvSpPr>
        <p:spPr>
          <a:xfrm>
            <a:off x="6337440" y="3851280"/>
            <a:ext cx="90360" cy="88920"/>
          </a:xfrm>
          <a:prstGeom prst="rect">
            <a:avLst/>
          </a:prstGeom>
          <a:solidFill>
            <a:srgbClr val="046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8"/>
          <p:cNvSpPr/>
          <p:nvPr/>
        </p:nvSpPr>
        <p:spPr>
          <a:xfrm>
            <a:off x="3794040" y="3435480"/>
            <a:ext cx="223920" cy="22356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21"/>
          <p:cNvSpPr/>
          <p:nvPr/>
        </p:nvSpPr>
        <p:spPr>
          <a:xfrm>
            <a:off x="3860640" y="3502080"/>
            <a:ext cx="90720" cy="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33"/>
          <p:cNvSpPr/>
          <p:nvPr/>
        </p:nvSpPr>
        <p:spPr>
          <a:xfrm>
            <a:off x="2304000" y="30798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33"/>
          <p:cNvGrpSpPr/>
          <p:nvPr/>
        </p:nvGrpSpPr>
        <p:grpSpPr>
          <a:xfrm>
            <a:off x="6826320" y="3411360"/>
            <a:ext cx="1359000" cy="973440"/>
            <a:chOff x="6826320" y="3411360"/>
            <a:chExt cx="1359000" cy="973440"/>
          </a:xfrm>
        </p:grpSpPr>
        <p:sp>
          <p:nvSpPr>
            <p:cNvPr id="120" name="AutoShape 26"/>
            <p:cNvSpPr/>
            <p:nvPr/>
          </p:nvSpPr>
          <p:spPr>
            <a:xfrm>
              <a:off x="6826320" y="3411360"/>
              <a:ext cx="1346400" cy="973440"/>
            </a:xfrm>
            <a:prstGeom prst="roundRect">
              <a:avLst>
                <a:gd name="adj" fmla="val 5755"/>
              </a:avLst>
            </a:prstGeom>
            <a:solidFill>
              <a:srgbClr val="f8f7f3">
                <a:alpha val="70000"/>
              </a:srgbClr>
            </a:solidFill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Group 35"/>
            <p:cNvGrpSpPr/>
            <p:nvPr/>
          </p:nvGrpSpPr>
          <p:grpSpPr>
            <a:xfrm>
              <a:off x="6890400" y="4165200"/>
              <a:ext cx="259200" cy="54000"/>
              <a:chOff x="6890400" y="4165200"/>
              <a:chExt cx="259200" cy="54000"/>
            </a:xfrm>
          </p:grpSpPr>
          <p:sp>
            <p:nvSpPr>
              <p:cNvPr id="122" name="Line 53"/>
              <p:cNvSpPr/>
              <p:nvPr/>
            </p:nvSpPr>
            <p:spPr>
              <a:xfrm>
                <a:off x="6890400" y="4190760"/>
                <a:ext cx="259200" cy="144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55"/>
              <p:cNvSpPr/>
              <p:nvPr/>
            </p:nvSpPr>
            <p:spPr>
              <a:xfrm>
                <a:off x="6992640" y="4165200"/>
                <a:ext cx="54360" cy="54000"/>
              </a:xfrm>
              <a:prstGeom prst="rect">
                <a:avLst/>
              </a:prstGeom>
              <a:solidFill>
                <a:srgbClr val="be6d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Group 38"/>
            <p:cNvGrpSpPr/>
            <p:nvPr/>
          </p:nvGrpSpPr>
          <p:grpSpPr>
            <a:xfrm>
              <a:off x="6890400" y="3845880"/>
              <a:ext cx="777960" cy="111240"/>
              <a:chOff x="6890400" y="3845880"/>
              <a:chExt cx="777960" cy="111240"/>
            </a:xfrm>
          </p:grpSpPr>
          <p:sp>
            <p:nvSpPr>
              <p:cNvPr id="125" name="Line 29"/>
              <p:cNvSpPr/>
              <p:nvPr/>
            </p:nvSpPr>
            <p:spPr>
              <a:xfrm>
                <a:off x="6890400" y="3888720"/>
                <a:ext cx="259200" cy="1440"/>
              </a:xfrm>
              <a:prstGeom prst="line">
                <a:avLst/>
              </a:prstGeom>
              <a:ln w="1260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" name="Group 40"/>
              <p:cNvGrpSpPr/>
              <p:nvPr/>
            </p:nvGrpSpPr>
            <p:grpSpPr>
              <a:xfrm>
                <a:off x="6994440" y="3845880"/>
                <a:ext cx="673920" cy="111240"/>
                <a:chOff x="6994440" y="3845880"/>
                <a:chExt cx="673920" cy="111240"/>
              </a:xfrm>
            </p:grpSpPr>
            <p:sp>
              <p:nvSpPr>
                <p:cNvPr id="127" name="Rectangle 102"/>
                <p:cNvSpPr/>
                <p:nvPr/>
              </p:nvSpPr>
              <p:spPr>
                <a:xfrm>
                  <a:off x="6994440" y="3845880"/>
                  <a:ext cx="72000" cy="7200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0" bIns="252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8" name="Group 42"/>
                <p:cNvGrpSpPr/>
                <p:nvPr/>
              </p:nvGrpSpPr>
              <p:grpSpPr>
                <a:xfrm>
                  <a:off x="7583760" y="3895200"/>
                  <a:ext cx="84600" cy="61920"/>
                  <a:chOff x="7583760" y="3895200"/>
                  <a:chExt cx="84600" cy="61920"/>
                </a:xfrm>
              </p:grpSpPr>
              <p:sp>
                <p:nvSpPr>
                  <p:cNvPr id="129" name="Line 104"/>
                  <p:cNvSpPr/>
                  <p:nvPr/>
                </p:nvSpPr>
                <p:spPr>
                  <a:xfrm>
                    <a:off x="7626240" y="3895200"/>
                    <a:ext cx="0" cy="619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Line 105"/>
                  <p:cNvSpPr/>
                  <p:nvPr/>
                </p:nvSpPr>
                <p:spPr>
                  <a:xfrm flipH="1">
                    <a:off x="7583760" y="3926160"/>
                    <a:ext cx="846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1" name="Group 45"/>
            <p:cNvGrpSpPr/>
            <p:nvPr/>
          </p:nvGrpSpPr>
          <p:grpSpPr>
            <a:xfrm>
              <a:off x="6890400" y="3535920"/>
              <a:ext cx="259200" cy="90720"/>
              <a:chOff x="6890400" y="3535920"/>
              <a:chExt cx="259200" cy="90720"/>
            </a:xfrm>
          </p:grpSpPr>
          <p:sp>
            <p:nvSpPr>
              <p:cNvPr id="132" name="Line 27"/>
              <p:cNvSpPr/>
              <p:nvPr/>
            </p:nvSpPr>
            <p:spPr>
              <a:xfrm>
                <a:off x="6890400" y="3580200"/>
                <a:ext cx="259200" cy="1800"/>
              </a:xfrm>
              <a:prstGeom prst="line">
                <a:avLst/>
              </a:prstGeom>
              <a:ln w="19080">
                <a:solidFill>
                  <a:srgbClr val="0460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107"/>
              <p:cNvSpPr/>
              <p:nvPr/>
            </p:nvSpPr>
            <p:spPr>
              <a:xfrm>
                <a:off x="6975360" y="3535920"/>
                <a:ext cx="89640" cy="90720"/>
              </a:xfrm>
              <a:prstGeom prst="rect">
                <a:avLst/>
              </a:prstGeom>
              <a:solidFill>
                <a:srgbClr val="0460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Text Box 9"/>
            <p:cNvSpPr/>
            <p:nvPr/>
          </p:nvSpPr>
          <p:spPr>
            <a:xfrm>
              <a:off x="7074720" y="3443040"/>
              <a:ext cx="111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1c1c1c"/>
                  </a:solidFill>
                  <a:latin typeface="Calibri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9"/>
            <p:cNvSpPr/>
            <p:nvPr/>
          </p:nvSpPr>
          <p:spPr>
            <a:xfrm>
              <a:off x="7074720" y="3750840"/>
              <a:ext cx="111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1c1c1c"/>
                  </a:solidFill>
                  <a:latin typeface="Calibri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9"/>
            <p:cNvSpPr/>
            <p:nvPr/>
          </p:nvSpPr>
          <p:spPr>
            <a:xfrm>
              <a:off x="7074720" y="4053240"/>
              <a:ext cx="111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1c1c1c"/>
                  </a:solidFill>
                  <a:latin typeface="Calibri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 Box 9"/>
          <p:cNvSpPr/>
          <p:nvPr/>
        </p:nvSpPr>
        <p:spPr>
          <a:xfrm>
            <a:off x="960480" y="5316480"/>
            <a:ext cx="94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2203560" y="531648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3441600" y="5316480"/>
            <a:ext cx="94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4684680" y="5316480"/>
            <a:ext cx="94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5913360" y="5316480"/>
            <a:ext cx="94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3"/>
          <p:cNvSpPr/>
          <p:nvPr/>
        </p:nvSpPr>
        <p:spPr>
          <a:xfrm>
            <a:off x="3443400" y="1428840"/>
            <a:ext cx="22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57"/>
          <p:cNvGrpSpPr/>
          <p:nvPr/>
        </p:nvGrpSpPr>
        <p:grpSpPr>
          <a:xfrm>
            <a:off x="3537000" y="3076560"/>
            <a:ext cx="311040" cy="374760"/>
            <a:chOff x="3537000" y="3076560"/>
            <a:chExt cx="311040" cy="374760"/>
          </a:xfrm>
        </p:grpSpPr>
        <p:sp>
          <p:nvSpPr>
            <p:cNvPr id="144" name="任意多边形 143"/>
            <p:cNvSpPr/>
            <p:nvPr/>
          </p:nvSpPr>
          <p:spPr>
            <a:xfrm>
              <a:off x="3544920" y="3076560"/>
              <a:ext cx="360" cy="324000"/>
            </a:xfrm>
            <a:custGeom>
              <a:avLst/>
              <a:gdLst/>
              <a:ahLst/>
              <a:rect l="l" t="t" r="r" b="b"/>
              <a:pathLst>
                <a:path w="0" h="323850">
                  <a:moveTo>
                    <a:pt x="0" y="0"/>
                  </a:moveTo>
                  <a:lnTo>
                    <a:pt x="0" y="323850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任意多边形 144"/>
            <p:cNvSpPr/>
            <p:nvPr/>
          </p:nvSpPr>
          <p:spPr>
            <a:xfrm>
              <a:off x="3537000" y="3228840"/>
              <a:ext cx="311040" cy="22248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222480"/>
                <a:gd name="textAreaBottom" fmla="*/ 222840 h 222480"/>
              </a:gdLst>
              <a:ahLst/>
              <a:rect l="textAreaLeft" t="textAreaTop" r="textAreaRight" b="textAreaBottom"/>
              <a:pathLst>
                <a:path w="266700" h="222250">
                  <a:moveTo>
                    <a:pt x="0" y="0"/>
                  </a:moveTo>
                  <a:lnTo>
                    <a:pt x="266700" y="222250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0" y="982800"/>
            <a:ext cx="9144000" cy="58752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2124000" y="1268280"/>
            <a:ext cx="4883400" cy="4625640"/>
            <a:chOff x="2124000" y="1268280"/>
            <a:chExt cx="4883400" cy="4625640"/>
          </a:xfrm>
        </p:grpSpPr>
        <p:grpSp>
          <p:nvGrpSpPr>
            <p:cNvPr id="148" name="Group 4"/>
            <p:cNvGrpSpPr/>
            <p:nvPr/>
          </p:nvGrpSpPr>
          <p:grpSpPr>
            <a:xfrm>
              <a:off x="2124000" y="1268280"/>
              <a:ext cx="4883400" cy="4625640"/>
              <a:chOff x="2124000" y="1268280"/>
              <a:chExt cx="4883400" cy="4625640"/>
            </a:xfrm>
          </p:grpSpPr>
          <p:pic>
            <p:nvPicPr>
              <p:cNvPr id="149" name="Picture 5" descr="包含关系(2斜纹)_24"/>
              <p:cNvPicPr/>
              <p:nvPr/>
            </p:nvPicPr>
            <p:blipFill>
              <a:blip r:embed="rId1"/>
              <a:stretch/>
            </p:blipFill>
            <p:spPr>
              <a:xfrm>
                <a:off x="6016680" y="3533400"/>
                <a:ext cx="533880" cy="135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0" name="Picture 6" descr="包含关系(2斜纹)_39"/>
              <p:cNvPicPr/>
              <p:nvPr/>
            </p:nvPicPr>
            <p:blipFill>
              <a:blip r:embed="rId2"/>
              <a:stretch/>
            </p:blipFill>
            <p:spPr>
              <a:xfrm>
                <a:off x="3926520" y="5382000"/>
                <a:ext cx="1495080" cy="44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Picture 7" descr="包含关系(2斜纹)_09"/>
              <p:cNvPicPr/>
              <p:nvPr/>
            </p:nvPicPr>
            <p:blipFill>
              <a:blip r:embed="rId3"/>
              <a:stretch/>
            </p:blipFill>
            <p:spPr>
              <a:xfrm>
                <a:off x="2894400" y="1791720"/>
                <a:ext cx="1165680" cy="1049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Picture 8" descr="包含关系(2斜纹)_03"/>
              <p:cNvPicPr/>
              <p:nvPr/>
            </p:nvPicPr>
            <p:blipFill>
              <a:blip r:embed="rId4"/>
              <a:stretch/>
            </p:blipFill>
            <p:spPr>
              <a:xfrm>
                <a:off x="2124000" y="2531880"/>
                <a:ext cx="1263600" cy="126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" name="Picture 9" descr="包含关系(2斜纹)_06"/>
              <p:cNvPicPr/>
              <p:nvPr/>
            </p:nvPicPr>
            <p:blipFill>
              <a:blip r:embed="rId5"/>
              <a:stretch/>
            </p:blipFill>
            <p:spPr>
              <a:xfrm>
                <a:off x="5016960" y="1791720"/>
                <a:ext cx="1130040" cy="960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4" name="Picture 10" descr="包含关系(2斜纹)_12"/>
              <p:cNvPicPr/>
              <p:nvPr/>
            </p:nvPicPr>
            <p:blipFill>
              <a:blip r:embed="rId6"/>
              <a:stretch/>
            </p:blipFill>
            <p:spPr>
              <a:xfrm>
                <a:off x="3941280" y="1268280"/>
                <a:ext cx="1263600" cy="126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5" name="Picture 11" descr="包含关系(2斜纹)_14"/>
              <p:cNvPicPr/>
              <p:nvPr/>
            </p:nvPicPr>
            <p:blipFill>
              <a:blip r:embed="rId7"/>
              <a:stretch/>
            </p:blipFill>
            <p:spPr>
              <a:xfrm>
                <a:off x="5743800" y="2680560"/>
                <a:ext cx="1263600" cy="126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Picture 12" descr="包含关系(2斜纹)_27"/>
              <p:cNvPicPr/>
              <p:nvPr/>
            </p:nvPicPr>
            <p:blipFill>
              <a:blip r:embed="rId8"/>
              <a:stretch/>
            </p:blipFill>
            <p:spPr>
              <a:xfrm>
                <a:off x="2580480" y="3742920"/>
                <a:ext cx="711720" cy="128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Picture 13" descr="包含关系(2斜纹)_31"/>
              <p:cNvPicPr/>
              <p:nvPr/>
            </p:nvPicPr>
            <p:blipFill>
              <a:blip r:embed="rId9"/>
              <a:stretch/>
            </p:blipFill>
            <p:spPr>
              <a:xfrm>
                <a:off x="2715480" y="4542120"/>
                <a:ext cx="1317240" cy="135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8" name="Picture 14" descr="包含关系(2斜纹)_34"/>
              <p:cNvPicPr/>
              <p:nvPr/>
            </p:nvPicPr>
            <p:blipFill>
              <a:blip r:embed="rId10"/>
              <a:stretch/>
            </p:blipFill>
            <p:spPr>
              <a:xfrm>
                <a:off x="4950360" y="4563720"/>
                <a:ext cx="1263600" cy="1262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9" name="Rectangle 15"/>
            <p:cNvSpPr/>
            <p:nvPr/>
          </p:nvSpPr>
          <p:spPr>
            <a:xfrm>
              <a:off x="4062240" y="1657800"/>
              <a:ext cx="1052640" cy="46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6"/>
            <p:cNvSpPr/>
            <p:nvPr/>
          </p:nvSpPr>
          <p:spPr>
            <a:xfrm>
              <a:off x="2201040" y="2867760"/>
              <a:ext cx="1052640" cy="46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7"/>
            <p:cNvSpPr/>
            <p:nvPr/>
          </p:nvSpPr>
          <p:spPr>
            <a:xfrm>
              <a:off x="2850480" y="5020560"/>
              <a:ext cx="1052640" cy="46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8"/>
            <p:cNvSpPr/>
            <p:nvPr/>
          </p:nvSpPr>
          <p:spPr>
            <a:xfrm>
              <a:off x="5070960" y="5020560"/>
              <a:ext cx="1052640" cy="46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9"/>
            <p:cNvSpPr/>
            <p:nvPr/>
          </p:nvSpPr>
          <p:spPr>
            <a:xfrm>
              <a:off x="5878800" y="3069360"/>
              <a:ext cx="1052640" cy="46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Picture 20" descr="包含关系(2斜纹)_17"/>
            <p:cNvPicPr/>
            <p:nvPr/>
          </p:nvPicPr>
          <p:blipFill>
            <a:blip r:embed="rId11"/>
            <a:stretch/>
          </p:blipFill>
          <p:spPr>
            <a:xfrm>
              <a:off x="3725280" y="2799360"/>
              <a:ext cx="1734840" cy="172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Rectangle 21"/>
            <p:cNvSpPr/>
            <p:nvPr/>
          </p:nvSpPr>
          <p:spPr>
            <a:xfrm>
              <a:off x="4068720" y="3424680"/>
              <a:ext cx="1053360" cy="4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000000"/>
                  </a:solidFill>
                  <a:latin typeface="Arial"/>
                </a:rPr>
                <a:t>文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000000"/>
                  </a:solidFill>
                  <a:latin typeface="Arial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0" y="982800"/>
            <a:ext cx="9144000" cy="58752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3"/>
          <p:cNvGrpSpPr/>
          <p:nvPr/>
        </p:nvGrpSpPr>
        <p:grpSpPr>
          <a:xfrm>
            <a:off x="928800" y="1928880"/>
            <a:ext cx="7419600" cy="3558960"/>
            <a:chOff x="928800" y="1928880"/>
            <a:chExt cx="7419600" cy="3558960"/>
          </a:xfrm>
        </p:grpSpPr>
        <p:grpSp>
          <p:nvGrpSpPr>
            <p:cNvPr id="168" name="Group 4"/>
            <p:cNvGrpSpPr/>
            <p:nvPr/>
          </p:nvGrpSpPr>
          <p:grpSpPr>
            <a:xfrm>
              <a:off x="1669680" y="1928880"/>
              <a:ext cx="2999880" cy="1376280"/>
              <a:chOff x="1669680" y="1928880"/>
              <a:chExt cx="2999880" cy="1376280"/>
            </a:xfrm>
          </p:grpSpPr>
          <p:grpSp>
            <p:nvGrpSpPr>
              <p:cNvPr id="169" name="Group 5"/>
              <p:cNvGrpSpPr/>
              <p:nvPr/>
            </p:nvGrpSpPr>
            <p:grpSpPr>
              <a:xfrm>
                <a:off x="1669680" y="1928880"/>
                <a:ext cx="2999880" cy="1376280"/>
                <a:chOff x="1669680" y="1928880"/>
                <a:chExt cx="2999880" cy="1376280"/>
              </a:xfrm>
            </p:grpSpPr>
            <p:sp>
              <p:nvSpPr>
                <p:cNvPr id="170" name="AutoShape 73"/>
                <p:cNvSpPr/>
                <p:nvPr/>
              </p:nvSpPr>
              <p:spPr>
                <a:xfrm rot="2700000">
                  <a:off x="3586680" y="2103480"/>
                  <a:ext cx="827280" cy="1065240"/>
                </a:xfrm>
                <a:prstGeom prst="rightArrow">
                  <a:avLst>
                    <a:gd name="adj1" fmla="val 70389"/>
                    <a:gd name="adj2" fmla="val 63769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圆角矩形 8"/>
                <p:cNvSpPr/>
                <p:nvPr/>
              </p:nvSpPr>
              <p:spPr>
                <a:xfrm>
                  <a:off x="1669680" y="1928880"/>
                  <a:ext cx="1979640" cy="75564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Group 8"/>
              <p:cNvGrpSpPr/>
              <p:nvPr/>
            </p:nvGrpSpPr>
            <p:grpSpPr>
              <a:xfrm>
                <a:off x="3293640" y="1928880"/>
                <a:ext cx="757080" cy="755640"/>
                <a:chOff x="3293640" y="1928880"/>
                <a:chExt cx="757080" cy="755640"/>
              </a:xfrm>
            </p:grpSpPr>
            <p:sp>
              <p:nvSpPr>
                <p:cNvPr id="173" name="椭圆 5"/>
                <p:cNvSpPr/>
                <p:nvPr/>
              </p:nvSpPr>
              <p:spPr>
                <a:xfrm>
                  <a:off x="3293640" y="1928880"/>
                  <a:ext cx="757080" cy="755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6e6d68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椭圆 117"/>
                <p:cNvSpPr/>
                <p:nvPr/>
              </p:nvSpPr>
              <p:spPr>
                <a:xfrm>
                  <a:off x="3317400" y="1950840"/>
                  <a:ext cx="647640" cy="647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ee0b"/>
                    </a:gs>
                    <a:gs pos="100000">
                      <a:srgbClr val="04600d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5" name="Group 11"/>
            <p:cNvGrpSpPr/>
            <p:nvPr/>
          </p:nvGrpSpPr>
          <p:grpSpPr>
            <a:xfrm>
              <a:off x="928800" y="3173400"/>
              <a:ext cx="2854080" cy="1064880"/>
              <a:chOff x="928800" y="3173400"/>
              <a:chExt cx="2854080" cy="1064880"/>
            </a:xfrm>
          </p:grpSpPr>
          <p:grpSp>
            <p:nvGrpSpPr>
              <p:cNvPr id="176" name="Group 12"/>
              <p:cNvGrpSpPr/>
              <p:nvPr/>
            </p:nvGrpSpPr>
            <p:grpSpPr>
              <a:xfrm>
                <a:off x="928800" y="3173400"/>
                <a:ext cx="2854080" cy="1064880"/>
                <a:chOff x="928800" y="3173400"/>
                <a:chExt cx="2854080" cy="1064880"/>
              </a:xfrm>
            </p:grpSpPr>
            <p:sp>
              <p:nvSpPr>
                <p:cNvPr id="177" name="AutoShape 71"/>
                <p:cNvSpPr/>
                <p:nvPr/>
              </p:nvSpPr>
              <p:spPr>
                <a:xfrm>
                  <a:off x="2954520" y="3173400"/>
                  <a:ext cx="828360" cy="1064880"/>
                </a:xfrm>
                <a:prstGeom prst="rightArrow">
                  <a:avLst>
                    <a:gd name="adj1" fmla="val 70389"/>
                    <a:gd name="adj2" fmla="val 62116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圆角矩形 15"/>
                <p:cNvSpPr/>
                <p:nvPr/>
              </p:nvSpPr>
              <p:spPr>
                <a:xfrm>
                  <a:off x="928800" y="3327120"/>
                  <a:ext cx="1979640" cy="75708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" name="Group 15"/>
              <p:cNvGrpSpPr/>
              <p:nvPr/>
            </p:nvGrpSpPr>
            <p:grpSpPr>
              <a:xfrm>
                <a:off x="2554200" y="3327120"/>
                <a:ext cx="755640" cy="757080"/>
                <a:chOff x="2554200" y="3327120"/>
                <a:chExt cx="755640" cy="757080"/>
              </a:xfrm>
            </p:grpSpPr>
            <p:sp>
              <p:nvSpPr>
                <p:cNvPr id="180" name="椭圆 12"/>
                <p:cNvSpPr/>
                <p:nvPr/>
              </p:nvSpPr>
              <p:spPr>
                <a:xfrm>
                  <a:off x="2554200" y="3327120"/>
                  <a:ext cx="755640" cy="75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6e6d68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椭圆 117"/>
                <p:cNvSpPr/>
                <p:nvPr/>
              </p:nvSpPr>
              <p:spPr>
                <a:xfrm>
                  <a:off x="2576160" y="3349080"/>
                  <a:ext cx="647640" cy="647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ee0b"/>
                    </a:gs>
                    <a:gs pos="100000">
                      <a:srgbClr val="04600d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2" name="Group 18"/>
            <p:cNvGrpSpPr/>
            <p:nvPr/>
          </p:nvGrpSpPr>
          <p:grpSpPr>
            <a:xfrm>
              <a:off x="1669680" y="4102560"/>
              <a:ext cx="3001320" cy="1359720"/>
              <a:chOff x="1669680" y="4102560"/>
              <a:chExt cx="3001320" cy="1359720"/>
            </a:xfrm>
          </p:grpSpPr>
          <p:grpSp>
            <p:nvGrpSpPr>
              <p:cNvPr id="183" name="Group 19"/>
              <p:cNvGrpSpPr/>
              <p:nvPr/>
            </p:nvGrpSpPr>
            <p:grpSpPr>
              <a:xfrm>
                <a:off x="1669680" y="4102560"/>
                <a:ext cx="3001320" cy="1359720"/>
                <a:chOff x="1669680" y="4102560"/>
                <a:chExt cx="3001320" cy="1359720"/>
              </a:xfrm>
            </p:grpSpPr>
            <p:sp>
              <p:nvSpPr>
                <p:cNvPr id="184" name="AutoShape 75"/>
                <p:cNvSpPr/>
                <p:nvPr/>
              </p:nvSpPr>
              <p:spPr>
                <a:xfrm rot="18900000">
                  <a:off x="3582720" y="4236480"/>
                  <a:ext cx="826920" cy="1081080"/>
                </a:xfrm>
                <a:prstGeom prst="rightArrow">
                  <a:avLst>
                    <a:gd name="adj1" fmla="val 70389"/>
                    <a:gd name="adj2" fmla="val 65694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圆角矩形 22"/>
                <p:cNvSpPr/>
                <p:nvPr/>
              </p:nvSpPr>
              <p:spPr>
                <a:xfrm>
                  <a:off x="1669680" y="4706640"/>
                  <a:ext cx="1979640" cy="75564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Group 22"/>
              <p:cNvGrpSpPr/>
              <p:nvPr/>
            </p:nvGrpSpPr>
            <p:grpSpPr>
              <a:xfrm>
                <a:off x="3293640" y="4706640"/>
                <a:ext cx="757080" cy="755640"/>
                <a:chOff x="3293640" y="4706640"/>
                <a:chExt cx="757080" cy="755640"/>
              </a:xfrm>
            </p:grpSpPr>
            <p:sp>
              <p:nvSpPr>
                <p:cNvPr id="187" name="椭圆 19"/>
                <p:cNvSpPr/>
                <p:nvPr/>
              </p:nvSpPr>
              <p:spPr>
                <a:xfrm>
                  <a:off x="3293640" y="4706640"/>
                  <a:ext cx="757080" cy="755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6e6d68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椭圆 117"/>
                <p:cNvSpPr/>
                <p:nvPr/>
              </p:nvSpPr>
              <p:spPr>
                <a:xfrm>
                  <a:off x="3317400" y="4727160"/>
                  <a:ext cx="647640" cy="649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ee0b"/>
                    </a:gs>
                    <a:gs pos="100000">
                      <a:srgbClr val="04600d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9" name="Group 25"/>
            <p:cNvGrpSpPr/>
            <p:nvPr/>
          </p:nvGrpSpPr>
          <p:grpSpPr>
            <a:xfrm>
              <a:off x="4543560" y="4196520"/>
              <a:ext cx="3052440" cy="1291320"/>
              <a:chOff x="4543560" y="4196520"/>
              <a:chExt cx="3052440" cy="1291320"/>
            </a:xfrm>
          </p:grpSpPr>
          <p:grpSp>
            <p:nvGrpSpPr>
              <p:cNvPr id="190" name="Group 26"/>
              <p:cNvGrpSpPr/>
              <p:nvPr/>
            </p:nvGrpSpPr>
            <p:grpSpPr>
              <a:xfrm>
                <a:off x="4543560" y="4196520"/>
                <a:ext cx="3052440" cy="1291320"/>
                <a:chOff x="4543560" y="4196520"/>
                <a:chExt cx="3052440" cy="1291320"/>
              </a:xfrm>
            </p:grpSpPr>
            <p:sp>
              <p:nvSpPr>
                <p:cNvPr id="191" name="AutoShape 69"/>
                <p:cNvSpPr/>
                <p:nvPr/>
              </p:nvSpPr>
              <p:spPr>
                <a:xfrm flipH="1" rot="2700000">
                  <a:off x="4757040" y="4360680"/>
                  <a:ext cx="863640" cy="962640"/>
                </a:xfrm>
                <a:prstGeom prst="rightArrow">
                  <a:avLst>
                    <a:gd name="adj1" fmla="val 70389"/>
                    <a:gd name="adj2" fmla="val 64583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圆角矩形 29"/>
                <p:cNvSpPr/>
                <p:nvPr/>
              </p:nvSpPr>
              <p:spPr>
                <a:xfrm>
                  <a:off x="5529960" y="4779360"/>
                  <a:ext cx="2066040" cy="68328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Group 29"/>
              <p:cNvGrpSpPr/>
              <p:nvPr/>
            </p:nvGrpSpPr>
            <p:grpSpPr>
              <a:xfrm>
                <a:off x="5216760" y="4705200"/>
                <a:ext cx="755280" cy="757440"/>
                <a:chOff x="5216760" y="4705200"/>
                <a:chExt cx="755280" cy="757440"/>
              </a:xfrm>
            </p:grpSpPr>
            <p:sp>
              <p:nvSpPr>
                <p:cNvPr id="194" name="椭圆 26"/>
                <p:cNvSpPr/>
                <p:nvPr/>
              </p:nvSpPr>
              <p:spPr>
                <a:xfrm>
                  <a:off x="5216760" y="4705200"/>
                  <a:ext cx="755280" cy="75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6e6d68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椭圆 117"/>
                <p:cNvSpPr/>
                <p:nvPr/>
              </p:nvSpPr>
              <p:spPr>
                <a:xfrm>
                  <a:off x="5238720" y="4727160"/>
                  <a:ext cx="649080" cy="649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ee0b"/>
                    </a:gs>
                    <a:gs pos="100000">
                      <a:srgbClr val="04600d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6" name="Group 32"/>
            <p:cNvGrpSpPr/>
            <p:nvPr/>
          </p:nvGrpSpPr>
          <p:grpSpPr>
            <a:xfrm>
              <a:off x="5505120" y="3173400"/>
              <a:ext cx="2843280" cy="1064880"/>
              <a:chOff x="5505120" y="3173400"/>
              <a:chExt cx="2843280" cy="1064880"/>
            </a:xfrm>
          </p:grpSpPr>
          <p:grpSp>
            <p:nvGrpSpPr>
              <p:cNvPr id="197" name="Group 33"/>
              <p:cNvGrpSpPr/>
              <p:nvPr/>
            </p:nvGrpSpPr>
            <p:grpSpPr>
              <a:xfrm>
                <a:off x="5505120" y="3173400"/>
                <a:ext cx="2843280" cy="1064880"/>
                <a:chOff x="5505120" y="3173400"/>
                <a:chExt cx="2843280" cy="1064880"/>
              </a:xfrm>
            </p:grpSpPr>
            <p:sp>
              <p:nvSpPr>
                <p:cNvPr id="198" name="AutoShape 49"/>
                <p:cNvSpPr/>
                <p:nvPr/>
              </p:nvSpPr>
              <p:spPr>
                <a:xfrm flipH="1">
                  <a:off x="5505120" y="3173400"/>
                  <a:ext cx="828720" cy="1064880"/>
                </a:xfrm>
                <a:prstGeom prst="rightArrow">
                  <a:avLst>
                    <a:gd name="adj1" fmla="val 70389"/>
                    <a:gd name="adj2" fmla="val 68255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圆角矩形 36"/>
                <p:cNvSpPr/>
                <p:nvPr/>
              </p:nvSpPr>
              <p:spPr>
                <a:xfrm>
                  <a:off x="6368760" y="3327120"/>
                  <a:ext cx="1979640" cy="75708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" name="Group 36"/>
              <p:cNvGrpSpPr/>
              <p:nvPr/>
            </p:nvGrpSpPr>
            <p:grpSpPr>
              <a:xfrm>
                <a:off x="5979600" y="3327120"/>
                <a:ext cx="755640" cy="757080"/>
                <a:chOff x="5979600" y="3327120"/>
                <a:chExt cx="755640" cy="757080"/>
              </a:xfrm>
            </p:grpSpPr>
            <p:sp>
              <p:nvSpPr>
                <p:cNvPr id="201" name="椭圆 33"/>
                <p:cNvSpPr/>
                <p:nvPr/>
              </p:nvSpPr>
              <p:spPr>
                <a:xfrm>
                  <a:off x="5979600" y="3327120"/>
                  <a:ext cx="755640" cy="75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6e6d68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椭圆 117"/>
                <p:cNvSpPr/>
                <p:nvPr/>
              </p:nvSpPr>
              <p:spPr>
                <a:xfrm>
                  <a:off x="6001560" y="3349080"/>
                  <a:ext cx="647640" cy="647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ee0b"/>
                    </a:gs>
                    <a:gs pos="100000">
                      <a:srgbClr val="04600d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3" name="Group 39"/>
            <p:cNvGrpSpPr/>
            <p:nvPr/>
          </p:nvGrpSpPr>
          <p:grpSpPr>
            <a:xfrm>
              <a:off x="4702320" y="1928880"/>
              <a:ext cx="2893680" cy="1466640"/>
              <a:chOff x="4702320" y="1928880"/>
              <a:chExt cx="2893680" cy="1466640"/>
            </a:xfrm>
          </p:grpSpPr>
          <p:grpSp>
            <p:nvGrpSpPr>
              <p:cNvPr id="204" name="Group 40"/>
              <p:cNvGrpSpPr/>
              <p:nvPr/>
            </p:nvGrpSpPr>
            <p:grpSpPr>
              <a:xfrm>
                <a:off x="4702320" y="1928880"/>
                <a:ext cx="2893680" cy="1466640"/>
                <a:chOff x="4702320" y="1928880"/>
                <a:chExt cx="2893680" cy="1466640"/>
              </a:xfrm>
            </p:grpSpPr>
            <p:sp>
              <p:nvSpPr>
                <p:cNvPr id="205" name="AutoShape 67"/>
                <p:cNvSpPr/>
                <p:nvPr/>
              </p:nvSpPr>
              <p:spPr>
                <a:xfrm flipH="1" rot="18900000">
                  <a:off x="4928400" y="2200680"/>
                  <a:ext cx="914760" cy="1020600"/>
                </a:xfrm>
                <a:prstGeom prst="rightArrow">
                  <a:avLst>
                    <a:gd name="adj1" fmla="val 70389"/>
                    <a:gd name="adj2" fmla="val 63769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圆角矩形 43"/>
                <p:cNvSpPr/>
                <p:nvPr/>
              </p:nvSpPr>
              <p:spPr>
                <a:xfrm>
                  <a:off x="5699160" y="1928880"/>
                  <a:ext cx="1896840" cy="83592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7" name="Group 43"/>
              <p:cNvGrpSpPr/>
              <p:nvPr/>
            </p:nvGrpSpPr>
            <p:grpSpPr>
              <a:xfrm>
                <a:off x="5216040" y="1928880"/>
                <a:ext cx="757080" cy="755280"/>
                <a:chOff x="5216040" y="1928880"/>
                <a:chExt cx="757080" cy="755280"/>
              </a:xfrm>
            </p:grpSpPr>
            <p:sp>
              <p:nvSpPr>
                <p:cNvPr id="208" name="椭圆 40"/>
                <p:cNvSpPr/>
                <p:nvPr/>
              </p:nvSpPr>
              <p:spPr>
                <a:xfrm>
                  <a:off x="5216040" y="1928880"/>
                  <a:ext cx="757080" cy="755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6e6d68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椭圆 117"/>
                <p:cNvSpPr/>
                <p:nvPr/>
              </p:nvSpPr>
              <p:spPr>
                <a:xfrm>
                  <a:off x="5239800" y="1950840"/>
                  <a:ext cx="647640" cy="647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ee0b"/>
                    </a:gs>
                    <a:gs pos="100000">
                      <a:srgbClr val="04600d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0" name="Text Box 18"/>
            <p:cNvSpPr/>
            <p:nvPr/>
          </p:nvSpPr>
          <p:spPr>
            <a:xfrm>
              <a:off x="1050480" y="3536640"/>
              <a:ext cx="143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18"/>
            <p:cNvSpPr/>
            <p:nvPr/>
          </p:nvSpPr>
          <p:spPr>
            <a:xfrm>
              <a:off x="6745320" y="3536640"/>
              <a:ext cx="1557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6022800" y="2136240"/>
              <a:ext cx="155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18"/>
            <p:cNvSpPr/>
            <p:nvPr/>
          </p:nvSpPr>
          <p:spPr>
            <a:xfrm>
              <a:off x="1755360" y="2136240"/>
              <a:ext cx="155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18"/>
            <p:cNvSpPr/>
            <p:nvPr/>
          </p:nvSpPr>
          <p:spPr>
            <a:xfrm>
              <a:off x="1703520" y="4914720"/>
              <a:ext cx="156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8"/>
            <p:cNvSpPr/>
            <p:nvPr/>
          </p:nvSpPr>
          <p:spPr>
            <a:xfrm>
              <a:off x="5919840" y="4914720"/>
              <a:ext cx="148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" name="Group 52"/>
            <p:cNvGrpSpPr/>
            <p:nvPr/>
          </p:nvGrpSpPr>
          <p:grpSpPr>
            <a:xfrm>
              <a:off x="3836880" y="2897280"/>
              <a:ext cx="1618920" cy="1619280"/>
              <a:chOff x="3836880" y="2897280"/>
              <a:chExt cx="1618920" cy="1619280"/>
            </a:xfrm>
          </p:grpSpPr>
          <p:sp>
            <p:nvSpPr>
              <p:cNvPr id="217" name="Oval 93"/>
              <p:cNvSpPr/>
              <p:nvPr/>
            </p:nvSpPr>
            <p:spPr>
              <a:xfrm>
                <a:off x="3836880" y="2897280"/>
                <a:ext cx="1618920" cy="161928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6e6d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Oval 94"/>
              <p:cNvSpPr/>
              <p:nvPr/>
            </p:nvSpPr>
            <p:spPr>
              <a:xfrm>
                <a:off x="3901680" y="2949480"/>
                <a:ext cx="1395360" cy="1395720"/>
              </a:xfrm>
              <a:prstGeom prst="ellipse">
                <a:avLst/>
              </a:prstGeom>
              <a:gradFill rotWithShape="0">
                <a:gsLst>
                  <a:gs pos="0">
                    <a:srgbClr val="00ee0b"/>
                  </a:gs>
                  <a:gs pos="100000">
                    <a:srgbClr val="04600d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" name="Text Box 18"/>
            <p:cNvSpPr/>
            <p:nvPr/>
          </p:nvSpPr>
          <p:spPr>
            <a:xfrm>
              <a:off x="3967200" y="3348000"/>
              <a:ext cx="128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26"/>
            <p:cNvSpPr/>
            <p:nvPr/>
          </p:nvSpPr>
          <p:spPr>
            <a:xfrm>
              <a:off x="3435480" y="21286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26"/>
            <p:cNvSpPr/>
            <p:nvPr/>
          </p:nvSpPr>
          <p:spPr>
            <a:xfrm>
              <a:off x="5368680" y="21286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26"/>
            <p:cNvSpPr/>
            <p:nvPr/>
          </p:nvSpPr>
          <p:spPr>
            <a:xfrm>
              <a:off x="6121080" y="351756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26"/>
            <p:cNvSpPr/>
            <p:nvPr/>
          </p:nvSpPr>
          <p:spPr>
            <a:xfrm>
              <a:off x="2694960" y="351756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26"/>
            <p:cNvSpPr/>
            <p:nvPr/>
          </p:nvSpPr>
          <p:spPr>
            <a:xfrm>
              <a:off x="3435480" y="489564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26"/>
            <p:cNvSpPr/>
            <p:nvPr/>
          </p:nvSpPr>
          <p:spPr>
            <a:xfrm>
              <a:off x="5357160" y="489564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0" y="982800"/>
            <a:ext cx="9109080" cy="58766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881360" y="1889280"/>
          <a:ext cx="5692680" cy="3208320"/>
        </p:xfrm>
        <a:graphic>
          <a:graphicData uri="http://schemas.openxmlformats.org/drawingml/2006/table">
            <a:tbl>
              <a:tblPr/>
              <a:tblGrid>
                <a:gridCol w="1137960"/>
                <a:gridCol w="1139760"/>
                <a:gridCol w="1136880"/>
                <a:gridCol w="1139760"/>
                <a:gridCol w="1138320"/>
              </a:tblGrid>
              <a:tr h="55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</a:tr>
              <a:tr h="54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54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28" name="Text Box 47"/>
          <p:cNvSpPr/>
          <p:nvPr/>
        </p:nvSpPr>
        <p:spPr>
          <a:xfrm>
            <a:off x="1792440" y="514044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48"/>
          <p:cNvSpPr/>
          <p:nvPr/>
        </p:nvSpPr>
        <p:spPr>
          <a:xfrm>
            <a:off x="3006720" y="199404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8.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9"/>
          <p:cNvSpPr/>
          <p:nvPr/>
        </p:nvSpPr>
        <p:spPr>
          <a:xfrm>
            <a:off x="2986200" y="308124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0"/>
          <p:cNvSpPr/>
          <p:nvPr/>
        </p:nvSpPr>
        <p:spPr>
          <a:xfrm>
            <a:off x="5872320" y="259092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1"/>
          <p:cNvSpPr/>
          <p:nvPr/>
        </p:nvSpPr>
        <p:spPr>
          <a:xfrm>
            <a:off x="3340080" y="360360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3.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2"/>
          <p:cNvSpPr/>
          <p:nvPr/>
        </p:nvSpPr>
        <p:spPr>
          <a:xfrm>
            <a:off x="5578560" y="414972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3.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53"/>
          <p:cNvSpPr/>
          <p:nvPr/>
        </p:nvSpPr>
        <p:spPr>
          <a:xfrm>
            <a:off x="6719760" y="468648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4.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54"/>
          <p:cNvGrpSpPr/>
          <p:nvPr/>
        </p:nvGrpSpPr>
        <p:grpSpPr>
          <a:xfrm>
            <a:off x="1893960" y="2003400"/>
            <a:ext cx="968400" cy="274680"/>
            <a:chOff x="1893960" y="2003400"/>
            <a:chExt cx="968400" cy="274680"/>
          </a:xfrm>
        </p:grpSpPr>
        <p:sp>
          <p:nvSpPr>
            <p:cNvPr id="236" name="Rectangle 55"/>
            <p:cNvSpPr/>
            <p:nvPr/>
          </p:nvSpPr>
          <p:spPr>
            <a:xfrm>
              <a:off x="1893960" y="2003400"/>
              <a:ext cx="968400" cy="2746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AutoShape 56"/>
            <p:cNvSpPr/>
            <p:nvPr/>
          </p:nvSpPr>
          <p:spPr>
            <a:xfrm>
              <a:off x="1893960" y="2004840"/>
              <a:ext cx="968400" cy="11124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57"/>
          <p:cNvGrpSpPr/>
          <p:nvPr/>
        </p:nvGrpSpPr>
        <p:grpSpPr>
          <a:xfrm>
            <a:off x="1893960" y="3098880"/>
            <a:ext cx="849240" cy="276120"/>
            <a:chOff x="1893960" y="3098880"/>
            <a:chExt cx="849240" cy="276120"/>
          </a:xfrm>
        </p:grpSpPr>
        <p:sp>
          <p:nvSpPr>
            <p:cNvPr id="239" name="Rectangle 58"/>
            <p:cNvSpPr/>
            <p:nvPr/>
          </p:nvSpPr>
          <p:spPr>
            <a:xfrm>
              <a:off x="1893960" y="3100320"/>
              <a:ext cx="849240" cy="274680"/>
            </a:xfrm>
            <a:prstGeom prst="rect">
              <a:avLst/>
            </a:prstGeom>
            <a:gradFill rotWithShape="0">
              <a:gsLst>
                <a:gs pos="0">
                  <a:srgbClr val="c5e26d"/>
                </a:gs>
                <a:gs pos="50000">
                  <a:srgbClr val="99cc00"/>
                </a:gs>
                <a:gs pos="100000">
                  <a:srgbClr val="c5e26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AutoShape 59"/>
            <p:cNvSpPr/>
            <p:nvPr/>
          </p:nvSpPr>
          <p:spPr>
            <a:xfrm>
              <a:off x="1893960" y="3098880"/>
              <a:ext cx="849240" cy="11124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60"/>
          <p:cNvGrpSpPr/>
          <p:nvPr/>
        </p:nvGrpSpPr>
        <p:grpSpPr>
          <a:xfrm>
            <a:off x="1887480" y="2581200"/>
            <a:ext cx="3870360" cy="276120"/>
            <a:chOff x="1887480" y="2581200"/>
            <a:chExt cx="3870360" cy="276120"/>
          </a:xfrm>
        </p:grpSpPr>
        <p:sp>
          <p:nvSpPr>
            <p:cNvPr id="242" name="Rectangle 61"/>
            <p:cNvSpPr/>
            <p:nvPr/>
          </p:nvSpPr>
          <p:spPr>
            <a:xfrm>
              <a:off x="1887480" y="2582640"/>
              <a:ext cx="3853800" cy="274680"/>
            </a:xfrm>
            <a:prstGeom prst="rect">
              <a:avLst/>
            </a:prstGeom>
            <a:gradFill rotWithShape="0">
              <a:gsLst>
                <a:gs pos="0">
                  <a:srgbClr val="cde8eb"/>
                </a:gs>
                <a:gs pos="50000">
                  <a:srgbClr val="bbe0e3"/>
                </a:gs>
                <a:gs pos="100000">
                  <a:srgbClr val="cde8e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AutoShape 62"/>
            <p:cNvSpPr/>
            <p:nvPr/>
          </p:nvSpPr>
          <p:spPr>
            <a:xfrm>
              <a:off x="1887480" y="2581200"/>
              <a:ext cx="3870360" cy="11124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63"/>
          <p:cNvGrpSpPr/>
          <p:nvPr/>
        </p:nvGrpSpPr>
        <p:grpSpPr>
          <a:xfrm>
            <a:off x="1893960" y="3610080"/>
            <a:ext cx="1315800" cy="274680"/>
            <a:chOff x="1893960" y="3610080"/>
            <a:chExt cx="1315800" cy="274680"/>
          </a:xfrm>
        </p:grpSpPr>
        <p:sp>
          <p:nvSpPr>
            <p:cNvPr id="245" name="Rectangle 64"/>
            <p:cNvSpPr/>
            <p:nvPr/>
          </p:nvSpPr>
          <p:spPr>
            <a:xfrm>
              <a:off x="1893960" y="3610080"/>
              <a:ext cx="1315800" cy="274680"/>
            </a:xfrm>
            <a:prstGeom prst="rect">
              <a:avLst/>
            </a:prstGeom>
            <a:gradFill rotWithShape="0">
              <a:gsLst>
                <a:gs pos="0">
                  <a:srgbClr val="35aeae"/>
                </a:gs>
                <a:gs pos="50000">
                  <a:srgbClr val="009999"/>
                </a:gs>
                <a:gs pos="100000">
                  <a:srgbClr val="35aea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AutoShape 65"/>
            <p:cNvSpPr/>
            <p:nvPr/>
          </p:nvSpPr>
          <p:spPr>
            <a:xfrm>
              <a:off x="1893960" y="3610080"/>
              <a:ext cx="1315800" cy="11124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66"/>
          <p:cNvGrpSpPr/>
          <p:nvPr/>
        </p:nvGrpSpPr>
        <p:grpSpPr>
          <a:xfrm>
            <a:off x="1893960" y="4162320"/>
            <a:ext cx="3573360" cy="276120"/>
            <a:chOff x="1893960" y="4162320"/>
            <a:chExt cx="3573360" cy="276120"/>
          </a:xfrm>
        </p:grpSpPr>
        <p:sp>
          <p:nvSpPr>
            <p:cNvPr id="248" name="Rectangle 67"/>
            <p:cNvSpPr/>
            <p:nvPr/>
          </p:nvSpPr>
          <p:spPr>
            <a:xfrm>
              <a:off x="1893960" y="4163760"/>
              <a:ext cx="3573360" cy="274680"/>
            </a:xfrm>
            <a:prstGeom prst="rect">
              <a:avLst/>
            </a:prstGeom>
            <a:gradFill rotWithShape="0">
              <a:gsLst>
                <a:gs pos="0">
                  <a:srgbClr val="7c7cff"/>
                </a:gs>
                <a:gs pos="50000">
                  <a:srgbClr val="6666ff"/>
                </a:gs>
                <a:gs pos="100000">
                  <a:srgbClr val="7c7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AutoShape 68"/>
            <p:cNvSpPr/>
            <p:nvPr/>
          </p:nvSpPr>
          <p:spPr>
            <a:xfrm>
              <a:off x="1893960" y="4162320"/>
              <a:ext cx="3568680" cy="11124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69"/>
          <p:cNvGrpSpPr/>
          <p:nvPr/>
        </p:nvGrpSpPr>
        <p:grpSpPr>
          <a:xfrm>
            <a:off x="1893960" y="4695840"/>
            <a:ext cx="4726080" cy="276120"/>
            <a:chOff x="1893960" y="4695840"/>
            <a:chExt cx="4726080" cy="276120"/>
          </a:xfrm>
        </p:grpSpPr>
        <p:sp>
          <p:nvSpPr>
            <p:cNvPr id="251" name="Rectangle 70"/>
            <p:cNvSpPr/>
            <p:nvPr/>
          </p:nvSpPr>
          <p:spPr>
            <a:xfrm>
              <a:off x="1893960" y="4697280"/>
              <a:ext cx="4726080" cy="274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AutoShape 71"/>
            <p:cNvSpPr/>
            <p:nvPr/>
          </p:nvSpPr>
          <p:spPr>
            <a:xfrm>
              <a:off x="1893960" y="4695840"/>
              <a:ext cx="4726080" cy="11124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/>
          <p:cNvSpPr/>
          <p:nvPr/>
        </p:nvSpPr>
        <p:spPr>
          <a:xfrm>
            <a:off x="0" y="982800"/>
            <a:ext cx="9144000" cy="58752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2573280" y="2085840"/>
            <a:ext cx="5589720" cy="870120"/>
          </a:xfrm>
          <a:prstGeom prst="rect">
            <a:avLst/>
          </a:prstGeom>
          <a:gradFill rotWithShape="0">
            <a:gsLst>
              <a:gs pos="0">
                <a:srgbClr val="ffd8b1"/>
              </a:gs>
              <a:gs pos="100000">
                <a:srgbClr val="766452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4290840" y="4603680"/>
            <a:ext cx="3872160" cy="1125720"/>
          </a:xfrm>
          <a:prstGeom prst="rect">
            <a:avLst/>
          </a:prstGeom>
          <a:gradFill rotWithShape="0">
            <a:gsLst>
              <a:gs pos="0">
                <a:srgbClr val="accebd"/>
              </a:gs>
              <a:gs pos="100000">
                <a:srgbClr val="505f57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3048120" y="2890800"/>
            <a:ext cx="5124240" cy="870120"/>
          </a:xfrm>
          <a:prstGeom prst="rect">
            <a:avLst/>
          </a:prstGeom>
          <a:gradFill rotWithShape="0">
            <a:gsLst>
              <a:gs pos="0">
                <a:srgbClr val="e2e0a0"/>
              </a:gs>
              <a:gs pos="100000">
                <a:srgbClr val="69684a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3600360" y="3760920"/>
            <a:ext cx="4562640" cy="844560"/>
          </a:xfrm>
          <a:prstGeom prst="rect">
            <a:avLst/>
          </a:prstGeom>
          <a:gradFill rotWithShape="0">
            <a:gsLst>
              <a:gs pos="0">
                <a:srgbClr val="bed25a"/>
              </a:gs>
              <a:gs pos="100000">
                <a:srgbClr val="58612a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7"/>
          <p:cNvSpPr/>
          <p:nvPr/>
        </p:nvSpPr>
        <p:spPr>
          <a:xfrm>
            <a:off x="2882880" y="2890800"/>
            <a:ext cx="5280120" cy="0"/>
          </a:xfrm>
          <a:prstGeom prst="line">
            <a:avLst/>
          </a:prstGeom>
          <a:ln w="1260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8"/>
          <p:cNvSpPr/>
          <p:nvPr/>
        </p:nvSpPr>
        <p:spPr>
          <a:xfrm>
            <a:off x="3600360" y="3760920"/>
            <a:ext cx="4562640" cy="0"/>
          </a:xfrm>
          <a:prstGeom prst="line">
            <a:avLst/>
          </a:prstGeom>
          <a:ln w="1260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9"/>
          <p:cNvSpPr/>
          <p:nvPr/>
        </p:nvSpPr>
        <p:spPr>
          <a:xfrm>
            <a:off x="4149720" y="4605480"/>
            <a:ext cx="4013280" cy="0"/>
          </a:xfrm>
          <a:prstGeom prst="line">
            <a:avLst/>
          </a:prstGeom>
          <a:ln w="1260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0"/>
          <p:cNvSpPr/>
          <p:nvPr/>
        </p:nvSpPr>
        <p:spPr>
          <a:xfrm>
            <a:off x="627120" y="5729400"/>
            <a:ext cx="7535880" cy="0"/>
          </a:xfrm>
          <a:prstGeom prst="line">
            <a:avLst/>
          </a:prstGeom>
          <a:ln w="1260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1"/>
          <p:cNvSpPr/>
          <p:nvPr/>
        </p:nvSpPr>
        <p:spPr>
          <a:xfrm>
            <a:off x="4854240" y="4937040"/>
            <a:ext cx="3280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6666"/>
                </a:solidFill>
                <a:latin typeface="Arial"/>
              </a:rPr>
              <a:t>How to reach online user and prov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6666"/>
                </a:solidFill>
                <a:latin typeface="Arial"/>
              </a:rPr>
              <a:t>Customised In-depth product inform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2"/>
          <p:cNvSpPr/>
          <p:nvPr/>
        </p:nvSpPr>
        <p:spPr>
          <a:xfrm>
            <a:off x="4314600" y="3952800"/>
            <a:ext cx="314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6600"/>
                </a:solidFill>
                <a:latin typeface="Arial"/>
              </a:rPr>
              <a:t>How to sell products and process 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6600"/>
                </a:solidFill>
                <a:latin typeface="Arial"/>
              </a:rPr>
              <a:t>Over the Web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3"/>
          <p:cNvSpPr/>
          <p:nvPr/>
        </p:nvSpPr>
        <p:spPr>
          <a:xfrm>
            <a:off x="3808800" y="3174840"/>
            <a:ext cx="335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00"/>
                </a:solidFill>
                <a:latin typeface="Arial"/>
              </a:rPr>
              <a:t>What are new offerings, unique to the Web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4"/>
          <p:cNvSpPr/>
          <p:nvPr/>
        </p:nvSpPr>
        <p:spPr>
          <a:xfrm>
            <a:off x="3192840" y="2273400"/>
            <a:ext cx="327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6600"/>
                </a:solidFill>
                <a:latin typeface="Arial"/>
              </a:rPr>
              <a:t>How to revolutionise business model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6600"/>
                </a:solidFill>
                <a:latin typeface="Arial"/>
              </a:rPr>
              <a:t>shift value cre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15"/>
          <p:cNvGrpSpPr/>
          <p:nvPr/>
        </p:nvGrpSpPr>
        <p:grpSpPr>
          <a:xfrm>
            <a:off x="627120" y="1557360"/>
            <a:ext cx="4363560" cy="4176000"/>
            <a:chOff x="627120" y="1557360"/>
            <a:chExt cx="4363560" cy="4176000"/>
          </a:xfrm>
        </p:grpSpPr>
        <p:grpSp>
          <p:nvGrpSpPr>
            <p:cNvPr id="267" name="Group 16"/>
            <p:cNvGrpSpPr/>
            <p:nvPr/>
          </p:nvGrpSpPr>
          <p:grpSpPr>
            <a:xfrm>
              <a:off x="627120" y="4329360"/>
              <a:ext cx="4363560" cy="1404000"/>
              <a:chOff x="627120" y="4329360"/>
              <a:chExt cx="4363560" cy="1404000"/>
            </a:xfrm>
          </p:grpSpPr>
          <p:sp>
            <p:nvSpPr>
              <p:cNvPr id="268" name="未知"/>
              <p:cNvSpPr/>
              <p:nvPr/>
            </p:nvSpPr>
            <p:spPr>
              <a:xfrm>
                <a:off x="1061640" y="4329360"/>
                <a:ext cx="3359520" cy="504360"/>
              </a:xfrm>
              <a:custGeom>
                <a:avLst/>
                <a:gdLst/>
                <a:ahLst/>
                <a:rect l="l" t="t" r="r" b="b"/>
                <a:pathLst>
                  <a:path w="2208" h="303">
                    <a:moveTo>
                      <a:pt x="0" y="298"/>
                    </a:moveTo>
                    <a:lnTo>
                      <a:pt x="1979" y="302"/>
                    </a:lnTo>
                    <a:lnTo>
                      <a:pt x="2207" y="0"/>
                    </a:lnTo>
                    <a:lnTo>
                      <a:pt x="690" y="28"/>
                    </a:lnTo>
                    <a:lnTo>
                      <a:pt x="0" y="298"/>
                    </a:lnTo>
                  </a:path>
                </a:pathLst>
              </a:custGeom>
              <a:gradFill rotWithShape="0">
                <a:gsLst>
                  <a:gs pos="0">
                    <a:srgbClr val="05808f"/>
                  </a:gs>
                  <a:gs pos="50000">
                    <a:srgbClr val="03555f"/>
                  </a:gs>
                  <a:gs pos="100000">
                    <a:srgbClr val="05808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未知"/>
              <p:cNvSpPr/>
              <p:nvPr/>
            </p:nvSpPr>
            <p:spPr>
              <a:xfrm>
                <a:off x="627120" y="4829400"/>
                <a:ext cx="3891600" cy="899280"/>
              </a:xfrm>
              <a:custGeom>
                <a:avLst/>
                <a:gdLst/>
                <a:ahLst/>
                <a:rect l="l" t="t" r="r" b="b"/>
                <a:pathLst>
                  <a:path w="2557" h="538">
                    <a:moveTo>
                      <a:pt x="0" y="537"/>
                    </a:moveTo>
                    <a:lnTo>
                      <a:pt x="2556" y="536"/>
                    </a:lnTo>
                    <a:lnTo>
                      <a:pt x="2262" y="1"/>
                    </a:lnTo>
                    <a:lnTo>
                      <a:pt x="288" y="0"/>
                    </a:lnTo>
                    <a:lnTo>
                      <a:pt x="0" y="537"/>
                    </a:lnTo>
                  </a:path>
                </a:pathLst>
              </a:custGeom>
              <a:gradFill rotWithShape="0">
                <a:gsLst>
                  <a:gs pos="0">
                    <a:srgbClr val="006666"/>
                  </a:gs>
                  <a:gs pos="100000">
                    <a:srgbClr val="002f2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未知"/>
              <p:cNvSpPr/>
              <p:nvPr/>
            </p:nvSpPr>
            <p:spPr>
              <a:xfrm>
                <a:off x="4060440" y="4337640"/>
                <a:ext cx="930240" cy="1395720"/>
              </a:xfrm>
              <a:custGeom>
                <a:avLst/>
                <a:gdLst/>
                <a:ahLst/>
                <a:rect l="l" t="t" r="r" b="b"/>
                <a:pathLst>
                  <a:path w="612" h="836">
                    <a:moveTo>
                      <a:pt x="302" y="835"/>
                    </a:moveTo>
                    <a:lnTo>
                      <a:pt x="611" y="476"/>
                    </a:lnTo>
                    <a:lnTo>
                      <a:pt x="226" y="0"/>
                    </a:lnTo>
                    <a:lnTo>
                      <a:pt x="0" y="302"/>
                    </a:lnTo>
                    <a:lnTo>
                      <a:pt x="302" y="835"/>
                    </a:lnTo>
                  </a:path>
                </a:pathLst>
              </a:custGeom>
              <a:solidFill>
                <a:srgbClr val="00b0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Group 20"/>
            <p:cNvGrpSpPr/>
            <p:nvPr/>
          </p:nvGrpSpPr>
          <p:grpSpPr>
            <a:xfrm>
              <a:off x="1095480" y="3583440"/>
              <a:ext cx="3247200" cy="1114560"/>
              <a:chOff x="1095480" y="3583440"/>
              <a:chExt cx="3247200" cy="1114560"/>
            </a:xfrm>
          </p:grpSpPr>
          <p:sp>
            <p:nvSpPr>
              <p:cNvPr id="272" name="未知"/>
              <p:cNvSpPr/>
              <p:nvPr/>
            </p:nvSpPr>
            <p:spPr>
              <a:xfrm>
                <a:off x="1418760" y="3583440"/>
                <a:ext cx="2500200" cy="400320"/>
              </a:xfrm>
              <a:custGeom>
                <a:avLst/>
                <a:gdLst/>
                <a:ahLst/>
                <a:rect l="l" t="t" r="r" b="b"/>
                <a:pathLst>
                  <a:path w="2208" h="303">
                    <a:moveTo>
                      <a:pt x="0" y="298"/>
                    </a:moveTo>
                    <a:lnTo>
                      <a:pt x="1979" y="302"/>
                    </a:lnTo>
                    <a:lnTo>
                      <a:pt x="2207" y="0"/>
                    </a:lnTo>
                    <a:lnTo>
                      <a:pt x="690" y="28"/>
                    </a:lnTo>
                    <a:lnTo>
                      <a:pt x="0" y="298"/>
                    </a:lnTo>
                  </a:path>
                </a:pathLst>
              </a:custGeom>
              <a:gradFill rotWithShape="0">
                <a:gsLst>
                  <a:gs pos="0">
                    <a:srgbClr val="558000"/>
                  </a:gs>
                  <a:gs pos="50000">
                    <a:srgbClr val="385500"/>
                  </a:gs>
                  <a:gs pos="100000">
                    <a:srgbClr val="5580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未知"/>
              <p:cNvSpPr/>
              <p:nvPr/>
            </p:nvSpPr>
            <p:spPr>
              <a:xfrm>
                <a:off x="1095480" y="3980520"/>
                <a:ext cx="2896200" cy="713880"/>
              </a:xfrm>
              <a:custGeom>
                <a:avLst/>
                <a:gdLst/>
                <a:ahLst/>
                <a:rect l="l" t="t" r="r" b="b"/>
                <a:pathLst>
                  <a:path w="2557" h="538">
                    <a:moveTo>
                      <a:pt x="0" y="537"/>
                    </a:moveTo>
                    <a:lnTo>
                      <a:pt x="2556" y="536"/>
                    </a:lnTo>
                    <a:lnTo>
                      <a:pt x="2262" y="1"/>
                    </a:lnTo>
                    <a:lnTo>
                      <a:pt x="288" y="0"/>
                    </a:lnTo>
                    <a:lnTo>
                      <a:pt x="0" y="537"/>
                    </a:lnTo>
                  </a:path>
                </a:pathLst>
              </a:custGeom>
              <a:gradFill rotWithShape="0">
                <a:gsLst>
                  <a:gs pos="0">
                    <a:srgbClr val="669900"/>
                  </a:gs>
                  <a:gs pos="100000">
                    <a:srgbClr val="2f47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未知"/>
              <p:cNvSpPr/>
              <p:nvPr/>
            </p:nvSpPr>
            <p:spPr>
              <a:xfrm>
                <a:off x="3650400" y="3589920"/>
                <a:ext cx="692280" cy="1108080"/>
              </a:xfrm>
              <a:custGeom>
                <a:avLst/>
                <a:gdLst/>
                <a:ahLst/>
                <a:rect l="l" t="t" r="r" b="b"/>
                <a:pathLst>
                  <a:path w="612" h="836">
                    <a:moveTo>
                      <a:pt x="302" y="835"/>
                    </a:moveTo>
                    <a:lnTo>
                      <a:pt x="611" y="476"/>
                    </a:lnTo>
                    <a:lnTo>
                      <a:pt x="226" y="0"/>
                    </a:lnTo>
                    <a:lnTo>
                      <a:pt x="0" y="302"/>
                    </a:lnTo>
                    <a:lnTo>
                      <a:pt x="302" y="835"/>
                    </a:lnTo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Group 24"/>
            <p:cNvGrpSpPr/>
            <p:nvPr/>
          </p:nvGrpSpPr>
          <p:grpSpPr>
            <a:xfrm>
              <a:off x="1463400" y="2914200"/>
              <a:ext cx="2397240" cy="970200"/>
              <a:chOff x="1463400" y="2914200"/>
              <a:chExt cx="2397240" cy="970200"/>
            </a:xfrm>
          </p:grpSpPr>
          <p:sp>
            <p:nvSpPr>
              <p:cNvPr id="276" name="未知"/>
              <p:cNvSpPr/>
              <p:nvPr/>
            </p:nvSpPr>
            <p:spPr>
              <a:xfrm>
                <a:off x="3276360" y="2914200"/>
                <a:ext cx="584280" cy="970200"/>
              </a:xfrm>
              <a:custGeom>
                <a:avLst/>
                <a:gdLst/>
                <a:ahLst/>
                <a:rect l="l" t="t" r="r" b="b"/>
                <a:pathLst>
                  <a:path w="516" h="732">
                    <a:moveTo>
                      <a:pt x="0" y="201"/>
                    </a:moveTo>
                    <a:lnTo>
                      <a:pt x="294" y="731"/>
                    </a:lnTo>
                    <a:lnTo>
                      <a:pt x="515" y="444"/>
                    </a:lnTo>
                    <a:lnTo>
                      <a:pt x="156" y="0"/>
                    </a:lnTo>
                    <a:lnTo>
                      <a:pt x="0" y="201"/>
                    </a:lnTo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未知"/>
              <p:cNvSpPr/>
              <p:nvPr/>
            </p:nvSpPr>
            <p:spPr>
              <a:xfrm>
                <a:off x="1775520" y="2914200"/>
                <a:ext cx="1676880" cy="261720"/>
              </a:xfrm>
              <a:custGeom>
                <a:avLst/>
                <a:gdLst/>
                <a:ahLst/>
                <a:rect l="l" t="t" r="r" b="b"/>
                <a:pathLst>
                  <a:path w="1481" h="197">
                    <a:moveTo>
                      <a:pt x="0" y="196"/>
                    </a:moveTo>
                    <a:lnTo>
                      <a:pt x="1329" y="196"/>
                    </a:lnTo>
                    <a:lnTo>
                      <a:pt x="1480" y="0"/>
                    </a:lnTo>
                    <a:lnTo>
                      <a:pt x="367" y="3"/>
                    </a:lnTo>
                    <a:lnTo>
                      <a:pt x="0" y="196"/>
                    </a:lnTo>
                  </a:path>
                </a:pathLst>
              </a:custGeom>
              <a:gradFill rotWithShape="0">
                <a:gsLst>
                  <a:gs pos="0">
                    <a:srgbClr val="9e9a00"/>
                  </a:gs>
                  <a:gs pos="50000">
                    <a:srgbClr val="696600"/>
                  </a:gs>
                  <a:gs pos="100000">
                    <a:srgbClr val="9e9a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未知"/>
              <p:cNvSpPr/>
              <p:nvPr/>
            </p:nvSpPr>
            <p:spPr>
              <a:xfrm>
                <a:off x="1463400" y="3175920"/>
                <a:ext cx="2157840" cy="702360"/>
              </a:xfrm>
              <a:custGeom>
                <a:avLst/>
                <a:gdLst/>
                <a:ahLst/>
                <a:rect l="l" t="t" r="r" b="b"/>
                <a:pathLst>
                  <a:path w="1906" h="530">
                    <a:moveTo>
                      <a:pt x="0" y="529"/>
                    </a:moveTo>
                    <a:lnTo>
                      <a:pt x="1905" y="529"/>
                    </a:lnTo>
                    <a:lnTo>
                      <a:pt x="1606" y="0"/>
                    </a:lnTo>
                    <a:lnTo>
                      <a:pt x="282" y="0"/>
                    </a:lnTo>
                    <a:lnTo>
                      <a:pt x="0" y="529"/>
                    </a:lnTo>
                  </a:path>
                </a:pathLst>
              </a:custGeom>
              <a:gradFill rotWithShape="0">
                <a:gsLst>
                  <a:gs pos="0">
                    <a:srgbClr val="cccc00"/>
                  </a:gs>
                  <a:gs pos="100000">
                    <a:srgbClr val="5e5e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Group 28"/>
            <p:cNvGrpSpPr/>
            <p:nvPr/>
          </p:nvGrpSpPr>
          <p:grpSpPr>
            <a:xfrm>
              <a:off x="1820160" y="2229840"/>
              <a:ext cx="1565640" cy="852840"/>
              <a:chOff x="1820160" y="2229840"/>
              <a:chExt cx="1565640" cy="852840"/>
            </a:xfrm>
          </p:grpSpPr>
          <p:sp>
            <p:nvSpPr>
              <p:cNvPr id="280" name="未知"/>
              <p:cNvSpPr/>
              <p:nvPr/>
            </p:nvSpPr>
            <p:spPr>
              <a:xfrm>
                <a:off x="2149200" y="2235600"/>
                <a:ext cx="827640" cy="136440"/>
              </a:xfrm>
              <a:custGeom>
                <a:avLst/>
                <a:gdLst/>
                <a:ahLst/>
                <a:rect l="l" t="t" r="r" b="b"/>
                <a:pathLst>
                  <a:path w="734" h="104">
                    <a:moveTo>
                      <a:pt x="0" y="100"/>
                    </a:moveTo>
                    <a:lnTo>
                      <a:pt x="652" y="103"/>
                    </a:lnTo>
                    <a:lnTo>
                      <a:pt x="733" y="0"/>
                    </a:lnTo>
                    <a:lnTo>
                      <a:pt x="180" y="0"/>
                    </a:lnTo>
                    <a:lnTo>
                      <a:pt x="0" y="100"/>
                    </a:lnTo>
                  </a:path>
                </a:pathLst>
              </a:custGeom>
              <a:gradFill rotWithShape="0">
                <a:gsLst>
                  <a:gs pos="0">
                    <a:srgbClr val="ff6535"/>
                  </a:gs>
                  <a:gs pos="50000">
                    <a:srgbClr val="a94323"/>
                  </a:gs>
                  <a:gs pos="100000">
                    <a:srgbClr val="ff653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未知"/>
              <p:cNvSpPr/>
              <p:nvPr/>
            </p:nvSpPr>
            <p:spPr>
              <a:xfrm>
                <a:off x="1820160" y="2368440"/>
                <a:ext cx="1402920" cy="714240"/>
              </a:xfrm>
              <a:custGeom>
                <a:avLst/>
                <a:gdLst/>
                <a:ahLst/>
                <a:rect l="l" t="t" r="r" b="b"/>
                <a:pathLst>
                  <a:path w="1239" h="538">
                    <a:moveTo>
                      <a:pt x="0" y="537"/>
                    </a:moveTo>
                    <a:lnTo>
                      <a:pt x="1238" y="537"/>
                    </a:lnTo>
                    <a:lnTo>
                      <a:pt x="950" y="0"/>
                    </a:lnTo>
                    <a:lnTo>
                      <a:pt x="288" y="0"/>
                    </a:lnTo>
                    <a:lnTo>
                      <a:pt x="0" y="537"/>
                    </a:lnTo>
                  </a:path>
                </a:pathLst>
              </a:custGeom>
              <a:gradFill rotWithShape="0">
                <a:gsLst>
                  <a:gs pos="0">
                    <a:srgbClr val="ff9933"/>
                  </a:gs>
                  <a:gs pos="100000">
                    <a:srgbClr val="76471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未知"/>
              <p:cNvSpPr/>
              <p:nvPr/>
            </p:nvSpPr>
            <p:spPr>
              <a:xfrm>
                <a:off x="2889720" y="2229840"/>
                <a:ext cx="496080" cy="847440"/>
              </a:xfrm>
              <a:custGeom>
                <a:avLst/>
                <a:gdLst/>
                <a:ahLst/>
                <a:rect l="l" t="t" r="r" b="b"/>
                <a:pathLst>
                  <a:path w="439" h="638">
                    <a:moveTo>
                      <a:pt x="289" y="637"/>
                    </a:moveTo>
                    <a:lnTo>
                      <a:pt x="438" y="441"/>
                    </a:lnTo>
                    <a:lnTo>
                      <a:pt x="79" y="0"/>
                    </a:lnTo>
                    <a:lnTo>
                      <a:pt x="0" y="96"/>
                    </a:lnTo>
                    <a:lnTo>
                      <a:pt x="289" y="637"/>
                    </a:lnTo>
                  </a:path>
                </a:pathLst>
              </a:custGeom>
              <a:solidFill>
                <a:srgbClr val="ffba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Group 32"/>
            <p:cNvGrpSpPr/>
            <p:nvPr/>
          </p:nvGrpSpPr>
          <p:grpSpPr>
            <a:xfrm>
              <a:off x="2187000" y="1557360"/>
              <a:ext cx="727920" cy="713160"/>
              <a:chOff x="2187000" y="1557360"/>
              <a:chExt cx="727920" cy="713160"/>
            </a:xfrm>
          </p:grpSpPr>
          <p:sp>
            <p:nvSpPr>
              <p:cNvPr id="284" name="未知"/>
              <p:cNvSpPr/>
              <p:nvPr/>
            </p:nvSpPr>
            <p:spPr>
              <a:xfrm>
                <a:off x="2187000" y="1557360"/>
                <a:ext cx="666720" cy="713160"/>
              </a:xfrm>
              <a:custGeom>
                <a:avLst/>
                <a:gdLst/>
                <a:ahLst/>
                <a:rect l="l" t="t" r="r" b="b"/>
                <a:pathLst>
                  <a:path w="587" h="537">
                    <a:moveTo>
                      <a:pt x="0" y="533"/>
                    </a:moveTo>
                    <a:lnTo>
                      <a:pt x="586" y="536"/>
                    </a:lnTo>
                    <a:lnTo>
                      <a:pt x="283" y="0"/>
                    </a:lnTo>
                    <a:lnTo>
                      <a:pt x="0" y="533"/>
                    </a:lnTo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5e1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未知"/>
              <p:cNvSpPr/>
              <p:nvPr/>
            </p:nvSpPr>
            <p:spPr>
              <a:xfrm>
                <a:off x="2503440" y="1557360"/>
                <a:ext cx="411480" cy="709560"/>
              </a:xfrm>
              <a:custGeom>
                <a:avLst/>
                <a:gdLst/>
                <a:ahLst/>
                <a:rect l="l" t="t" r="r" b="b"/>
                <a:pathLst>
                  <a:path w="364" h="535">
                    <a:moveTo>
                      <a:pt x="296" y="534"/>
                    </a:moveTo>
                    <a:lnTo>
                      <a:pt x="363" y="445"/>
                    </a:lnTo>
                    <a:lnTo>
                      <a:pt x="0" y="0"/>
                    </a:lnTo>
                    <a:lnTo>
                      <a:pt x="296" y="534"/>
                    </a:lnTo>
                  </a:path>
                </a:pathLst>
              </a:custGeom>
              <a:solidFill>
                <a:srgbClr val="ff6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6" name="Text Box 35"/>
          <p:cNvSpPr/>
          <p:nvPr/>
        </p:nvSpPr>
        <p:spPr>
          <a:xfrm>
            <a:off x="1768680" y="3371760"/>
            <a:ext cx="1589040" cy="43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Product/Servi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Inno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6"/>
          <p:cNvSpPr/>
          <p:nvPr/>
        </p:nvSpPr>
        <p:spPr>
          <a:xfrm>
            <a:off x="2004840" y="2457360"/>
            <a:ext cx="1080000" cy="60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Mod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Inno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Rectangle 37"/>
          <p:cNvGrpSpPr/>
          <p:nvPr/>
        </p:nvGrpSpPr>
        <p:grpSpPr>
          <a:xfrm>
            <a:off x="1311120" y="5138640"/>
            <a:ext cx="2578320" cy="371520"/>
            <a:chOff x="1311120" y="5138640"/>
            <a:chExt cx="2578320" cy="371520"/>
          </a:xfrm>
        </p:grpSpPr>
        <p:pic>
          <p:nvPicPr>
            <p:cNvPr id="289" name="Rectangle 37" descr=""/>
            <p:cNvPicPr/>
            <p:nvPr/>
          </p:nvPicPr>
          <p:blipFill>
            <a:blip r:embed="rId1"/>
            <a:stretch/>
          </p:blipFill>
          <p:spPr>
            <a:xfrm>
              <a:off x="1311120" y="5138640"/>
              <a:ext cx="257832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1311120" y="5149800"/>
              <a:ext cx="25592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Arial"/>
                </a:rPr>
                <a:t>Marketing Innov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Rectangle 38"/>
          <p:cNvGrpSpPr/>
          <p:nvPr/>
        </p:nvGrpSpPr>
        <p:grpSpPr>
          <a:xfrm>
            <a:off x="1311120" y="4181400"/>
            <a:ext cx="2438640" cy="371520"/>
            <a:chOff x="1311120" y="4181400"/>
            <a:chExt cx="2438640" cy="371520"/>
          </a:xfrm>
        </p:grpSpPr>
        <p:pic>
          <p:nvPicPr>
            <p:cNvPr id="292" name="Rectangle 38" descr=""/>
            <p:cNvPicPr/>
            <p:nvPr/>
          </p:nvPicPr>
          <p:blipFill>
            <a:blip r:embed="rId2"/>
            <a:stretch/>
          </p:blipFill>
          <p:spPr>
            <a:xfrm>
              <a:off x="1311120" y="4181400"/>
              <a:ext cx="243864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1311120" y="4194000"/>
              <a:ext cx="241776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Arial"/>
                </a:rPr>
                <a:t>Channel Innov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"/>
          <p:cNvSpPr/>
          <p:nvPr/>
        </p:nvSpPr>
        <p:spPr>
          <a:xfrm>
            <a:off x="0" y="982800"/>
            <a:ext cx="9144000" cy="59036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3"/>
          <p:cNvGrpSpPr/>
          <p:nvPr/>
        </p:nvGrpSpPr>
        <p:grpSpPr>
          <a:xfrm>
            <a:off x="585720" y="1365120"/>
            <a:ext cx="8040600" cy="4486320"/>
            <a:chOff x="585720" y="1365120"/>
            <a:chExt cx="8040600" cy="4486320"/>
          </a:xfrm>
        </p:grpSpPr>
        <p:pic>
          <p:nvPicPr>
            <p:cNvPr id="296" name="圆角矩形 15" descr=""/>
            <p:cNvPicPr/>
            <p:nvPr/>
          </p:nvPicPr>
          <p:blipFill>
            <a:blip r:embed="rId1"/>
            <a:stretch/>
          </p:blipFill>
          <p:spPr>
            <a:xfrm>
              <a:off x="585720" y="1768320"/>
              <a:ext cx="8040600" cy="408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矩形 16" descr=""/>
            <p:cNvPicPr/>
            <p:nvPr/>
          </p:nvPicPr>
          <p:blipFill>
            <a:blip r:embed="rId2"/>
            <a:stretch/>
          </p:blipFill>
          <p:spPr>
            <a:xfrm>
              <a:off x="2163600" y="1365120"/>
              <a:ext cx="2188800" cy="54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AutoShape 3" descr=""/>
            <p:cNvPicPr/>
            <p:nvPr/>
          </p:nvPicPr>
          <p:blipFill>
            <a:blip r:embed="rId3"/>
            <a:stretch/>
          </p:blipFill>
          <p:spPr>
            <a:xfrm>
              <a:off x="1437840" y="2262240"/>
              <a:ext cx="4054680" cy="77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矩形 19"/>
            <p:cNvSpPr/>
            <p:nvPr/>
          </p:nvSpPr>
          <p:spPr>
            <a:xfrm>
              <a:off x="1009080" y="2450880"/>
              <a:ext cx="63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北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0" name="AutoShape 3" descr=""/>
            <p:cNvPicPr/>
            <p:nvPr/>
          </p:nvPicPr>
          <p:blipFill>
            <a:blip r:embed="rId4"/>
            <a:stretch/>
          </p:blipFill>
          <p:spPr>
            <a:xfrm>
              <a:off x="1437840" y="2852640"/>
              <a:ext cx="3468960" cy="77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AutoShape 3" descr=""/>
            <p:cNvPicPr/>
            <p:nvPr/>
          </p:nvPicPr>
          <p:blipFill>
            <a:blip r:embed="rId5"/>
            <a:stretch/>
          </p:blipFill>
          <p:spPr>
            <a:xfrm>
              <a:off x="1437840" y="3444840"/>
              <a:ext cx="2390760" cy="77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AutoShape 3" descr=""/>
            <p:cNvPicPr/>
            <p:nvPr/>
          </p:nvPicPr>
          <p:blipFill>
            <a:blip r:embed="rId6"/>
            <a:stretch/>
          </p:blipFill>
          <p:spPr>
            <a:xfrm>
              <a:off x="1437840" y="4035240"/>
              <a:ext cx="282240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直接连接符 32"/>
            <p:cNvSpPr/>
            <p:nvPr/>
          </p:nvSpPr>
          <p:spPr>
            <a:xfrm>
              <a:off x="5839200" y="2016360"/>
              <a:ext cx="0" cy="3527280"/>
            </a:xfrm>
            <a:prstGeom prst="line">
              <a:avLst/>
            </a:prstGeom>
            <a:ln w="19080">
              <a:solidFill>
                <a:srgbClr val="595959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4" name="矩形 33" descr=""/>
            <p:cNvPicPr/>
            <p:nvPr/>
          </p:nvPicPr>
          <p:blipFill>
            <a:blip r:embed="rId7"/>
            <a:stretch/>
          </p:blipFill>
          <p:spPr>
            <a:xfrm>
              <a:off x="5999400" y="1365120"/>
              <a:ext cx="2187360" cy="54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AutoShape 3" descr=""/>
            <p:cNvPicPr/>
            <p:nvPr/>
          </p:nvPicPr>
          <p:blipFill>
            <a:blip r:embed="rId8"/>
            <a:stretch/>
          </p:blipFill>
          <p:spPr>
            <a:xfrm>
              <a:off x="1437840" y="4627800"/>
              <a:ext cx="1311120" cy="77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矩形 19"/>
            <p:cNvSpPr/>
            <p:nvPr/>
          </p:nvSpPr>
          <p:spPr>
            <a:xfrm>
              <a:off x="1009080" y="3041640"/>
              <a:ext cx="63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上海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矩形 19"/>
            <p:cNvSpPr/>
            <p:nvPr/>
          </p:nvSpPr>
          <p:spPr>
            <a:xfrm>
              <a:off x="1009080" y="3630600"/>
              <a:ext cx="63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广州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矩形 19"/>
            <p:cNvSpPr/>
            <p:nvPr/>
          </p:nvSpPr>
          <p:spPr>
            <a:xfrm>
              <a:off x="1009080" y="4219560"/>
              <a:ext cx="63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天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矩形 19"/>
            <p:cNvSpPr/>
            <p:nvPr/>
          </p:nvSpPr>
          <p:spPr>
            <a:xfrm>
              <a:off x="1009080" y="4808880"/>
              <a:ext cx="63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重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矩形 19"/>
            <p:cNvSpPr/>
            <p:nvPr/>
          </p:nvSpPr>
          <p:spPr>
            <a:xfrm>
              <a:off x="6337080" y="2476080"/>
              <a:ext cx="1516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矩形 19"/>
            <p:cNvSpPr/>
            <p:nvPr/>
          </p:nvSpPr>
          <p:spPr>
            <a:xfrm>
              <a:off x="6337080" y="3076200"/>
              <a:ext cx="1516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矩形 19"/>
            <p:cNvSpPr/>
            <p:nvPr/>
          </p:nvSpPr>
          <p:spPr>
            <a:xfrm>
              <a:off x="6337080" y="3678480"/>
              <a:ext cx="1516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矩形 19"/>
            <p:cNvSpPr/>
            <p:nvPr/>
          </p:nvSpPr>
          <p:spPr>
            <a:xfrm>
              <a:off x="6337080" y="4279680"/>
              <a:ext cx="1516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矩形 19"/>
            <p:cNvSpPr/>
            <p:nvPr/>
          </p:nvSpPr>
          <p:spPr>
            <a:xfrm>
              <a:off x="6337080" y="4879800"/>
              <a:ext cx="1516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2T11:50:42Z</dcterms:created>
  <dc:creator>联想家庭普通版</dc:creator>
  <dc:description/>
  <cp:keywords/>
  <dc:language>en-US</dc:language>
  <cp:lastModifiedBy>Administrator</cp:lastModifiedBy>
  <cp:lastPrinted>1899-12-30T00:00:00Z</cp:lastPrinted>
  <dcterms:modified xsi:type="dcterms:W3CDTF">2016-08-22T03:14:28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