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F30-83A1-4E4D-B272-55808F0D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2D2-8078-44FD-96A8-12D40ADC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58E0-1404-4543-BB2B-8758EEF7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F89-F1A5-48FF-829B-B3F71107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429-7D6C-42B8-9B0D-B7158468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F45-02CF-4D0A-A227-E8509B3E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BAFF-9167-4B9D-98B7-546C5F91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B58D-0805-4E63-9BDB-F7569219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38D-D719-411A-9A6A-84D82492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09F5-0065-4F26-B843-96129177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66A-0BF9-4AEC-ABA3-2B5D355A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28B-5F24-4E3D-951C-FC8E0E5D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50E7-8923-4494-B4EA-8091E6345B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hyperlink" Target="http://www.51pptmoban.com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14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未标题-1"/>
          <p:cNvPicPr/>
          <p:nvPr/>
        </p:nvPicPr>
        <p:blipFill>
          <a:blip r:embed="rId2"/>
          <a:stretch/>
        </p:blipFill>
        <p:spPr>
          <a:xfrm>
            <a:off x="-6480" y="0"/>
            <a:ext cx="1219536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347960" y="482904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6600"/>
                </a:solidFill>
                <a:latin typeface="Calibri"/>
                <a:ea typeface="方正综艺简体"/>
              </a:rPr>
              <a:t>色</a:t>
            </a:r>
            <a:r>
              <a:rPr b="0" lang="zh-CN" sz="7200" spc="-1" strike="noStrike">
                <a:solidFill>
                  <a:srgbClr val="cc6600"/>
                </a:solidFill>
                <a:latin typeface="Calibri"/>
                <a:ea typeface="方正综艺简体"/>
              </a:rPr>
              <a:t>彩</a:t>
            </a:r>
            <a:r>
              <a:rPr b="0" lang="zh-CN" sz="6000" spc="-1" strike="noStrike">
                <a:solidFill>
                  <a:srgbClr val="cc6600"/>
                </a:solidFill>
                <a:latin typeface="Calibri"/>
                <a:ea typeface="方正综艺简体"/>
              </a:rPr>
              <a:t>心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4848"/>
          <p:cNvPicPr/>
          <p:nvPr/>
        </p:nvPicPr>
        <p:blipFill>
          <a:blip r:embed="rId3"/>
          <a:stretch/>
        </p:blipFill>
        <p:spPr>
          <a:xfrm>
            <a:off x="184320" y="31399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未标题-2"/>
          <p:cNvPicPr/>
          <p:nvPr/>
        </p:nvPicPr>
        <p:blipFill>
          <a:blip r:embed="rId4"/>
          <a:stretch/>
        </p:blipFill>
        <p:spPr>
          <a:xfrm>
            <a:off x="6813720" y="24224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454"/>
          <p:cNvPicPr/>
          <p:nvPr/>
        </p:nvPicPr>
        <p:blipFill>
          <a:blip r:embed="rId5"/>
          <a:stretch/>
        </p:blipFill>
        <p:spPr>
          <a:xfrm>
            <a:off x="695160" y="451656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26"/>
          <p:cNvPicPr/>
          <p:nvPr/>
        </p:nvPicPr>
        <p:blipFill>
          <a:blip r:embed="rId6"/>
          <a:stretch/>
        </p:blipFill>
        <p:spPr>
          <a:xfrm>
            <a:off x="806400" y="2055960"/>
            <a:ext cx="851040" cy="85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989595"/>
          <p:cNvPicPr/>
          <p:nvPr/>
        </p:nvPicPr>
        <p:blipFill>
          <a:blip r:embed="rId7"/>
          <a:stretch/>
        </p:blipFill>
        <p:spPr>
          <a:xfrm>
            <a:off x="1616040" y="43956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7589160" y="13636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844 0.090463 L 0.83 0.876296 E">
                                      <p:cBhvr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49896 0.820741 E">
                                      <p:cBhvr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11458 0.871204 E">
                                      <p:cBhvr>
                                        <p:cTn id="4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3099 0.787037 E">
                                      <p:cBhvr>
                                        <p:cTn id="49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6042 0.517685 E">
                                      <p:cBhvr>
                                        <p:cTn id="5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wps2"/>
          <p:cNvPicPr/>
          <p:nvPr/>
        </p:nvPicPr>
        <p:blipFill>
          <a:blip r:embed="rId2"/>
          <a:stretch/>
        </p:blipFill>
        <p:spPr>
          <a:xfrm>
            <a:off x="-49320" y="-52560"/>
            <a:ext cx="12360240" cy="6950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79640" y="3735360"/>
            <a:ext cx="1277640" cy="33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ffff"/>
                </a:solidFill>
                <a:latin typeface="Calibri"/>
                <a:ea typeface="方正综艺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526160" y="337824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Calibri"/>
                <a:ea typeface="方正综艺简体"/>
              </a:rPr>
              <a:t>红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755840" y="4241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Calibri"/>
                <a:ea typeface="方正综艺简体"/>
              </a:rPr>
              <a:t>黄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755840" y="51354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99"/>
                </a:solidFill>
                <a:latin typeface="Calibri"/>
                <a:ea typeface="方正综艺简体"/>
              </a:rPr>
              <a:t>绿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556"/>
          <p:cNvPicPr/>
          <p:nvPr/>
        </p:nvPicPr>
        <p:blipFill>
          <a:blip r:embed="rId3"/>
          <a:stretch/>
        </p:blipFill>
        <p:spPr>
          <a:xfrm>
            <a:off x="7315200" y="2906640"/>
            <a:ext cx="79704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白色"/>
          <p:cNvPicPr/>
          <p:nvPr/>
        </p:nvPicPr>
        <p:blipFill>
          <a:blip r:embed="rId4"/>
          <a:stretch/>
        </p:blipFill>
        <p:spPr>
          <a:xfrm>
            <a:off x="2205000" y="3800520"/>
            <a:ext cx="4789440" cy="163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白色"/>
          <p:cNvPicPr/>
          <p:nvPr/>
        </p:nvPicPr>
        <p:blipFill>
          <a:blip r:embed="rId5"/>
          <a:stretch/>
        </p:blipFill>
        <p:spPr>
          <a:xfrm>
            <a:off x="2171880" y="4543560"/>
            <a:ext cx="4789440" cy="16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白色"/>
          <p:cNvPicPr/>
          <p:nvPr/>
        </p:nvPicPr>
        <p:blipFill>
          <a:blip r:embed="rId6"/>
          <a:stretch/>
        </p:blipFill>
        <p:spPr>
          <a:xfrm>
            <a:off x="2181240" y="5330880"/>
            <a:ext cx="4789440" cy="16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lv"/>
          <p:cNvPicPr/>
          <p:nvPr/>
        </p:nvPicPr>
        <p:blipFill>
          <a:blip r:embed="rId7"/>
          <a:stretch/>
        </p:blipFill>
        <p:spPr>
          <a:xfrm>
            <a:off x="7302600" y="5415120"/>
            <a:ext cx="384120" cy="531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黄色"/>
          <p:cNvPicPr/>
          <p:nvPr/>
        </p:nvPicPr>
        <p:blipFill>
          <a:blip r:embed="rId8"/>
          <a:stretch/>
        </p:blipFill>
        <p:spPr>
          <a:xfrm>
            <a:off x="8572680" y="4211640"/>
            <a:ext cx="8413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wps3"/>
          <p:cNvPicPr/>
          <p:nvPr/>
        </p:nvPicPr>
        <p:blipFill>
          <a:blip r:embed="rId2"/>
          <a:stretch/>
        </p:blipFill>
        <p:spPr>
          <a:xfrm>
            <a:off x="11160" y="-25560"/>
            <a:ext cx="12345840" cy="693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4848"/>
          <p:cNvPicPr/>
          <p:nvPr/>
        </p:nvPicPr>
        <p:blipFill>
          <a:blip r:embed="rId3"/>
          <a:stretch/>
        </p:blipFill>
        <p:spPr>
          <a:xfrm>
            <a:off x="11815920" y="-2224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未标题-2"/>
          <p:cNvPicPr/>
          <p:nvPr/>
        </p:nvPicPr>
        <p:blipFill>
          <a:blip r:embed="rId4"/>
          <a:stretch/>
        </p:blipFill>
        <p:spPr>
          <a:xfrm>
            <a:off x="13241160" y="-16178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454"/>
          <p:cNvPicPr/>
          <p:nvPr/>
        </p:nvPicPr>
        <p:blipFill>
          <a:blip r:embed="rId5"/>
          <a:stretch/>
        </p:blipFill>
        <p:spPr>
          <a:xfrm>
            <a:off x="14644800" y="-519120"/>
            <a:ext cx="672840" cy="65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5"/>
          <p:cNvPicPr/>
          <p:nvPr/>
        </p:nvPicPr>
        <p:blipFill>
          <a:blip r:embed="rId6"/>
          <a:stretch/>
        </p:blipFill>
        <p:spPr>
          <a:xfrm>
            <a:off x="10747440" y="-1644480"/>
            <a:ext cx="711000" cy="711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6"/>
          <p:cNvPicPr/>
          <p:nvPr/>
        </p:nvPicPr>
        <p:blipFill>
          <a:blip r:embed="rId7"/>
          <a:stretch/>
        </p:blipFill>
        <p:spPr>
          <a:xfrm>
            <a:off x="12480840" y="-633240"/>
            <a:ext cx="851040" cy="842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4916520" y="3193920"/>
            <a:ext cx="404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红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1094 0.399907 E">
                                      <p:cBhvr>
                                        <p:cTn id="20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2969 0.37037 E">
                                      <p:cBhvr>
                                        <p:cTn id="205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96615 0.366204 E">
                                      <p:cBhvr>
                                        <p:cTn id="20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25677 0.37037 E">
                                      <p:cBhvr>
                                        <p:cTn id="209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09635 0.45037 E">
                                      <p:cBhvr>
                                        <p:cTn id="21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wps4"/>
          <p:cNvPicPr/>
          <p:nvPr/>
        </p:nvPicPr>
        <p:blipFill>
          <a:blip r:embed="rId2"/>
          <a:stretch/>
        </p:blipFill>
        <p:spPr>
          <a:xfrm>
            <a:off x="-14400" y="-22320"/>
            <a:ext cx="12234960" cy="6896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076400" y="3321000"/>
            <a:ext cx="10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        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红色象征热情、性感、权威、自信，是个能量充沛的色彩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--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全然的自我、全然的自信、全然的要别人注意你。不过有时候会给人血腥、暴力、忌妒、控制的印象，容易造成心理压力，因此与人谈判或协商时则不宜穿红色；预期有火爆场面时，也请避免穿红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9360" y="722160"/>
            <a:ext cx="41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ffff"/>
                </a:solidFill>
                <a:latin typeface="Calibri"/>
                <a:ea typeface="方正综艺简体"/>
              </a:rPr>
              <a:t>红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4848"/>
          <p:cNvPicPr/>
          <p:nvPr/>
        </p:nvPicPr>
        <p:blipFill>
          <a:blip r:embed="rId3"/>
          <a:stretch/>
        </p:blipFill>
        <p:spPr>
          <a:xfrm>
            <a:off x="138240" y="-1579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454"/>
          <p:cNvPicPr/>
          <p:nvPr/>
        </p:nvPicPr>
        <p:blipFill>
          <a:blip r:embed="rId4"/>
          <a:stretch/>
        </p:blipFill>
        <p:spPr>
          <a:xfrm>
            <a:off x="1004760" y="-281772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未标题-2"/>
          <p:cNvPicPr/>
          <p:nvPr/>
        </p:nvPicPr>
        <p:blipFill>
          <a:blip r:embed="rId5"/>
          <a:stretch/>
        </p:blipFill>
        <p:spPr>
          <a:xfrm>
            <a:off x="-357120" y="-2521080"/>
            <a:ext cx="121104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989595"/>
          <p:cNvPicPr/>
          <p:nvPr/>
        </p:nvPicPr>
        <p:blipFill>
          <a:blip r:embed="rId6"/>
          <a:stretch/>
        </p:blipFill>
        <p:spPr>
          <a:xfrm>
            <a:off x="-1341360" y="-1039680"/>
            <a:ext cx="1217520" cy="1211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5"/>
          <p:cNvPicPr/>
          <p:nvPr/>
        </p:nvPicPr>
        <p:blipFill>
          <a:blip r:embed="rId7"/>
          <a:stretch/>
        </p:blipFill>
        <p:spPr>
          <a:xfrm>
            <a:off x="1357200" y="-1760400"/>
            <a:ext cx="71136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1198 1.216296 E">
                                      <p:cBhvr>
                                        <p:cTn id="27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724 1.119537 E">
                                      <p:cBhvr>
                                        <p:cTn id="28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110365 1.165833 E">
                                      <p:cBhvr>
                                        <p:cTn id="28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40521 0.782778 E">
                                      <p:cBhvr>
                                        <p:cTn id="287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98385 1.363611 E">
                                      <p:cBhvr>
                                        <p:cTn id="29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wps3"/>
          <p:cNvPicPr/>
          <p:nvPr/>
        </p:nvPicPr>
        <p:blipFill>
          <a:blip r:embed="rId2"/>
          <a:stretch/>
        </p:blipFill>
        <p:spPr>
          <a:xfrm>
            <a:off x="11160" y="-25560"/>
            <a:ext cx="12345840" cy="693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4848"/>
          <p:cNvPicPr/>
          <p:nvPr/>
        </p:nvPicPr>
        <p:blipFill>
          <a:blip r:embed="rId3"/>
          <a:stretch/>
        </p:blipFill>
        <p:spPr>
          <a:xfrm>
            <a:off x="11815920" y="-2224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未标题-2"/>
          <p:cNvPicPr/>
          <p:nvPr/>
        </p:nvPicPr>
        <p:blipFill>
          <a:blip r:embed="rId4"/>
          <a:stretch/>
        </p:blipFill>
        <p:spPr>
          <a:xfrm>
            <a:off x="13241160" y="-16178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454"/>
          <p:cNvPicPr/>
          <p:nvPr/>
        </p:nvPicPr>
        <p:blipFill>
          <a:blip r:embed="rId5"/>
          <a:stretch/>
        </p:blipFill>
        <p:spPr>
          <a:xfrm>
            <a:off x="14644800" y="-519120"/>
            <a:ext cx="672840" cy="652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5"/>
          <p:cNvPicPr/>
          <p:nvPr/>
        </p:nvPicPr>
        <p:blipFill>
          <a:blip r:embed="rId6"/>
          <a:stretch/>
        </p:blipFill>
        <p:spPr>
          <a:xfrm>
            <a:off x="10747440" y="-1644480"/>
            <a:ext cx="711000" cy="711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26"/>
          <p:cNvPicPr/>
          <p:nvPr/>
        </p:nvPicPr>
        <p:blipFill>
          <a:blip r:embed="rId7"/>
          <a:stretch/>
        </p:blipFill>
        <p:spPr>
          <a:xfrm>
            <a:off x="12480840" y="-633240"/>
            <a:ext cx="851040" cy="842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4916520" y="3193920"/>
            <a:ext cx="404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黄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1094 0.399907 E">
                                      <p:cBhvr>
                                        <p:cTn id="32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2969 0.37037 E">
                                      <p:cBhvr>
                                        <p:cTn id="32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96615 0.366204 E">
                                      <p:cBhvr>
                                        <p:cTn id="32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25677 0.37037 E">
                                      <p:cBhvr>
                                        <p:cTn id="32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09635 0.45037 E">
                                      <p:cBhvr>
                                        <p:cTn id="32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wps4"/>
          <p:cNvPicPr/>
          <p:nvPr/>
        </p:nvPicPr>
        <p:blipFill>
          <a:blip r:embed="rId2"/>
          <a:stretch/>
        </p:blipFill>
        <p:spPr>
          <a:xfrm>
            <a:off x="-14400" y="-22320"/>
            <a:ext cx="12234960" cy="6896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076400" y="3321000"/>
            <a:ext cx="10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        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黄色是明度极高的颜色，能刺激大脑中与焦虑有关的区域，具有警告的效果，所以雨具、雨衣多半是黄色。艳黄色象征信心、聪明、希望；淡黄色显得天真、浪漫、娇嫩。提醒你，艳黄色有不稳定、招摇，甚至挑衅的味道，不适合在任何可能引起冲突的场合如谈判场合穿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360" y="722160"/>
            <a:ext cx="41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ffff"/>
                </a:solidFill>
                <a:latin typeface="Calibri"/>
                <a:ea typeface="方正综艺简体"/>
              </a:rPr>
              <a:t>黄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4848"/>
          <p:cNvPicPr/>
          <p:nvPr/>
        </p:nvPicPr>
        <p:blipFill>
          <a:blip r:embed="rId3"/>
          <a:stretch/>
        </p:blipFill>
        <p:spPr>
          <a:xfrm>
            <a:off x="138240" y="-1579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454"/>
          <p:cNvPicPr/>
          <p:nvPr/>
        </p:nvPicPr>
        <p:blipFill>
          <a:blip r:embed="rId4"/>
          <a:stretch/>
        </p:blipFill>
        <p:spPr>
          <a:xfrm>
            <a:off x="1004760" y="-281772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未标题-2"/>
          <p:cNvPicPr/>
          <p:nvPr/>
        </p:nvPicPr>
        <p:blipFill>
          <a:blip r:embed="rId5"/>
          <a:stretch/>
        </p:blipFill>
        <p:spPr>
          <a:xfrm>
            <a:off x="-357120" y="-2521080"/>
            <a:ext cx="1211040" cy="121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989595"/>
          <p:cNvPicPr/>
          <p:nvPr/>
        </p:nvPicPr>
        <p:blipFill>
          <a:blip r:embed="rId6"/>
          <a:stretch/>
        </p:blipFill>
        <p:spPr>
          <a:xfrm>
            <a:off x="-1341360" y="-1039680"/>
            <a:ext cx="1217520" cy="1211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5"/>
          <p:cNvPicPr/>
          <p:nvPr/>
        </p:nvPicPr>
        <p:blipFill>
          <a:blip r:embed="rId7"/>
          <a:stretch/>
        </p:blipFill>
        <p:spPr>
          <a:xfrm>
            <a:off x="1357200" y="-1760400"/>
            <a:ext cx="71136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1198 1.216296 E">
                                      <p:cBhvr>
                                        <p:cTn id="397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724 1.119537 E">
                                      <p:cBhvr>
                                        <p:cTn id="40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110365 1.165833 E">
                                      <p:cBhvr>
                                        <p:cTn id="40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40521 0.782778 E">
                                      <p:cBhvr>
                                        <p:cTn id="40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98385 1.363611 E">
                                      <p:cBhvr>
                                        <p:cTn id="40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wps3"/>
          <p:cNvPicPr/>
          <p:nvPr/>
        </p:nvPicPr>
        <p:blipFill>
          <a:blip r:embed="rId2"/>
          <a:stretch/>
        </p:blipFill>
        <p:spPr>
          <a:xfrm>
            <a:off x="11160" y="-25560"/>
            <a:ext cx="12345840" cy="693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4848"/>
          <p:cNvPicPr/>
          <p:nvPr/>
        </p:nvPicPr>
        <p:blipFill>
          <a:blip r:embed="rId3"/>
          <a:stretch/>
        </p:blipFill>
        <p:spPr>
          <a:xfrm>
            <a:off x="11815920" y="-2224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未标题-2"/>
          <p:cNvPicPr/>
          <p:nvPr/>
        </p:nvPicPr>
        <p:blipFill>
          <a:blip r:embed="rId4"/>
          <a:stretch/>
        </p:blipFill>
        <p:spPr>
          <a:xfrm>
            <a:off x="13241160" y="-16178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454"/>
          <p:cNvPicPr/>
          <p:nvPr/>
        </p:nvPicPr>
        <p:blipFill>
          <a:blip r:embed="rId5"/>
          <a:stretch/>
        </p:blipFill>
        <p:spPr>
          <a:xfrm>
            <a:off x="14644800" y="-519120"/>
            <a:ext cx="672840" cy="652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5"/>
          <p:cNvPicPr/>
          <p:nvPr/>
        </p:nvPicPr>
        <p:blipFill>
          <a:blip r:embed="rId6"/>
          <a:stretch/>
        </p:blipFill>
        <p:spPr>
          <a:xfrm>
            <a:off x="10747440" y="-1644480"/>
            <a:ext cx="711000" cy="711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26"/>
          <p:cNvPicPr/>
          <p:nvPr/>
        </p:nvPicPr>
        <p:blipFill>
          <a:blip r:embed="rId7"/>
          <a:stretch/>
        </p:blipFill>
        <p:spPr>
          <a:xfrm>
            <a:off x="12480840" y="-633240"/>
            <a:ext cx="851040" cy="842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4916520" y="3193920"/>
            <a:ext cx="404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绿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1094 0.399907 E">
                                      <p:cBhvr>
                                        <p:cTn id="43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2969 0.37037 E">
                                      <p:cBhvr>
                                        <p:cTn id="44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96615 0.366204 E">
                                      <p:cBhvr>
                                        <p:cTn id="44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25677 0.37037 E">
                                      <p:cBhvr>
                                        <p:cTn id="44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09635 0.45037 E">
                                      <p:cBhvr>
                                        <p:cTn id="44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wps4"/>
          <p:cNvPicPr/>
          <p:nvPr/>
        </p:nvPicPr>
        <p:blipFill>
          <a:blip r:embed="rId2"/>
          <a:stretch/>
        </p:blipFill>
        <p:spPr>
          <a:xfrm>
            <a:off x="-14400" y="-22320"/>
            <a:ext cx="12234960" cy="6896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076400" y="3321000"/>
            <a:ext cx="10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        </a:t>
            </a:r>
            <a:r>
              <a:rPr b="0" lang="zh-CN" sz="28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绿色给人无限的安全感受，在人际关系的协调上可扮演重要的角色。绿色象  色彩征自由和平、新鲜舒适；黄绿色给人清新、有活力、快乐的感受；明度较低的草绿、墨绿、橄榄绿则给人沉稳、知性的印象。绿色的负面意义，暗示了隐藏、被动，不小心就会穿出没有创意、出世的感觉，在团体中容易失去参与感，所以在搭配上需要其它色彩来调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9360" y="722160"/>
            <a:ext cx="41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ffff"/>
                </a:solidFill>
                <a:latin typeface="Calibri"/>
                <a:ea typeface="方正综艺简体"/>
              </a:rPr>
              <a:t>绿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4848"/>
          <p:cNvPicPr/>
          <p:nvPr/>
        </p:nvPicPr>
        <p:blipFill>
          <a:blip r:embed="rId3"/>
          <a:stretch/>
        </p:blipFill>
        <p:spPr>
          <a:xfrm>
            <a:off x="138240" y="-1579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454"/>
          <p:cNvPicPr/>
          <p:nvPr/>
        </p:nvPicPr>
        <p:blipFill>
          <a:blip r:embed="rId4"/>
          <a:stretch/>
        </p:blipFill>
        <p:spPr>
          <a:xfrm>
            <a:off x="1004760" y="-281772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未标题-2"/>
          <p:cNvPicPr/>
          <p:nvPr/>
        </p:nvPicPr>
        <p:blipFill>
          <a:blip r:embed="rId5"/>
          <a:stretch/>
        </p:blipFill>
        <p:spPr>
          <a:xfrm>
            <a:off x="-357120" y="-2521080"/>
            <a:ext cx="1211040" cy="1219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989595"/>
          <p:cNvPicPr/>
          <p:nvPr/>
        </p:nvPicPr>
        <p:blipFill>
          <a:blip r:embed="rId6"/>
          <a:stretch/>
        </p:blipFill>
        <p:spPr>
          <a:xfrm>
            <a:off x="-1341360" y="-1039680"/>
            <a:ext cx="1217520" cy="1211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5"/>
          <p:cNvPicPr/>
          <p:nvPr/>
        </p:nvPicPr>
        <p:blipFill>
          <a:blip r:embed="rId7"/>
          <a:stretch/>
        </p:blipFill>
        <p:spPr>
          <a:xfrm>
            <a:off x="1357200" y="-1760400"/>
            <a:ext cx="71136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1198 1.216296 E">
                                      <p:cBhvr>
                                        <p:cTn id="51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724 1.119537 E">
                                      <p:cBhvr>
                                        <p:cTn id="51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110365 1.165833 E">
                                      <p:cBhvr>
                                        <p:cTn id="52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40521 0.782778 E">
                                      <p:cBhvr>
                                        <p:cTn id="52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98385 1.363611 E">
                                      <p:cBhvr>
                                        <p:cTn id="52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5"/>
          <p:cNvPicPr/>
          <p:nvPr/>
        </p:nvPicPr>
        <p:blipFill>
          <a:blip r:embed="rId2"/>
          <a:stretch/>
        </p:blipFill>
        <p:spPr>
          <a:xfrm>
            <a:off x="-47520" y="-3240"/>
            <a:ext cx="12233160" cy="6880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756786"/>
          <p:cNvPicPr/>
          <p:nvPr/>
        </p:nvPicPr>
        <p:blipFill>
          <a:blip r:embed="rId3"/>
          <a:stretch/>
        </p:blipFill>
        <p:spPr>
          <a:xfrm>
            <a:off x="6986520" y="-2454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422538383"/>
          <p:cNvPicPr/>
          <p:nvPr/>
        </p:nvPicPr>
        <p:blipFill>
          <a:blip r:embed="rId4"/>
          <a:stretch/>
        </p:blipFill>
        <p:spPr>
          <a:xfrm>
            <a:off x="4584600" y="-2309760"/>
            <a:ext cx="1231920" cy="1219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989595"/>
          <p:cNvPicPr/>
          <p:nvPr/>
        </p:nvPicPr>
        <p:blipFill>
          <a:blip r:embed="rId5"/>
          <a:stretch/>
        </p:blipFill>
        <p:spPr>
          <a:xfrm>
            <a:off x="2600280" y="-24843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533"/>
          <p:cNvPicPr/>
          <p:nvPr/>
        </p:nvPicPr>
        <p:blipFill>
          <a:blip r:embed="rId6"/>
          <a:stretch/>
        </p:blipFill>
        <p:spPr>
          <a:xfrm>
            <a:off x="1363680" y="-12207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未标题-2"/>
          <p:cNvPicPr/>
          <p:nvPr/>
        </p:nvPicPr>
        <p:blipFill>
          <a:blip r:embed="rId7"/>
          <a:stretch/>
        </p:blipFill>
        <p:spPr>
          <a:xfrm>
            <a:off x="1593720" y="-27208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454"/>
          <p:cNvPicPr/>
          <p:nvPr/>
        </p:nvPicPr>
        <p:blipFill>
          <a:blip r:embed="rId8"/>
          <a:stretch/>
        </p:blipFill>
        <p:spPr>
          <a:xfrm>
            <a:off x="9445680" y="-2087640"/>
            <a:ext cx="673200" cy="66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5"/>
          <p:cNvPicPr/>
          <p:nvPr/>
        </p:nvPicPr>
        <p:blipFill>
          <a:blip r:embed="rId9"/>
          <a:stretch/>
        </p:blipFill>
        <p:spPr>
          <a:xfrm>
            <a:off x="4884840" y="-3098880"/>
            <a:ext cx="711000" cy="71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989595"/>
          <p:cNvPicPr/>
          <p:nvPr/>
        </p:nvPicPr>
        <p:blipFill>
          <a:blip r:embed="rId10"/>
          <a:stretch/>
        </p:blipFill>
        <p:spPr>
          <a:xfrm>
            <a:off x="4048200" y="-141120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4848"/>
          <p:cNvPicPr/>
          <p:nvPr/>
        </p:nvPicPr>
        <p:blipFill>
          <a:blip r:embed="rId11"/>
          <a:stretch/>
        </p:blipFill>
        <p:spPr>
          <a:xfrm>
            <a:off x="6183360" y="-13892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26"/>
          <p:cNvPicPr/>
          <p:nvPr/>
        </p:nvPicPr>
        <p:blipFill>
          <a:blip r:embed="rId12"/>
          <a:stretch/>
        </p:blipFill>
        <p:spPr>
          <a:xfrm>
            <a:off x="2633760" y="-1332000"/>
            <a:ext cx="850680" cy="85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454"/>
          <p:cNvPicPr/>
          <p:nvPr/>
        </p:nvPicPr>
        <p:blipFill>
          <a:blip r:embed="rId13"/>
          <a:stretch/>
        </p:blipFill>
        <p:spPr>
          <a:xfrm>
            <a:off x="5952960" y="-265896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5"/>
          <p:cNvPicPr/>
          <p:nvPr/>
        </p:nvPicPr>
        <p:blipFill>
          <a:blip r:embed="rId14"/>
          <a:stretch/>
        </p:blipFill>
        <p:spPr>
          <a:xfrm>
            <a:off x="4221000" y="-1909800"/>
            <a:ext cx="711360" cy="71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26"/>
          <p:cNvPicPr/>
          <p:nvPr/>
        </p:nvPicPr>
        <p:blipFill>
          <a:blip r:embed="rId15"/>
          <a:stretch/>
        </p:blipFill>
        <p:spPr>
          <a:xfrm>
            <a:off x="8059680" y="-1419120"/>
            <a:ext cx="851040" cy="850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6"/>
          <p:cNvSpPr/>
          <p:nvPr/>
        </p:nvSpPr>
        <p:spPr>
          <a:xfrm>
            <a:off x="3598920" y="5600880"/>
            <a:ext cx="75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谢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谢聆</a:t>
            </a: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听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8385 0.593426 E">
                                      <p:cBhvr>
                                        <p:cTn id="55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6042 0.677685 E">
                                      <p:cBhvr>
                                        <p:cTn id="559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2344 0.643889 E">
                                      <p:cBhvr>
                                        <p:cTn id="56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2083 0.395648 E">
                                      <p:cBhvr>
                                        <p:cTn id="56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9792 0.787037 E">
                                      <p:cBhvr>
                                        <p:cTn id="56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11354 0.622963 E">
                                      <p:cBhvr>
                                        <p:cTn id="56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948 0.467222 E">
                                      <p:cBhvr>
                                        <p:cTn id="56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35573 0.723889 E">
                                      <p:cBhvr>
                                        <p:cTn id="57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35625 0.673426 E">
                                      <p:cBhvr>
                                        <p:cTn id="573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92396 0.53037 E">
                                      <p:cBhvr>
                                        <p:cTn id="57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6198 0.551389 E">
                                      <p:cBhvr>
                                        <p:cTn id="57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7604 0.79963 E">
                                      <p:cBhvr>
                                        <p:cTn id="57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0729 0.366204 E">
                                      <p:cBhvr>
                                        <p:cTn id="58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396 0.399074 L -0.14474 1.240833 E">
                                      <p:cBhvr>
                                        <p:cTn id="59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9531 0.786204 L 0.863802 1.446944 E">
                                      <p:cBhvr>
                                        <p:cTn id="59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0677 0.530556 L 0.897865 0.9725 E">
                                      <p:cBhvr>
                                        <p:cTn id="594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49 0.583333 L 0.071094 1.46713 E">
                                      <p:cBhvr>
                                        <p:cTn id="59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26 0.625278 L -1.03375 1.294537 E">
                                      <p:cBhvr>
                                        <p:cTn id="59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1354 0.366481 L 0.450417 1.279815 E">
                                      <p:cBhvr>
                                        <p:cTn id="60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4 0.650648 L -0.006979 1.803796 E">
                                      <p:cBhvr>
                                        <p:cTn id="60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531 0.788889 L -0.200781 1.702222 E">
                                      <p:cBhvr>
                                        <p:cTn id="60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792 0.675741 L -0.076875 1.917315 E">
                                      <p:cBhvr>
                                        <p:cTn id="60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9948 0.659259 L -0.789792 1.235833 E">
                                      <p:cBhvr>
                                        <p:cTn id="60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625 0.461481 L 0.580417 1.795648 E">
                                      <p:cBhvr>
                                        <p:cTn id="61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4115 0.725556 L 0.651927 1.554722 E">
                                      <p:cBhvr>
                                        <p:cTn id="61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349 0.544352 L 0.297917 1.811204 E">
                                      <p:cBhvr>
                                        <p:cTn id="61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for_yang@qq.com</cp:lastModifiedBy>
  <dcterms:modified xsi:type="dcterms:W3CDTF">2013-03-31T03:52:3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