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7BEF-A6F1-45EB-9079-92246316F2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41E1-455D-4CE6-A162-BAB3F4188F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720C-348E-4A01-A525-E8E97F2FC66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8CD-CE18-472C-8B42-85AE0862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9C0-86BF-4C91-BDD8-BB863DB2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FFF-10F9-4359-8A0C-10276024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858-AA55-41B9-BA87-1C962C90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C72-FBA3-4D42-8724-A798F174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816-7B31-497A-8781-A7986517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65E-0E73-4D3C-AC68-9F46F5CC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A65-7658-48A8-8F64-F4D6333A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0A4-DD2A-4627-9071-08B7215A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3F9-0BA2-4D63-8FB6-8CA9933A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684-CFE5-4B37-985D-9F87ADE9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D5B-782D-41B1-9601-CE366EE9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C7F8-61ED-4982-BFF2-A2FBC7956B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rcRect l="10301" t="16678" r="15134" b="30818"/>
          <a:stretch/>
        </p:blipFill>
        <p:spPr>
          <a:xfrm>
            <a:off x="4986360" y="2441520"/>
            <a:ext cx="4732200" cy="1346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" descr=""/>
          <p:cNvPicPr/>
          <p:nvPr/>
        </p:nvPicPr>
        <p:blipFill>
          <a:blip r:embed="rId2"/>
          <a:stretch/>
        </p:blipFill>
        <p:spPr>
          <a:xfrm>
            <a:off x="5126040" y="3898800"/>
            <a:ext cx="401796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154"/>
          <p:cNvSpPr/>
          <p:nvPr/>
        </p:nvSpPr>
        <p:spPr>
          <a:xfrm>
            <a:off x="3886200" y="244944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64"/>
          <p:cNvSpPr/>
          <p:nvPr/>
        </p:nvSpPr>
        <p:spPr>
          <a:xfrm>
            <a:off x="7216920" y="4821120"/>
            <a:ext cx="10569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163"/>
          <p:cNvSpPr/>
          <p:nvPr/>
        </p:nvSpPr>
        <p:spPr>
          <a:xfrm>
            <a:off x="3886200" y="482112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162"/>
          <p:cNvSpPr/>
          <p:nvPr/>
        </p:nvSpPr>
        <p:spPr>
          <a:xfrm>
            <a:off x="7686720" y="3633840"/>
            <a:ext cx="10634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traight Connector 161"/>
          <p:cNvSpPr/>
          <p:nvPr/>
        </p:nvSpPr>
        <p:spPr>
          <a:xfrm>
            <a:off x="3408480" y="3633840"/>
            <a:ext cx="11127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160"/>
          <p:cNvSpPr/>
          <p:nvPr/>
        </p:nvSpPr>
        <p:spPr>
          <a:xfrm>
            <a:off x="7216920" y="2449440"/>
            <a:ext cx="106812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101"/>
          <p:cNvSpPr/>
          <p:nvPr/>
        </p:nvSpPr>
        <p:spPr>
          <a:xfrm>
            <a:off x="4521240" y="2050920"/>
            <a:ext cx="3165480" cy="3164040"/>
          </a:xfrm>
          <a:prstGeom prst="ellipse">
            <a:avLst/>
          </a:prstGeom>
          <a:noFill/>
          <a:ln w="19080">
            <a:solidFill>
              <a:srgbClr val="c1c7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Group 135" descr=""/>
          <p:cNvPicPr/>
          <p:nvPr/>
        </p:nvPicPr>
        <p:blipFill>
          <a:blip r:embed="rId1"/>
          <a:stretch/>
        </p:blipFill>
        <p:spPr>
          <a:xfrm>
            <a:off x="8272440" y="160344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422" name="Group 138" descr=""/>
          <p:cNvPicPr/>
          <p:nvPr/>
        </p:nvPicPr>
        <p:blipFill>
          <a:blip r:embed="rId2"/>
          <a:stretch/>
        </p:blipFill>
        <p:spPr>
          <a:xfrm>
            <a:off x="2389320" y="1633680"/>
            <a:ext cx="1566720" cy="1633320"/>
          </a:xfrm>
          <a:prstGeom prst="rect">
            <a:avLst/>
          </a:prstGeom>
          <a:ln w="0">
            <a:noFill/>
          </a:ln>
        </p:spPr>
      </p:pic>
      <p:pic>
        <p:nvPicPr>
          <p:cNvPr id="423" name="Group 141" descr=""/>
          <p:cNvPicPr/>
          <p:nvPr/>
        </p:nvPicPr>
        <p:blipFill>
          <a:blip r:embed="rId3"/>
          <a:stretch/>
        </p:blipFill>
        <p:spPr>
          <a:xfrm>
            <a:off x="1895400" y="2822400"/>
            <a:ext cx="1560600" cy="1621080"/>
          </a:xfrm>
          <a:prstGeom prst="rect">
            <a:avLst/>
          </a:prstGeom>
          <a:ln w="0">
            <a:noFill/>
          </a:ln>
        </p:spPr>
      </p:pic>
      <p:pic>
        <p:nvPicPr>
          <p:cNvPr id="424" name="Group 144" descr=""/>
          <p:cNvPicPr/>
          <p:nvPr/>
        </p:nvPicPr>
        <p:blipFill>
          <a:blip r:embed="rId4"/>
          <a:stretch/>
        </p:blipFill>
        <p:spPr>
          <a:xfrm>
            <a:off x="2389320" y="4005360"/>
            <a:ext cx="1566720" cy="1627200"/>
          </a:xfrm>
          <a:prstGeom prst="rect">
            <a:avLst/>
          </a:prstGeom>
          <a:ln w="0">
            <a:noFill/>
          </a:ln>
        </p:spPr>
      </p:pic>
      <p:pic>
        <p:nvPicPr>
          <p:cNvPr id="425" name="Group 147" descr=""/>
          <p:cNvPicPr/>
          <p:nvPr/>
        </p:nvPicPr>
        <p:blipFill>
          <a:blip r:embed="rId5"/>
          <a:stretch/>
        </p:blipFill>
        <p:spPr>
          <a:xfrm>
            <a:off x="8747280" y="2809800"/>
            <a:ext cx="1566720" cy="1646280"/>
          </a:xfrm>
          <a:prstGeom prst="rect">
            <a:avLst/>
          </a:prstGeom>
          <a:ln w="0">
            <a:noFill/>
          </a:ln>
        </p:spPr>
      </p:pic>
      <p:pic>
        <p:nvPicPr>
          <p:cNvPr id="426" name="Group 150" descr=""/>
          <p:cNvPicPr/>
          <p:nvPr/>
        </p:nvPicPr>
        <p:blipFill>
          <a:blip r:embed="rId6"/>
          <a:stretch/>
        </p:blipFill>
        <p:spPr>
          <a:xfrm>
            <a:off x="8272440" y="3998880"/>
            <a:ext cx="1573200" cy="1646280"/>
          </a:xfrm>
          <a:prstGeom prst="rect">
            <a:avLst/>
          </a:prstGeom>
          <a:ln w="0">
            <a:noFill/>
          </a:ln>
        </p:spPr>
      </p:pic>
      <p:sp>
        <p:nvSpPr>
          <p:cNvPr id="427" name="Oval 61"/>
          <p:cNvSpPr/>
          <p:nvPr/>
        </p:nvSpPr>
        <p:spPr>
          <a:xfrm>
            <a:off x="4253040" y="3363840"/>
            <a:ext cx="5382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6"/>
          <p:cNvSpPr/>
          <p:nvPr/>
        </p:nvSpPr>
        <p:spPr>
          <a:xfrm>
            <a:off x="4800600" y="455148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71"/>
          <p:cNvSpPr/>
          <p:nvPr/>
        </p:nvSpPr>
        <p:spPr>
          <a:xfrm>
            <a:off x="6915240" y="216864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120"/>
          <p:cNvSpPr/>
          <p:nvPr/>
        </p:nvSpPr>
        <p:spPr>
          <a:xfrm>
            <a:off x="7418520" y="3363840"/>
            <a:ext cx="5364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121"/>
          <p:cNvSpPr/>
          <p:nvPr/>
        </p:nvSpPr>
        <p:spPr>
          <a:xfrm>
            <a:off x="6910560" y="455148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0"/>
          <p:cNvSpPr/>
          <p:nvPr/>
        </p:nvSpPr>
        <p:spPr>
          <a:xfrm>
            <a:off x="4800600" y="218124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5272200" y="2944800"/>
            <a:ext cx="1695240" cy="1533600"/>
            <a:chOff x="5272200" y="2944800"/>
            <a:chExt cx="1695240" cy="1533600"/>
          </a:xfrm>
        </p:grpSpPr>
        <p:sp>
          <p:nvSpPr>
            <p:cNvPr id="434" name="Freeform 5"/>
            <p:cNvSpPr/>
            <p:nvPr/>
          </p:nvSpPr>
          <p:spPr>
            <a:xfrm>
              <a:off x="5880960" y="4132080"/>
              <a:ext cx="483840" cy="219600"/>
            </a:xfrm>
            <a:custGeom>
              <a:avLst/>
              <a:gdLst/>
              <a:ahLst/>
              <a:rect l="l" t="t" r="r" b="b"/>
              <a:pathLst>
                <a:path w="919" h="417">
                  <a:moveTo>
                    <a:pt x="874" y="0"/>
                  </a:moveTo>
                  <a:lnTo>
                    <a:pt x="45" y="0"/>
                  </a:lnTo>
                  <a:lnTo>
                    <a:pt x="0" y="417"/>
                  </a:lnTo>
                  <a:lnTo>
                    <a:pt x="919" y="417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889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5759640" y="4436280"/>
              <a:ext cx="725400" cy="42120"/>
            </a:xfrm>
            <a:prstGeom prst="rect">
              <a:avLst/>
            </a:pr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5272200" y="2944800"/>
              <a:ext cx="1680840" cy="101556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259" y="0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43" y="0"/>
                    <a:pt x="0" y="44"/>
                    <a:pt x="0" y="97"/>
                  </a:cubicBezTo>
                  <a:cubicBezTo>
                    <a:pt x="0" y="727"/>
                    <a:pt x="0" y="727"/>
                    <a:pt x="0" y="727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727"/>
                    <a:pt x="1356" y="727"/>
                    <a:pt x="1356" y="727"/>
                  </a:cubicBezTo>
                  <a:cubicBezTo>
                    <a:pt x="1356" y="97"/>
                    <a:pt x="1356" y="97"/>
                    <a:pt x="1356" y="97"/>
                  </a:cubicBezTo>
                  <a:cubicBezTo>
                    <a:pt x="1356" y="44"/>
                    <a:pt x="1313" y="0"/>
                    <a:pt x="1259" y="0"/>
                  </a:cubicBezTo>
                </a:path>
              </a:pathLst>
            </a:custGeom>
            <a:solidFill>
              <a:srgbClr val="566172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5277600" y="2947320"/>
              <a:ext cx="1689840" cy="102744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308" y="49"/>
                  </a:moveTo>
                  <a:cubicBezTo>
                    <a:pt x="1308" y="49"/>
                    <a:pt x="1308" y="49"/>
                    <a:pt x="1308" y="49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48" y="775"/>
                    <a:pt x="48" y="775"/>
                    <a:pt x="48" y="775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lnTo>
                    <a:pt x="1308" y="49"/>
                  </a:lnTo>
                  <a:close/>
                  <a:moveTo>
                    <a:pt x="130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49"/>
                    <a:pt x="1356" y="49"/>
                    <a:pt x="1356" y="49"/>
                  </a:cubicBezTo>
                  <a:cubicBezTo>
                    <a:pt x="1356" y="22"/>
                    <a:pt x="1334" y="0"/>
                    <a:pt x="1308" y="0"/>
                  </a:cubicBezTo>
                  <a:close/>
                </a:path>
              </a:pathLst>
            </a:cu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277600" y="3975120"/>
              <a:ext cx="1689840" cy="180360"/>
            </a:xfrm>
            <a:custGeom>
              <a:avLst/>
              <a:gdLst/>
              <a:ahLst/>
              <a:rect l="l" t="t" r="r" b="b"/>
              <a:pathLst>
                <a:path w="1356" h="145">
                  <a:moveTo>
                    <a:pt x="0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0" y="123"/>
                    <a:pt x="22" y="145"/>
                    <a:pt x="48" y="145"/>
                  </a:cubicBezTo>
                  <a:cubicBezTo>
                    <a:pt x="1308" y="145"/>
                    <a:pt x="1308" y="145"/>
                    <a:pt x="1308" y="145"/>
                  </a:cubicBezTo>
                  <a:cubicBezTo>
                    <a:pt x="1334" y="145"/>
                    <a:pt x="1356" y="123"/>
                    <a:pt x="1356" y="96"/>
                  </a:cubicBezTo>
                  <a:cubicBezTo>
                    <a:pt x="1356" y="0"/>
                    <a:pt x="1356" y="0"/>
                    <a:pt x="135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759640" y="4351680"/>
              <a:ext cx="725400" cy="84600"/>
            </a:xfrm>
            <a:custGeom>
              <a:avLst/>
              <a:gdLst/>
              <a:ahLst/>
              <a:rect l="l" t="t" r="r" b="b"/>
              <a:pathLst>
                <a:path w="1378" h="161">
                  <a:moveTo>
                    <a:pt x="0" y="161"/>
                  </a:moveTo>
                  <a:lnTo>
                    <a:pt x="230" y="0"/>
                  </a:lnTo>
                  <a:lnTo>
                    <a:pt x="1149" y="0"/>
                  </a:lnTo>
                  <a:lnTo>
                    <a:pt x="1378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组合 33" descr=""/>
            <p:cNvPicPr/>
            <p:nvPr/>
          </p:nvPicPr>
          <p:blipFill>
            <a:blip r:embed="rId7"/>
            <a:stretch/>
          </p:blipFill>
          <p:spPr>
            <a:xfrm>
              <a:off x="5906880" y="3279960"/>
              <a:ext cx="43236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71"/>
          <p:cNvSpPr/>
          <p:nvPr/>
        </p:nvSpPr>
        <p:spPr>
          <a:xfrm>
            <a:off x="865584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9117000" y="3460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71"/>
          <p:cNvSpPr/>
          <p:nvPr/>
        </p:nvSpPr>
        <p:spPr>
          <a:xfrm>
            <a:off x="8696160" y="4707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71"/>
          <p:cNvSpPr/>
          <p:nvPr/>
        </p:nvSpPr>
        <p:spPr>
          <a:xfrm>
            <a:off x="277632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71"/>
          <p:cNvSpPr/>
          <p:nvPr/>
        </p:nvSpPr>
        <p:spPr>
          <a:xfrm>
            <a:off x="2225520" y="34448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71"/>
          <p:cNvSpPr/>
          <p:nvPr/>
        </p:nvSpPr>
        <p:spPr>
          <a:xfrm>
            <a:off x="2817720" y="472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"/>
          <p:cNvPicPr/>
          <p:nvPr/>
        </p:nvPicPr>
        <p:blipFill>
          <a:blip r:embed="rId1"/>
          <a:stretch/>
        </p:blipFill>
        <p:spPr>
          <a:xfrm>
            <a:off x="3780000" y="2665440"/>
            <a:ext cx="8412120" cy="5241960"/>
          </a:xfrm>
          <a:prstGeom prst="rect">
            <a:avLst/>
          </a:prstGeom>
          <a:ln w="0">
            <a:noFill/>
          </a:ln>
        </p:spPr>
      </p:pic>
      <p:sp>
        <p:nvSpPr>
          <p:cNvPr id="449" name="矩形 2"/>
          <p:cNvSpPr/>
          <p:nvPr/>
        </p:nvSpPr>
        <p:spPr>
          <a:xfrm>
            <a:off x="1444680" y="36846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3"/>
          <p:cNvSpPr/>
          <p:nvPr/>
        </p:nvSpPr>
        <p:spPr>
          <a:xfrm>
            <a:off x="1444680" y="288756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4"/>
          <p:cNvGrpSpPr/>
          <p:nvPr/>
        </p:nvGrpSpPr>
        <p:grpSpPr>
          <a:xfrm>
            <a:off x="1444680" y="1819440"/>
            <a:ext cx="3789360" cy="955440"/>
            <a:chOff x="1444680" y="1819440"/>
            <a:chExt cx="3789360" cy="955440"/>
          </a:xfrm>
        </p:grpSpPr>
        <p:pic>
          <p:nvPicPr>
            <p:cNvPr id="452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444680" y="18194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文本框 6"/>
            <p:cNvSpPr/>
            <p:nvPr/>
          </p:nvSpPr>
          <p:spPr>
            <a:xfrm>
              <a:off x="1829160" y="1999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1" descr=""/>
          <p:cNvPicPr/>
          <p:nvPr/>
        </p:nvPicPr>
        <p:blipFill>
          <a:blip r:embed="rId1"/>
          <a:stretch/>
        </p:blipFill>
        <p:spPr>
          <a:xfrm>
            <a:off x="190440" y="631800"/>
            <a:ext cx="7515360" cy="6226200"/>
          </a:xfrm>
          <a:prstGeom prst="rect">
            <a:avLst/>
          </a:prstGeom>
          <a:ln w="0">
            <a:noFill/>
          </a:ln>
        </p:spPr>
      </p:pic>
      <p:sp>
        <p:nvSpPr>
          <p:cNvPr id="456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58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0" y="2114640"/>
            <a:ext cx="7145280" cy="4743360"/>
          </a:xfrm>
          <a:prstGeom prst="rect">
            <a:avLst/>
          </a:prstGeom>
          <a:ln w="0">
            <a:noFill/>
          </a:ln>
        </p:spPr>
      </p:pic>
      <p:sp>
        <p:nvSpPr>
          <p:cNvPr id="462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64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reeform 5"/>
          <p:cNvSpPr/>
          <p:nvPr/>
        </p:nvSpPr>
        <p:spPr>
          <a:xfrm>
            <a:off x="1168560" y="3235320"/>
            <a:ext cx="1117440" cy="1690560"/>
          </a:xfrm>
          <a:custGeom>
            <a:avLst/>
            <a:gdLst/>
            <a:ahLst/>
            <a:rect l="l" t="t" r="r" b="b"/>
            <a:pathLst>
              <a:path w="620" h="938">
                <a:moveTo>
                  <a:pt x="620" y="212"/>
                </a:moveTo>
                <a:lnTo>
                  <a:pt x="274" y="0"/>
                </a:lnTo>
                <a:lnTo>
                  <a:pt x="150" y="198"/>
                </a:lnTo>
                <a:lnTo>
                  <a:pt x="64" y="342"/>
                </a:lnTo>
                <a:lnTo>
                  <a:pt x="18" y="418"/>
                </a:lnTo>
                <a:lnTo>
                  <a:pt x="8" y="438"/>
                </a:lnTo>
                <a:lnTo>
                  <a:pt x="4" y="448"/>
                </a:lnTo>
                <a:lnTo>
                  <a:pt x="0" y="460"/>
                </a:lnTo>
                <a:lnTo>
                  <a:pt x="0" y="474"/>
                </a:lnTo>
                <a:lnTo>
                  <a:pt x="2" y="488"/>
                </a:lnTo>
                <a:lnTo>
                  <a:pt x="6" y="506"/>
                </a:lnTo>
                <a:lnTo>
                  <a:pt x="14" y="524"/>
                </a:lnTo>
                <a:lnTo>
                  <a:pt x="142" y="752"/>
                </a:lnTo>
                <a:lnTo>
                  <a:pt x="246" y="938"/>
                </a:lnTo>
                <a:lnTo>
                  <a:pt x="242" y="926"/>
                </a:lnTo>
                <a:lnTo>
                  <a:pt x="238" y="912"/>
                </a:lnTo>
                <a:lnTo>
                  <a:pt x="238" y="892"/>
                </a:lnTo>
                <a:lnTo>
                  <a:pt x="238" y="870"/>
                </a:lnTo>
                <a:lnTo>
                  <a:pt x="244" y="844"/>
                </a:lnTo>
                <a:lnTo>
                  <a:pt x="248" y="830"/>
                </a:lnTo>
                <a:lnTo>
                  <a:pt x="254" y="814"/>
                </a:lnTo>
                <a:lnTo>
                  <a:pt x="262" y="800"/>
                </a:lnTo>
                <a:lnTo>
                  <a:pt x="272" y="784"/>
                </a:lnTo>
                <a:lnTo>
                  <a:pt x="300" y="740"/>
                </a:lnTo>
                <a:lnTo>
                  <a:pt x="346" y="666"/>
                </a:lnTo>
                <a:lnTo>
                  <a:pt x="464" y="474"/>
                </a:lnTo>
                <a:lnTo>
                  <a:pt x="620" y="21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160640" y="2249640"/>
            <a:ext cx="31921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320920" y="2257560"/>
            <a:ext cx="1440000" cy="1207800"/>
          </a:xfrm>
          <a:custGeom>
            <a:avLst/>
            <a:gdLst/>
            <a:ahLst/>
            <a:rect l="l" t="t" r="r" b="b"/>
            <a:pathLst>
              <a:path w="798" h="670">
                <a:moveTo>
                  <a:pt x="442" y="670"/>
                </a:moveTo>
                <a:lnTo>
                  <a:pt x="798" y="470"/>
                </a:lnTo>
                <a:lnTo>
                  <a:pt x="688" y="272"/>
                </a:lnTo>
                <a:lnTo>
                  <a:pt x="608" y="130"/>
                </a:lnTo>
                <a:lnTo>
                  <a:pt x="566" y="56"/>
                </a:lnTo>
                <a:lnTo>
                  <a:pt x="552" y="36"/>
                </a:lnTo>
                <a:lnTo>
                  <a:pt x="546" y="28"/>
                </a:lnTo>
                <a:lnTo>
                  <a:pt x="536" y="20"/>
                </a:lnTo>
                <a:lnTo>
                  <a:pt x="526" y="12"/>
                </a:lnTo>
                <a:lnTo>
                  <a:pt x="512" y="6"/>
                </a:lnTo>
                <a:lnTo>
                  <a:pt x="494" y="2"/>
                </a:lnTo>
                <a:lnTo>
                  <a:pt x="474" y="0"/>
                </a:lnTo>
                <a:lnTo>
                  <a:pt x="214" y="2"/>
                </a:lnTo>
                <a:lnTo>
                  <a:pt x="0" y="2"/>
                </a:lnTo>
                <a:lnTo>
                  <a:pt x="14" y="4"/>
                </a:lnTo>
                <a:lnTo>
                  <a:pt x="28" y="10"/>
                </a:lnTo>
                <a:lnTo>
                  <a:pt x="44" y="16"/>
                </a:lnTo>
                <a:lnTo>
                  <a:pt x="64" y="28"/>
                </a:lnTo>
                <a:lnTo>
                  <a:pt x="84" y="46"/>
                </a:lnTo>
                <a:lnTo>
                  <a:pt x="94" y="56"/>
                </a:lnTo>
                <a:lnTo>
                  <a:pt x="104" y="70"/>
                </a:lnTo>
                <a:lnTo>
                  <a:pt x="114" y="84"/>
                </a:lnTo>
                <a:lnTo>
                  <a:pt x="122" y="100"/>
                </a:lnTo>
                <a:lnTo>
                  <a:pt x="188" y="218"/>
                </a:lnTo>
                <a:lnTo>
                  <a:pt x="296" y="412"/>
                </a:lnTo>
                <a:lnTo>
                  <a:pt x="442" y="67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1433520" y="2257560"/>
            <a:ext cx="1749240" cy="1585800"/>
          </a:xfrm>
          <a:custGeom>
            <a:avLst/>
            <a:gdLst/>
            <a:ahLst/>
            <a:rect l="l" t="t" r="r" b="b"/>
            <a:pathLst>
              <a:path w="970" h="880">
                <a:moveTo>
                  <a:pt x="496" y="0"/>
                </a:moveTo>
                <a:lnTo>
                  <a:pt x="496" y="0"/>
                </a:lnTo>
                <a:lnTo>
                  <a:pt x="474" y="2"/>
                </a:lnTo>
                <a:lnTo>
                  <a:pt x="458" y="6"/>
                </a:lnTo>
                <a:lnTo>
                  <a:pt x="444" y="12"/>
                </a:lnTo>
                <a:lnTo>
                  <a:pt x="432" y="20"/>
                </a:lnTo>
                <a:lnTo>
                  <a:pt x="424" y="28"/>
                </a:lnTo>
                <a:lnTo>
                  <a:pt x="416" y="36"/>
                </a:lnTo>
                <a:lnTo>
                  <a:pt x="404" y="56"/>
                </a:lnTo>
                <a:lnTo>
                  <a:pt x="358" y="136"/>
                </a:lnTo>
                <a:lnTo>
                  <a:pt x="270" y="294"/>
                </a:lnTo>
                <a:lnTo>
                  <a:pt x="136" y="530"/>
                </a:lnTo>
                <a:lnTo>
                  <a:pt x="0" y="452"/>
                </a:lnTo>
                <a:lnTo>
                  <a:pt x="176" y="880"/>
                </a:lnTo>
                <a:lnTo>
                  <a:pt x="632" y="810"/>
                </a:lnTo>
                <a:lnTo>
                  <a:pt x="492" y="732"/>
                </a:lnTo>
                <a:lnTo>
                  <a:pt x="658" y="436"/>
                </a:lnTo>
                <a:lnTo>
                  <a:pt x="848" y="100"/>
                </a:lnTo>
                <a:lnTo>
                  <a:pt x="858" y="82"/>
                </a:lnTo>
                <a:lnTo>
                  <a:pt x="868" y="68"/>
                </a:lnTo>
                <a:lnTo>
                  <a:pt x="890" y="42"/>
                </a:lnTo>
                <a:lnTo>
                  <a:pt x="910" y="26"/>
                </a:lnTo>
                <a:lnTo>
                  <a:pt x="930" y="14"/>
                </a:lnTo>
                <a:lnTo>
                  <a:pt x="946" y="6"/>
                </a:lnTo>
                <a:lnTo>
                  <a:pt x="958" y="2"/>
                </a:lnTo>
                <a:lnTo>
                  <a:pt x="970" y="0"/>
                </a:lnTo>
                <a:lnTo>
                  <a:pt x="496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2879640" y="4183200"/>
            <a:ext cx="1438200" cy="844560"/>
          </a:xfrm>
          <a:custGeom>
            <a:avLst/>
            <a:gdLst/>
            <a:ahLst/>
            <a:rect l="l" t="t" r="r" b="b"/>
            <a:pathLst>
              <a:path w="798" h="468">
                <a:moveTo>
                  <a:pt x="0" y="60"/>
                </a:moveTo>
                <a:lnTo>
                  <a:pt x="0" y="468"/>
                </a:lnTo>
                <a:lnTo>
                  <a:pt x="226" y="468"/>
                </a:lnTo>
                <a:lnTo>
                  <a:pt x="388" y="468"/>
                </a:lnTo>
                <a:lnTo>
                  <a:pt x="474" y="466"/>
                </a:lnTo>
                <a:lnTo>
                  <a:pt x="496" y="466"/>
                </a:lnTo>
                <a:lnTo>
                  <a:pt x="508" y="464"/>
                </a:lnTo>
                <a:lnTo>
                  <a:pt x="520" y="460"/>
                </a:lnTo>
                <a:lnTo>
                  <a:pt x="532" y="454"/>
                </a:lnTo>
                <a:lnTo>
                  <a:pt x="544" y="444"/>
                </a:lnTo>
                <a:lnTo>
                  <a:pt x="556" y="432"/>
                </a:lnTo>
                <a:lnTo>
                  <a:pt x="566" y="414"/>
                </a:lnTo>
                <a:lnTo>
                  <a:pt x="694" y="186"/>
                </a:lnTo>
                <a:lnTo>
                  <a:pt x="798" y="0"/>
                </a:lnTo>
                <a:lnTo>
                  <a:pt x="790" y="10"/>
                </a:lnTo>
                <a:lnTo>
                  <a:pt x="778" y="20"/>
                </a:lnTo>
                <a:lnTo>
                  <a:pt x="764" y="32"/>
                </a:lnTo>
                <a:lnTo>
                  <a:pt x="744" y="42"/>
                </a:lnTo>
                <a:lnTo>
                  <a:pt x="718" y="52"/>
                </a:lnTo>
                <a:lnTo>
                  <a:pt x="704" y="56"/>
                </a:lnTo>
                <a:lnTo>
                  <a:pt x="688" y="58"/>
                </a:lnTo>
                <a:lnTo>
                  <a:pt x="672" y="60"/>
                </a:lnTo>
                <a:lnTo>
                  <a:pt x="654" y="60"/>
                </a:lnTo>
                <a:lnTo>
                  <a:pt x="518" y="58"/>
                </a:lnTo>
                <a:lnTo>
                  <a:pt x="296" y="58"/>
                </a:lnTo>
                <a:lnTo>
                  <a:pt x="0" y="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2922480" y="2909880"/>
            <a:ext cx="1420920" cy="2025720"/>
          </a:xfrm>
          <a:custGeom>
            <a:avLst/>
            <a:gdLst/>
            <a:ahLst/>
            <a:rect l="l" t="t" r="r" b="b"/>
            <a:pathLst>
              <a:path w="788" h="1124">
                <a:moveTo>
                  <a:pt x="770" y="604"/>
                </a:moveTo>
                <a:lnTo>
                  <a:pt x="770" y="604"/>
                </a:lnTo>
                <a:lnTo>
                  <a:pt x="722" y="524"/>
                </a:lnTo>
                <a:lnTo>
                  <a:pt x="630" y="370"/>
                </a:lnTo>
                <a:lnTo>
                  <a:pt x="488" y="138"/>
                </a:lnTo>
                <a:lnTo>
                  <a:pt x="622" y="56"/>
                </a:lnTo>
                <a:lnTo>
                  <a:pt x="164" y="0"/>
                </a:lnTo>
                <a:lnTo>
                  <a:pt x="0" y="432"/>
                </a:lnTo>
                <a:lnTo>
                  <a:pt x="138" y="348"/>
                </a:lnTo>
                <a:lnTo>
                  <a:pt x="316" y="638"/>
                </a:lnTo>
                <a:lnTo>
                  <a:pt x="514" y="968"/>
                </a:lnTo>
                <a:lnTo>
                  <a:pt x="524" y="986"/>
                </a:lnTo>
                <a:lnTo>
                  <a:pt x="532" y="1002"/>
                </a:lnTo>
                <a:lnTo>
                  <a:pt x="538" y="1018"/>
                </a:lnTo>
                <a:lnTo>
                  <a:pt x="542" y="1034"/>
                </a:lnTo>
                <a:lnTo>
                  <a:pt x="548" y="1060"/>
                </a:lnTo>
                <a:lnTo>
                  <a:pt x="548" y="1082"/>
                </a:lnTo>
                <a:lnTo>
                  <a:pt x="548" y="1100"/>
                </a:lnTo>
                <a:lnTo>
                  <a:pt x="544" y="1114"/>
                </a:lnTo>
                <a:lnTo>
                  <a:pt x="540" y="1124"/>
                </a:lnTo>
                <a:lnTo>
                  <a:pt x="774" y="710"/>
                </a:lnTo>
                <a:lnTo>
                  <a:pt x="782" y="692"/>
                </a:lnTo>
                <a:lnTo>
                  <a:pt x="788" y="674"/>
                </a:lnTo>
                <a:lnTo>
                  <a:pt x="788" y="660"/>
                </a:lnTo>
                <a:lnTo>
                  <a:pt x="788" y="646"/>
                </a:lnTo>
                <a:lnTo>
                  <a:pt x="784" y="634"/>
                </a:lnTo>
                <a:lnTo>
                  <a:pt x="780" y="624"/>
                </a:lnTo>
                <a:lnTo>
                  <a:pt x="770" y="60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1192320" y="3998880"/>
            <a:ext cx="2081160" cy="1309680"/>
          </a:xfrm>
          <a:custGeom>
            <a:avLst/>
            <a:gdLst/>
            <a:ahLst/>
            <a:rect l="l" t="t" r="r" b="b"/>
            <a:pathLst>
              <a:path w="1154" h="726">
                <a:moveTo>
                  <a:pt x="1154" y="366"/>
                </a:moveTo>
                <a:lnTo>
                  <a:pt x="872" y="0"/>
                </a:lnTo>
                <a:lnTo>
                  <a:pt x="870" y="162"/>
                </a:lnTo>
                <a:lnTo>
                  <a:pt x="494" y="160"/>
                </a:lnTo>
                <a:lnTo>
                  <a:pt x="144" y="156"/>
                </a:lnTo>
                <a:lnTo>
                  <a:pt x="124" y="156"/>
                </a:lnTo>
                <a:lnTo>
                  <a:pt x="106" y="154"/>
                </a:lnTo>
                <a:lnTo>
                  <a:pt x="74" y="146"/>
                </a:lnTo>
                <a:lnTo>
                  <a:pt x="50" y="136"/>
                </a:lnTo>
                <a:lnTo>
                  <a:pt x="30" y="126"/>
                </a:lnTo>
                <a:lnTo>
                  <a:pt x="16" y="116"/>
                </a:lnTo>
                <a:lnTo>
                  <a:pt x="6" y="106"/>
                </a:lnTo>
                <a:lnTo>
                  <a:pt x="0" y="98"/>
                </a:lnTo>
                <a:lnTo>
                  <a:pt x="228" y="512"/>
                </a:lnTo>
                <a:lnTo>
                  <a:pt x="240" y="530"/>
                </a:lnTo>
                <a:lnTo>
                  <a:pt x="252" y="542"/>
                </a:lnTo>
                <a:lnTo>
                  <a:pt x="264" y="552"/>
                </a:lnTo>
                <a:lnTo>
                  <a:pt x="276" y="558"/>
                </a:lnTo>
                <a:lnTo>
                  <a:pt x="288" y="562"/>
                </a:lnTo>
                <a:lnTo>
                  <a:pt x="298" y="564"/>
                </a:lnTo>
                <a:lnTo>
                  <a:pt x="322" y="566"/>
                </a:lnTo>
                <a:lnTo>
                  <a:pt x="404" y="566"/>
                </a:lnTo>
                <a:lnTo>
                  <a:pt x="568" y="568"/>
                </a:lnTo>
                <a:lnTo>
                  <a:pt x="866" y="568"/>
                </a:lnTo>
                <a:lnTo>
                  <a:pt x="864" y="726"/>
                </a:lnTo>
                <a:lnTo>
                  <a:pt x="1154" y="36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직사각형 255"/>
          <p:cNvSpPr/>
          <p:nvPr/>
        </p:nvSpPr>
        <p:spPr>
          <a:xfrm>
            <a:off x="1623960" y="4520880"/>
            <a:ext cx="129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직사각형 256"/>
          <p:cNvSpPr/>
          <p:nvPr/>
        </p:nvSpPr>
        <p:spPr>
          <a:xfrm rot="3600000">
            <a:off x="3072960" y="36280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직사각형 257"/>
          <p:cNvSpPr/>
          <p:nvPr/>
        </p:nvSpPr>
        <p:spPr>
          <a:xfrm rot="18000000">
            <a:off x="1585800" y="2807280"/>
            <a:ext cx="13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ound Same Side Corner Rectangle 3"/>
          <p:cNvSpPr/>
          <p:nvPr/>
        </p:nvSpPr>
        <p:spPr>
          <a:xfrm rot="5400000">
            <a:off x="6646320" y="1488960"/>
            <a:ext cx="3715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ound Same Side Corner Rectangle 36"/>
          <p:cNvSpPr/>
          <p:nvPr/>
        </p:nvSpPr>
        <p:spPr>
          <a:xfrm rot="5400000">
            <a:off x="6637320" y="2627280"/>
            <a:ext cx="372960" cy="19065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 Same Side Corner Rectangle 37"/>
          <p:cNvSpPr/>
          <p:nvPr/>
        </p:nvSpPr>
        <p:spPr>
          <a:xfrm rot="5400000">
            <a:off x="6645600" y="3717000"/>
            <a:ext cx="3733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3"/>
          <p:cNvSpPr/>
          <p:nvPr/>
        </p:nvSpPr>
        <p:spPr>
          <a:xfrm>
            <a:off x="6037200" y="456732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74"/>
          <p:cNvSpPr/>
          <p:nvPr/>
        </p:nvSpPr>
        <p:spPr>
          <a:xfrm>
            <a:off x="6037200" y="346860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6037200" y="231156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ound Same Side Corner Rectangle 79"/>
          <p:cNvSpPr/>
          <p:nvPr/>
        </p:nvSpPr>
        <p:spPr>
          <a:xfrm rot="16200000">
            <a:off x="5375880" y="2129760"/>
            <a:ext cx="371520" cy="62676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ound Same Side Corner Rectangle 80"/>
          <p:cNvSpPr/>
          <p:nvPr/>
        </p:nvSpPr>
        <p:spPr>
          <a:xfrm rot="16200000">
            <a:off x="5366520" y="3274200"/>
            <a:ext cx="372960" cy="62568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 Same Side Corner Rectangle 81"/>
          <p:cNvSpPr/>
          <p:nvPr/>
        </p:nvSpPr>
        <p:spPr>
          <a:xfrm rot="16200000">
            <a:off x="5370480" y="4356000"/>
            <a:ext cx="372960" cy="62712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3"/>
          <p:cNvSpPr/>
          <p:nvPr/>
        </p:nvSpPr>
        <p:spPr>
          <a:xfrm>
            <a:off x="5494320" y="23115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17"/>
          <p:cNvSpPr/>
          <p:nvPr/>
        </p:nvSpPr>
        <p:spPr>
          <a:xfrm>
            <a:off x="5451480" y="3446640"/>
            <a:ext cx="291960" cy="269640"/>
          </a:xfrm>
          <a:custGeom>
            <a:avLst/>
            <a:gdLst/>
            <a:ahLst/>
            <a:rect l="l" t="t" r="r" b="b"/>
            <a:pathLst>
              <a:path w="1648" h="1502">
                <a:moveTo>
                  <a:pt x="812" y="0"/>
                </a:moveTo>
                <a:cubicBezTo>
                  <a:pt x="616" y="0"/>
                  <a:pt x="457" y="158"/>
                  <a:pt x="457" y="354"/>
                </a:cubicBezTo>
                <a:cubicBezTo>
                  <a:pt x="457" y="646"/>
                  <a:pt x="736" y="676"/>
                  <a:pt x="812" y="1120"/>
                </a:cubicBezTo>
                <a:cubicBezTo>
                  <a:pt x="888" y="676"/>
                  <a:pt x="1167" y="646"/>
                  <a:pt x="1167" y="354"/>
                </a:cubicBezTo>
                <a:cubicBezTo>
                  <a:pt x="1167" y="158"/>
                  <a:pt x="1008" y="0"/>
                  <a:pt x="812" y="0"/>
                </a:cubicBezTo>
                <a:close/>
                <a:moveTo>
                  <a:pt x="812" y="473"/>
                </a:moveTo>
                <a:cubicBezTo>
                  <a:pt x="742" y="473"/>
                  <a:pt x="685" y="416"/>
                  <a:pt x="685" y="346"/>
                </a:cubicBezTo>
                <a:cubicBezTo>
                  <a:pt x="685" y="275"/>
                  <a:pt x="742" y="218"/>
                  <a:pt x="812" y="218"/>
                </a:cubicBezTo>
                <a:cubicBezTo>
                  <a:pt x="882" y="218"/>
                  <a:pt x="939" y="275"/>
                  <a:pt x="939" y="346"/>
                </a:cubicBezTo>
                <a:cubicBezTo>
                  <a:pt x="939" y="416"/>
                  <a:pt x="882" y="473"/>
                  <a:pt x="812" y="473"/>
                </a:cubicBezTo>
                <a:close/>
                <a:moveTo>
                  <a:pt x="1648" y="1502"/>
                </a:moveTo>
                <a:cubicBezTo>
                  <a:pt x="1187" y="1336"/>
                  <a:pt x="1187" y="1336"/>
                  <a:pt x="1187" y="1336"/>
                </a:cubicBezTo>
                <a:cubicBezTo>
                  <a:pt x="813" y="1502"/>
                  <a:pt x="813" y="1502"/>
                  <a:pt x="813" y="1502"/>
                </a:cubicBezTo>
                <a:cubicBezTo>
                  <a:pt x="441" y="1336"/>
                  <a:pt x="441" y="1336"/>
                  <a:pt x="441" y="1336"/>
                </a:cubicBezTo>
                <a:cubicBezTo>
                  <a:pt x="0" y="1502"/>
                  <a:pt x="0" y="1502"/>
                  <a:pt x="0" y="1502"/>
                </a:cubicBezTo>
                <a:cubicBezTo>
                  <a:pt x="270" y="965"/>
                  <a:pt x="270" y="965"/>
                  <a:pt x="270" y="965"/>
                </a:cubicBezTo>
                <a:cubicBezTo>
                  <a:pt x="572" y="834"/>
                  <a:pt x="572" y="834"/>
                  <a:pt x="572" y="834"/>
                </a:cubicBezTo>
                <a:cubicBezTo>
                  <a:pt x="593" y="865"/>
                  <a:pt x="614" y="899"/>
                  <a:pt x="633" y="939"/>
                </a:cubicBezTo>
                <a:cubicBezTo>
                  <a:pt x="567" y="967"/>
                  <a:pt x="622" y="943"/>
                  <a:pt x="358" y="1058"/>
                </a:cubicBezTo>
                <a:cubicBezTo>
                  <a:pt x="245" y="1281"/>
                  <a:pt x="245" y="1281"/>
                  <a:pt x="245" y="1281"/>
                </a:cubicBezTo>
                <a:cubicBezTo>
                  <a:pt x="431" y="1211"/>
                  <a:pt x="431" y="1211"/>
                  <a:pt x="431" y="1211"/>
                </a:cubicBezTo>
                <a:cubicBezTo>
                  <a:pt x="539" y="1018"/>
                  <a:pt x="539" y="1018"/>
                  <a:pt x="539" y="1018"/>
                </a:cubicBezTo>
                <a:cubicBezTo>
                  <a:pt x="495" y="1228"/>
                  <a:pt x="495" y="1228"/>
                  <a:pt x="495" y="1228"/>
                </a:cubicBezTo>
                <a:cubicBezTo>
                  <a:pt x="781" y="1356"/>
                  <a:pt x="781" y="1356"/>
                  <a:pt x="781" y="1356"/>
                </a:cubicBezTo>
                <a:cubicBezTo>
                  <a:pt x="813" y="1212"/>
                  <a:pt x="813" y="1212"/>
                  <a:pt x="813" y="1212"/>
                </a:cubicBezTo>
                <a:cubicBezTo>
                  <a:pt x="849" y="1357"/>
                  <a:pt x="849" y="1357"/>
                  <a:pt x="849" y="1357"/>
                </a:cubicBezTo>
                <a:cubicBezTo>
                  <a:pt x="1135" y="1228"/>
                  <a:pt x="1135" y="1228"/>
                  <a:pt x="1135" y="1228"/>
                </a:cubicBezTo>
                <a:cubicBezTo>
                  <a:pt x="1092" y="1012"/>
                  <a:pt x="1092" y="1012"/>
                  <a:pt x="1092" y="1012"/>
                </a:cubicBezTo>
                <a:cubicBezTo>
                  <a:pt x="1200" y="1213"/>
                  <a:pt x="1200" y="1213"/>
                  <a:pt x="1200" y="1213"/>
                </a:cubicBezTo>
                <a:cubicBezTo>
                  <a:pt x="1405" y="1287"/>
                  <a:pt x="1405" y="1287"/>
                  <a:pt x="1405" y="1287"/>
                </a:cubicBezTo>
                <a:cubicBezTo>
                  <a:pt x="1290" y="1058"/>
                  <a:pt x="1290" y="1058"/>
                  <a:pt x="1290" y="1058"/>
                </a:cubicBezTo>
                <a:cubicBezTo>
                  <a:pt x="994" y="932"/>
                  <a:pt x="994" y="932"/>
                  <a:pt x="994" y="932"/>
                </a:cubicBezTo>
                <a:cubicBezTo>
                  <a:pt x="1013" y="894"/>
                  <a:pt x="1034" y="859"/>
                  <a:pt x="1056" y="828"/>
                </a:cubicBezTo>
                <a:cubicBezTo>
                  <a:pt x="1378" y="965"/>
                  <a:pt x="1378" y="965"/>
                  <a:pt x="1378" y="965"/>
                </a:cubicBezTo>
                <a:lnTo>
                  <a:pt x="1648" y="1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5464080" y="454500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5978520" y="26971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5978520" y="382104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5978520" y="49579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132228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矩形 2"/>
          <p:cNvSpPr/>
          <p:nvPr/>
        </p:nvSpPr>
        <p:spPr>
          <a:xfrm>
            <a:off x="6064200" y="413244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3"/>
          <p:cNvSpPr/>
          <p:nvPr/>
        </p:nvSpPr>
        <p:spPr>
          <a:xfrm>
            <a:off x="6064200" y="33354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4"/>
          <p:cNvGrpSpPr/>
          <p:nvPr/>
        </p:nvGrpSpPr>
        <p:grpSpPr>
          <a:xfrm>
            <a:off x="6064200" y="2266920"/>
            <a:ext cx="3789360" cy="955800"/>
            <a:chOff x="6064200" y="2266920"/>
            <a:chExt cx="3789360" cy="955800"/>
          </a:xfrm>
        </p:grpSpPr>
        <p:pic>
          <p:nvPicPr>
            <p:cNvPr id="533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6420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文本框 6"/>
            <p:cNvSpPr/>
            <p:nvPr/>
          </p:nvSpPr>
          <p:spPr>
            <a:xfrm>
              <a:off x="644868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0" y="3571920"/>
            <a:ext cx="5527800" cy="3286080"/>
          </a:xfrm>
          <a:prstGeom prst="rect">
            <a:avLst/>
          </a:prstGeom>
          <a:ln w="0">
            <a:noFill/>
          </a:ln>
        </p:spPr>
      </p:pic>
      <p:sp>
        <p:nvSpPr>
          <p:cNvPr id="537" name="矩形 3"/>
          <p:cNvSpPr/>
          <p:nvPr/>
        </p:nvSpPr>
        <p:spPr>
          <a:xfrm>
            <a:off x="6039000" y="414180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6039000" y="3344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5"/>
          <p:cNvGrpSpPr/>
          <p:nvPr/>
        </p:nvGrpSpPr>
        <p:grpSpPr>
          <a:xfrm>
            <a:off x="6039000" y="2276640"/>
            <a:ext cx="3789360" cy="955440"/>
            <a:chOff x="6039000" y="2276640"/>
            <a:chExt cx="3789360" cy="955440"/>
          </a:xfrm>
        </p:grpSpPr>
        <p:pic>
          <p:nvPicPr>
            <p:cNvPr id="540" name="图片 6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39000" y="22766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文本框 7"/>
            <p:cNvSpPr/>
            <p:nvPr/>
          </p:nvSpPr>
          <p:spPr>
            <a:xfrm>
              <a:off x="6423480" y="2457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rcRect l="9808" t="15023" r="8038" b="29345"/>
          <a:stretch/>
        </p:blipFill>
        <p:spPr>
          <a:xfrm>
            <a:off x="4923000" y="2392200"/>
            <a:ext cx="5213160" cy="14274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2" descr=""/>
          <p:cNvPicPr/>
          <p:nvPr/>
        </p:nvPicPr>
        <p:blipFill>
          <a:blip r:embed="rId2"/>
          <a:stretch/>
        </p:blipFill>
        <p:spPr>
          <a:xfrm>
            <a:off x="5126040" y="3890880"/>
            <a:ext cx="4017960" cy="5907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0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 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45"/>
          <p:cNvGrpSpPr/>
          <p:nvPr/>
        </p:nvGrpSpPr>
        <p:grpSpPr>
          <a:xfrm>
            <a:off x="7054920" y="2771640"/>
            <a:ext cx="4321080" cy="462240"/>
            <a:chOff x="7054920" y="2771640"/>
            <a:chExt cx="4321080" cy="462240"/>
          </a:xfrm>
        </p:grpSpPr>
        <p:sp>
          <p:nvSpPr>
            <p:cNvPr id="282" name="TextBox 2"/>
            <p:cNvSpPr/>
            <p:nvPr/>
          </p:nvSpPr>
          <p:spPr>
            <a:xfrm>
              <a:off x="8394480" y="2771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47"/>
            <p:cNvSpPr/>
            <p:nvPr/>
          </p:nvSpPr>
          <p:spPr>
            <a:xfrm>
              <a:off x="7674120" y="2771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4" name="图片 48" descr=""/>
            <p:cNvPicPr/>
            <p:nvPr/>
          </p:nvPicPr>
          <p:blipFill>
            <a:blip r:embed="rId1"/>
            <a:stretch/>
          </p:blipFill>
          <p:spPr>
            <a:xfrm>
              <a:off x="7054920" y="2891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流程图: 联系 49"/>
            <p:cNvSpPr/>
            <p:nvPr/>
          </p:nvSpPr>
          <p:spPr>
            <a:xfrm>
              <a:off x="8287920" y="2949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50"/>
          <p:cNvGrpSpPr/>
          <p:nvPr/>
        </p:nvGrpSpPr>
        <p:grpSpPr>
          <a:xfrm>
            <a:off x="7054920" y="3316320"/>
            <a:ext cx="4321080" cy="461880"/>
            <a:chOff x="7054920" y="3316320"/>
            <a:chExt cx="4321080" cy="461880"/>
          </a:xfrm>
        </p:grpSpPr>
        <p:sp>
          <p:nvSpPr>
            <p:cNvPr id="287" name="TextBox 2"/>
            <p:cNvSpPr/>
            <p:nvPr/>
          </p:nvSpPr>
          <p:spPr>
            <a:xfrm>
              <a:off x="8394480" y="3316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52"/>
            <p:cNvSpPr/>
            <p:nvPr/>
          </p:nvSpPr>
          <p:spPr>
            <a:xfrm>
              <a:off x="7674120" y="3316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图片 53" descr=""/>
            <p:cNvPicPr/>
            <p:nvPr/>
          </p:nvPicPr>
          <p:blipFill>
            <a:blip r:embed="rId2"/>
            <a:stretch/>
          </p:blipFill>
          <p:spPr>
            <a:xfrm>
              <a:off x="7054920" y="3435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流程图: 联系 54"/>
            <p:cNvSpPr/>
            <p:nvPr/>
          </p:nvSpPr>
          <p:spPr>
            <a:xfrm>
              <a:off x="8287920" y="3494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5"/>
          <p:cNvGrpSpPr/>
          <p:nvPr/>
        </p:nvGrpSpPr>
        <p:grpSpPr>
          <a:xfrm>
            <a:off x="7054920" y="4405320"/>
            <a:ext cx="4321080" cy="461880"/>
            <a:chOff x="7054920" y="4405320"/>
            <a:chExt cx="4321080" cy="461880"/>
          </a:xfrm>
        </p:grpSpPr>
        <p:sp>
          <p:nvSpPr>
            <p:cNvPr id="292" name="TextBox 2"/>
            <p:cNvSpPr/>
            <p:nvPr/>
          </p:nvSpPr>
          <p:spPr>
            <a:xfrm>
              <a:off x="8394480" y="4405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57"/>
            <p:cNvSpPr/>
            <p:nvPr/>
          </p:nvSpPr>
          <p:spPr>
            <a:xfrm>
              <a:off x="7674120" y="4405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58" descr=""/>
            <p:cNvPicPr/>
            <p:nvPr/>
          </p:nvPicPr>
          <p:blipFill>
            <a:blip r:embed="rId3"/>
            <a:stretch/>
          </p:blipFill>
          <p:spPr>
            <a:xfrm>
              <a:off x="7054920" y="4524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流程图: 联系 59"/>
            <p:cNvSpPr/>
            <p:nvPr/>
          </p:nvSpPr>
          <p:spPr>
            <a:xfrm>
              <a:off x="8287920" y="4583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60"/>
          <p:cNvGrpSpPr/>
          <p:nvPr/>
        </p:nvGrpSpPr>
        <p:grpSpPr>
          <a:xfrm>
            <a:off x="7054920" y="3860640"/>
            <a:ext cx="4321080" cy="462240"/>
            <a:chOff x="7054920" y="3860640"/>
            <a:chExt cx="4321080" cy="462240"/>
          </a:xfrm>
        </p:grpSpPr>
        <p:sp>
          <p:nvSpPr>
            <p:cNvPr id="297" name="TextBox 2"/>
            <p:cNvSpPr/>
            <p:nvPr/>
          </p:nvSpPr>
          <p:spPr>
            <a:xfrm>
              <a:off x="8394480" y="3860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62"/>
            <p:cNvSpPr/>
            <p:nvPr/>
          </p:nvSpPr>
          <p:spPr>
            <a:xfrm>
              <a:off x="7674120" y="3860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图片 63" descr=""/>
            <p:cNvPicPr/>
            <p:nvPr/>
          </p:nvPicPr>
          <p:blipFill>
            <a:blip r:embed="rId4"/>
            <a:stretch/>
          </p:blipFill>
          <p:spPr>
            <a:xfrm>
              <a:off x="7054920" y="3980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流程图: 联系 64"/>
            <p:cNvSpPr/>
            <p:nvPr/>
          </p:nvSpPr>
          <p:spPr>
            <a:xfrm>
              <a:off x="8287920" y="4038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65"/>
          <p:cNvGrpSpPr/>
          <p:nvPr/>
        </p:nvGrpSpPr>
        <p:grpSpPr>
          <a:xfrm>
            <a:off x="9840960" y="0"/>
            <a:ext cx="971640" cy="1828800"/>
            <a:chOff x="9840960" y="0"/>
            <a:chExt cx="971640" cy="1828800"/>
          </a:xfrm>
        </p:grpSpPr>
        <p:sp>
          <p:nvSpPr>
            <p:cNvPr id="302" name="矩形 66"/>
            <p:cNvSpPr/>
            <p:nvPr/>
          </p:nvSpPr>
          <p:spPr>
            <a:xfrm>
              <a:off x="984096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67"/>
            <p:cNvSpPr/>
            <p:nvPr/>
          </p:nvSpPr>
          <p:spPr>
            <a:xfrm>
              <a:off x="984096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4" name="图片 25" descr=""/>
          <p:cNvPicPr/>
          <p:nvPr/>
        </p:nvPicPr>
        <p:blipFill>
          <a:blip r:embed="rId5"/>
          <a:stretch/>
        </p:blipFill>
        <p:spPr>
          <a:xfrm>
            <a:off x="-201600" y="3446640"/>
            <a:ext cx="5859360" cy="3411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6"/>
          <p:cNvSpPr/>
          <p:nvPr/>
        </p:nvSpPr>
        <p:spPr>
          <a:xfrm>
            <a:off x="4262400" y="6143760"/>
            <a:ext cx="90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746280" y="1976400"/>
            <a:ext cx="4851360" cy="3857760"/>
          </a:xfrm>
          <a:prstGeom prst="rect">
            <a:avLst/>
          </a:prstGeom>
          <a:ln w="0">
            <a:noFill/>
          </a:ln>
        </p:spPr>
      </p:pic>
      <p:sp>
        <p:nvSpPr>
          <p:cNvPr id="307" name="矩形 2"/>
          <p:cNvSpPr/>
          <p:nvPr/>
        </p:nvSpPr>
        <p:spPr>
          <a:xfrm>
            <a:off x="6197760" y="3624120"/>
            <a:ext cx="48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6197760" y="2556000"/>
            <a:ext cx="3789360" cy="954000"/>
            <a:chOff x="6197760" y="2556000"/>
            <a:chExt cx="3789360" cy="954000"/>
          </a:xfrm>
        </p:grpSpPr>
        <p:pic>
          <p:nvPicPr>
            <p:cNvPr id="30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197760" y="25560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5"/>
            <p:cNvSpPr/>
            <p:nvPr/>
          </p:nvSpPr>
          <p:spPr>
            <a:xfrm>
              <a:off x="6582240" y="2736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" descr=""/>
          <p:cNvPicPr/>
          <p:nvPr/>
        </p:nvPicPr>
        <p:blipFill>
          <a:blip r:embed="rId1"/>
          <a:stretch/>
        </p:blipFill>
        <p:spPr>
          <a:xfrm>
            <a:off x="0" y="2405160"/>
            <a:ext cx="12192120" cy="4906800"/>
          </a:xfrm>
          <a:prstGeom prst="rect">
            <a:avLst/>
          </a:prstGeom>
          <a:ln w="0">
            <a:noFill/>
          </a:ln>
        </p:spPr>
      </p:pic>
      <p:sp>
        <p:nvSpPr>
          <p:cNvPr id="313" name="矩形 2"/>
          <p:cNvSpPr/>
          <p:nvPr/>
        </p:nvSpPr>
        <p:spPr>
          <a:xfrm>
            <a:off x="2475000" y="2030400"/>
            <a:ext cx="724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4549680" y="888840"/>
            <a:ext cx="3789360" cy="954360"/>
            <a:chOff x="4549680" y="888840"/>
            <a:chExt cx="3789360" cy="954360"/>
          </a:xfrm>
        </p:grpSpPr>
        <p:pic>
          <p:nvPicPr>
            <p:cNvPr id="315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4549680" y="888840"/>
              <a:ext cx="37893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文本框 5"/>
            <p:cNvSpPr/>
            <p:nvPr/>
          </p:nvSpPr>
          <p:spPr>
            <a:xfrm>
              <a:off x="4934160" y="10688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4886280" y="2376360"/>
            <a:ext cx="2374920" cy="237492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4341960" y="1790640"/>
            <a:ext cx="3431880" cy="3454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16"/>
          <p:cNvSpPr/>
          <p:nvPr/>
        </p:nvSpPr>
        <p:spPr>
          <a:xfrm rot="10800000">
            <a:off x="5813280" y="5013360"/>
            <a:ext cx="51624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17"/>
          <p:cNvSpPr/>
          <p:nvPr/>
        </p:nvSpPr>
        <p:spPr>
          <a:xfrm rot="10800000">
            <a:off x="4559040" y="44798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8"/>
          <p:cNvSpPr/>
          <p:nvPr/>
        </p:nvSpPr>
        <p:spPr>
          <a:xfrm rot="10800000">
            <a:off x="6972120" y="44989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5915160" y="5124600"/>
            <a:ext cx="3110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4660920" y="459900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80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7110360" y="4633920"/>
            <a:ext cx="26028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22"/>
          <p:cNvSpPr/>
          <p:nvPr/>
        </p:nvSpPr>
        <p:spPr>
          <a:xfrm>
            <a:off x="5788080" y="15937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169040" y="22543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24"/>
          <p:cNvSpPr/>
          <p:nvPr/>
        </p:nvSpPr>
        <p:spPr>
          <a:xfrm>
            <a:off x="4071960" y="3419640"/>
            <a:ext cx="5176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25"/>
          <p:cNvSpPr/>
          <p:nvPr/>
        </p:nvSpPr>
        <p:spPr>
          <a:xfrm>
            <a:off x="7531200" y="3419640"/>
            <a:ext cx="5158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502160" y="21272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27"/>
          <p:cNvSpPr/>
          <p:nvPr/>
        </p:nvSpPr>
        <p:spPr>
          <a:xfrm>
            <a:off x="5892840" y="1708200"/>
            <a:ext cx="30960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28"/>
          <p:cNvSpPr/>
          <p:nvPr/>
        </p:nvSpPr>
        <p:spPr>
          <a:xfrm>
            <a:off x="4178160" y="3533760"/>
            <a:ext cx="3096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57" y="18802"/>
                </a:moveTo>
                <a:cubicBezTo>
                  <a:pt x="21518" y="18965"/>
                  <a:pt x="21600" y="19177"/>
                  <a:pt x="21600" y="19437"/>
                </a:cubicBezTo>
                <a:cubicBezTo>
                  <a:pt x="21600" y="19581"/>
                  <a:pt x="21518" y="19776"/>
                  <a:pt x="21357" y="20019"/>
                </a:cubicBezTo>
                <a:cubicBezTo>
                  <a:pt x="21193" y="20261"/>
                  <a:pt x="20990" y="20504"/>
                  <a:pt x="20747" y="20741"/>
                </a:cubicBezTo>
                <a:cubicBezTo>
                  <a:pt x="20504" y="20979"/>
                  <a:pt x="20261" y="21185"/>
                  <a:pt x="20023" y="21349"/>
                </a:cubicBezTo>
                <a:cubicBezTo>
                  <a:pt x="19783" y="21518"/>
                  <a:pt x="19594" y="21600"/>
                  <a:pt x="19447" y="21600"/>
                </a:cubicBezTo>
                <a:cubicBezTo>
                  <a:pt x="19190" y="21600"/>
                  <a:pt x="18975" y="21515"/>
                  <a:pt x="18811" y="21343"/>
                </a:cubicBezTo>
                <a:lnTo>
                  <a:pt x="13957" y="16503"/>
                </a:lnTo>
                <a:cubicBezTo>
                  <a:pt x="13217" y="16980"/>
                  <a:pt x="12429" y="17350"/>
                  <a:pt x="11590" y="17604"/>
                </a:cubicBezTo>
                <a:cubicBezTo>
                  <a:pt x="10751" y="17864"/>
                  <a:pt x="9892" y="17991"/>
                  <a:pt x="9007" y="17991"/>
                </a:cubicBezTo>
                <a:cubicBezTo>
                  <a:pt x="7770" y="17991"/>
                  <a:pt x="6609" y="17760"/>
                  <a:pt x="5518" y="17291"/>
                </a:cubicBezTo>
                <a:cubicBezTo>
                  <a:pt x="4427" y="16822"/>
                  <a:pt x="3470" y="16175"/>
                  <a:pt x="2645" y="15354"/>
                </a:cubicBezTo>
                <a:cubicBezTo>
                  <a:pt x="1817" y="14535"/>
                  <a:pt x="1173" y="13580"/>
                  <a:pt x="701" y="12487"/>
                </a:cubicBezTo>
                <a:cubicBezTo>
                  <a:pt x="232" y="11400"/>
                  <a:pt x="0" y="10237"/>
                  <a:pt x="0" y="9000"/>
                </a:cubicBezTo>
                <a:cubicBezTo>
                  <a:pt x="0" y="7769"/>
                  <a:pt x="232" y="6602"/>
                  <a:pt x="701" y="5515"/>
                </a:cubicBezTo>
                <a:cubicBezTo>
                  <a:pt x="1170" y="4422"/>
                  <a:pt x="1817" y="3468"/>
                  <a:pt x="2645" y="2646"/>
                </a:cubicBezTo>
                <a:cubicBezTo>
                  <a:pt x="3470" y="1827"/>
                  <a:pt x="4425" y="1180"/>
                  <a:pt x="5512" y="709"/>
                </a:cubicBezTo>
                <a:cubicBezTo>
                  <a:pt x="6600" y="237"/>
                  <a:pt x="7764" y="0"/>
                  <a:pt x="9007" y="0"/>
                </a:cubicBezTo>
                <a:cubicBezTo>
                  <a:pt x="10245" y="0"/>
                  <a:pt x="11403" y="237"/>
                  <a:pt x="12488" y="709"/>
                </a:cubicBezTo>
                <a:cubicBezTo>
                  <a:pt x="13573" y="1180"/>
                  <a:pt x="14531" y="1827"/>
                  <a:pt x="15359" y="2646"/>
                </a:cubicBezTo>
                <a:cubicBezTo>
                  <a:pt x="16184" y="3468"/>
                  <a:pt x="16831" y="4422"/>
                  <a:pt x="17300" y="5515"/>
                </a:cubicBezTo>
                <a:cubicBezTo>
                  <a:pt x="17769" y="6602"/>
                  <a:pt x="18003" y="7769"/>
                  <a:pt x="18003" y="9000"/>
                </a:cubicBezTo>
                <a:cubicBezTo>
                  <a:pt x="18003" y="9887"/>
                  <a:pt x="17873" y="10748"/>
                  <a:pt x="17616" y="11589"/>
                </a:cubicBezTo>
                <a:cubicBezTo>
                  <a:pt x="17359" y="12434"/>
                  <a:pt x="16992" y="13219"/>
                  <a:pt x="16514" y="13947"/>
                </a:cubicBezTo>
                <a:lnTo>
                  <a:pt x="21357" y="18802"/>
                </a:lnTo>
                <a:close/>
                <a:moveTo>
                  <a:pt x="3597" y="9000"/>
                </a:moveTo>
                <a:cubicBezTo>
                  <a:pt x="3597" y="9759"/>
                  <a:pt x="3741" y="10465"/>
                  <a:pt x="4029" y="11118"/>
                </a:cubicBezTo>
                <a:cubicBezTo>
                  <a:pt x="4317" y="11770"/>
                  <a:pt x="4707" y="12338"/>
                  <a:pt x="5193" y="12821"/>
                </a:cubicBezTo>
                <a:cubicBezTo>
                  <a:pt x="5679" y="13301"/>
                  <a:pt x="6253" y="13685"/>
                  <a:pt x="6908" y="13970"/>
                </a:cubicBezTo>
                <a:cubicBezTo>
                  <a:pt x="7566" y="14252"/>
                  <a:pt x="8264" y="14394"/>
                  <a:pt x="9004" y="14394"/>
                </a:cubicBezTo>
                <a:cubicBezTo>
                  <a:pt x="9745" y="14394"/>
                  <a:pt x="10440" y="14252"/>
                  <a:pt x="11092" y="13970"/>
                </a:cubicBezTo>
                <a:cubicBezTo>
                  <a:pt x="11745" y="13685"/>
                  <a:pt x="12319" y="13301"/>
                  <a:pt x="12802" y="12821"/>
                </a:cubicBezTo>
                <a:cubicBezTo>
                  <a:pt x="13291" y="12338"/>
                  <a:pt x="13678" y="11770"/>
                  <a:pt x="13966" y="11118"/>
                </a:cubicBezTo>
                <a:cubicBezTo>
                  <a:pt x="14254" y="10465"/>
                  <a:pt x="14398" y="9759"/>
                  <a:pt x="14398" y="9000"/>
                </a:cubicBezTo>
                <a:cubicBezTo>
                  <a:pt x="14398" y="8260"/>
                  <a:pt x="14254" y="7565"/>
                  <a:pt x="13966" y="6913"/>
                </a:cubicBezTo>
                <a:cubicBezTo>
                  <a:pt x="13675" y="6258"/>
                  <a:pt x="13291" y="5684"/>
                  <a:pt x="12802" y="5193"/>
                </a:cubicBezTo>
                <a:cubicBezTo>
                  <a:pt x="12316" y="4704"/>
                  <a:pt x="11745" y="4317"/>
                  <a:pt x="11092" y="4032"/>
                </a:cubicBezTo>
                <a:cubicBezTo>
                  <a:pt x="10440" y="3750"/>
                  <a:pt x="9742" y="3606"/>
                  <a:pt x="9004" y="3606"/>
                </a:cubicBezTo>
                <a:cubicBezTo>
                  <a:pt x="8267" y="3606"/>
                  <a:pt x="7566" y="3750"/>
                  <a:pt x="6908" y="4032"/>
                </a:cubicBezTo>
                <a:cubicBezTo>
                  <a:pt x="6253" y="4317"/>
                  <a:pt x="5676" y="4704"/>
                  <a:pt x="5193" y="5193"/>
                </a:cubicBezTo>
                <a:cubicBezTo>
                  <a:pt x="4707" y="5684"/>
                  <a:pt x="4317" y="6258"/>
                  <a:pt x="4029" y="6913"/>
                </a:cubicBezTo>
                <a:cubicBezTo>
                  <a:pt x="3741" y="7565"/>
                  <a:pt x="3597" y="8257"/>
                  <a:pt x="3597" y="9000"/>
                </a:cubicBezTo>
                <a:moveTo>
                  <a:pt x="9007" y="5591"/>
                </a:moveTo>
                <a:cubicBezTo>
                  <a:pt x="9185" y="5591"/>
                  <a:pt x="9344" y="5656"/>
                  <a:pt x="9473" y="5786"/>
                </a:cubicBezTo>
                <a:cubicBezTo>
                  <a:pt x="9603" y="5919"/>
                  <a:pt x="9668" y="6082"/>
                  <a:pt x="9668" y="6280"/>
                </a:cubicBezTo>
                <a:cubicBezTo>
                  <a:pt x="9668" y="6461"/>
                  <a:pt x="9603" y="6616"/>
                  <a:pt x="9473" y="6746"/>
                </a:cubicBezTo>
                <a:cubicBezTo>
                  <a:pt x="9344" y="6879"/>
                  <a:pt x="9185" y="6944"/>
                  <a:pt x="9007" y="6944"/>
                </a:cubicBezTo>
                <a:cubicBezTo>
                  <a:pt x="8439" y="6944"/>
                  <a:pt x="7953" y="7144"/>
                  <a:pt x="7552" y="7537"/>
                </a:cubicBezTo>
                <a:cubicBezTo>
                  <a:pt x="7151" y="7935"/>
                  <a:pt x="6950" y="8423"/>
                  <a:pt x="6950" y="8997"/>
                </a:cubicBezTo>
                <a:cubicBezTo>
                  <a:pt x="6950" y="9180"/>
                  <a:pt x="6885" y="9333"/>
                  <a:pt x="6755" y="9466"/>
                </a:cubicBezTo>
                <a:cubicBezTo>
                  <a:pt x="6623" y="9596"/>
                  <a:pt x="6467" y="9658"/>
                  <a:pt x="6289" y="9658"/>
                </a:cubicBezTo>
                <a:cubicBezTo>
                  <a:pt x="6080" y="9658"/>
                  <a:pt x="5914" y="9596"/>
                  <a:pt x="5786" y="9466"/>
                </a:cubicBezTo>
                <a:cubicBezTo>
                  <a:pt x="5659" y="9333"/>
                  <a:pt x="5600" y="9180"/>
                  <a:pt x="5600" y="8997"/>
                </a:cubicBezTo>
                <a:cubicBezTo>
                  <a:pt x="5600" y="8539"/>
                  <a:pt x="5685" y="8104"/>
                  <a:pt x="5863" y="7686"/>
                </a:cubicBezTo>
                <a:cubicBezTo>
                  <a:pt x="6038" y="7271"/>
                  <a:pt x="6281" y="6907"/>
                  <a:pt x="6597" y="6591"/>
                </a:cubicBezTo>
                <a:cubicBezTo>
                  <a:pt x="6905" y="6277"/>
                  <a:pt x="7264" y="6029"/>
                  <a:pt x="7677" y="5857"/>
                </a:cubicBezTo>
                <a:cubicBezTo>
                  <a:pt x="8086" y="5681"/>
                  <a:pt x="8530" y="5591"/>
                  <a:pt x="9007" y="55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29"/>
          <p:cNvSpPr/>
          <p:nvPr/>
        </p:nvSpPr>
        <p:spPr>
          <a:xfrm>
            <a:off x="7273800" y="239544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0"/>
          <p:cNvSpPr/>
          <p:nvPr/>
        </p:nvSpPr>
        <p:spPr>
          <a:xfrm>
            <a:off x="4621320" y="2233440"/>
            <a:ext cx="27756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31"/>
          <p:cNvSpPr/>
          <p:nvPr/>
        </p:nvSpPr>
        <p:spPr>
          <a:xfrm>
            <a:off x="7643880" y="3540240"/>
            <a:ext cx="309600" cy="27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组合 19" descr=""/>
          <p:cNvPicPr/>
          <p:nvPr/>
        </p:nvPicPr>
        <p:blipFill>
          <a:blip r:embed="rId1"/>
          <a:stretch/>
        </p:blipFill>
        <p:spPr>
          <a:xfrm>
            <a:off x="5767560" y="3219480"/>
            <a:ext cx="693720" cy="584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@|17FFC:16777215|FBC:16777215|LFC:16777215|LBC:16777215"/>
          <p:cNvSpPr/>
          <p:nvPr/>
        </p:nvSpPr>
        <p:spPr>
          <a:xfrm>
            <a:off x="7953480" y="2111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7958160" y="2397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231040" y="3348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8236080" y="3635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742160" y="443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745400" y="4719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271600" y="2081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890720" y="23670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930320" y="33084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549440" y="35956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400480" y="4473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019240" y="4759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新月形 4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新月形 5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新月形 6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新月形 7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24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24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24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24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2" descr=""/>
          <p:cNvPicPr/>
          <p:nvPr/>
        </p:nvPicPr>
        <p:blipFill>
          <a:blip r:embed="rId1"/>
          <a:stretch/>
        </p:blipFill>
        <p:spPr>
          <a:xfrm>
            <a:off x="8067600" y="912960"/>
            <a:ext cx="3533760" cy="5924520"/>
          </a:xfrm>
          <a:prstGeom prst="rect">
            <a:avLst/>
          </a:prstGeom>
          <a:ln w="0">
            <a:noFill/>
          </a:ln>
        </p:spPr>
      </p:pic>
      <p:sp>
        <p:nvSpPr>
          <p:cNvPr id="369" name="矩形 3"/>
          <p:cNvSpPr/>
          <p:nvPr/>
        </p:nvSpPr>
        <p:spPr>
          <a:xfrm>
            <a:off x="1268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68280" y="1962000"/>
            <a:ext cx="2973600" cy="749520"/>
            <a:chOff x="1268280" y="1962000"/>
            <a:chExt cx="2973600" cy="749520"/>
          </a:xfrm>
        </p:grpSpPr>
        <p:pic>
          <p:nvPicPr>
            <p:cNvPr id="371" name="图片 5" descr=""/>
            <p:cNvPicPr/>
            <p:nvPr/>
          </p:nvPicPr>
          <p:blipFill>
            <a:blip r:embed="rId2"/>
            <a:stretch/>
          </p:blipFill>
          <p:spPr>
            <a:xfrm>
              <a:off x="1268280" y="1962000"/>
              <a:ext cx="29736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6"/>
            <p:cNvSpPr/>
            <p:nvPr/>
          </p:nvSpPr>
          <p:spPr>
            <a:xfrm>
              <a:off x="1576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矩形 7"/>
          <p:cNvSpPr/>
          <p:nvPr/>
        </p:nvSpPr>
        <p:spPr>
          <a:xfrm>
            <a:off x="5183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5183280" y="1962000"/>
            <a:ext cx="2973240" cy="749520"/>
            <a:chOff x="5183280" y="1962000"/>
            <a:chExt cx="2973240" cy="749520"/>
          </a:xfrm>
        </p:grpSpPr>
        <p:pic>
          <p:nvPicPr>
            <p:cNvPr id="375" name="图片 9" descr=""/>
            <p:cNvPicPr/>
            <p:nvPr/>
          </p:nvPicPr>
          <p:blipFill>
            <a:blip r:embed="rId3"/>
            <a:stretch/>
          </p:blipFill>
          <p:spPr>
            <a:xfrm>
              <a:off x="5183280" y="1962000"/>
              <a:ext cx="2973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10"/>
            <p:cNvSpPr/>
            <p:nvPr/>
          </p:nvSpPr>
          <p:spPr>
            <a:xfrm>
              <a:off x="5491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矩形 11"/>
          <p:cNvSpPr/>
          <p:nvPr/>
        </p:nvSpPr>
        <p:spPr>
          <a:xfrm>
            <a:off x="1268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1268280" y="3753000"/>
            <a:ext cx="2973600" cy="749160"/>
            <a:chOff x="1268280" y="3753000"/>
            <a:chExt cx="2973600" cy="749160"/>
          </a:xfrm>
        </p:grpSpPr>
        <p:pic>
          <p:nvPicPr>
            <p:cNvPr id="379" name="图片 13" descr=""/>
            <p:cNvPicPr/>
            <p:nvPr/>
          </p:nvPicPr>
          <p:blipFill>
            <a:blip r:embed="rId4"/>
            <a:stretch/>
          </p:blipFill>
          <p:spPr>
            <a:xfrm>
              <a:off x="1268280" y="3753000"/>
              <a:ext cx="297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14"/>
            <p:cNvSpPr/>
            <p:nvPr/>
          </p:nvSpPr>
          <p:spPr>
            <a:xfrm>
              <a:off x="1576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矩形 15"/>
          <p:cNvSpPr/>
          <p:nvPr/>
        </p:nvSpPr>
        <p:spPr>
          <a:xfrm>
            <a:off x="5183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6"/>
          <p:cNvGrpSpPr/>
          <p:nvPr/>
        </p:nvGrpSpPr>
        <p:grpSpPr>
          <a:xfrm>
            <a:off x="5183280" y="3753000"/>
            <a:ext cx="2973240" cy="749160"/>
            <a:chOff x="5183280" y="3753000"/>
            <a:chExt cx="2973240" cy="749160"/>
          </a:xfrm>
        </p:grpSpPr>
        <p:pic>
          <p:nvPicPr>
            <p:cNvPr id="383" name="图片 17" descr=""/>
            <p:cNvPicPr/>
            <p:nvPr/>
          </p:nvPicPr>
          <p:blipFill>
            <a:blip r:embed="rId5"/>
            <a:stretch/>
          </p:blipFill>
          <p:spPr>
            <a:xfrm>
              <a:off x="5183280" y="3753000"/>
              <a:ext cx="2973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8"/>
            <p:cNvSpPr/>
            <p:nvPr/>
          </p:nvSpPr>
          <p:spPr>
            <a:xfrm>
              <a:off x="5491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" descr=""/>
          <p:cNvPicPr/>
          <p:nvPr/>
        </p:nvPicPr>
        <p:blipFill>
          <a:blip r:embed="rId1"/>
          <a:stretch/>
        </p:blipFill>
        <p:spPr>
          <a:xfrm>
            <a:off x="3724200" y="1143000"/>
            <a:ext cx="8467920" cy="45910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701640" y="490068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"/>
          <p:cNvGrpSpPr/>
          <p:nvPr/>
        </p:nvGrpSpPr>
        <p:grpSpPr>
          <a:xfrm>
            <a:off x="701640" y="3832200"/>
            <a:ext cx="3789360" cy="954000"/>
            <a:chOff x="701640" y="3832200"/>
            <a:chExt cx="3789360" cy="954000"/>
          </a:xfrm>
        </p:grpSpPr>
        <p:pic>
          <p:nvPicPr>
            <p:cNvPr id="38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01640" y="38322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5"/>
            <p:cNvSpPr/>
            <p:nvPr/>
          </p:nvSpPr>
          <p:spPr>
            <a:xfrm>
              <a:off x="1086120" y="40122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iamond 4"/>
          <p:cNvSpPr/>
          <p:nvPr/>
        </p:nvSpPr>
        <p:spPr>
          <a:xfrm>
            <a:off x="3751200" y="1647720"/>
            <a:ext cx="4665600" cy="466416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ounded Rectangle 15"/>
          <p:cNvSpPr/>
          <p:nvPr/>
        </p:nvSpPr>
        <p:spPr>
          <a:xfrm>
            <a:off x="4195800" y="209088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ounded Rectangle 13"/>
          <p:cNvSpPr/>
          <p:nvPr/>
        </p:nvSpPr>
        <p:spPr>
          <a:xfrm>
            <a:off x="6154560" y="209088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ounded Rectangle 11"/>
          <p:cNvSpPr/>
          <p:nvPr/>
        </p:nvSpPr>
        <p:spPr>
          <a:xfrm>
            <a:off x="4195800" y="404964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ounded Rectangle 9"/>
          <p:cNvSpPr/>
          <p:nvPr/>
        </p:nvSpPr>
        <p:spPr>
          <a:xfrm>
            <a:off x="6154560" y="404964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Group 49" descr=""/>
          <p:cNvPicPr/>
          <p:nvPr/>
        </p:nvPicPr>
        <p:blipFill>
          <a:blip r:embed="rId1"/>
          <a:stretch/>
        </p:blipFill>
        <p:spPr>
          <a:xfrm>
            <a:off x="6724800" y="450540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4"/>
          <p:cNvSpPr/>
          <p:nvPr/>
        </p:nvSpPr>
        <p:spPr>
          <a:xfrm>
            <a:off x="4805280" y="249552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oup 70" descr=""/>
          <p:cNvPicPr/>
          <p:nvPr/>
        </p:nvPicPr>
        <p:blipFill>
          <a:blip r:embed="rId2"/>
          <a:stretch/>
        </p:blipFill>
        <p:spPr>
          <a:xfrm>
            <a:off x="4827600" y="451656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400" name="Group 91" descr=""/>
          <p:cNvPicPr/>
          <p:nvPr/>
        </p:nvPicPr>
        <p:blipFill>
          <a:blip r:embed="rId3"/>
          <a:stretch/>
        </p:blipFill>
        <p:spPr>
          <a:xfrm>
            <a:off x="6761160" y="2517840"/>
            <a:ext cx="609480" cy="633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3"/>
          <p:cNvSpPr/>
          <p:nvPr/>
        </p:nvSpPr>
        <p:spPr>
          <a:xfrm>
            <a:off x="183024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144936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83024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44936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838512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838512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838512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838512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48956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642924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89560" y="52736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6432480" y="523728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2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18Z</dcterms:modified>
  <cp:revision>5</cp:revision>
  <dc:subject/>
  <dc:title>PowerPoint 演示文稿</dc:title>
</cp:coreProperties>
</file>