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A557-BF68-4182-A223-C1E80FDF3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DB05-4650-44FF-9580-4971F95F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1768-0E7E-4D2E-A7C2-96279B548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120A-8EDD-4B8C-B5EF-B3B705A82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FDD4-E45B-4A23-9BDC-DABF0A22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43F0-4172-4B64-BAA5-8BCDAF36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BD11-BFD0-4DD3-83BD-6029E300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85A5-4017-459C-9BC9-8C7C383E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8E25-C171-4E59-BB44-ACACC3C5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3DD8-2569-4660-8380-CD8A66CD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6DF9-3555-46EC-B309-97689795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B6D7-A0FF-46F3-8B22-6F49A5EA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FC03-5496-4597-8492-90A13F4C466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4CA6-2C36-4A64-B024-A87F15E726D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1178640" y="1434960"/>
            <a:ext cx="20713320" cy="24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ba62af"/>
                </a:solidFill>
                <a:latin typeface="HelveticaNeueLT Std UltLt Ext"/>
              </a:rPr>
              <a:t>SOCIAL CUSTOMER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-1433520" y="1052640"/>
            <a:ext cx="862632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igNoodleTitling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BigNoodleTitling"/>
              </a:rPr>
              <a:t>UNDENIABLE 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BigNoodleTitling"/>
              </a:rPr>
              <a:t>AUTHORITY 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BigNoodleTitling"/>
              </a:rPr>
              <a:t>OF 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BigNoodleTitling"/>
              </a:rPr>
              <a:t>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3924360" y="6575400"/>
            <a:ext cx="525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1"/>
          <p:cNvSpPr/>
          <p:nvPr/>
        </p:nvSpPr>
        <p:spPr>
          <a:xfrm>
            <a:off x="4722840" y="1109520"/>
            <a:ext cx="4350240" cy="18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4000" spc="-1" strike="noStrike">
                <a:solidFill>
                  <a:srgbClr val="603a9a"/>
                </a:solidFill>
                <a:latin typeface="BigNoodleTitling"/>
              </a:rPr>
              <a:t>88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c4b3"/>
                </a:solidFill>
                <a:latin typeface="BigNoodleTitling"/>
              </a:rPr>
              <a:t>88%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50c4b3"/>
                </a:solidFill>
                <a:latin typeface="BigNoodleTitling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50c4b3"/>
                </a:solidFill>
                <a:latin typeface="BigNoodleTitling"/>
              </a:rPr>
              <a:t>CUSTOMERS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uenced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reading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revie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"/>
          <p:cNvSpPr/>
          <p:nvPr/>
        </p:nvSpPr>
        <p:spPr>
          <a:xfrm>
            <a:off x="-918360" y="673200"/>
            <a:ext cx="6366240" cy="45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SOCIAL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CUSTOMERS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LO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LISTEN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COMPANY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MESSAG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THEY’RE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LISTENING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P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INSTEAD.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POWER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SHIFTED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BRANDS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THEIR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CUSTO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NeueLT Std UltLt Ext"/>
              </a:rPr>
              <a:t>	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average,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CUSTOMER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will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t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OTHER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about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company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igNoodleTitling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1"/>
          <p:cNvSpPr/>
          <p:nvPr/>
        </p:nvSpPr>
        <p:spPr>
          <a:xfrm>
            <a:off x="650520" y="1828800"/>
            <a:ext cx="704772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NeueLT Std UltLt Ext"/>
              </a:rPr>
              <a:t>HOW  DOES  THIS  SHIFT  IN  AUTHORITY  A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"/>
          <p:cNvSpPr/>
          <p:nvPr/>
        </p:nvSpPr>
        <p:spPr>
          <a:xfrm>
            <a:off x="820080" y="2476440"/>
            <a:ext cx="712404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2a4e"/>
                </a:solidFill>
                <a:latin typeface="HelveticaNeueLT Std UltLt Ext"/>
              </a:rPr>
              <a:t>CUSTOMER  SUPPORT  F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2a4e"/>
                </a:solidFill>
                <a:latin typeface="HelveticaNeueLT Std UltLt Ext"/>
              </a:rPr>
              <a:t>BUSINESS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1"/>
          <p:cNvSpPr/>
          <p:nvPr/>
        </p:nvSpPr>
        <p:spPr>
          <a:xfrm>
            <a:off x="617400" y="1098720"/>
            <a:ext cx="7181640" cy="11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UNFORTUNATELY,  MANY  ORGANIZATIONS  STILL  DO 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BELIEVE  IN  THE  AUTHORITY  OF  THE  SOCIAL  CUSTOM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2775600" y="2692440"/>
            <a:ext cx="2630880" cy="29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50c4b3"/>
                </a:solidFill>
                <a:latin typeface="BigNoodleTitling"/>
              </a:rPr>
              <a:t>60%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don't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respond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customers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social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media,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asked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di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"/>
          <p:cNvSpPr/>
          <p:nvPr/>
        </p:nvSpPr>
        <p:spPr>
          <a:xfrm>
            <a:off x="5222520" y="4267080"/>
            <a:ext cx="326196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62af"/>
                </a:solidFill>
                <a:latin typeface="BigNoodleTitling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3200" spc="-1" strike="noStrike">
                <a:solidFill>
                  <a:srgbClr val="ba62af"/>
                </a:solidFill>
                <a:latin typeface="BigNoodleTitling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3200" spc="-1" strike="noStrike">
                <a:solidFill>
                  <a:srgbClr val="ba62af"/>
                </a:solidFill>
                <a:latin typeface="BigNoodleTitling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3200" spc="-1" strike="noStrike">
                <a:solidFill>
                  <a:srgbClr val="ba62af"/>
                </a:solidFill>
                <a:latin typeface="BigNoodleTitling"/>
              </a:rPr>
              <a:t>TOP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3200" spc="-1" strike="noStrike">
                <a:solidFill>
                  <a:srgbClr val="ba62af"/>
                </a:solidFill>
                <a:latin typeface="BigNoodleTitling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retailers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have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erased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cust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questions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the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Facebook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"/>
          <p:cNvSpPr/>
          <p:nvPr/>
        </p:nvSpPr>
        <p:spPr>
          <a:xfrm>
            <a:off x="4290120" y="2374920"/>
            <a:ext cx="48103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a62af"/>
                </a:solidFill>
                <a:latin typeface="BigNoodleTitling"/>
              </a:rPr>
              <a:t>88%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nsumer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likely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buy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that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ignor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mplaint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question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on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social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med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"/>
          <p:cNvSpPr/>
          <p:nvPr/>
        </p:nvSpPr>
        <p:spPr>
          <a:xfrm>
            <a:off x="1969200" y="4648320"/>
            <a:ext cx="515484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533520"/>
                <a:tab algn="l" pos="6732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c4b3"/>
                </a:solidFill>
                <a:latin typeface="BigNoodleTitling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800" spc="-1" strike="noStrike">
                <a:solidFill>
                  <a:srgbClr val="50c4b3"/>
                </a:solidFill>
                <a:latin typeface="BigNoodleTitling"/>
              </a:rPr>
              <a:t>17%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nsu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533520"/>
                <a:tab algn="l" pos="6732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who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had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negativ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533520"/>
                <a:tab algn="l" pos="6732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experience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recommend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th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533520"/>
                <a:tab algn="l" pos="6732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mpanie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fu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"/>
          <p:cNvSpPr/>
          <p:nvPr/>
        </p:nvSpPr>
        <p:spPr>
          <a:xfrm>
            <a:off x="3911760" y="2819520"/>
            <a:ext cx="90432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a62af"/>
                </a:solidFill>
                <a:latin typeface="HelveticaNeueLT Std UltLt Ext"/>
              </a:rPr>
              <a:t>88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7222320" y="5089680"/>
            <a:ext cx="100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a62af"/>
                </a:solidFill>
                <a:latin typeface="HelveticaNeueLT Std UltLt Ext"/>
              </a:rPr>
              <a:t>17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"/>
          <p:cNvSpPr/>
          <p:nvPr/>
        </p:nvSpPr>
        <p:spPr>
          <a:xfrm>
            <a:off x="628920" y="1111320"/>
            <a:ext cx="5635080" cy="8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62af"/>
                </a:solidFill>
                <a:latin typeface="HelveticaNeueLT Std UltLt Ext"/>
              </a:rPr>
              <a:t>BUT  THEY’RE  PAYING  FOR  IT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"/>
          <p:cNvSpPr/>
          <p:nvPr/>
        </p:nvSpPr>
        <p:spPr>
          <a:xfrm>
            <a:off x="779040" y="4521240"/>
            <a:ext cx="136332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2c63"/>
                </a:solidFill>
                <a:latin typeface="微软雅黑"/>
              </a:rPr>
              <a:t>MONE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3f2c63"/>
                </a:solidFill>
                <a:latin typeface="微软雅黑"/>
              </a:rPr>
              <a:t>SHRED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0" y="888840"/>
            <a:ext cx="9144000" cy="52707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1"/>
          <p:cNvSpPr/>
          <p:nvPr/>
        </p:nvSpPr>
        <p:spPr>
          <a:xfrm>
            <a:off x="-483840" y="1065240"/>
            <a:ext cx="10315080" cy="25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62af"/>
                </a:solidFill>
                <a:latin typeface="HelveticaNeueLT Std UltLt Ext"/>
              </a:rPr>
              <a:t>THE  MOST  SOCIALLY  PROACTIVE  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62af"/>
                </a:solidFill>
                <a:latin typeface="HelveticaNeueLT Std UltLt Ext"/>
              </a:rPr>
              <a:t>SEE  SOLIDRE  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ustomer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who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engag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mpanie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social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media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spend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800" spc="-1" strike="noStrike">
                <a:solidFill>
                  <a:srgbClr val="ba62af"/>
                </a:solidFill>
                <a:latin typeface="BigNoodleTitling"/>
              </a:rPr>
              <a:t>20%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800" spc="-1" strike="noStrike">
                <a:solidFill>
                  <a:srgbClr val="ba62af"/>
                </a:solidFill>
                <a:latin typeface="BigNoodleTitling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800" spc="-1" strike="noStrike">
                <a:solidFill>
                  <a:srgbClr val="ba62af"/>
                </a:solidFill>
                <a:latin typeface="BigNoodleTitling"/>
              </a:rPr>
              <a:t>40%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thos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mpanie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than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other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"/>
          <p:cNvSpPr/>
          <p:nvPr/>
        </p:nvSpPr>
        <p:spPr>
          <a:xfrm>
            <a:off x="-131400" y="4673520"/>
            <a:ext cx="702900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c4b3"/>
                </a:solidFill>
                <a:latin typeface="BigNoodleTitling"/>
              </a:rPr>
              <a:t>81%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mpanie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strong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delivering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excellent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ustomer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out-performing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their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mpeti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"/>
          <p:cNvSpPr/>
          <p:nvPr/>
        </p:nvSpPr>
        <p:spPr>
          <a:xfrm>
            <a:off x="6907680" y="4546440"/>
            <a:ext cx="110556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a62af"/>
                </a:solidFill>
                <a:latin typeface="HelveticaNeueLT Std UltLt Ext"/>
              </a:rPr>
              <a:t>81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"/>
          <p:cNvSpPr/>
          <p:nvPr/>
        </p:nvSpPr>
        <p:spPr>
          <a:xfrm>
            <a:off x="777600" y="1663560"/>
            <a:ext cx="675036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NeueLT Std UltLt Ext"/>
              </a:rPr>
              <a:t>HOW  SHOULD  YOU  PREPARE  YOURSELF 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"/>
          <p:cNvSpPr/>
          <p:nvPr/>
        </p:nvSpPr>
        <p:spPr>
          <a:xfrm>
            <a:off x="695880" y="1828800"/>
            <a:ext cx="668052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2a4e"/>
                </a:solidFill>
                <a:latin typeface="HelveticaNeueLT Std UltLt Ext"/>
              </a:rPr>
              <a:t>THE  COMING  AGE  OF 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"/>
          <p:cNvSpPr/>
          <p:nvPr/>
        </p:nvSpPr>
        <p:spPr>
          <a:xfrm>
            <a:off x="787680" y="2133720"/>
            <a:ext cx="7437960" cy="21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6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62a4e"/>
                </a:solidFill>
                <a:latin typeface="HelveticaNeueLT Std UltLt Ext"/>
              </a:rPr>
              <a:t>SOCIAL  CUSTOME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1"/>
          <p:cNvSpPr/>
          <p:nvPr/>
        </p:nvSpPr>
        <p:spPr>
          <a:xfrm>
            <a:off x="1003320" y="1720800"/>
            <a:ext cx="17133480" cy="19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4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600" spc="-1" strike="noStrike">
                <a:solidFill>
                  <a:srgbClr val="ffffff"/>
                </a:solidFill>
                <a:latin typeface="HelveticaNeueLT Std UltLt Ext"/>
              </a:rPr>
              <a:t>ALWAYS  RESPOND.</a:t>
            </a: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"/>
          <p:cNvSpPr/>
          <p:nvPr/>
        </p:nvSpPr>
        <p:spPr>
          <a:xfrm>
            <a:off x="-2317680" y="863640"/>
            <a:ext cx="127638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MATTER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HOW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EMBARRASSED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FRUSTRATED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MAY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F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CUSTOMER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COMPLAINS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ON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SOCIAL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MEDIA,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"/>
          <p:cNvSpPr/>
          <p:nvPr/>
        </p:nvSpPr>
        <p:spPr>
          <a:xfrm>
            <a:off x="6159240" y="3645000"/>
            <a:ext cx="1949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ba62af"/>
                </a:solidFill>
                <a:latin typeface="BigNoodleTitling"/>
              </a:rPr>
              <a:t>83%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"/>
          <p:cNvSpPr/>
          <p:nvPr/>
        </p:nvSpPr>
        <p:spPr>
          <a:xfrm>
            <a:off x="6194160" y="4699080"/>
            <a:ext cx="213732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ustomers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weet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ompl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lov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it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w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"/>
          <p:cNvSpPr/>
          <p:nvPr/>
        </p:nvSpPr>
        <p:spPr>
          <a:xfrm>
            <a:off x="6101280" y="5613480"/>
            <a:ext cx="24314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ompanies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respo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1"/>
          <p:cNvSpPr/>
          <p:nvPr/>
        </p:nvSpPr>
        <p:spPr>
          <a:xfrm>
            <a:off x="635400" y="800280"/>
            <a:ext cx="6177600" cy="13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WHEN  RESPONDING  TO  THE  SOCIAL  CUSTOME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LT Std UltLt Ext"/>
              </a:rPr>
              <a:t>DON’T  FORGET 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451800" y="2747880"/>
            <a:ext cx="6915240" cy="34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  <a:ea typeface="Microsoft Yi Baiti"/>
              </a:rPr>
              <a:t>STRIVEFORFASTRESPONSETIME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  <a:ea typeface="Microsoft Yi Baiti"/>
              </a:rPr>
              <a:t>BEHUMANAND,ATTIMES,APPLYHUMOR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  <a:ea typeface="Microsoft Yi Baiti"/>
              </a:rPr>
              <a:t>DON’TBEDEFENSIV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  <a:ea typeface="Microsoft Yi Baiti"/>
              </a:rPr>
              <a:t>ALWAYSTHANKTHECUSTOMER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  <a:ea typeface="Microsoft Yi Baiti"/>
              </a:rPr>
              <a:t>SUGGESTASOLUTIONTOTHEPROBLEM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"/>
          <p:cNvSpPr/>
          <p:nvPr/>
        </p:nvSpPr>
        <p:spPr>
          <a:xfrm>
            <a:off x="1386360" y="2689200"/>
            <a:ext cx="262800" cy="36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c4b3"/>
                </a:solidFill>
                <a:latin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c4b3"/>
                </a:solidFill>
                <a:latin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c4b3"/>
                </a:solidFill>
                <a:latin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c4b3"/>
                </a:solidFill>
                <a:latin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c4b3"/>
                </a:solidFill>
                <a:latin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"/>
          <p:cNvSpPr/>
          <p:nvPr/>
        </p:nvSpPr>
        <p:spPr>
          <a:xfrm>
            <a:off x="781200" y="958680"/>
            <a:ext cx="658152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TO  IMPROVE  YOUR  COMPANY’S  OVERALL  PLAN 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SOCIAL  CUSTOMER  SERVICE,  CONSIDER  THESE  TI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"/>
          <p:cNvSpPr/>
          <p:nvPr/>
        </p:nvSpPr>
        <p:spPr>
          <a:xfrm>
            <a:off x="836640" y="2540160"/>
            <a:ext cx="5951880" cy="7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</a:rPr>
              <a:t>LISTENTOYOURCUSTOMERSAN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</a:rPr>
              <a:t>BUILDRELATIONSHIPSWITHTHEM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"/>
          <p:cNvSpPr/>
          <p:nvPr/>
        </p:nvSpPr>
        <p:spPr>
          <a:xfrm>
            <a:off x="458640" y="3479760"/>
            <a:ext cx="7739640" cy="10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</a:rPr>
              <a:t>HAVEADETAILEDCRISIS-MANAGEMENTPLAN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</a:rPr>
              <a:t>DESIGNATEATLEASTONEMEMBEROFYOU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"/>
          <p:cNvSpPr/>
          <p:nvPr/>
        </p:nvSpPr>
        <p:spPr>
          <a:xfrm>
            <a:off x="66960" y="4413240"/>
            <a:ext cx="946764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</a:rPr>
              <a:t>COMPANYTOBEAVAILABLE24/7ONSOCIALMEDIA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</a:rPr>
              <a:t>COMMITRANDOMACTSOFWOWFORYOURCUSTOMER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</a:rPr>
              <a:t>STRIVETOALWAYSPROVIDELINKSTOHELPFU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</a:rPr>
              <a:t>INFORMATIONATTHEENDOFEACHRESPONS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"/>
          <p:cNvSpPr/>
          <p:nvPr/>
        </p:nvSpPr>
        <p:spPr>
          <a:xfrm>
            <a:off x="636120" y="1071720"/>
            <a:ext cx="745272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EVEN</a:t>
            </a:r>
            <a:r>
              <a:rPr b="0" lang="en-US" sz="2000" spc="-1" strike="noStrike">
                <a:solidFill>
                  <a:srgbClr val="000000"/>
                </a:solidFill>
                <a:latin typeface="HelveticaNeueLT Std UltLt Ext"/>
              </a:rPr>
              <a:t>   </a:t>
            </a: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HelveticaNeueLT Std UltLt Ext"/>
              </a:rPr>
              <a:t> </a:t>
            </a: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HelveticaNeueLT Std UltLt Ext"/>
              </a:rPr>
              <a:t> </a:t>
            </a: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CHANNELS</a:t>
            </a:r>
            <a:r>
              <a:rPr b="0" lang="en-US" sz="2000" spc="-1" strike="noStrike">
                <a:solidFill>
                  <a:srgbClr val="000000"/>
                </a:solidFill>
                <a:latin typeface="HelveticaNeueLT Std UltLt Ext"/>
              </a:rPr>
              <a:t> </a:t>
            </a: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(FACEBOOK,</a:t>
            </a:r>
            <a:r>
              <a:rPr b="0" lang="en-US" sz="2000" spc="-1" strike="noStrike">
                <a:solidFill>
                  <a:srgbClr val="000000"/>
                </a:solidFill>
                <a:latin typeface="HelveticaNeueLT Std UltLt Ext"/>
              </a:rPr>
              <a:t> </a:t>
            </a: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TWITTER,</a:t>
            </a:r>
            <a:r>
              <a:rPr b="0" lang="en-US" sz="2000" spc="-1" strike="noStrike">
                <a:solidFill>
                  <a:srgbClr val="000000"/>
                </a:solidFill>
                <a:latin typeface="HelveticaNeueLT Std UltLt Ext"/>
              </a:rPr>
              <a:t> </a:t>
            </a: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ETC.)</a:t>
            </a:r>
            <a:r>
              <a:rPr b="0" lang="en-US" sz="2000" spc="-1" strike="noStrike">
                <a:solidFill>
                  <a:srgbClr val="000000"/>
                </a:solidFill>
                <a:latin typeface="HelveticaNeueLT Std UltLt Ext"/>
              </a:rPr>
              <a:t> </a:t>
            </a: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EVOLV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"/>
          <p:cNvSpPr/>
          <p:nvPr/>
        </p:nvSpPr>
        <p:spPr>
          <a:xfrm>
            <a:off x="751680" y="1571760"/>
            <a:ext cx="7488000" cy="8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NeueLT Std UltLt Ext"/>
              </a:rPr>
              <a:t>THE  SOCIAL  CUSTOMER  IS  HERE  TO  ST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"/>
          <p:cNvSpPr/>
          <p:nvPr/>
        </p:nvSpPr>
        <p:spPr>
          <a:xfrm>
            <a:off x="1954080" y="2730600"/>
            <a:ext cx="807588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IN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THE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NOT-SO-DISTANT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FUTUR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CONSUMERS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WILL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EXPECT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EV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FASTER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RESPONSES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FR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COMPANIES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LIKE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YOU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"/>
          <p:cNvSpPr/>
          <p:nvPr/>
        </p:nvSpPr>
        <p:spPr>
          <a:xfrm>
            <a:off x="3951720" y="4584600"/>
            <a:ext cx="362016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LT Std UltLt Ext"/>
              </a:rPr>
              <a:t>DON’T  LET  YOUR 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"/>
          <p:cNvSpPr/>
          <p:nvPr/>
        </p:nvSpPr>
        <p:spPr>
          <a:xfrm>
            <a:off x="3825720" y="5397480"/>
            <a:ext cx="401796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LT Std UltLt Ext"/>
              </a:rPr>
              <a:t>SERVICE  EFFORTS  FALL  BEHIN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0" y="584280"/>
            <a:ext cx="9144000" cy="5473800"/>
          </a:xfrm>
          <a:prstGeom prst="rect">
            <a:avLst/>
          </a:prstGeom>
          <a:ln w="0">
            <a:noFill/>
          </a:ln>
        </p:spPr>
      </p:pic>
      <p:sp>
        <p:nvSpPr>
          <p:cNvPr id="47" name="TextBox 1"/>
          <p:cNvSpPr/>
          <p:nvPr/>
        </p:nvSpPr>
        <p:spPr>
          <a:xfrm>
            <a:off x="763560" y="609480"/>
            <a:ext cx="493704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62af"/>
                </a:solidFill>
                <a:latin typeface="HelveticaNeueLT Std UltLt Ext"/>
              </a:rPr>
              <a:t>THE  DAWN  OF  THEDIGITAL  AG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"/>
          <p:cNvSpPr/>
          <p:nvPr/>
        </p:nvSpPr>
        <p:spPr>
          <a:xfrm>
            <a:off x="-109440" y="1568520"/>
            <a:ext cx="533916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along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explosiv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social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media,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ha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forced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evolution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customer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ser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cam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ris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customer—on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who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ha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b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known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toppl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even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respected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bra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-803520" y="3822840"/>
            <a:ext cx="660132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NEWFOUND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AUTHORITY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KNOWN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698400" y="4295880"/>
            <a:ext cx="387360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elveticaNeueLT Std UltLt Ext"/>
              </a:rPr>
              <a:t>THE SO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elveticaNeueLT Std UltLt Ext"/>
              </a:rPr>
              <a:t>CUSTOM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1"/>
          <p:cNvSpPr/>
          <p:nvPr/>
        </p:nvSpPr>
        <p:spPr>
          <a:xfrm>
            <a:off x="-1627920" y="3797280"/>
            <a:ext cx="12003120" cy="13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gNoodleTitling"/>
              </a:rPr>
              <a:t>DESK.COM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IS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THE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ONLY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CUSTOMER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SERVICE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PRODUCT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BUILT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THE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GROUND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UP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SERVE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SOCIAL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CUSTOMER.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VIEW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RESPOND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YOUR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SOCIAL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CUSTOMERS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DIRECTLY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DESK.CO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Sources: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pewinternet.org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forrester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conecomm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oracle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touchagency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zendesk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americanexpress.co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liveops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crmidol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nmincite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inc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peppersandrogersgroup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maritzresearch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"/>
          <p:cNvSpPr/>
          <p:nvPr/>
        </p:nvSpPr>
        <p:spPr>
          <a:xfrm>
            <a:off x="696600" y="1676520"/>
            <a:ext cx="75902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NeueLT Std UltLt Ext"/>
              </a:rPr>
              <a:t>SIGN  UP  FOR  YOUR  FREE  14-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NeueLT Std UltLt Ext"/>
              </a:rPr>
              <a:t>TRIAL  OF  DESK.COM  TODAY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"/>
          <p:cNvSpPr/>
          <p:nvPr/>
        </p:nvSpPr>
        <p:spPr>
          <a:xfrm>
            <a:off x="4745160" y="2970360"/>
            <a:ext cx="4473720" cy="3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gNoodleTitling"/>
              </a:rPr>
              <a:t>CLICK  HERE  TO  GET 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486000" y="1486080"/>
            <a:ext cx="3917520" cy="22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62a4e"/>
                </a:solidFill>
                <a:latin typeface="HelveticaNeueLT Std UltLt Ext"/>
              </a:rPr>
              <a:t>WHO IS TH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763200" y="3429000"/>
            <a:ext cx="7239600" cy="22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elveticaNeueLT Std UltLt Ext"/>
              </a:rPr>
              <a:t>SOCIAL CUSTOME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1"/>
          <p:cNvSpPr/>
          <p:nvPr/>
        </p:nvSpPr>
        <p:spPr>
          <a:xfrm>
            <a:off x="763200" y="1028880"/>
            <a:ext cx="7043040" cy="16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62af"/>
                </a:solidFill>
                <a:latin typeface="HelveticaNeueLT Std UltLt Ext"/>
              </a:rPr>
              <a:t>THE  SOCIAL  CUSTOMER  TOU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62af"/>
                </a:solidFill>
                <a:latin typeface="HelveticaNeueLT Std UltLt Ext"/>
              </a:rPr>
              <a:t>NEARLY  EVERY  CORNER  OF  THE  GLO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"/>
          <p:cNvSpPr/>
          <p:nvPr/>
        </p:nvSpPr>
        <p:spPr>
          <a:xfrm>
            <a:off x="7357680" y="4203720"/>
            <a:ext cx="90432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ctr"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a62af"/>
                </a:solidFill>
                <a:latin typeface="BigNoodleTitling"/>
                <a:ea typeface="微软雅黑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2938320" y="3083040"/>
            <a:ext cx="518832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gNoodleTitling"/>
                <a:ea typeface="微软雅黑"/>
              </a:rPr>
              <a:t>AT  LEAST  </a:t>
            </a:r>
            <a:r>
              <a:rPr b="0" lang="en-US" sz="2800" spc="-1" strike="noStrike">
                <a:solidFill>
                  <a:srgbClr val="ba62af"/>
                </a:solidFill>
                <a:latin typeface="BigNoodleTitling"/>
                <a:ea typeface="微软雅黑"/>
              </a:rPr>
              <a:t>20%  </a:t>
            </a:r>
            <a:r>
              <a:rPr b="0" lang="en-US" sz="2800" spc="-1" strike="noStrike">
                <a:solidFill>
                  <a:srgbClr val="ffffff"/>
                </a:solidFill>
                <a:latin typeface="BigNoodleTitling"/>
                <a:ea typeface="微软雅黑"/>
              </a:rPr>
              <a:t>OF 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gNoodleTitling"/>
                <a:ea typeface="微软雅黑"/>
              </a:rPr>
              <a:t>WORLD’S 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gNoodleTitling"/>
                <a:ea typeface="微软雅黑"/>
              </a:rPr>
              <a:t>USE  SSOCIAL  MED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gNoodleTitling"/>
                <a:ea typeface="微软雅黑"/>
              </a:rPr>
              <a:t>THAT’S  MORE  THAN  HALF 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gNoodleTitling"/>
                <a:ea typeface="微软雅黑"/>
              </a:rPr>
              <a:t>THE  2.4  BILLION 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gNoodleTitling"/>
                <a:ea typeface="微软雅黑"/>
              </a:rPr>
              <a:t>USERS  ACROSS  THE 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781920" y="1009800"/>
            <a:ext cx="5513040" cy="8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62af"/>
                </a:solidFill>
                <a:latin typeface="HelveticaNeueLT Std UltLt Ext"/>
              </a:rPr>
              <a:t>TODAY’S  SOCIAL  CUSTOMER 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"/>
          <p:cNvSpPr/>
          <p:nvPr/>
        </p:nvSpPr>
        <p:spPr>
          <a:xfrm>
            <a:off x="-1499040" y="4978440"/>
            <a:ext cx="9164160" cy="15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…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WHICH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HAS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CHANGED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EVERY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BUSINESS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OWNERS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THOUGHT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THEY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KN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ABOUT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CUSTOMER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RELATIONSHIP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923760" y="3854520"/>
            <a:ext cx="236916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LISTENING  TO  PE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"/>
          <p:cNvSpPr/>
          <p:nvPr/>
        </p:nvSpPr>
        <p:spPr>
          <a:xfrm>
            <a:off x="3621240" y="3854520"/>
            <a:ext cx="18766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RESEAR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HEAVILY 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5738400" y="3854520"/>
            <a:ext cx="25441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POSTING  COMPL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ON  SOCIAL 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1"/>
          <p:cNvSpPr/>
          <p:nvPr/>
        </p:nvSpPr>
        <p:spPr>
          <a:xfrm>
            <a:off x="461520" y="1015920"/>
            <a:ext cx="4550040" cy="8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62af"/>
                </a:solidFill>
                <a:latin typeface="HelveticaNeueLT Std UltLt Ext"/>
              </a:rPr>
              <a:t>EXPECTATIONS  ARE  HI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5024880" y="533520"/>
            <a:ext cx="37652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oday's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g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o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onnectivity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i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solutions,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h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Social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demands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immediat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t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ny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hour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h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1820520" y="584280"/>
            <a:ext cx="2109960" cy="8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HelveticaNeueLT Std UltLt Ext"/>
              </a:rPr>
              <a:t>FACE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69480" y="2629080"/>
            <a:ext cx="2934360" cy="34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46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1" lang="en-US" sz="2000" spc="-1" strike="noStrike">
                <a:solidFill>
                  <a:srgbClr val="ba62af"/>
                </a:solidFill>
                <a:latin typeface="BigNoodleTitling"/>
              </a:rPr>
              <a:t>46%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ustomers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w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engag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with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b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via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Facebook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sol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a62af"/>
                </a:solidFill>
                <a:latin typeface="BigNoodleTitling"/>
              </a:rPr>
              <a:t>39%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hem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r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loo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giv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feedback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b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products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ser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"/>
          <p:cNvSpPr/>
          <p:nvPr/>
        </p:nvSpPr>
        <p:spPr>
          <a:xfrm>
            <a:off x="6126840" y="2629080"/>
            <a:ext cx="2148120" cy="23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29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a62af"/>
                </a:solidFill>
                <a:latin typeface="BigNoodleTitling"/>
              </a:rPr>
              <a:t>29%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expect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within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ho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3318480" y="2629080"/>
            <a:ext cx="2148120" cy="23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22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c4b3"/>
                </a:solidFill>
                <a:latin typeface="BigNoodleTitling"/>
              </a:rPr>
              <a:t>22%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expect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same-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respon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1"/>
          <p:cNvSpPr/>
          <p:nvPr/>
        </p:nvSpPr>
        <p:spPr>
          <a:xfrm>
            <a:off x="1915560" y="584280"/>
            <a:ext cx="2088720" cy="8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a62af"/>
                </a:solidFill>
                <a:latin typeface="HelveticaNeueLT Std UltLt Ext"/>
              </a:rPr>
              <a:t>TWIT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"/>
          <p:cNvSpPr/>
          <p:nvPr/>
        </p:nvSpPr>
        <p:spPr>
          <a:xfrm>
            <a:off x="6042960" y="1092240"/>
            <a:ext cx="2935440" cy="46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c4b3"/>
                </a:solidFill>
                <a:latin typeface="BigNoodleTitling"/>
              </a:rPr>
              <a:t>81%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Twitter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expect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same-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customer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respon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22%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Twitter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expect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within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ho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c4b3"/>
                </a:solidFill>
                <a:latin typeface="BigNoodleTitling"/>
              </a:rPr>
              <a:t>30%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Twitter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expect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within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min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"/>
          <p:cNvSpPr/>
          <p:nvPr/>
        </p:nvSpPr>
        <p:spPr>
          <a:xfrm>
            <a:off x="5180760" y="1523880"/>
            <a:ext cx="727200" cy="40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800" spc="-1" strike="noStrike">
                <a:solidFill>
                  <a:srgbClr val="ba62af"/>
                </a:solidFill>
                <a:latin typeface="BigNoodleTitling"/>
              </a:rPr>
              <a:t>8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62af"/>
                </a:solidFill>
                <a:latin typeface="BigNoodleTitling"/>
              </a:rPr>
              <a:t>2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62af"/>
                </a:solidFill>
                <a:latin typeface="BigNoodleTitling"/>
              </a:rPr>
              <a:t>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0" y="673200"/>
            <a:ext cx="9144000" cy="5499000"/>
          </a:xfrm>
          <a:prstGeom prst="rect">
            <a:avLst/>
          </a:prstGeom>
          <a:ln w="0">
            <a:noFill/>
          </a:ln>
        </p:spPr>
      </p:pic>
      <p:sp>
        <p:nvSpPr>
          <p:cNvPr id="85" name="TextBox 1"/>
          <p:cNvSpPr/>
          <p:nvPr/>
        </p:nvSpPr>
        <p:spPr>
          <a:xfrm>
            <a:off x="6144840" y="4000680"/>
            <a:ext cx="22838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ba62af"/>
                </a:solidFill>
                <a:latin typeface="BigNoodleTitling"/>
              </a:rPr>
              <a:t>80%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"/>
          <p:cNvSpPr/>
          <p:nvPr/>
        </p:nvSpPr>
        <p:spPr>
          <a:xfrm>
            <a:off x="3430080" y="4762440"/>
            <a:ext cx="236160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a62af"/>
                </a:solidFill>
                <a:latin typeface="微软雅黑"/>
              </a:rPr>
              <a:t>MO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ba62af"/>
                </a:solidFill>
                <a:latin typeface="微软雅黑"/>
              </a:rPr>
              <a:t>T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a62af"/>
                </a:solidFill>
                <a:latin typeface="微软雅黑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ba62af"/>
                </a:solidFill>
                <a:latin typeface="微软雅黑"/>
              </a:rPr>
              <a:t>MILL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ba62af"/>
                </a:solidFill>
                <a:latin typeface="微软雅黑"/>
              </a:rPr>
              <a:t>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view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weets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b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ustomer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every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we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6174720" y="3665520"/>
            <a:ext cx="234468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62af"/>
                </a:solidFill>
                <a:latin typeface="BigNoodleTitling"/>
              </a:rPr>
              <a:t>ROUGH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ustomer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weets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r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neg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ritical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n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"/>
          <p:cNvSpPr/>
          <p:nvPr/>
        </p:nvSpPr>
        <p:spPr>
          <a:xfrm>
            <a:off x="176760" y="838080"/>
            <a:ext cx="582660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SOCIAL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MEDIA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PRO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LT Std UltLt Ext"/>
              </a:rPr>
              <a:t>AN  INTIMATE  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LT Std UltLt Ext"/>
              </a:rPr>
              <a:t>AMONG  ALL  CONSU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chenkui</dc:creator>
  <dc:description/>
  <dc:language>en-US</dc:language>
  <cp:lastModifiedBy>陈魁chinakui</cp:lastModifiedBy>
  <dcterms:modified xsi:type="dcterms:W3CDTF">2015-01-06T16:19:00Z</dcterms:modified>
  <cp:revision>2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