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5AF-BC16-4CD8-9961-7E7C5CB3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0A0-F42B-4DB8-881B-05B8A183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48D-F582-4D8D-B249-F9A07866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836-B185-4385-8BBE-2D7590C4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674E-B987-4A69-AAF1-0F024E0F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5DA9-6548-4415-8CFF-2AC5D17C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FB47-E56B-4C62-AEAA-2562F909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9E89-E975-4F3B-842F-CCBEC5EB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CCBE-6B10-493C-9E6A-9B425DBC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09E3-8B90-4A35-B7CC-03881EC8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022F-EC82-4FF7-B8DE-332FA5EE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148-5591-4207-857E-0C7DEA67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896E-15B6-4A14-8899-72D45DB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C9F1-1460-4166-9F52-FB5BF3C6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74D9-8128-46B0-BEBE-A70213B4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2291-AD60-419F-A3EB-1DBE9901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BA11-1CD8-4757-B7DA-98A36A38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233-57D5-4D71-92E2-0D8A4883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BEB-FA8B-4D6B-89D4-040CAFE6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537-2D4E-4A3A-93FD-1C8E0F60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E7D-0E78-4D21-8737-BC08BCDF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1AB-BFD2-421D-9844-00B83469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5E7-34E0-47F9-81CA-1E72A8E9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6E0-0356-4CBD-9024-22168F2C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9535-DC09-4969-ABEC-7193B5A090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74AD-7573-43D1-B8DB-2C4D25D1D0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请在此处填入你需要的内容。请在此处填入你需要的内容。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9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47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97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47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深夜列车</dc:creator>
  <dc:description/>
  <cp:keywords/>
  <dc:language>en-US</dc:language>
  <cp:lastModifiedBy>Administrator</cp:lastModifiedBy>
  <dcterms:modified xsi:type="dcterms:W3CDTF">2016-07-26T01:18:06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