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9CA-50DB-48DD-B727-022F924E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5D4-8C0C-464F-B106-66D46807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BE4-20EE-4C84-8F49-CB59F3EC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58C-DA45-4C36-98F4-58DB73F1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EBC9-B5FD-423C-81FB-32B34934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5F54-15C6-4D43-BD95-42F0F412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33A4-3F7F-46B3-8E83-FF0F099C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72BE-E8FF-4448-8DFF-F8827D3C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C205-A66B-461E-9ED6-F80D15B8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A64C-5E26-47E2-A7DD-0784F37F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7960-3D70-4F13-BD3B-A7CBF489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747-98C4-4539-8C21-B2C289C3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947A-96C0-4AFC-93C3-BBDBB910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BEA6-857E-432F-B160-C0CBDBD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7FF2-6CB9-4EDE-9337-3E8A7BEB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A17C-9C58-4E66-80A7-FF216ACE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9C97-6425-48EB-B2F0-9FE1C48D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F15-E401-41AC-9DA0-93D5CD22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4A2-EA1C-43AD-ABDC-D9C8458C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7FB-341D-4BF7-B99B-7564DA88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F6A-9330-4881-8355-E0FD9758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3C6-5D61-426D-AD6D-D41ED923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251-3FF8-43B6-9BCF-CA320A27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4B2-1233-4C94-8E7C-B75AF5D5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381B-6786-4D01-AEA9-0ECC714287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4B37-0E4A-4C17-9F2C-6F10891164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请在此处填入你需要的内容。请在此处填入你需要的内容。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9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47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97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47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深夜列车</dc:creator>
  <dc:description/>
  <cp:keywords/>
  <dc:language>en-US</dc:language>
  <cp:lastModifiedBy>Administrator</cp:lastModifiedBy>
  <dcterms:modified xsi:type="dcterms:W3CDTF">2016-07-26T01:18:06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