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E7E75-7118-433D-8D07-EFCE159BBD7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56DA3-080F-48CA-AD20-CFE1D6693C16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65CC-F2B3-4570-A146-57EBF596C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95B81-D2AB-4652-9861-42F38B26D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48A3-606D-4E35-B98F-C5B2E6D20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5B111-E6A0-4C9E-AAD9-346F0C5C8C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53727-F8F6-472C-96A1-1580E6B83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E756A-771A-4383-A770-AC7A3B6BF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63EE4-5A4B-44FB-8ED5-F100FDFDED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A39E-720C-43FD-A9BB-113AEA3810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41BD4-B348-4170-870A-40587E92B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3D8D4-CC1E-454B-B443-D36B8DB79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7BDD-9074-43BD-8A95-DDE99D77E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59DC4-E20B-40C2-9F3B-6ED336489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450E-ABCB-4796-B813-CB2997AA7D65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F6791-9FC8-46A8-A21E-EFF4FF66766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9744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2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2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1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487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空心弧 3"/>
          <p:cNvSpPr/>
          <p:nvPr/>
        </p:nvSpPr>
        <p:spPr>
          <a:xfrm rot="5400000">
            <a:off x="940680" y="1736640"/>
            <a:ext cx="1098720" cy="109836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空心弧 6"/>
          <p:cNvSpPr/>
          <p:nvPr/>
        </p:nvSpPr>
        <p:spPr>
          <a:xfrm rot="5400000">
            <a:off x="2158920" y="3219120"/>
            <a:ext cx="1098360" cy="109872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720"/>
              <a:gd name="textAreaBottom" fmla="*/ 392400 h 109872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空心弧 8"/>
          <p:cNvSpPr/>
          <p:nvPr/>
        </p:nvSpPr>
        <p:spPr>
          <a:xfrm rot="5400000">
            <a:off x="3384360" y="4718160"/>
            <a:ext cx="1098360" cy="10983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6"/>
          <p:cNvSpPr/>
          <p:nvPr/>
        </p:nvSpPr>
        <p:spPr>
          <a:xfrm>
            <a:off x="4800600" y="61920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8360 w 109440"/>
              <a:gd name="textAreaRight" fmla="*/ 91080 w 109440"/>
              <a:gd name="textAreaTop" fmla="*/ 100080 h 590400"/>
              <a:gd name="textAreaBottom" fmla="*/ 49032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8000 w 107640"/>
              <a:gd name="textAreaRight" fmla="*/ 89640 w 107640"/>
              <a:gd name="textAreaTop" fmla="*/ 100440 h 592200"/>
              <a:gd name="textAreaBottom" fmla="*/ 49176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8360 w 108000"/>
              <a:gd name="textAreaRight" fmla="*/ 89640 w 108000"/>
              <a:gd name="textAreaTop" fmla="*/ 85320 h 503280"/>
              <a:gd name="textAreaBottom" fmla="*/ 417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8360 w 109440"/>
              <a:gd name="textAreaRight" fmla="*/ 91080 w 109440"/>
              <a:gd name="textAreaTop" fmla="*/ 85680 h 504720"/>
              <a:gd name="textAreaBottom" fmla="*/ 4190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6520 w 354240"/>
              <a:gd name="textAreaRight" fmla="*/ 297720 w 354240"/>
              <a:gd name="textAreaTop" fmla="*/ 34200 h 216000"/>
              <a:gd name="textAreaBottom" fmla="*/ 1818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99" y="21600"/>
                </a:lnTo>
                <a:lnTo>
                  <a:pt x="1830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>
            <a:off x="6529320" y="789120"/>
            <a:ext cx="2392560" cy="2989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>
            <a:off x="6608880" y="878040"/>
            <a:ext cx="2247840" cy="2809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17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4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8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8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27" descr=""/>
          <p:cNvPicPr/>
          <p:nvPr/>
        </p:nvPicPr>
        <p:blipFill>
          <a:blip r:embed="rId4"/>
          <a:stretch/>
        </p:blipFill>
        <p:spPr>
          <a:xfrm>
            <a:off x="1225440" y="4054320"/>
            <a:ext cx="308448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任意多边形 20"/>
          <p:cNvSpPr/>
          <p:nvPr/>
        </p:nvSpPr>
        <p:spPr>
          <a:xfrm flipH="1">
            <a:off x="1628640" y="3627360"/>
            <a:ext cx="3230640" cy="1990800"/>
          </a:xfrm>
          <a:custGeom>
            <a:avLst/>
            <a:gdLst>
              <a:gd name="textAreaLeft" fmla="*/ 360 w 3230640"/>
              <a:gd name="textAreaRight" fmla="*/ 3231360 w 323064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21"/>
          <p:cNvSpPr/>
          <p:nvPr/>
        </p:nvSpPr>
        <p:spPr>
          <a:xfrm>
            <a:off x="5105520" y="3941640"/>
            <a:ext cx="2354040" cy="1451160"/>
          </a:xfrm>
          <a:custGeom>
            <a:avLst/>
            <a:gdLst>
              <a:gd name="textAreaLeft" fmla="*/ 0 w 2354040"/>
              <a:gd name="textAreaRight" fmla="*/ 2354400 w 235404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9"/>
          <p:cNvSpPr/>
          <p:nvPr/>
        </p:nvSpPr>
        <p:spPr>
          <a:xfrm flipH="1">
            <a:off x="3000240" y="2781360"/>
            <a:ext cx="3229200" cy="1992240"/>
          </a:xfrm>
          <a:custGeom>
            <a:avLst/>
            <a:gdLst>
              <a:gd name="textAreaLeft" fmla="*/ 360 w 3229200"/>
              <a:gd name="textAreaRight" fmla="*/ 3229920 w 3229200"/>
              <a:gd name="textAreaTop" fmla="*/ 0 h 1992240"/>
              <a:gd name="textAreaBottom" fmla="*/ 1992600 h 19922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 flipH="1">
            <a:off x="1525680" y="1467000"/>
            <a:ext cx="1612800" cy="995040"/>
          </a:xfrm>
          <a:custGeom>
            <a:avLst/>
            <a:gdLst>
              <a:gd name="textAreaLeft" fmla="*/ 360 w 1612800"/>
              <a:gd name="textAreaRight" fmla="*/ 1613520 w 161280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0"/>
          <p:cNvSpPr/>
          <p:nvPr/>
        </p:nvSpPr>
        <p:spPr>
          <a:xfrm>
            <a:off x="-511200" y="1119240"/>
            <a:ext cx="1611360" cy="993600"/>
          </a:xfrm>
          <a:custGeom>
            <a:avLst/>
            <a:gdLst>
              <a:gd name="textAreaLeft" fmla="*/ 0 w 1611360"/>
              <a:gd name="textAreaRight" fmla="*/ 1611720 w 16113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9"/>
          <p:cNvSpPr/>
          <p:nvPr/>
        </p:nvSpPr>
        <p:spPr>
          <a:xfrm>
            <a:off x="-169920" y="1467000"/>
            <a:ext cx="2502000" cy="1544400"/>
          </a:xfrm>
          <a:custGeom>
            <a:avLst/>
            <a:gdLst>
              <a:gd name="textAreaLeft" fmla="*/ 0 w 2502000"/>
              <a:gd name="textAreaRight" fmla="*/ 2502360 w 2502000"/>
              <a:gd name="textAreaTop" fmla="*/ 0 h 1544400"/>
              <a:gd name="textAreaBottom" fmla="*/ 1544760 h 15444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14"/>
          <p:cNvSpPr/>
          <p:nvPr/>
        </p:nvSpPr>
        <p:spPr>
          <a:xfrm flipH="1">
            <a:off x="365040" y="5175360"/>
            <a:ext cx="2230560" cy="1374840"/>
          </a:xfrm>
          <a:custGeom>
            <a:avLst/>
            <a:gdLst>
              <a:gd name="textAreaLeft" fmla="*/ 360 w 2230560"/>
              <a:gd name="textAreaRight" fmla="*/ 2231280 w 223056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13"/>
          <p:cNvSpPr/>
          <p:nvPr/>
        </p:nvSpPr>
        <p:spPr>
          <a:xfrm flipH="1">
            <a:off x="932760" y="5175360"/>
            <a:ext cx="5457960" cy="336528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3365280"/>
              <a:gd name="textAreaBottom" fmla="*/ 3365640 h 33652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15"/>
          <p:cNvSpPr/>
          <p:nvPr/>
        </p:nvSpPr>
        <p:spPr>
          <a:xfrm flipH="1">
            <a:off x="5508000" y="6006960"/>
            <a:ext cx="1763640" cy="1087560"/>
          </a:xfrm>
          <a:custGeom>
            <a:avLst/>
            <a:gdLst>
              <a:gd name="textAreaLeft" fmla="*/ -360 w 1763640"/>
              <a:gd name="textAreaRight" fmla="*/ 1763640 w 176364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16"/>
          <p:cNvSpPr/>
          <p:nvPr/>
        </p:nvSpPr>
        <p:spPr>
          <a:xfrm>
            <a:off x="6994440" y="5657760"/>
            <a:ext cx="2791080" cy="1722600"/>
          </a:xfrm>
          <a:custGeom>
            <a:avLst/>
            <a:gdLst>
              <a:gd name="textAreaLeft" fmla="*/ 0 w 2791080"/>
              <a:gd name="textAreaRight" fmla="*/ 2791440 w 2791080"/>
              <a:gd name="textAreaTop" fmla="*/ 0 h 1722600"/>
              <a:gd name="textAreaBottom" fmla="*/ 1722960 h 1722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3"/>
          <p:cNvSpPr/>
          <p:nvPr/>
        </p:nvSpPr>
        <p:spPr>
          <a:xfrm flipH="1">
            <a:off x="10779840" y="2506680"/>
            <a:ext cx="1411560" cy="869760"/>
          </a:xfrm>
          <a:custGeom>
            <a:avLst/>
            <a:gdLst>
              <a:gd name="textAreaLeft" fmla="*/ -360 w 1411560"/>
              <a:gd name="textAreaRight" fmla="*/ 1411560 w 14115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4"/>
          <p:cNvSpPr/>
          <p:nvPr/>
        </p:nvSpPr>
        <p:spPr>
          <a:xfrm>
            <a:off x="8996400" y="2200320"/>
            <a:ext cx="1411200" cy="86976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25"/>
          <p:cNvSpPr/>
          <p:nvPr/>
        </p:nvSpPr>
        <p:spPr>
          <a:xfrm>
            <a:off x="9294840" y="2506680"/>
            <a:ext cx="2192400" cy="135108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58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0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146" dur="50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148" dur="50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150" dur="50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52" dur="50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154" dur="50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56" dur="50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158" dur="50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160" dur="50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162" dur="50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164" dur="4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6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65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1" descr=""/>
          <p:cNvPicPr/>
          <p:nvPr/>
        </p:nvPicPr>
        <p:blipFill>
          <a:blip r:embed="rId1">
            <a:biLevel thresh="50000"/>
          </a:blip>
          <a:srcRect l="17428" t="9335" r="20063" b="2298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63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24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56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88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183" dur="15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185" dur="1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77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0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nodeType="clickEffect" fill="hold">
                      <p:stCondLst>
                        <p:cond delay="0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9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1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1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5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nodeType="clickEffect" fill="hold">
                      <p:stCondLst>
                        <p:cond delay="0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nodeType="clickEffect" fill="hold">
                      <p:stCondLst>
                        <p:cond delay="0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9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9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7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1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5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9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5"/>
          <p:cNvGrpSpPr/>
          <p:nvPr/>
        </p:nvGrpSpPr>
        <p:grpSpPr>
          <a:xfrm>
            <a:off x="752400" y="1268280"/>
            <a:ext cx="1059480" cy="4686480"/>
            <a:chOff x="752400" y="1268280"/>
            <a:chExt cx="1059480" cy="4686480"/>
          </a:xfrm>
        </p:grpSpPr>
        <p:sp>
          <p:nvSpPr>
            <p:cNvPr id="347" name="直接连接符 6"/>
            <p:cNvSpPr/>
            <p:nvPr/>
          </p:nvSpPr>
          <p:spPr>
            <a:xfrm>
              <a:off x="752400" y="1268280"/>
              <a:ext cx="1059480" cy="46864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9"/>
          <p:cNvGrpSpPr/>
          <p:nvPr/>
        </p:nvGrpSpPr>
        <p:grpSpPr>
          <a:xfrm>
            <a:off x="2155680" y="1268280"/>
            <a:ext cx="1059480" cy="2976840"/>
            <a:chOff x="2155680" y="1268280"/>
            <a:chExt cx="1059480" cy="2976840"/>
          </a:xfrm>
        </p:grpSpPr>
        <p:sp>
          <p:nvSpPr>
            <p:cNvPr id="350" name="直接连接符 10"/>
            <p:cNvSpPr/>
            <p:nvPr/>
          </p:nvSpPr>
          <p:spPr>
            <a:xfrm>
              <a:off x="2155680" y="1268280"/>
              <a:ext cx="1059480" cy="29768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13"/>
          <p:cNvGrpSpPr/>
          <p:nvPr/>
        </p:nvGrpSpPr>
        <p:grpSpPr>
          <a:xfrm>
            <a:off x="3684600" y="1268280"/>
            <a:ext cx="1059480" cy="3706920"/>
            <a:chOff x="3684600" y="1268280"/>
            <a:chExt cx="1059480" cy="3706920"/>
          </a:xfrm>
        </p:grpSpPr>
        <p:sp>
          <p:nvSpPr>
            <p:cNvPr id="353" name="直接连接符 14"/>
            <p:cNvSpPr/>
            <p:nvPr/>
          </p:nvSpPr>
          <p:spPr>
            <a:xfrm>
              <a:off x="3684600" y="1268280"/>
              <a:ext cx="1059480" cy="37069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17"/>
          <p:cNvGrpSpPr/>
          <p:nvPr/>
        </p:nvGrpSpPr>
        <p:grpSpPr>
          <a:xfrm>
            <a:off x="5079960" y="1279440"/>
            <a:ext cx="1059480" cy="2502000"/>
            <a:chOff x="5079960" y="1279440"/>
            <a:chExt cx="1059480" cy="2502000"/>
          </a:xfrm>
        </p:grpSpPr>
        <p:sp>
          <p:nvSpPr>
            <p:cNvPr id="356" name="直接连接符 18"/>
            <p:cNvSpPr/>
            <p:nvPr/>
          </p:nvSpPr>
          <p:spPr>
            <a:xfrm>
              <a:off x="5079960" y="1279440"/>
              <a:ext cx="1059480" cy="250200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nodeType="clickEffect" fill="hold">
                      <p:stCondLst>
                        <p:cond delay="0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2" dur="19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6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9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6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9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0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70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7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nodeType="clickEffect" fill="hold">
                      <p:stCondLst>
                        <p:cond delay="0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1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空心弧 11"/>
          <p:cNvSpPr/>
          <p:nvPr/>
        </p:nvSpPr>
        <p:spPr>
          <a:xfrm rot="5400000">
            <a:off x="8609760" y="3310560"/>
            <a:ext cx="2555640" cy="2557440"/>
          </a:xfrm>
          <a:custGeom>
            <a:avLst/>
            <a:gdLst>
              <a:gd name="textAreaLeft" fmla="*/ 0 w 2555640"/>
              <a:gd name="textAreaRight" fmla="*/ 2556000 w 2555640"/>
              <a:gd name="textAreaTop" fmla="*/ 0 h 2557440"/>
              <a:gd name="textAreaBottom" fmla="*/ 913320 h 2557440"/>
            </a:gdLst>
            <a:ahLst/>
            <a:rect l="textAreaLeft" t="textAreaTop" r="textAreaRight" b="textAreaBottom"/>
            <a:pathLst>
              <a:path w="21600" h="21600">
                <a:moveTo>
                  <a:pt x="2527" y="10800"/>
                </a:moveTo>
                <a:cubicBezTo>
                  <a:pt x="2527" y="6230"/>
                  <a:pt x="6230" y="2527"/>
                  <a:pt x="10800" y="2527"/>
                </a:cubicBezTo>
                <a:cubicBezTo>
                  <a:pt x="15369" y="2526"/>
                  <a:pt x="19072" y="6230"/>
                  <a:pt x="19073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2527" y="108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14"/>
          <p:cNvSpPr/>
          <p:nvPr/>
        </p:nvSpPr>
        <p:spPr>
          <a:xfrm>
            <a:off x="853524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Broadway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nodeType="clickEffect" fill="hold">
                      <p:stCondLst>
                        <p:cond delay="0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81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82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82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0" dur="indefinite" restart="never" nodeType="tmRoot">
          <p:childTnLst>
            <p:seq>
              <p:cTn id="1851" dur="indefinite" nodeType="mainSeq">
                <p:childTnLst>
                  <p:par>
                    <p:cTn id="1852" nodeType="clickEffect" fill="hold">
                      <p:stCondLst>
                        <p:cond delay="0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9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9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6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2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6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0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4"/>
          <p:cNvGrpSpPr/>
          <p:nvPr/>
        </p:nvGrpSpPr>
        <p:grpSpPr>
          <a:xfrm>
            <a:off x="6606000" y="4605480"/>
            <a:ext cx="2600640" cy="459720"/>
            <a:chOff x="6606000" y="4605480"/>
            <a:chExt cx="2600640" cy="459720"/>
          </a:xfrm>
        </p:grpSpPr>
        <p:sp>
          <p:nvSpPr>
            <p:cNvPr id="69" name="文本框 5"/>
            <p:cNvSpPr/>
            <p:nvPr/>
          </p:nvSpPr>
          <p:spPr>
            <a:xfrm>
              <a:off x="6606000" y="460548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3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05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custGeom>
              <a:avLst/>
              <a:gdLst>
                <a:gd name="textAreaLeft" fmla="*/ 254160 w 1736640"/>
                <a:gd name="textAreaRight" fmla="*/ 1482480 w 1736640"/>
                <a:gd name="textAreaTop" fmla="*/ 254160 h 1736640"/>
                <a:gd name="textAreaBottom" fmla="*/ 148248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383" y="10800"/>
                  </a:moveTo>
                  <a:cubicBezTo>
                    <a:pt x="2383" y="15449"/>
                    <a:pt x="6151" y="19217"/>
                    <a:pt x="10800" y="19217"/>
                  </a:cubicBezTo>
                  <a:cubicBezTo>
                    <a:pt x="15449" y="19217"/>
                    <a:pt x="19217" y="15449"/>
                    <a:pt x="19217" y="10800"/>
                  </a:cubicBezTo>
                  <a:cubicBezTo>
                    <a:pt x="19217" y="6151"/>
                    <a:pt x="15449" y="2383"/>
                    <a:pt x="10800" y="2383"/>
                  </a:cubicBezTo>
                  <a:cubicBezTo>
                    <a:pt x="6151" y="2383"/>
                    <a:pt x="2383" y="6151"/>
                    <a:pt x="2383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08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custGeom>
              <a:avLst/>
              <a:gdLst>
                <a:gd name="textAreaLeft" fmla="*/ 388440 w 2654280"/>
                <a:gd name="textAreaRight" fmla="*/ 2265840 w 2654280"/>
                <a:gd name="textAreaTop" fmla="*/ 388440 h 2654280"/>
                <a:gd name="textAreaBottom" fmla="*/ 2265840 h 265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450" y="10800"/>
                  </a:moveTo>
                  <a:cubicBezTo>
                    <a:pt x="2450" y="15412"/>
                    <a:pt x="6188" y="19150"/>
                    <a:pt x="10800" y="19150"/>
                  </a:cubicBezTo>
                  <a:cubicBezTo>
                    <a:pt x="15412" y="19150"/>
                    <a:pt x="19150" y="15412"/>
                    <a:pt x="19150" y="10800"/>
                  </a:cubicBezTo>
                  <a:cubicBezTo>
                    <a:pt x="19150" y="6188"/>
                    <a:pt x="15412" y="2450"/>
                    <a:pt x="10800" y="2450"/>
                  </a:cubicBezTo>
                  <a:cubicBezTo>
                    <a:pt x="6188" y="2450"/>
                    <a:pt x="2450" y="6188"/>
                    <a:pt x="245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nodeType="clickEffect" fill="hold">
                      <p:stCondLst>
                        <p:cond delay="0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5" dur="indefinite" restart="never" nodeType="tmRoot">
          <p:childTnLst>
            <p:seq>
              <p:cTn id="1996" dur="indefinite" nodeType="mainSeq">
                <p:childTnLst>
                  <p:par>
                    <p:cTn id="1997" nodeType="clickEffect" fill="hold">
                      <p:stCondLst>
                        <p:cond delay="0"/>
                      </p:stCondLst>
                      <p:childTnLst>
                        <p:par>
                          <p:cTn id="1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椭圆 6"/>
          <p:cNvSpPr/>
          <p:nvPr/>
        </p:nvSpPr>
        <p:spPr>
          <a:xfrm>
            <a:off x="5958000" y="-992160"/>
            <a:ext cx="276120" cy="274680"/>
          </a:xfrm>
          <a:prstGeom prst="ellipse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7"/>
          <p:cNvSpPr/>
          <p:nvPr/>
        </p:nvSpPr>
        <p:spPr>
          <a:xfrm>
            <a:off x="5055120" y="3090960"/>
            <a:ext cx="14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8"/>
          <p:cNvSpPr/>
          <p:nvPr/>
        </p:nvSpPr>
        <p:spPr>
          <a:xfrm>
            <a:off x="6325200" y="3089160"/>
            <a:ext cx="80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6"/>
          <p:cNvSpPr/>
          <p:nvPr/>
        </p:nvSpPr>
        <p:spPr>
          <a:xfrm>
            <a:off x="4853160" y="0"/>
            <a:ext cx="2485800" cy="1768320"/>
          </a:xfrm>
          <a:prstGeom prst="rect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5"/>
          <p:cNvSpPr/>
          <p:nvPr/>
        </p:nvSpPr>
        <p:spPr>
          <a:xfrm>
            <a:off x="5016600" y="1768320"/>
            <a:ext cx="21398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椭圆 20"/>
          <p:cNvSpPr/>
          <p:nvPr/>
        </p:nvSpPr>
        <p:spPr>
          <a:xfrm>
            <a:off x="4946760" y="1700280"/>
            <a:ext cx="164880" cy="164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21"/>
          <p:cNvSpPr/>
          <p:nvPr/>
        </p:nvSpPr>
        <p:spPr>
          <a:xfrm>
            <a:off x="5076000" y="3089160"/>
            <a:ext cx="20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椭圆 39"/>
          <p:cNvSpPr/>
          <p:nvPr/>
        </p:nvSpPr>
        <p:spPr>
          <a:xfrm>
            <a:off x="6006960" y="3365640"/>
            <a:ext cx="169920" cy="16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组合 8"/>
          <p:cNvGrpSpPr/>
          <p:nvPr/>
        </p:nvGrpSpPr>
        <p:grpSpPr>
          <a:xfrm>
            <a:off x="6574680" y="2839680"/>
            <a:ext cx="702720" cy="696600"/>
            <a:chOff x="6574680" y="2839680"/>
            <a:chExt cx="702720" cy="696600"/>
          </a:xfrm>
        </p:grpSpPr>
        <p:sp>
          <p:nvSpPr>
            <p:cNvPr id="450" name="任意多边形 5"/>
            <p:cNvSpPr/>
            <p:nvPr/>
          </p:nvSpPr>
          <p:spPr>
            <a:xfrm rot="1986600">
              <a:off x="6774480" y="2880000"/>
              <a:ext cx="214920" cy="22248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任意多边形 40"/>
            <p:cNvSpPr/>
            <p:nvPr/>
          </p:nvSpPr>
          <p:spPr>
            <a:xfrm flipH="1" rot="1986600">
              <a:off x="7018920" y="3039480"/>
              <a:ext cx="214920" cy="222480"/>
            </a:xfrm>
            <a:custGeom>
              <a:avLst/>
              <a:gdLst>
                <a:gd name="textAreaLeft" fmla="*/ -360 w 214920"/>
                <a:gd name="textAreaRight" fmla="*/ 21492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任意多边形 41"/>
            <p:cNvSpPr/>
            <p:nvPr/>
          </p:nvSpPr>
          <p:spPr>
            <a:xfrm rot="18187200">
              <a:off x="6618600" y="3112920"/>
              <a:ext cx="215280" cy="22212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任意多边形 42"/>
            <p:cNvSpPr/>
            <p:nvPr/>
          </p:nvSpPr>
          <p:spPr>
            <a:xfrm flipH="1" rot="7386600">
              <a:off x="6866280" y="3274200"/>
              <a:ext cx="215280" cy="222120"/>
            </a:xfrm>
            <a:custGeom>
              <a:avLst/>
              <a:gdLst>
                <a:gd name="textAreaLeft" fmla="*/ 360 w 215280"/>
                <a:gd name="textAreaRight" fmla="*/ 21600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052 0.57037 E">
                                      <p:cBhvr>
                                        <p:cTn id="2084" dur="18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5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086" dur="350" fill="hold"/>
                                        <p:tgtEl>
                                          <p:spTgt spid="441"/>
                                        </p:tgtEl>
                                      </p:cBhvr>
                                      <p:to x="5500000" y="5500000"/>
                                    </p:animScale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9" dur="3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3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nodeType="withEffect" fill="hold" presetClass="exit" presetID="22" presetSubtype="2">
                                  <p:stCondLst>
                                    <p:cond delay="5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00" dur="7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23" presetSubtype="16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6" nodeType="withEffect" fill="hold" presetClass="path" presetID="51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8.33333E-007 -0.00255 C -0.05833 0.00023 -0.10911 0.00787 -0.16536 0.04537 C -0.20677 0.07129 -0.22721 0.10208 -0.22773 0.12453 C -0.22773 0.15046 -0.1888 0.20486 -0.15299 0.22592 C -0.10781 0.25208 -0.10586 0.24907 -8.33333E-007 0.25856 E">
                                      <p:cBhvr>
                                        <p:cTn id="2107" dur="5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8" nodeType="withEffect" fill="hold" presetClass="path" presetID="35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5.55112E-017 0.26111 L 0.61797 0.25741 E">
                                      <p:cBhvr>
                                        <p:cTn id="2109" dur="3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38">
                                  <p:stCondLst>
                                    <p:cond delay="4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xit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1">
                                  <p:stCondLst>
                                    <p:cond delay="5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3" nodeType="withEffect" fill="hold" presetClass="emph" presetID="34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4.16667E-007 -1.85185E-006 L 4.16667E-007 -0.06481 E">
                                      <p:cBhvr>
                                        <p:cTn id="2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mph" presetID="26">
                                  <p:stCondLst>
                                    <p:cond delay="7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4" dur="250" autoRev="1" fill="hold"/>
                                        <p:tgtEl>
                                          <p:spTgt spid="4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35" nodeType="withEffect" fill="hold" presetClass="exit" presetID="6" presetSubtype="16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6" dur="3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nodeType="withEffect" fill="hold" presetClass="exit" presetID="22" presetSubtype="2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9" dur="2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path" presetID="35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6.25E-007 7.40741E-007 L -0.03997 7.40741E-007 E">
                                      <p:cBhvr>
                                        <p:cTn id="2147" dur="7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8" nodeType="withEffect" fill="hold" presetClass="path" presetID="63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6.25E-007 7.40741E-007 L 0.52357 7.40741E-007 E">
                                      <p:cBhvr>
                                        <p:cTn id="2149" dur="3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3"/>
          <p:cNvSpPr/>
          <p:nvPr/>
        </p:nvSpPr>
        <p:spPr>
          <a:xfrm>
            <a:off x="44892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77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0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3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17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1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18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9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6"/>
          <p:cNvSpPr/>
          <p:nvPr/>
        </p:nvSpPr>
        <p:spPr>
          <a:xfrm>
            <a:off x="3952800" y="812880"/>
            <a:ext cx="3797280" cy="3797280"/>
          </a:xfrm>
          <a:custGeom>
            <a:avLst/>
            <a:gdLst>
              <a:gd name="textAreaLeft" fmla="*/ 555840 w 3797280"/>
              <a:gd name="textAreaRight" fmla="*/ 3241440 w 3797280"/>
              <a:gd name="textAreaTop" fmla="*/ 555840 h 3797280"/>
              <a:gd name="textAreaBottom" fmla="*/ 3241440 h 379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566" y="10800"/>
                </a:moveTo>
                <a:cubicBezTo>
                  <a:pt x="1566" y="15900"/>
                  <a:pt x="5700" y="20034"/>
                  <a:pt x="10800" y="20034"/>
                </a:cubicBezTo>
                <a:cubicBezTo>
                  <a:pt x="15900" y="20034"/>
                  <a:pt x="20034" y="15900"/>
                  <a:pt x="20034" y="10800"/>
                </a:cubicBezTo>
                <a:cubicBezTo>
                  <a:pt x="20034" y="5700"/>
                  <a:pt x="15900" y="1566"/>
                  <a:pt x="10800" y="1566"/>
                </a:cubicBezTo>
                <a:cubicBezTo>
                  <a:pt x="5700" y="1566"/>
                  <a:pt x="1566" y="5700"/>
                  <a:pt x="1566" y="10800"/>
                </a:cubicBezTo>
                <a:close/>
              </a:path>
            </a:pathLst>
          </a:cu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同心圆 7"/>
          <p:cNvSpPr/>
          <p:nvPr/>
        </p:nvSpPr>
        <p:spPr>
          <a:xfrm>
            <a:off x="4667400" y="1514520"/>
            <a:ext cx="2395440" cy="2394000"/>
          </a:xfrm>
          <a:custGeom>
            <a:avLst/>
            <a:gdLst>
              <a:gd name="textAreaLeft" fmla="*/ 350640 w 2395440"/>
              <a:gd name="textAreaRight" fmla="*/ 2044800 w 2395440"/>
              <a:gd name="textAreaTop" fmla="*/ 350280 h 2394000"/>
              <a:gd name="textAreaBottom" fmla="*/ 2043720 h 239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60" y="10800"/>
                </a:moveTo>
                <a:cubicBezTo>
                  <a:pt x="3460" y="14854"/>
                  <a:pt x="6746" y="18140"/>
                  <a:pt x="10800" y="18140"/>
                </a:cubicBezTo>
                <a:cubicBezTo>
                  <a:pt x="14854" y="18140"/>
                  <a:pt x="18140" y="14854"/>
                  <a:pt x="18140" y="10800"/>
                </a:cubicBezTo>
                <a:cubicBezTo>
                  <a:pt x="18140" y="6746"/>
                  <a:pt x="14854" y="3460"/>
                  <a:pt x="10800" y="3460"/>
                </a:cubicBezTo>
                <a:cubicBezTo>
                  <a:pt x="6746" y="3460"/>
                  <a:pt x="3460" y="6746"/>
                  <a:pt x="3460" y="10800"/>
                </a:cubicBezTo>
                <a:close/>
              </a:path>
            </a:pathLst>
          </a:cu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同心圆 9"/>
          <p:cNvSpPr/>
          <p:nvPr/>
        </p:nvSpPr>
        <p:spPr>
          <a:xfrm>
            <a:off x="3808440" y="655560"/>
            <a:ext cx="4113360" cy="4111560"/>
          </a:xfrm>
          <a:custGeom>
            <a:avLst/>
            <a:gdLst>
              <a:gd name="textAreaLeft" fmla="*/ 602280 w 4113360"/>
              <a:gd name="textAreaRight" fmla="*/ 3511080 w 4113360"/>
              <a:gd name="textAreaTop" fmla="*/ 601920 h 4111560"/>
              <a:gd name="textAreaBottom" fmla="*/ 3509640 h 411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11" y="10800"/>
                </a:moveTo>
                <a:cubicBezTo>
                  <a:pt x="811" y="16317"/>
                  <a:pt x="5283" y="20789"/>
                  <a:pt x="10800" y="20789"/>
                </a:cubicBezTo>
                <a:cubicBezTo>
                  <a:pt x="16317" y="20789"/>
                  <a:pt x="20789" y="16317"/>
                  <a:pt x="20789" y="10800"/>
                </a:cubicBezTo>
                <a:cubicBezTo>
                  <a:pt x="20789" y="5283"/>
                  <a:pt x="16317" y="811"/>
                  <a:pt x="10800" y="811"/>
                </a:cubicBezTo>
                <a:cubicBezTo>
                  <a:pt x="5283" y="811"/>
                  <a:pt x="811" y="5283"/>
                  <a:pt x="811" y="10800"/>
                </a:cubicBez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8969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907056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35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7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9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cp:keywords/>
  <dc:language>en-US</dc:language>
  <cp:lastModifiedBy>微软用户</cp:lastModifiedBy>
  <dcterms:modified xsi:type="dcterms:W3CDTF">2014-11-09T03:22:05Z</dcterms:modified>
  <cp:revision>9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