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F92E-8A96-44A6-AD90-FED66F0BC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B36A-CC6D-4FD8-B219-62647935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6ED2-83D5-4778-9A40-5468041BC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5850-E0B0-40D5-9CC9-361184CED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70A9-6F72-462D-8495-0780E01F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0AD3-4A51-461B-BBC4-33204BF0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8994-7F7D-446D-91AB-B91C1BEE4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513B-C3E4-4A28-8DB9-D4FF3E27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98D3-70EA-4AC5-ABED-CF0E8A13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395A-C6A2-49EA-860F-A5DE7C21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D774-41A4-43FD-9729-37302F79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2CB0-7B59-4E56-AE9E-25344B9E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5989-8E60-4F5E-9907-EBF18A01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0312-E96D-416F-A6ED-F21F531A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EEFD-55F5-43FD-B52E-40EB04A4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9114-25D3-4011-8BF5-F5FE2578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70D3-EE4B-4FA1-AD52-AD83B533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613F-A7B4-4812-94BA-748798C64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A4A2-2CD5-4F02-9DF7-FB2158BAD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E5C3-ABF4-4411-900A-C3A87ED0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A8FB-86CE-480E-96A9-BD84B729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6ACC-2564-4175-8605-A6B7AEC7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E673-CFD5-467A-A58B-24A891D1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2CD4-46B8-4730-8705-5A60692E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31240" y="5690880"/>
            <a:ext cx="2811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631240" y="364680"/>
            <a:ext cx="281160" cy="51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2840" y="6269040"/>
            <a:ext cx="72216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c8c8c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24CE-2E7E-41FE-852A-32A9B545C3E8}" type="slidenum">
              <a:rPr b="0" lang="en-US" sz="800" spc="-1" strike="noStrike">
                <a:solidFill>
                  <a:srgbClr val="8c8c8c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11631240" y="5690880"/>
            <a:ext cx="2811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5"/>
          </p:nvPr>
        </p:nvSpPr>
        <p:spPr>
          <a:xfrm>
            <a:off x="11631240" y="364680"/>
            <a:ext cx="281160" cy="51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6"/>
          </p:nvPr>
        </p:nvSpPr>
        <p:spPr>
          <a:xfrm>
            <a:off x="312840" y="6269040"/>
            <a:ext cx="72216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c8c8c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2474-D114-4A2B-951E-CABDA3EE7BEF}" type="slidenum">
              <a:rPr b="0" lang="en-US" sz="800" spc="-1" strike="noStrike">
                <a:solidFill>
                  <a:srgbClr val="8c8c8c"/>
                </a:solidFill>
                <a:latin typeface="Calibri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755640"/>
            <a:ext cx="685800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TITLE LAYOUT</a:t>
            </a:r>
            <a:endParaRPr b="0" lang="en-US" sz="80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09480" y="3955680"/>
            <a:ext cx="68580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宋体"/>
              </a:rPr>
              <a:t>Subtitle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555960" y="384120"/>
            <a:ext cx="4800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0"/>
            <a:ext cx="6095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555960" y="2239920"/>
            <a:ext cx="4799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TITLE AND CONTENT LAYOUT WITH LIS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Add your first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Add your secon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Add your thir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TITLE AND CONTENT LAYOUT WITH CHAR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pic>
        <p:nvPicPr>
          <p:cNvPr id="202" name="Content Placeholder 5" descr="Clustered Column Chart"/>
          <p:cNvPicPr/>
          <p:nvPr/>
        </p:nvPicPr>
        <p:blipFill>
          <a:blip r:embed="rId1"/>
          <a:stretch/>
        </p:blipFill>
        <p:spPr>
          <a:xfrm>
            <a:off x="1930320" y="1936800"/>
            <a:ext cx="9474120" cy="4584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TWO CONTENT LAYOUT WITH TABLE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981080" y="1980720"/>
            <a:ext cx="4572000" cy="44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First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Secon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Thir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6781680" y="1981080"/>
          <a:ext cx="4572000" cy="20890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</a:tblGrid>
              <a:tr h="5223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d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Group 1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d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Group 2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dcff"/>
                    </a:solidFill>
                  </a:tcPr>
                </a:tc>
              </a:tr>
              <a:tr h="522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82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95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</a:tr>
              <a:tr h="522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76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88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9ff"/>
                    </a:solidFill>
                  </a:tcPr>
                </a:tc>
              </a:tr>
              <a:tr h="522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84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90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TWO CONTENT LAYOUT WITH SMARTAR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981080" y="1980720"/>
            <a:ext cx="4572000" cy="44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First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Secon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Thir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08" name="Content Placeholder 4" descr="Interconnected Block Process"/>
          <p:cNvPicPr/>
          <p:nvPr/>
        </p:nvPicPr>
        <p:blipFill>
          <a:blip r:embed="rId1"/>
          <a:stretch/>
        </p:blipFill>
        <p:spPr>
          <a:xfrm>
            <a:off x="6778800" y="1981080"/>
            <a:ext cx="4730400" cy="4480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822240"/>
            <a:ext cx="8686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1bdcff"/>
              </a:solidFill>
              <a:latin typeface="Calibri"/>
              <a:ea typeface="宋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2835000"/>
            <a:ext cx="86868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559200" y="409680"/>
            <a:ext cx="4800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  <a:ea typeface="宋体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06600" y="380520"/>
            <a:ext cx="5489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59200" y="2238480"/>
            <a:ext cx="4800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  <a:ea typeface="宋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981080" y="1679040"/>
            <a:ext cx="4572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981080" y="2509920"/>
            <a:ext cx="45720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781680" y="1679040"/>
            <a:ext cx="4572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781680" y="2509920"/>
            <a:ext cx="45720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  <a:ea typeface="宋体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9T12:50:02Z</dcterms:created>
  <dc:creator/>
  <dc:description/>
  <dc:language>en-US</dc:language>
  <cp:lastModifiedBy>Administrator</cp:lastModifiedBy>
  <dcterms:modified xsi:type="dcterms:W3CDTF">2016-06-17T04:46:07Z</dcterms:modified>
  <cp:revision>3</cp:revision>
  <dc:subject/>
  <dc:title>TITLE LAY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_TemplateID">
    <vt:lpwstr>TC030310279991</vt:lpwstr>
  </property>
</Properties>
</file>