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E659-85E8-46BE-A15F-ADEB48C9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4AA6-04F5-49F8-A011-7849E8AC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0F87-3FC5-44EB-8076-BFEE81FF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00BB-F5AA-4640-8F6D-569D4A34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174A-922C-4589-8508-0DC1E454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C9B7-22C8-4158-BCE4-1CC99785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5FBD-8C73-4ABA-AB9E-324E9C6D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0E18-85F7-44E2-B09D-A9DAF8C5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6D9F-A8B3-4494-A6F8-B08BAD9A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5B66-0295-469C-886C-B6C0743B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12D5-B8AA-4A6B-88AF-5BEF5034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C939-3831-435C-A8D8-7AA98620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20D1-5A48-446E-A499-3C2B3E01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DD8A-DD8E-429F-96CC-4113CAAA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06BA-B84D-4887-89BE-C2A7D22F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0A02-6BC5-48EE-8213-80351762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6332-10B9-4829-B258-A4D67FE1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E52F-3659-40F1-A293-376F299A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02FD-42FE-415D-BE96-9DDE9820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306A-425A-4E63-9F2F-D269972D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BC8B-2F85-488C-BBA6-C7759744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3439-B7AB-41A7-A952-739E1847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5360-7901-439E-B51C-615E5C79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A397-7323-42EE-A775-40331409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31240" y="5690880"/>
            <a:ext cx="2811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631240" y="364680"/>
            <a:ext cx="281160" cy="51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2840" y="6269040"/>
            <a:ext cx="72216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c8c8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6071-C8EE-4B4B-8761-FE900BB2DCA9}" type="slidenum">
              <a:rPr b="0" lang="en-US" sz="800" spc="-1" strike="noStrike">
                <a:solidFill>
                  <a:srgbClr val="8c8c8c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11631240" y="5690880"/>
            <a:ext cx="2811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11631240" y="364680"/>
            <a:ext cx="281160" cy="51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312840" y="6269040"/>
            <a:ext cx="72216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c8c8c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6872-7163-4720-BC74-4ADFAFC77707}" type="slidenum">
              <a:rPr b="0" lang="en-US" sz="800" spc="-1" strike="noStrike">
                <a:solidFill>
                  <a:srgbClr val="8c8c8c"/>
                </a:solidFill>
                <a:latin typeface="Calibri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75564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ITLE LAYOUT</a:t>
            </a:r>
            <a:endParaRPr b="0" lang="en-US" sz="80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09480" y="3955680"/>
            <a:ext cx="68580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宋体"/>
              </a:rPr>
              <a:t>Subtitl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55960" y="38412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6095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55960" y="2239920"/>
            <a:ext cx="4799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ITLE AND CONTENT LAYOUT WITH LIS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ITLE AND CONTENT LAYOUT WITH CHAR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pic>
        <p:nvPicPr>
          <p:cNvPr id="202" name="Content Placeholder 5" descr="Clustered Column Chart"/>
          <p:cNvPicPr/>
          <p:nvPr/>
        </p:nvPicPr>
        <p:blipFill>
          <a:blip r:embed="rId1"/>
          <a:stretch/>
        </p:blipFill>
        <p:spPr>
          <a:xfrm>
            <a:off x="1930320" y="1936800"/>
            <a:ext cx="9474120" cy="458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WO CONTENT LAYOUT WITH TABLE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981080" y="1980720"/>
            <a:ext cx="457200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781680" y="1981080"/>
          <a:ext cx="4572000" cy="20890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5223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95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</a:tr>
              <a:tr h="522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76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8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4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WO CONTENT LAYOUT WITH SMARTAR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981080" y="1980720"/>
            <a:ext cx="457200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8" name="Content Placeholder 4" descr="Interconnected Block Process"/>
          <p:cNvPicPr/>
          <p:nvPr/>
        </p:nvPicPr>
        <p:blipFill>
          <a:blip r:embed="rId1"/>
          <a:stretch/>
        </p:blipFill>
        <p:spPr>
          <a:xfrm>
            <a:off x="6778800" y="1981080"/>
            <a:ext cx="4730400" cy="44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22240"/>
            <a:ext cx="8686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2835000"/>
            <a:ext cx="8686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59200" y="40968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06600" y="380520"/>
            <a:ext cx="5489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59200" y="223848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81080" y="1679040"/>
            <a:ext cx="4572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981080" y="2509920"/>
            <a:ext cx="45720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781680" y="1679040"/>
            <a:ext cx="4572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781680" y="2509920"/>
            <a:ext cx="45720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2:50:02Z</dcterms:created>
  <dc:creator/>
  <dc:description/>
  <dc:language>en-US</dc:language>
  <cp:lastModifiedBy>Administrator</cp:lastModifiedBy>
  <dcterms:modified xsi:type="dcterms:W3CDTF">2016-06-17T04:46:07Z</dcterms:modified>
  <cp:revision>3</cp:revision>
  <dc:subject/>
  <dc:title>TITLE LAY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_TemplateID">
    <vt:lpwstr>TC030310279991</vt:lpwstr>
  </property>
</Properties>
</file>