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69AF4-C0D7-43C6-9E2B-D2F211E57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27507-F4DD-4DFE-BB9B-60DEDEC4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FA27B-58A8-430E-9F86-63E339DC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85ABC-F1B9-4976-BB68-B9806297E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B5C8A-FA36-4FD7-8846-46412BE78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7C04D-5258-4834-B810-912F970C2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771E4-3473-411B-B0A6-05A8F07AC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68C15-8CCB-4900-B41A-FAA06099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545C9-E15D-44DF-A77A-A50C3C55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64D7-2639-4F90-AF09-9E860326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BA1D-779A-4FC4-BE1C-3D035C88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163E-2B33-4C92-B73E-462BB94F7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7BE5-2BFE-42A0-B83D-2099CEC0F30A}" type="datetime">
              <a:rPr b="0" lang="zh-CN" sz="1200" spc="-1" strike="noStrike">
                <a:solidFill>
                  <a:srgbClr val="898989"/>
                </a:solidFill>
                <a:latin typeface="Arial"/>
                <a:ea typeface="方正兰亭细黑_GBK"/>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3DBB-64CE-48B4-8ADB-68E034F8DB9C}"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