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F352B-B065-4616-B18D-AAA38698F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CAD32-9BA2-4BC2-B90F-5BA1750E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024AD-DD4F-46FC-8F83-EA71870AE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C19E5-00AD-4DFC-BE15-3F2FD04F4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6F85-B979-4CBC-B036-D525FCBA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CA8E-6087-4414-8E50-2B54F240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CD72-D1A1-4B13-9412-4F69BDCE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3543-DB8B-4375-909D-4229BD480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F2EC-D1A5-4DD5-A3E4-D1544184E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304A-7FFC-4E7F-BFCC-03CBC6B6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2BFB-F7D5-4E4B-BD18-D4729741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CD7E-4201-4AB4-8FCA-DC890B9DA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4715-9F5F-4343-B147-C66FA0C6776A}" type="datetime">
              <a:rPr b="0" lang="zh-CN" sz="1200" spc="-1" strike="noStrike">
                <a:solidFill>
                  <a:srgbClr val="898989"/>
                </a:solidFill>
                <a:latin typeface="Arial"/>
                <a:ea typeface="方正兰亭细黑_GBK"/>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4145-6E04-41E6-8E1D-B85FE6C64A8C}"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