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3033-B5AB-438C-B47E-9F8326ED6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8849-5B8C-414C-A60A-FF498C9AD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493C-F17A-4F69-B759-0D2D71279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6D34-0F83-4734-BB22-C6ED9F122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2C8D-30F8-4669-8B16-5AAEC05C2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44AF-CC60-47B7-AAA4-2AF4B865F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CCDB-30C2-41B6-9739-C8C1FAFB7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BD44-760C-44FF-98B6-C7D4C1C0B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4C81-A93A-4B4D-B65D-3ECC9A042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45B9-BDFA-4E86-A179-C65CED225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D0DA-F571-4E3D-9769-B470E44A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0A5A-AC4B-49EC-BF93-C88859FE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3DC36-3ED1-4A3B-BAED-5DA0B41EE61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9E471-40EC-49A6-A918-43691AA5A94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4" descr=""/>
          <p:cNvPicPr/>
          <p:nvPr/>
        </p:nvPicPr>
        <p:blipFill>
          <a:blip r:embed="rId1"/>
          <a:stretch/>
        </p:blipFill>
        <p:spPr>
          <a:xfrm>
            <a:off x="9244080" y="1913040"/>
            <a:ext cx="2948040" cy="4295520"/>
          </a:xfrm>
          <a:prstGeom prst="rect">
            <a:avLst/>
          </a:prstGeom>
          <a:ln w="0">
            <a:noFill/>
          </a:ln>
        </p:spPr>
      </p:pic>
      <p:sp>
        <p:nvSpPr>
          <p:cNvPr id="42" name="矩形 5"/>
          <p:cNvSpPr/>
          <p:nvPr/>
        </p:nvSpPr>
        <p:spPr>
          <a:xfrm>
            <a:off x="0" y="1913040"/>
            <a:ext cx="9244080" cy="429552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-254160" y="338040"/>
            <a:ext cx="12493800" cy="960120"/>
            <a:chOff x="-254160" y="338040"/>
            <a:chExt cx="12493800" cy="960120"/>
          </a:xfrm>
        </p:grpSpPr>
        <p:grpSp>
          <p:nvGrpSpPr>
            <p:cNvPr id="44" name="Group 5"/>
            <p:cNvGrpSpPr/>
            <p:nvPr/>
          </p:nvGrpSpPr>
          <p:grpSpPr>
            <a:xfrm>
              <a:off x="-254160" y="338040"/>
              <a:ext cx="12481920" cy="960120"/>
              <a:chOff x="-254160" y="338040"/>
              <a:chExt cx="12481920" cy="960120"/>
            </a:xfrm>
          </p:grpSpPr>
          <p:sp>
            <p:nvSpPr>
              <p:cNvPr id="45" name="直角三角形 9"/>
              <p:cNvSpPr/>
              <p:nvPr/>
            </p:nvSpPr>
            <p:spPr>
              <a:xfrm flipH="1" flipV="1">
                <a:off x="-22680" y="989280"/>
                <a:ext cx="759240" cy="308520"/>
              </a:xfrm>
              <a:prstGeom prst="rtTriangle">
                <a:avLst/>
              </a:prstGeom>
              <a:solidFill>
                <a:srgbClr val="2e7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矩形 10"/>
              <p:cNvSpPr/>
              <p:nvPr/>
            </p:nvSpPr>
            <p:spPr>
              <a:xfrm>
                <a:off x="5040" y="338040"/>
                <a:ext cx="12222720" cy="668160"/>
              </a:xfrm>
              <a:prstGeom prst="rect">
                <a:avLst/>
              </a:prstGeom>
              <a:solidFill>
                <a:srgbClr val="0089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文本框 11"/>
              <p:cNvSpPr/>
              <p:nvPr/>
            </p:nvSpPr>
            <p:spPr>
              <a:xfrm>
                <a:off x="-254160" y="390960"/>
                <a:ext cx="7924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《</a:t>
                </a:r>
                <a:r>
                  <a:rPr b="0" lang="zh-CN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哈佛商业评论</a:t>
                </a:r>
                <a:r>
                  <a:rPr b="0" lang="en-US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》</a:t>
                </a:r>
                <a:r>
                  <a:rPr b="0" lang="zh-CN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经典文章解读系列</a:t>
                </a:r>
                <a:r>
                  <a:rPr b="0" lang="en-US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5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" name="直接连接符 8"/>
            <p:cNvSpPr/>
            <p:nvPr/>
          </p:nvSpPr>
          <p:spPr>
            <a:xfrm>
              <a:off x="7381440" y="685800"/>
              <a:ext cx="4858200" cy="0"/>
            </a:xfrm>
            <a:prstGeom prst="line">
              <a:avLst/>
            </a:prstGeom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文本框 14"/>
          <p:cNvSpPr/>
          <p:nvPr/>
        </p:nvSpPr>
        <p:spPr>
          <a:xfrm>
            <a:off x="317520" y="2451240"/>
            <a:ext cx="56275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0089f0"/>
                </a:solidFill>
                <a:latin typeface="微软雅黑"/>
                <a:ea typeface="微软雅黑"/>
              </a:rPr>
              <a:t>初为</a:t>
            </a: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11"/>
          <p:cNvGrpSpPr/>
          <p:nvPr/>
        </p:nvGrpSpPr>
        <p:grpSpPr>
          <a:xfrm>
            <a:off x="3827520" y="4172040"/>
            <a:ext cx="5513400" cy="523800"/>
            <a:chOff x="3827520" y="4172040"/>
            <a:chExt cx="5513400" cy="523800"/>
          </a:xfrm>
        </p:grpSpPr>
        <p:sp>
          <p:nvSpPr>
            <p:cNvPr id="51" name="矩形 16"/>
            <p:cNvSpPr/>
            <p:nvPr/>
          </p:nvSpPr>
          <p:spPr>
            <a:xfrm>
              <a:off x="3853800" y="4172040"/>
              <a:ext cx="4935240" cy="523800"/>
            </a:xfrm>
            <a:prstGeom prst="rect">
              <a:avLst/>
            </a:prstGeom>
            <a:solidFill>
              <a:srgbClr val="008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矩形 17"/>
            <p:cNvSpPr/>
            <p:nvPr/>
          </p:nvSpPr>
          <p:spPr>
            <a:xfrm>
              <a:off x="3827520" y="4172040"/>
              <a:ext cx="551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明星员工被提拔，是福还是祸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矩形 19"/>
          <p:cNvSpPr/>
          <p:nvPr/>
        </p:nvSpPr>
        <p:spPr>
          <a:xfrm>
            <a:off x="7043040" y="1989000"/>
            <a:ext cx="207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者：达人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素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矩形 13"/>
          <p:cNvSpPr/>
          <p:nvPr/>
        </p:nvSpPr>
        <p:spPr>
          <a:xfrm>
            <a:off x="-20520" y="0"/>
            <a:ext cx="12187080" cy="6858000"/>
          </a:xfrm>
          <a:custGeom>
            <a:avLst/>
            <a:gdLst/>
            <a:ahLst/>
            <a:rect l="l" t="t" r="r" b="b"/>
            <a:pathLst>
              <a:path w="12192000" h="5718413">
                <a:moveTo>
                  <a:pt x="1009935" y="27296"/>
                </a:moveTo>
                <a:lnTo>
                  <a:pt x="11154770" y="0"/>
                </a:lnTo>
                <a:lnTo>
                  <a:pt x="12192000" y="5718413"/>
                </a:lnTo>
                <a:lnTo>
                  <a:pt x="0" y="5718413"/>
                </a:lnTo>
                <a:lnTo>
                  <a:pt x="1009935" y="27296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3"/>
          <p:cNvGrpSpPr/>
          <p:nvPr/>
        </p:nvGrpSpPr>
        <p:grpSpPr>
          <a:xfrm>
            <a:off x="2742480" y="398880"/>
            <a:ext cx="6706800" cy="6222960"/>
            <a:chOff x="2742480" y="398880"/>
            <a:chExt cx="6706800" cy="6222960"/>
          </a:xfrm>
        </p:grpSpPr>
        <p:sp>
          <p:nvSpPr>
            <p:cNvPr id="140" name="矩形 5"/>
            <p:cNvSpPr/>
            <p:nvPr/>
          </p:nvSpPr>
          <p:spPr>
            <a:xfrm rot="1892400">
              <a:off x="3544200" y="1193760"/>
              <a:ext cx="4244040" cy="4264920"/>
            </a:xfrm>
            <a:prstGeom prst="rect">
              <a:avLst/>
            </a:prstGeom>
            <a:solidFill>
              <a:srgbClr val="008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矩形 3"/>
            <p:cNvSpPr/>
            <p:nvPr/>
          </p:nvSpPr>
          <p:spPr>
            <a:xfrm rot="900000">
              <a:off x="3178080" y="1804320"/>
              <a:ext cx="5835600" cy="413280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矩形 4"/>
            <p:cNvSpPr/>
            <p:nvPr/>
          </p:nvSpPr>
          <p:spPr>
            <a:xfrm>
              <a:off x="3819960" y="2484720"/>
              <a:ext cx="4691880" cy="248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新经理的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五大误区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矩形 6"/>
            <p:cNvSpPr/>
            <p:nvPr/>
          </p:nvSpPr>
          <p:spPr>
            <a:xfrm flipH="1" rot="17008200">
              <a:off x="3263760" y="1769760"/>
              <a:ext cx="719640" cy="720000"/>
            </a:xfrm>
            <a:prstGeom prst="rect">
              <a:avLst/>
            </a:prstGeom>
            <a:solidFill>
              <a:srgbClr val="008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文本框 3"/>
          <p:cNvSpPr/>
          <p:nvPr/>
        </p:nvSpPr>
        <p:spPr>
          <a:xfrm>
            <a:off x="795240" y="219240"/>
            <a:ext cx="774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误区一：管理者掌握着重要权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任意多边形 4"/>
          <p:cNvSpPr/>
          <p:nvPr/>
        </p:nvSpPr>
        <p:spPr>
          <a:xfrm>
            <a:off x="-322200" y="279360"/>
            <a:ext cx="1185840" cy="587520"/>
          </a:xfrm>
          <a:custGeom>
            <a:avLst/>
            <a:gdLst/>
            <a:ahLst/>
            <a:rect l="l" t="t" r="r" b="b"/>
            <a:pathLst>
              <a:path w="1187356" h="586855">
                <a:moveTo>
                  <a:pt x="0" y="0"/>
                </a:moveTo>
                <a:lnTo>
                  <a:pt x="976408" y="0"/>
                </a:lnTo>
                <a:lnTo>
                  <a:pt x="976408" y="8297"/>
                </a:lnTo>
                <a:lnTo>
                  <a:pt x="1020648" y="23060"/>
                </a:lnTo>
                <a:cubicBezTo>
                  <a:pt x="1118615" y="67605"/>
                  <a:pt x="1187356" y="171887"/>
                  <a:pt x="1187356" y="293428"/>
                </a:cubicBezTo>
                <a:cubicBezTo>
                  <a:pt x="1187356" y="414969"/>
                  <a:pt x="1118615" y="519251"/>
                  <a:pt x="1020648" y="563796"/>
                </a:cubicBezTo>
                <a:lnTo>
                  <a:pt x="976408" y="578559"/>
                </a:lnTo>
                <a:lnTo>
                  <a:pt x="976408" y="586854"/>
                </a:lnTo>
                <a:lnTo>
                  <a:pt x="914410" y="586854"/>
                </a:lnTo>
                <a:lnTo>
                  <a:pt x="914401" y="586855"/>
                </a:lnTo>
                <a:lnTo>
                  <a:pt x="914392" y="586854"/>
                </a:lnTo>
                <a:lnTo>
                  <a:pt x="0" y="586854"/>
                </a:lnTo>
                <a:lnTo>
                  <a:pt x="0" y="0"/>
                </a:lnTo>
                <a:close/>
              </a:path>
            </a:pathLst>
          </a:cu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4"/>
          <p:cNvGrpSpPr/>
          <p:nvPr/>
        </p:nvGrpSpPr>
        <p:grpSpPr>
          <a:xfrm>
            <a:off x="863640" y="927000"/>
            <a:ext cx="6152040" cy="720720"/>
            <a:chOff x="863640" y="927000"/>
            <a:chExt cx="6152040" cy="720720"/>
          </a:xfrm>
        </p:grpSpPr>
        <p:sp>
          <p:nvSpPr>
            <p:cNvPr id="147" name="直角三角形 6"/>
            <p:cNvSpPr/>
            <p:nvPr/>
          </p:nvSpPr>
          <p:spPr>
            <a:xfrm flipV="1">
              <a:off x="6387840" y="1420920"/>
              <a:ext cx="627840" cy="226800"/>
            </a:xfrm>
            <a:prstGeom prst="rtTriangl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矩形 5"/>
            <p:cNvSpPr/>
            <p:nvPr/>
          </p:nvSpPr>
          <p:spPr>
            <a:xfrm>
              <a:off x="863640" y="927000"/>
              <a:ext cx="6138360" cy="50580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矩形 7"/>
            <p:cNvSpPr/>
            <p:nvPr/>
          </p:nvSpPr>
          <p:spPr>
            <a:xfrm>
              <a:off x="3831120" y="945000"/>
              <a:ext cx="35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89f0"/>
                  </a:solidFill>
                  <a:latin typeface="微软雅黑"/>
                  <a:ea typeface="微软雅黑"/>
                </a:rPr>
                <a:t>现在我可以自由地实现自己的想法了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椭圆 9"/>
          <p:cNvSpPr/>
          <p:nvPr/>
        </p:nvSpPr>
        <p:spPr>
          <a:xfrm>
            <a:off x="8407440" y="1936800"/>
            <a:ext cx="4784760" cy="478476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椭圆 10"/>
          <p:cNvSpPr/>
          <p:nvPr/>
        </p:nvSpPr>
        <p:spPr>
          <a:xfrm>
            <a:off x="7601040" y="1841400"/>
            <a:ext cx="4354560" cy="4354560"/>
          </a:xfrm>
          <a:prstGeom prst="ellipse">
            <a:avLst/>
          </a:pr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12"/>
          <p:cNvSpPr/>
          <p:nvPr/>
        </p:nvSpPr>
        <p:spPr>
          <a:xfrm>
            <a:off x="7896240" y="3610080"/>
            <a:ext cx="4059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很没面子的是，我可能会因为自己的手下而丢了饭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图片 15" descr=""/>
          <p:cNvPicPr/>
          <p:nvPr/>
        </p:nvPicPr>
        <p:blipFill>
          <a:blip r:embed="rId1"/>
          <a:stretch/>
        </p:blipFill>
        <p:spPr>
          <a:xfrm>
            <a:off x="7991640" y="2567160"/>
            <a:ext cx="591840" cy="1074600"/>
          </a:xfrm>
          <a:prstGeom prst="rect">
            <a:avLst/>
          </a:prstGeom>
          <a:ln w="0">
            <a:noFill/>
          </a:ln>
        </p:spPr>
      </p:pic>
      <p:sp>
        <p:nvSpPr>
          <p:cNvPr id="154" name="直接连接符 17"/>
          <p:cNvSpPr/>
          <p:nvPr/>
        </p:nvSpPr>
        <p:spPr>
          <a:xfrm>
            <a:off x="8583480" y="3524400"/>
            <a:ext cx="2648160" cy="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18"/>
          <p:cNvSpPr/>
          <p:nvPr/>
        </p:nvSpPr>
        <p:spPr>
          <a:xfrm>
            <a:off x="8569440" y="2349360"/>
            <a:ext cx="389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际情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直接连接符 19"/>
          <p:cNvSpPr/>
          <p:nvPr/>
        </p:nvSpPr>
        <p:spPr>
          <a:xfrm>
            <a:off x="8637480" y="3524400"/>
            <a:ext cx="3276720" cy="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20"/>
          <p:cNvSpPr/>
          <p:nvPr/>
        </p:nvSpPr>
        <p:spPr>
          <a:xfrm>
            <a:off x="9221040" y="298440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是互相依赖的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21"/>
          <p:cNvSpPr/>
          <p:nvPr/>
        </p:nvSpPr>
        <p:spPr>
          <a:xfrm>
            <a:off x="795240" y="3989520"/>
            <a:ext cx="620568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1</a:t>
            </a:r>
            <a:r>
              <a:rPr b="0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、抛开权力神话，接受必须应付各种依存关系的这一现实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2</a:t>
            </a:r>
            <a:r>
              <a:rPr b="0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、将注意力从领导下属转移到管理与上司和同级的关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17"/>
          <p:cNvGrpSpPr/>
          <p:nvPr/>
        </p:nvGrpSpPr>
        <p:grpSpPr>
          <a:xfrm>
            <a:off x="863280" y="2911320"/>
            <a:ext cx="2329560" cy="1175040"/>
            <a:chOff x="863280" y="2911320"/>
            <a:chExt cx="2329560" cy="1175040"/>
          </a:xfrm>
        </p:grpSpPr>
        <p:sp>
          <p:nvSpPr>
            <p:cNvPr id="160" name="矩形 22"/>
            <p:cNvSpPr/>
            <p:nvPr/>
          </p:nvSpPr>
          <p:spPr>
            <a:xfrm>
              <a:off x="863280" y="2911320"/>
              <a:ext cx="2329560" cy="85104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直角三角形 23"/>
            <p:cNvSpPr/>
            <p:nvPr/>
          </p:nvSpPr>
          <p:spPr>
            <a:xfrm flipV="1">
              <a:off x="2565000" y="3762360"/>
              <a:ext cx="627840" cy="324000"/>
            </a:xfrm>
            <a:prstGeom prst="rtTriangl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矩形 24"/>
            <p:cNvSpPr/>
            <p:nvPr/>
          </p:nvSpPr>
          <p:spPr>
            <a:xfrm>
              <a:off x="1266120" y="3053520"/>
              <a:ext cx="155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89f0"/>
                  </a:solidFill>
                  <a:latin typeface="微软雅黑"/>
                  <a:ea typeface="微软雅黑"/>
                </a:rPr>
                <a:t>你可以这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文本框 3"/>
          <p:cNvSpPr/>
          <p:nvPr/>
        </p:nvSpPr>
        <p:spPr>
          <a:xfrm>
            <a:off x="795240" y="219240"/>
            <a:ext cx="774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误区二：权力源自管理者的职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任意多边形 4"/>
          <p:cNvSpPr/>
          <p:nvPr/>
        </p:nvSpPr>
        <p:spPr>
          <a:xfrm>
            <a:off x="-322200" y="279360"/>
            <a:ext cx="1185840" cy="587520"/>
          </a:xfrm>
          <a:custGeom>
            <a:avLst/>
            <a:gdLst/>
            <a:ahLst/>
            <a:rect l="l" t="t" r="r" b="b"/>
            <a:pathLst>
              <a:path w="1187356" h="586855">
                <a:moveTo>
                  <a:pt x="0" y="0"/>
                </a:moveTo>
                <a:lnTo>
                  <a:pt x="976408" y="0"/>
                </a:lnTo>
                <a:lnTo>
                  <a:pt x="976408" y="8297"/>
                </a:lnTo>
                <a:lnTo>
                  <a:pt x="1020648" y="23060"/>
                </a:lnTo>
                <a:cubicBezTo>
                  <a:pt x="1118615" y="67605"/>
                  <a:pt x="1187356" y="171887"/>
                  <a:pt x="1187356" y="293428"/>
                </a:cubicBezTo>
                <a:cubicBezTo>
                  <a:pt x="1187356" y="414969"/>
                  <a:pt x="1118615" y="519251"/>
                  <a:pt x="1020648" y="563796"/>
                </a:cubicBezTo>
                <a:lnTo>
                  <a:pt x="976408" y="578559"/>
                </a:lnTo>
                <a:lnTo>
                  <a:pt x="976408" y="586854"/>
                </a:lnTo>
                <a:lnTo>
                  <a:pt x="914410" y="586854"/>
                </a:lnTo>
                <a:lnTo>
                  <a:pt x="914401" y="586855"/>
                </a:lnTo>
                <a:lnTo>
                  <a:pt x="914392" y="586854"/>
                </a:lnTo>
                <a:lnTo>
                  <a:pt x="0" y="586854"/>
                </a:lnTo>
                <a:lnTo>
                  <a:pt x="0" y="0"/>
                </a:lnTo>
                <a:close/>
              </a:path>
            </a:pathLst>
          </a:cu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4"/>
          <p:cNvGrpSpPr/>
          <p:nvPr/>
        </p:nvGrpSpPr>
        <p:grpSpPr>
          <a:xfrm>
            <a:off x="932040" y="927000"/>
            <a:ext cx="5358960" cy="720720"/>
            <a:chOff x="932040" y="927000"/>
            <a:chExt cx="5358960" cy="720720"/>
          </a:xfrm>
        </p:grpSpPr>
        <p:sp>
          <p:nvSpPr>
            <p:cNvPr id="166" name="直角三角形 6"/>
            <p:cNvSpPr/>
            <p:nvPr/>
          </p:nvSpPr>
          <p:spPr>
            <a:xfrm flipV="1">
              <a:off x="5663520" y="1420920"/>
              <a:ext cx="627480" cy="226800"/>
            </a:xfrm>
            <a:prstGeom prst="rtTriangl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矩形 7"/>
            <p:cNvSpPr/>
            <p:nvPr/>
          </p:nvSpPr>
          <p:spPr>
            <a:xfrm>
              <a:off x="932040" y="927000"/>
              <a:ext cx="5345640" cy="50580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矩形 8"/>
            <p:cNvSpPr/>
            <p:nvPr/>
          </p:nvSpPr>
          <p:spPr>
            <a:xfrm>
              <a:off x="3539880" y="945000"/>
              <a:ext cx="35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89f0"/>
                  </a:solidFill>
                  <a:latin typeface="微软雅黑"/>
                  <a:ea typeface="微软雅黑"/>
                </a:rPr>
                <a:t>最终我将会站在职业阶梯的顶端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椭圆 9"/>
          <p:cNvSpPr/>
          <p:nvPr/>
        </p:nvSpPr>
        <p:spPr>
          <a:xfrm>
            <a:off x="8407440" y="1936800"/>
            <a:ext cx="4784760" cy="478476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0"/>
          <p:cNvSpPr/>
          <p:nvPr/>
        </p:nvSpPr>
        <p:spPr>
          <a:xfrm>
            <a:off x="7601040" y="1841400"/>
            <a:ext cx="4354560" cy="4354560"/>
          </a:xfrm>
          <a:prstGeom prst="ellipse">
            <a:avLst/>
          </a:pr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12"/>
          <p:cNvSpPr/>
          <p:nvPr/>
        </p:nvSpPr>
        <p:spPr>
          <a:xfrm>
            <a:off x="7937640" y="3629160"/>
            <a:ext cx="41004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家十分谨慎，你必须下功夫赢得他们的信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图片 13" descr=""/>
          <p:cNvPicPr/>
          <p:nvPr/>
        </p:nvPicPr>
        <p:blipFill>
          <a:blip r:embed="rId1"/>
          <a:stretch/>
        </p:blipFill>
        <p:spPr>
          <a:xfrm>
            <a:off x="8069400" y="2554200"/>
            <a:ext cx="591840" cy="1074960"/>
          </a:xfrm>
          <a:prstGeom prst="rect">
            <a:avLst/>
          </a:prstGeom>
          <a:ln w="0">
            <a:noFill/>
          </a:ln>
        </p:spPr>
      </p:pic>
      <p:sp>
        <p:nvSpPr>
          <p:cNvPr id="173" name="文本框 14"/>
          <p:cNvSpPr/>
          <p:nvPr/>
        </p:nvSpPr>
        <p:spPr>
          <a:xfrm>
            <a:off x="8616960" y="2384280"/>
            <a:ext cx="389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际情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直接连接符 15"/>
          <p:cNvSpPr/>
          <p:nvPr/>
        </p:nvSpPr>
        <p:spPr>
          <a:xfrm>
            <a:off x="8637480" y="3524400"/>
            <a:ext cx="3276720" cy="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"/>
          <p:cNvSpPr/>
          <p:nvPr/>
        </p:nvSpPr>
        <p:spPr>
          <a:xfrm>
            <a:off x="9221040" y="298440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绝非来自正式职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6"/>
          <p:cNvSpPr/>
          <p:nvPr/>
        </p:nvSpPr>
        <p:spPr>
          <a:xfrm>
            <a:off x="795240" y="4530600"/>
            <a:ext cx="8075880" cy="18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1</a:t>
            </a:r>
            <a:r>
              <a:rPr b="0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、展示品质</a:t>
            </a:r>
            <a:r>
              <a:rPr b="0" lang="en-US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——</a:t>
            </a:r>
            <a:r>
              <a:rPr b="0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做正确之事的意愿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2</a:t>
            </a:r>
            <a:r>
              <a:rPr b="0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、展示能力</a:t>
            </a:r>
            <a:r>
              <a:rPr b="0" lang="en-US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——</a:t>
            </a:r>
            <a:r>
              <a:rPr b="0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知道如何做正确的事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3</a:t>
            </a:r>
            <a:r>
              <a:rPr b="0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、展示影响力</a:t>
            </a:r>
            <a:r>
              <a:rPr b="0" lang="en-US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——</a:t>
            </a:r>
            <a:r>
              <a:rPr b="0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计划并执行正确之事的能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16"/>
          <p:cNvGrpSpPr/>
          <p:nvPr/>
        </p:nvGrpSpPr>
        <p:grpSpPr>
          <a:xfrm>
            <a:off x="863280" y="3432240"/>
            <a:ext cx="2329560" cy="1174680"/>
            <a:chOff x="863280" y="3432240"/>
            <a:chExt cx="2329560" cy="1174680"/>
          </a:xfrm>
        </p:grpSpPr>
        <p:sp>
          <p:nvSpPr>
            <p:cNvPr id="178" name="矩形 18"/>
            <p:cNvSpPr/>
            <p:nvPr/>
          </p:nvSpPr>
          <p:spPr>
            <a:xfrm>
              <a:off x="863280" y="3432240"/>
              <a:ext cx="2329560" cy="8506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直角三角形 19"/>
            <p:cNvSpPr/>
            <p:nvPr/>
          </p:nvSpPr>
          <p:spPr>
            <a:xfrm flipV="1">
              <a:off x="2565000" y="4282920"/>
              <a:ext cx="627840" cy="324000"/>
            </a:xfrm>
            <a:prstGeom prst="rtTriangl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矩形 20"/>
            <p:cNvSpPr/>
            <p:nvPr/>
          </p:nvSpPr>
          <p:spPr>
            <a:xfrm>
              <a:off x="1266120" y="3574440"/>
              <a:ext cx="155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89f0"/>
                  </a:solidFill>
                  <a:latin typeface="微软雅黑"/>
                  <a:ea typeface="微软雅黑"/>
                </a:rPr>
                <a:t>你可以这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文本框 3"/>
          <p:cNvSpPr/>
          <p:nvPr/>
        </p:nvSpPr>
        <p:spPr>
          <a:xfrm>
            <a:off x="795240" y="219240"/>
            <a:ext cx="959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误区三：管理者必须控制自己的直接下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任意多边形 4"/>
          <p:cNvSpPr/>
          <p:nvPr/>
        </p:nvSpPr>
        <p:spPr>
          <a:xfrm>
            <a:off x="-322200" y="279360"/>
            <a:ext cx="1185840" cy="587520"/>
          </a:xfrm>
          <a:custGeom>
            <a:avLst/>
            <a:gdLst/>
            <a:ahLst/>
            <a:rect l="l" t="t" r="r" b="b"/>
            <a:pathLst>
              <a:path w="1187356" h="586855">
                <a:moveTo>
                  <a:pt x="0" y="0"/>
                </a:moveTo>
                <a:lnTo>
                  <a:pt x="976408" y="0"/>
                </a:lnTo>
                <a:lnTo>
                  <a:pt x="976408" y="8297"/>
                </a:lnTo>
                <a:lnTo>
                  <a:pt x="1020648" y="23060"/>
                </a:lnTo>
                <a:cubicBezTo>
                  <a:pt x="1118615" y="67605"/>
                  <a:pt x="1187356" y="171887"/>
                  <a:pt x="1187356" y="293428"/>
                </a:cubicBezTo>
                <a:cubicBezTo>
                  <a:pt x="1187356" y="414969"/>
                  <a:pt x="1118615" y="519251"/>
                  <a:pt x="1020648" y="563796"/>
                </a:cubicBezTo>
                <a:lnTo>
                  <a:pt x="976408" y="578559"/>
                </a:lnTo>
                <a:lnTo>
                  <a:pt x="976408" y="586854"/>
                </a:lnTo>
                <a:lnTo>
                  <a:pt x="914410" y="586854"/>
                </a:lnTo>
                <a:lnTo>
                  <a:pt x="914401" y="586855"/>
                </a:lnTo>
                <a:lnTo>
                  <a:pt x="914392" y="586854"/>
                </a:lnTo>
                <a:lnTo>
                  <a:pt x="0" y="586854"/>
                </a:lnTo>
                <a:lnTo>
                  <a:pt x="0" y="0"/>
                </a:lnTo>
                <a:close/>
              </a:path>
            </a:pathLst>
          </a:cu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4"/>
          <p:cNvGrpSpPr/>
          <p:nvPr/>
        </p:nvGrpSpPr>
        <p:grpSpPr>
          <a:xfrm>
            <a:off x="863640" y="927000"/>
            <a:ext cx="4321080" cy="720720"/>
            <a:chOff x="863640" y="927000"/>
            <a:chExt cx="4321080" cy="720720"/>
          </a:xfrm>
        </p:grpSpPr>
        <p:sp>
          <p:nvSpPr>
            <p:cNvPr id="184" name="直角三角形 6"/>
            <p:cNvSpPr/>
            <p:nvPr/>
          </p:nvSpPr>
          <p:spPr>
            <a:xfrm flipV="1">
              <a:off x="4557240" y="1420920"/>
              <a:ext cx="627480" cy="226800"/>
            </a:xfrm>
            <a:prstGeom prst="rtTriangl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矩形 5"/>
            <p:cNvSpPr/>
            <p:nvPr/>
          </p:nvSpPr>
          <p:spPr>
            <a:xfrm>
              <a:off x="863640" y="927000"/>
              <a:ext cx="4307760" cy="50580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矩形 7"/>
            <p:cNvSpPr/>
            <p:nvPr/>
          </p:nvSpPr>
          <p:spPr>
            <a:xfrm>
              <a:off x="2845800" y="945000"/>
              <a:ext cx="52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89f0"/>
                  </a:solidFill>
                  <a:latin typeface="微软雅黑"/>
                  <a:ea typeface="微软雅黑"/>
                </a:rPr>
                <a:t>我必须让我的下属服从我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椭圆 9"/>
          <p:cNvSpPr/>
          <p:nvPr/>
        </p:nvSpPr>
        <p:spPr>
          <a:xfrm>
            <a:off x="8407440" y="1936800"/>
            <a:ext cx="4784760" cy="478476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椭圆 10"/>
          <p:cNvSpPr/>
          <p:nvPr/>
        </p:nvSpPr>
        <p:spPr>
          <a:xfrm>
            <a:off x="7601040" y="1841400"/>
            <a:ext cx="4354560" cy="4354560"/>
          </a:xfrm>
          <a:prstGeom prst="ellipse">
            <a:avLst/>
          </a:pr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12"/>
          <p:cNvSpPr/>
          <p:nvPr/>
        </p:nvSpPr>
        <p:spPr>
          <a:xfrm>
            <a:off x="7991640" y="3946680"/>
            <a:ext cx="384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从不等于承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图片 15" descr=""/>
          <p:cNvPicPr/>
          <p:nvPr/>
        </p:nvPicPr>
        <p:blipFill>
          <a:blip r:embed="rId1"/>
          <a:stretch/>
        </p:blipFill>
        <p:spPr>
          <a:xfrm>
            <a:off x="7991640" y="2567160"/>
            <a:ext cx="591840" cy="1074600"/>
          </a:xfrm>
          <a:prstGeom prst="rect">
            <a:avLst/>
          </a:prstGeom>
          <a:ln w="0">
            <a:noFill/>
          </a:ln>
        </p:spPr>
      </p:pic>
      <p:sp>
        <p:nvSpPr>
          <p:cNvPr id="191" name="文本框 13"/>
          <p:cNvSpPr/>
          <p:nvPr/>
        </p:nvSpPr>
        <p:spPr>
          <a:xfrm>
            <a:off x="8583480" y="2378160"/>
            <a:ext cx="388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际情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直接连接符 16"/>
          <p:cNvSpPr/>
          <p:nvPr/>
        </p:nvSpPr>
        <p:spPr>
          <a:xfrm>
            <a:off x="8637480" y="3524400"/>
            <a:ext cx="3276720" cy="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17"/>
          <p:cNvSpPr/>
          <p:nvPr/>
        </p:nvSpPr>
        <p:spPr>
          <a:xfrm>
            <a:off x="9221040" y="298440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员工期望的是承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15"/>
          <p:cNvGrpSpPr/>
          <p:nvPr/>
        </p:nvGrpSpPr>
        <p:grpSpPr>
          <a:xfrm>
            <a:off x="863280" y="3432240"/>
            <a:ext cx="2329560" cy="1174680"/>
            <a:chOff x="863280" y="3432240"/>
            <a:chExt cx="2329560" cy="1174680"/>
          </a:xfrm>
        </p:grpSpPr>
        <p:sp>
          <p:nvSpPr>
            <p:cNvPr id="195" name="矩形 19"/>
            <p:cNvSpPr/>
            <p:nvPr/>
          </p:nvSpPr>
          <p:spPr>
            <a:xfrm>
              <a:off x="863280" y="3432240"/>
              <a:ext cx="2329560" cy="8506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直角三角形 20"/>
            <p:cNvSpPr/>
            <p:nvPr/>
          </p:nvSpPr>
          <p:spPr>
            <a:xfrm flipV="1">
              <a:off x="2565000" y="4282920"/>
              <a:ext cx="627840" cy="324000"/>
            </a:xfrm>
            <a:prstGeom prst="rtTriangl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矩形 21"/>
            <p:cNvSpPr/>
            <p:nvPr/>
          </p:nvSpPr>
          <p:spPr>
            <a:xfrm>
              <a:off x="1266120" y="3574440"/>
              <a:ext cx="155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89f0"/>
                  </a:solidFill>
                  <a:latin typeface="微软雅黑"/>
                  <a:ea typeface="微软雅黑"/>
                </a:rPr>
                <a:t>你可以这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矩形 22"/>
          <p:cNvSpPr/>
          <p:nvPr/>
        </p:nvSpPr>
        <p:spPr>
          <a:xfrm>
            <a:off x="795240" y="4530600"/>
            <a:ext cx="8075880" cy="18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通过建立一种问询文化，发挥自己的影响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可参考哈佛商业评论经典文章解读</a:t>
            </a:r>
            <a:r>
              <a:rPr b="0" lang="en-US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《</a:t>
            </a:r>
            <a:r>
              <a:rPr b="0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谁背上了猴子</a:t>
            </a:r>
            <a:r>
              <a:rPr b="0" lang="en-US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文本框 3"/>
          <p:cNvSpPr/>
          <p:nvPr/>
        </p:nvSpPr>
        <p:spPr>
          <a:xfrm>
            <a:off x="795240" y="219240"/>
            <a:ext cx="1221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误区四：管理者必须专注于建立良好的个人关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任意多边形 4"/>
          <p:cNvSpPr/>
          <p:nvPr/>
        </p:nvSpPr>
        <p:spPr>
          <a:xfrm>
            <a:off x="-322200" y="279360"/>
            <a:ext cx="1185840" cy="587520"/>
          </a:xfrm>
          <a:custGeom>
            <a:avLst/>
            <a:gdLst/>
            <a:ahLst/>
            <a:rect l="l" t="t" r="r" b="b"/>
            <a:pathLst>
              <a:path w="1187356" h="586855">
                <a:moveTo>
                  <a:pt x="0" y="0"/>
                </a:moveTo>
                <a:lnTo>
                  <a:pt x="976408" y="0"/>
                </a:lnTo>
                <a:lnTo>
                  <a:pt x="976408" y="8297"/>
                </a:lnTo>
                <a:lnTo>
                  <a:pt x="1020648" y="23060"/>
                </a:lnTo>
                <a:cubicBezTo>
                  <a:pt x="1118615" y="67605"/>
                  <a:pt x="1187356" y="171887"/>
                  <a:pt x="1187356" y="293428"/>
                </a:cubicBezTo>
                <a:cubicBezTo>
                  <a:pt x="1187356" y="414969"/>
                  <a:pt x="1118615" y="519251"/>
                  <a:pt x="1020648" y="563796"/>
                </a:cubicBezTo>
                <a:lnTo>
                  <a:pt x="976408" y="578559"/>
                </a:lnTo>
                <a:lnTo>
                  <a:pt x="976408" y="586854"/>
                </a:lnTo>
                <a:lnTo>
                  <a:pt x="914410" y="586854"/>
                </a:lnTo>
                <a:lnTo>
                  <a:pt x="914401" y="586855"/>
                </a:lnTo>
                <a:lnTo>
                  <a:pt x="914392" y="586854"/>
                </a:lnTo>
                <a:lnTo>
                  <a:pt x="0" y="586854"/>
                </a:lnTo>
                <a:lnTo>
                  <a:pt x="0" y="0"/>
                </a:lnTo>
                <a:close/>
              </a:path>
            </a:pathLst>
          </a:cu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oup 4"/>
          <p:cNvGrpSpPr/>
          <p:nvPr/>
        </p:nvGrpSpPr>
        <p:grpSpPr>
          <a:xfrm>
            <a:off x="932040" y="927000"/>
            <a:ext cx="5645520" cy="720720"/>
            <a:chOff x="932040" y="927000"/>
            <a:chExt cx="5645520" cy="720720"/>
          </a:xfrm>
        </p:grpSpPr>
        <p:sp>
          <p:nvSpPr>
            <p:cNvPr id="202" name="直角三角形 6"/>
            <p:cNvSpPr/>
            <p:nvPr/>
          </p:nvSpPr>
          <p:spPr>
            <a:xfrm flipV="1">
              <a:off x="5950080" y="1420920"/>
              <a:ext cx="627480" cy="226800"/>
            </a:xfrm>
            <a:prstGeom prst="rtTriangl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矩形 7"/>
            <p:cNvSpPr/>
            <p:nvPr/>
          </p:nvSpPr>
          <p:spPr>
            <a:xfrm>
              <a:off x="932040" y="927000"/>
              <a:ext cx="5632200" cy="50580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矩形 8"/>
            <p:cNvSpPr/>
            <p:nvPr/>
          </p:nvSpPr>
          <p:spPr>
            <a:xfrm>
              <a:off x="3454560" y="945000"/>
              <a:ext cx="88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89f0"/>
                  </a:solidFill>
                  <a:latin typeface="微软雅黑"/>
                  <a:ea typeface="微软雅黑"/>
                </a:rPr>
                <a:t>我的任务是与每一位下属建立关系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椭圆 9"/>
          <p:cNvSpPr/>
          <p:nvPr/>
        </p:nvSpPr>
        <p:spPr>
          <a:xfrm>
            <a:off x="8407440" y="1936800"/>
            <a:ext cx="4784760" cy="478476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椭圆 10"/>
          <p:cNvSpPr/>
          <p:nvPr/>
        </p:nvSpPr>
        <p:spPr>
          <a:xfrm>
            <a:off x="7601040" y="1841400"/>
            <a:ext cx="4354560" cy="4354560"/>
          </a:xfrm>
          <a:prstGeom prst="ellipse">
            <a:avLst/>
          </a:pr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文本框 12"/>
          <p:cNvSpPr/>
          <p:nvPr/>
        </p:nvSpPr>
        <p:spPr>
          <a:xfrm>
            <a:off x="7937640" y="3629160"/>
            <a:ext cx="38671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需要创造一种文化，让整个团队发挥出最大的潜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图片 13" descr=""/>
          <p:cNvPicPr/>
          <p:nvPr/>
        </p:nvPicPr>
        <p:blipFill>
          <a:blip r:embed="rId1"/>
          <a:stretch/>
        </p:blipFill>
        <p:spPr>
          <a:xfrm>
            <a:off x="8069400" y="2554200"/>
            <a:ext cx="591840" cy="1074960"/>
          </a:xfrm>
          <a:prstGeom prst="rect">
            <a:avLst/>
          </a:prstGeom>
          <a:ln w="0">
            <a:noFill/>
          </a:ln>
        </p:spPr>
      </p:pic>
      <p:sp>
        <p:nvSpPr>
          <p:cNvPr id="209" name="文本框 14"/>
          <p:cNvSpPr/>
          <p:nvPr/>
        </p:nvSpPr>
        <p:spPr>
          <a:xfrm>
            <a:off x="8616960" y="2384280"/>
            <a:ext cx="389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际情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直接连接符 15"/>
          <p:cNvSpPr/>
          <p:nvPr/>
        </p:nvSpPr>
        <p:spPr>
          <a:xfrm>
            <a:off x="8637480" y="3524400"/>
            <a:ext cx="3276720" cy="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6"/>
          <p:cNvSpPr/>
          <p:nvPr/>
        </p:nvSpPr>
        <p:spPr>
          <a:xfrm>
            <a:off x="9221040" y="298440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重要的是领导团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15"/>
          <p:cNvGrpSpPr/>
          <p:nvPr/>
        </p:nvGrpSpPr>
        <p:grpSpPr>
          <a:xfrm>
            <a:off x="863280" y="3432240"/>
            <a:ext cx="2329560" cy="1174680"/>
            <a:chOff x="863280" y="3432240"/>
            <a:chExt cx="2329560" cy="1174680"/>
          </a:xfrm>
        </p:grpSpPr>
        <p:sp>
          <p:nvSpPr>
            <p:cNvPr id="213" name="矩形 18"/>
            <p:cNvSpPr/>
            <p:nvPr/>
          </p:nvSpPr>
          <p:spPr>
            <a:xfrm>
              <a:off x="863280" y="3432240"/>
              <a:ext cx="2329560" cy="8506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直角三角形 19"/>
            <p:cNvSpPr/>
            <p:nvPr/>
          </p:nvSpPr>
          <p:spPr>
            <a:xfrm flipV="1">
              <a:off x="2565000" y="4282920"/>
              <a:ext cx="627840" cy="324000"/>
            </a:xfrm>
            <a:prstGeom prst="rtTriangl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矩形 20"/>
            <p:cNvSpPr/>
            <p:nvPr/>
          </p:nvSpPr>
          <p:spPr>
            <a:xfrm>
              <a:off x="1266120" y="3574440"/>
              <a:ext cx="155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89f0"/>
                  </a:solidFill>
                  <a:latin typeface="微软雅黑"/>
                  <a:ea typeface="微软雅黑"/>
                </a:rPr>
                <a:t>你可以这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矩形 21"/>
          <p:cNvSpPr/>
          <p:nvPr/>
        </p:nvSpPr>
        <p:spPr>
          <a:xfrm>
            <a:off x="795240" y="4530600"/>
            <a:ext cx="8075880" cy="18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通过驾驭团队的集体力量，提高个人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绩效和投入程度；通过塑造团队文化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激发团队各种人才解决问题的能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文本框 3"/>
          <p:cNvSpPr/>
          <p:nvPr/>
        </p:nvSpPr>
        <p:spPr>
          <a:xfrm>
            <a:off x="795240" y="219240"/>
            <a:ext cx="1221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误区五：管理者必须确保一切运转顺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任意多边形 4"/>
          <p:cNvSpPr/>
          <p:nvPr/>
        </p:nvSpPr>
        <p:spPr>
          <a:xfrm>
            <a:off x="-322200" y="279360"/>
            <a:ext cx="1185840" cy="587520"/>
          </a:xfrm>
          <a:custGeom>
            <a:avLst/>
            <a:gdLst/>
            <a:ahLst/>
            <a:rect l="l" t="t" r="r" b="b"/>
            <a:pathLst>
              <a:path w="1187356" h="586855">
                <a:moveTo>
                  <a:pt x="0" y="0"/>
                </a:moveTo>
                <a:lnTo>
                  <a:pt x="976408" y="0"/>
                </a:lnTo>
                <a:lnTo>
                  <a:pt x="976408" y="8297"/>
                </a:lnTo>
                <a:lnTo>
                  <a:pt x="1020648" y="23060"/>
                </a:lnTo>
                <a:cubicBezTo>
                  <a:pt x="1118615" y="67605"/>
                  <a:pt x="1187356" y="171887"/>
                  <a:pt x="1187356" y="293428"/>
                </a:cubicBezTo>
                <a:cubicBezTo>
                  <a:pt x="1187356" y="414969"/>
                  <a:pt x="1118615" y="519251"/>
                  <a:pt x="1020648" y="563796"/>
                </a:cubicBezTo>
                <a:lnTo>
                  <a:pt x="976408" y="578559"/>
                </a:lnTo>
                <a:lnTo>
                  <a:pt x="976408" y="586854"/>
                </a:lnTo>
                <a:lnTo>
                  <a:pt x="914410" y="586854"/>
                </a:lnTo>
                <a:lnTo>
                  <a:pt x="914401" y="586855"/>
                </a:lnTo>
                <a:lnTo>
                  <a:pt x="914392" y="586854"/>
                </a:lnTo>
                <a:lnTo>
                  <a:pt x="0" y="586854"/>
                </a:lnTo>
                <a:lnTo>
                  <a:pt x="0" y="0"/>
                </a:lnTo>
                <a:close/>
              </a:path>
            </a:pathLst>
          </a:cu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4"/>
          <p:cNvGrpSpPr/>
          <p:nvPr/>
        </p:nvGrpSpPr>
        <p:grpSpPr>
          <a:xfrm>
            <a:off x="932040" y="927000"/>
            <a:ext cx="6683400" cy="720720"/>
            <a:chOff x="932040" y="927000"/>
            <a:chExt cx="6683400" cy="720720"/>
          </a:xfrm>
        </p:grpSpPr>
        <p:sp>
          <p:nvSpPr>
            <p:cNvPr id="220" name="直角三角形 6"/>
            <p:cNvSpPr/>
            <p:nvPr/>
          </p:nvSpPr>
          <p:spPr>
            <a:xfrm flipV="1">
              <a:off x="6987960" y="1420920"/>
              <a:ext cx="627480" cy="226800"/>
            </a:xfrm>
            <a:prstGeom prst="rtTriangl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矩形 7"/>
            <p:cNvSpPr/>
            <p:nvPr/>
          </p:nvSpPr>
          <p:spPr>
            <a:xfrm>
              <a:off x="932040" y="927000"/>
              <a:ext cx="6670080" cy="50580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矩形 8"/>
            <p:cNvSpPr/>
            <p:nvPr/>
          </p:nvSpPr>
          <p:spPr>
            <a:xfrm>
              <a:off x="3993840" y="945000"/>
              <a:ext cx="88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89f0"/>
                  </a:solidFill>
                  <a:latin typeface="微软雅黑"/>
                  <a:ea typeface="微软雅黑"/>
                </a:rPr>
                <a:t>我的任务是确保运营顺利，一切运行良好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椭圆 9"/>
          <p:cNvSpPr/>
          <p:nvPr/>
        </p:nvSpPr>
        <p:spPr>
          <a:xfrm>
            <a:off x="8407440" y="1936800"/>
            <a:ext cx="4784760" cy="478476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椭圆 10"/>
          <p:cNvSpPr/>
          <p:nvPr/>
        </p:nvSpPr>
        <p:spPr>
          <a:xfrm>
            <a:off x="7601040" y="1841400"/>
            <a:ext cx="4354560" cy="4354560"/>
          </a:xfrm>
          <a:prstGeom prst="ellipse">
            <a:avLst/>
          </a:pr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文本框 12"/>
          <p:cNvSpPr/>
          <p:nvPr/>
        </p:nvSpPr>
        <p:spPr>
          <a:xfrm>
            <a:off x="7937640" y="3629160"/>
            <a:ext cx="38671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需要创造一种文化，让整个团队发挥出最大的潜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图片 13" descr=""/>
          <p:cNvPicPr/>
          <p:nvPr/>
        </p:nvPicPr>
        <p:blipFill>
          <a:blip r:embed="rId1"/>
          <a:stretch/>
        </p:blipFill>
        <p:spPr>
          <a:xfrm>
            <a:off x="8069400" y="2554200"/>
            <a:ext cx="591840" cy="1074960"/>
          </a:xfrm>
          <a:prstGeom prst="rect">
            <a:avLst/>
          </a:prstGeom>
          <a:ln w="0">
            <a:noFill/>
          </a:ln>
        </p:spPr>
      </p:pic>
      <p:sp>
        <p:nvSpPr>
          <p:cNvPr id="227" name="文本框 14"/>
          <p:cNvSpPr/>
          <p:nvPr/>
        </p:nvSpPr>
        <p:spPr>
          <a:xfrm>
            <a:off x="8616960" y="2384280"/>
            <a:ext cx="389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际情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直接连接符 15"/>
          <p:cNvSpPr/>
          <p:nvPr/>
        </p:nvSpPr>
        <p:spPr>
          <a:xfrm>
            <a:off x="8637480" y="3524400"/>
            <a:ext cx="3276720" cy="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16"/>
          <p:cNvSpPr/>
          <p:nvPr/>
        </p:nvSpPr>
        <p:spPr>
          <a:xfrm>
            <a:off x="9275040" y="305280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改善团队绩效而变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15"/>
          <p:cNvGrpSpPr/>
          <p:nvPr/>
        </p:nvGrpSpPr>
        <p:grpSpPr>
          <a:xfrm>
            <a:off x="931680" y="4022640"/>
            <a:ext cx="2328120" cy="1174680"/>
            <a:chOff x="931680" y="4022640"/>
            <a:chExt cx="2328120" cy="1174680"/>
          </a:xfrm>
        </p:grpSpPr>
        <p:sp>
          <p:nvSpPr>
            <p:cNvPr id="231" name="矩形 18"/>
            <p:cNvSpPr/>
            <p:nvPr/>
          </p:nvSpPr>
          <p:spPr>
            <a:xfrm>
              <a:off x="931680" y="4022640"/>
              <a:ext cx="2328120" cy="8506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直角三角形 19"/>
            <p:cNvSpPr/>
            <p:nvPr/>
          </p:nvSpPr>
          <p:spPr>
            <a:xfrm flipV="1">
              <a:off x="2632320" y="4873320"/>
              <a:ext cx="627480" cy="324000"/>
            </a:xfrm>
            <a:prstGeom prst="rtTriangl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矩形 20"/>
            <p:cNvSpPr/>
            <p:nvPr/>
          </p:nvSpPr>
          <p:spPr>
            <a:xfrm>
              <a:off x="1333440" y="4164840"/>
              <a:ext cx="155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89f0"/>
                  </a:solidFill>
                  <a:latin typeface="微软雅黑"/>
                  <a:ea typeface="微软雅黑"/>
                </a:rPr>
                <a:t>你可以这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矩形 21"/>
          <p:cNvSpPr/>
          <p:nvPr/>
        </p:nvSpPr>
        <p:spPr>
          <a:xfrm>
            <a:off x="795240" y="5118120"/>
            <a:ext cx="807588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提议和发起各种变革来提高团队的绩效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为自己的成功创造条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矩形 13"/>
          <p:cNvSpPr/>
          <p:nvPr/>
        </p:nvSpPr>
        <p:spPr>
          <a:xfrm rot="10800000">
            <a:off x="-308160" y="-252720"/>
            <a:ext cx="12683880" cy="1112760"/>
          </a:xfrm>
          <a:custGeom>
            <a:avLst/>
            <a:gdLst/>
            <a:ahLst/>
            <a:rect l="l" t="t" r="r" b="b"/>
            <a:pathLst>
              <a:path w="12192000" h="5789109">
                <a:moveTo>
                  <a:pt x="1180403" y="239394"/>
                </a:moveTo>
                <a:lnTo>
                  <a:pt x="10931850" y="0"/>
                </a:lnTo>
                <a:lnTo>
                  <a:pt x="12192000" y="5789109"/>
                </a:lnTo>
                <a:lnTo>
                  <a:pt x="0" y="5789109"/>
                </a:lnTo>
                <a:lnTo>
                  <a:pt x="1180403" y="239394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3"/>
          <p:cNvSpPr/>
          <p:nvPr/>
        </p:nvSpPr>
        <p:spPr>
          <a:xfrm>
            <a:off x="-20520" y="804960"/>
            <a:ext cx="12187080" cy="6053040"/>
          </a:xfrm>
          <a:custGeom>
            <a:avLst/>
            <a:gdLst/>
            <a:ahLst/>
            <a:rect l="l" t="t" r="r" b="b"/>
            <a:pathLst>
              <a:path w="12192000" h="5718413">
                <a:moveTo>
                  <a:pt x="1009935" y="27296"/>
                </a:moveTo>
                <a:lnTo>
                  <a:pt x="11154770" y="0"/>
                </a:lnTo>
                <a:lnTo>
                  <a:pt x="12192000" y="5718413"/>
                </a:lnTo>
                <a:lnTo>
                  <a:pt x="0" y="5718413"/>
                </a:lnTo>
                <a:lnTo>
                  <a:pt x="1009935" y="27296"/>
                </a:lnTo>
                <a:close/>
              </a:path>
            </a:pathLst>
          </a:cu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4"/>
          <p:cNvGrpSpPr/>
          <p:nvPr/>
        </p:nvGrpSpPr>
        <p:grpSpPr>
          <a:xfrm>
            <a:off x="880920" y="3218040"/>
            <a:ext cx="2379960" cy="764280"/>
            <a:chOff x="880920" y="3218040"/>
            <a:chExt cx="2379960" cy="764280"/>
          </a:xfrm>
        </p:grpSpPr>
        <p:sp>
          <p:nvSpPr>
            <p:cNvPr id="238" name="文本框 12"/>
            <p:cNvSpPr/>
            <p:nvPr/>
          </p:nvSpPr>
          <p:spPr>
            <a:xfrm>
              <a:off x="880920" y="3218040"/>
              <a:ext cx="23799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新角色的特征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Group 7"/>
          <p:cNvGrpSpPr/>
          <p:nvPr/>
        </p:nvGrpSpPr>
        <p:grpSpPr>
          <a:xfrm>
            <a:off x="8942400" y="3218040"/>
            <a:ext cx="2227320" cy="1434600"/>
            <a:chOff x="8942400" y="3218040"/>
            <a:chExt cx="2227320" cy="1434600"/>
          </a:xfrm>
        </p:grpSpPr>
        <p:sp>
          <p:nvSpPr>
            <p:cNvPr id="240" name="文本框 14"/>
            <p:cNvSpPr/>
            <p:nvPr/>
          </p:nvSpPr>
          <p:spPr>
            <a:xfrm>
              <a:off x="8942400" y="3218040"/>
              <a:ext cx="22273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期望的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结果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Group 10"/>
          <p:cNvGrpSpPr/>
          <p:nvPr/>
        </p:nvGrpSpPr>
        <p:grpSpPr>
          <a:xfrm>
            <a:off x="4956120" y="3218040"/>
            <a:ext cx="2228760" cy="764280"/>
            <a:chOff x="4956120" y="3218040"/>
            <a:chExt cx="2228760" cy="764280"/>
          </a:xfrm>
        </p:grpSpPr>
        <p:sp>
          <p:nvSpPr>
            <p:cNvPr id="242" name="文本框 15"/>
            <p:cNvSpPr/>
            <p:nvPr/>
          </p:nvSpPr>
          <p:spPr>
            <a:xfrm>
              <a:off x="4956120" y="3218040"/>
              <a:ext cx="2228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权力的来源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13"/>
          <p:cNvGrpSpPr/>
          <p:nvPr/>
        </p:nvGrpSpPr>
        <p:grpSpPr>
          <a:xfrm>
            <a:off x="2820960" y="920880"/>
            <a:ext cx="2227320" cy="1434600"/>
            <a:chOff x="2820960" y="920880"/>
            <a:chExt cx="2227320" cy="1434600"/>
          </a:xfrm>
        </p:grpSpPr>
        <p:sp>
          <p:nvSpPr>
            <p:cNvPr id="244" name="文本框 16"/>
            <p:cNvSpPr/>
            <p:nvPr/>
          </p:nvSpPr>
          <p:spPr>
            <a:xfrm>
              <a:off x="2820960" y="920880"/>
              <a:ext cx="22273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管理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重点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Group 16"/>
          <p:cNvGrpSpPr/>
          <p:nvPr/>
        </p:nvGrpSpPr>
        <p:grpSpPr>
          <a:xfrm>
            <a:off x="6954840" y="846000"/>
            <a:ext cx="2227320" cy="1434600"/>
            <a:chOff x="6954840" y="846000"/>
            <a:chExt cx="2227320" cy="1434600"/>
          </a:xfrm>
        </p:grpSpPr>
        <p:sp>
          <p:nvSpPr>
            <p:cNvPr id="246" name="文本框 17"/>
            <p:cNvSpPr/>
            <p:nvPr/>
          </p:nvSpPr>
          <p:spPr>
            <a:xfrm>
              <a:off x="6954840" y="846000"/>
              <a:ext cx="22273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关键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挑战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9"/>
          <p:cNvGrpSpPr/>
          <p:nvPr/>
        </p:nvGrpSpPr>
        <p:grpSpPr>
          <a:xfrm>
            <a:off x="2025720" y="5297400"/>
            <a:ext cx="1324080" cy="825120"/>
            <a:chOff x="2025720" y="5297400"/>
            <a:chExt cx="1324080" cy="825120"/>
          </a:xfrm>
        </p:grpSpPr>
        <p:sp>
          <p:nvSpPr>
            <p:cNvPr id="248" name="直接连接符 26"/>
            <p:cNvSpPr/>
            <p:nvPr/>
          </p:nvSpPr>
          <p:spPr>
            <a:xfrm>
              <a:off x="2025720" y="5906520"/>
              <a:ext cx="901440" cy="0"/>
            </a:xfrm>
            <a:prstGeom prst="line">
              <a:avLst/>
            </a:prstGeom>
            <a:ln w="19080">
              <a:solidFill>
                <a:srgbClr val="0ca9f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文本框 24"/>
            <p:cNvSpPr/>
            <p:nvPr/>
          </p:nvSpPr>
          <p:spPr>
            <a:xfrm>
              <a:off x="2537640" y="5297400"/>
              <a:ext cx="8121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22"/>
          <p:cNvGrpSpPr/>
          <p:nvPr/>
        </p:nvGrpSpPr>
        <p:grpSpPr>
          <a:xfrm>
            <a:off x="6099120" y="5297400"/>
            <a:ext cx="1324080" cy="825120"/>
            <a:chOff x="6099120" y="5297400"/>
            <a:chExt cx="1324080" cy="825120"/>
          </a:xfrm>
        </p:grpSpPr>
        <p:sp>
          <p:nvSpPr>
            <p:cNvPr id="251" name="直接连接符 29"/>
            <p:cNvSpPr/>
            <p:nvPr/>
          </p:nvSpPr>
          <p:spPr>
            <a:xfrm>
              <a:off x="6099120" y="5906520"/>
              <a:ext cx="901440" cy="0"/>
            </a:xfrm>
            <a:prstGeom prst="line">
              <a:avLst/>
            </a:prstGeom>
            <a:ln w="19080">
              <a:solidFill>
                <a:srgbClr val="0ca9f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文本框 30"/>
            <p:cNvSpPr/>
            <p:nvPr/>
          </p:nvSpPr>
          <p:spPr>
            <a:xfrm>
              <a:off x="6611040" y="5297400"/>
              <a:ext cx="8121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25"/>
          <p:cNvGrpSpPr/>
          <p:nvPr/>
        </p:nvGrpSpPr>
        <p:grpSpPr>
          <a:xfrm>
            <a:off x="10090080" y="5297400"/>
            <a:ext cx="1324080" cy="825120"/>
            <a:chOff x="10090080" y="5297400"/>
            <a:chExt cx="1324080" cy="825120"/>
          </a:xfrm>
        </p:grpSpPr>
        <p:sp>
          <p:nvSpPr>
            <p:cNvPr id="254" name="直接连接符 32"/>
            <p:cNvSpPr/>
            <p:nvPr/>
          </p:nvSpPr>
          <p:spPr>
            <a:xfrm>
              <a:off x="10090080" y="5906520"/>
              <a:ext cx="901440" cy="0"/>
            </a:xfrm>
            <a:prstGeom prst="line">
              <a:avLst/>
            </a:prstGeom>
            <a:ln w="19080">
              <a:solidFill>
                <a:srgbClr val="0ca9f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文本框 33"/>
            <p:cNvSpPr/>
            <p:nvPr/>
          </p:nvSpPr>
          <p:spPr>
            <a:xfrm>
              <a:off x="10602000" y="5297400"/>
              <a:ext cx="8121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8"/>
          <p:cNvGrpSpPr/>
          <p:nvPr/>
        </p:nvGrpSpPr>
        <p:grpSpPr>
          <a:xfrm>
            <a:off x="3959280" y="2990880"/>
            <a:ext cx="1324080" cy="825120"/>
            <a:chOff x="3959280" y="2990880"/>
            <a:chExt cx="1324080" cy="825120"/>
          </a:xfrm>
        </p:grpSpPr>
        <p:sp>
          <p:nvSpPr>
            <p:cNvPr id="257" name="直接连接符 35"/>
            <p:cNvSpPr/>
            <p:nvPr/>
          </p:nvSpPr>
          <p:spPr>
            <a:xfrm>
              <a:off x="3959280" y="3599640"/>
              <a:ext cx="901440" cy="0"/>
            </a:xfrm>
            <a:prstGeom prst="line">
              <a:avLst/>
            </a:prstGeom>
            <a:ln w="19080">
              <a:solidFill>
                <a:srgbClr val="0ca9f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文本框 36"/>
            <p:cNvSpPr/>
            <p:nvPr/>
          </p:nvSpPr>
          <p:spPr>
            <a:xfrm>
              <a:off x="4471200" y="2990880"/>
              <a:ext cx="8121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Group 31"/>
          <p:cNvGrpSpPr/>
          <p:nvPr/>
        </p:nvGrpSpPr>
        <p:grpSpPr>
          <a:xfrm>
            <a:off x="8096400" y="2914560"/>
            <a:ext cx="1323720" cy="825120"/>
            <a:chOff x="8096400" y="2914560"/>
            <a:chExt cx="1323720" cy="825120"/>
          </a:xfrm>
        </p:grpSpPr>
        <p:sp>
          <p:nvSpPr>
            <p:cNvPr id="260" name="直接连接符 38"/>
            <p:cNvSpPr/>
            <p:nvPr/>
          </p:nvSpPr>
          <p:spPr>
            <a:xfrm>
              <a:off x="8096400" y="3524760"/>
              <a:ext cx="901080" cy="0"/>
            </a:xfrm>
            <a:prstGeom prst="line">
              <a:avLst/>
            </a:prstGeom>
            <a:ln w="19080">
              <a:solidFill>
                <a:srgbClr val="0ca9f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文本框 39"/>
            <p:cNvSpPr/>
            <p:nvPr/>
          </p:nvSpPr>
          <p:spPr>
            <a:xfrm>
              <a:off x="8608320" y="2914560"/>
              <a:ext cx="811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矩形 1"/>
          <p:cNvSpPr/>
          <p:nvPr/>
        </p:nvSpPr>
        <p:spPr>
          <a:xfrm>
            <a:off x="4207680" y="792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经理不明白的五大问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矩形 13"/>
          <p:cNvSpPr/>
          <p:nvPr/>
        </p:nvSpPr>
        <p:spPr>
          <a:xfrm rot="10800000">
            <a:off x="-20880" y="0"/>
            <a:ext cx="12187080" cy="6858000"/>
          </a:xfrm>
          <a:custGeom>
            <a:avLst/>
            <a:gdLst/>
            <a:ahLst/>
            <a:rect l="l" t="t" r="r" b="b"/>
            <a:pathLst>
              <a:path w="12192000" h="5718413">
                <a:moveTo>
                  <a:pt x="1009935" y="27296"/>
                </a:moveTo>
                <a:lnTo>
                  <a:pt x="11154770" y="0"/>
                </a:lnTo>
                <a:lnTo>
                  <a:pt x="12192000" y="5718413"/>
                </a:lnTo>
                <a:lnTo>
                  <a:pt x="0" y="5718413"/>
                </a:lnTo>
                <a:lnTo>
                  <a:pt x="1009935" y="27296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3"/>
          <p:cNvSpPr/>
          <p:nvPr/>
        </p:nvSpPr>
        <p:spPr>
          <a:xfrm>
            <a:off x="795240" y="915840"/>
            <a:ext cx="1125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9f0"/>
                </a:solidFill>
                <a:latin typeface="微软雅黑"/>
                <a:ea typeface="微软雅黑"/>
              </a:rPr>
              <a:t>课堂上无法教授这种技艺，主要途径是在职体验，尤其是负面体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5"/>
          <p:cNvSpPr/>
          <p:nvPr/>
        </p:nvSpPr>
        <p:spPr>
          <a:xfrm>
            <a:off x="795240" y="219240"/>
            <a:ext cx="1221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习当领导是一个通过实践学习的过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任意多边形 6"/>
          <p:cNvSpPr/>
          <p:nvPr/>
        </p:nvSpPr>
        <p:spPr>
          <a:xfrm>
            <a:off x="-322200" y="279360"/>
            <a:ext cx="1185840" cy="587520"/>
          </a:xfrm>
          <a:custGeom>
            <a:avLst/>
            <a:gdLst/>
            <a:ahLst/>
            <a:rect l="l" t="t" r="r" b="b"/>
            <a:pathLst>
              <a:path w="1187356" h="586855">
                <a:moveTo>
                  <a:pt x="0" y="0"/>
                </a:moveTo>
                <a:lnTo>
                  <a:pt x="976408" y="0"/>
                </a:lnTo>
                <a:lnTo>
                  <a:pt x="976408" y="8297"/>
                </a:lnTo>
                <a:lnTo>
                  <a:pt x="1020648" y="23060"/>
                </a:lnTo>
                <a:cubicBezTo>
                  <a:pt x="1118615" y="67605"/>
                  <a:pt x="1187356" y="171887"/>
                  <a:pt x="1187356" y="293428"/>
                </a:cubicBezTo>
                <a:cubicBezTo>
                  <a:pt x="1187356" y="414969"/>
                  <a:pt x="1118615" y="519251"/>
                  <a:pt x="1020648" y="563796"/>
                </a:cubicBezTo>
                <a:lnTo>
                  <a:pt x="976408" y="578559"/>
                </a:lnTo>
                <a:lnTo>
                  <a:pt x="976408" y="586854"/>
                </a:lnTo>
                <a:lnTo>
                  <a:pt x="914410" y="586854"/>
                </a:lnTo>
                <a:lnTo>
                  <a:pt x="914401" y="586855"/>
                </a:lnTo>
                <a:lnTo>
                  <a:pt x="914392" y="586854"/>
                </a:lnTo>
                <a:lnTo>
                  <a:pt x="0" y="586854"/>
                </a:lnTo>
                <a:lnTo>
                  <a:pt x="0" y="0"/>
                </a:lnTo>
                <a:close/>
              </a:path>
            </a:pathLst>
          </a:cu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7"/>
          <p:cNvSpPr/>
          <p:nvPr/>
        </p:nvSpPr>
        <p:spPr>
          <a:xfrm>
            <a:off x="3845160" y="3255840"/>
            <a:ext cx="487476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9f0"/>
                </a:solidFill>
                <a:latin typeface="微软雅黑"/>
                <a:ea typeface="微软雅黑"/>
              </a:rPr>
              <a:t>紧张犯错的时候，也是在学习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9f0"/>
                </a:solidFill>
                <a:latin typeface="微软雅黑"/>
                <a:ea typeface="微软雅黑"/>
              </a:rPr>
              <a:t>这是一种</a:t>
            </a:r>
            <a:r>
              <a:rPr b="0" lang="zh-CN" sz="6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逐渐递增</a:t>
            </a:r>
            <a:r>
              <a:rPr b="0" lang="zh-CN" sz="4400" spc="-1" strike="noStrike">
                <a:solidFill>
                  <a:srgbClr val="0089f0"/>
                </a:solidFill>
                <a:latin typeface="微软雅黑"/>
                <a:ea typeface="微软雅黑"/>
              </a:rPr>
              <a:t>的过程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直接连接符 9"/>
          <p:cNvSpPr/>
          <p:nvPr/>
        </p:nvSpPr>
        <p:spPr>
          <a:xfrm flipV="1">
            <a:off x="2343240" y="5089680"/>
            <a:ext cx="7505640" cy="4104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直接连接符 10"/>
          <p:cNvSpPr/>
          <p:nvPr/>
        </p:nvSpPr>
        <p:spPr>
          <a:xfrm flipV="1">
            <a:off x="2343240" y="4981680"/>
            <a:ext cx="7505640" cy="3960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矩形 3"/>
          <p:cNvSpPr/>
          <p:nvPr/>
        </p:nvSpPr>
        <p:spPr>
          <a:xfrm>
            <a:off x="0" y="2401920"/>
            <a:ext cx="12192120" cy="3562200"/>
          </a:xfrm>
          <a:prstGeom prst="rect">
            <a:avLst/>
          </a:pr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6"/>
          <p:cNvSpPr/>
          <p:nvPr/>
        </p:nvSpPr>
        <p:spPr>
          <a:xfrm>
            <a:off x="892800" y="2809800"/>
            <a:ext cx="4521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Fail cheap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fail quick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earn efficiently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7"/>
          <p:cNvSpPr/>
          <p:nvPr/>
        </p:nvSpPr>
        <p:spPr>
          <a:xfrm>
            <a:off x="863640" y="4835520"/>
            <a:ext cx="1164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抱失败，学会低成本、快速的失败，高效的学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文本框 8"/>
          <p:cNvSpPr/>
          <p:nvPr/>
        </p:nvSpPr>
        <p:spPr>
          <a:xfrm>
            <a:off x="1082520" y="333360"/>
            <a:ext cx="1002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经理要敢于不断尝试和犯错来使自己进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直角三角形 10"/>
          <p:cNvSpPr/>
          <p:nvPr/>
        </p:nvSpPr>
        <p:spPr>
          <a:xfrm flipV="1">
            <a:off x="11350800" y="5964120"/>
            <a:ext cx="841320" cy="341280"/>
          </a:xfrm>
          <a:prstGeom prst="rtTriangl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椭圆 11"/>
          <p:cNvSpPr/>
          <p:nvPr/>
        </p:nvSpPr>
        <p:spPr>
          <a:xfrm>
            <a:off x="8312040" y="1447920"/>
            <a:ext cx="2907000" cy="290664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椭圆 12"/>
          <p:cNvSpPr/>
          <p:nvPr/>
        </p:nvSpPr>
        <p:spPr>
          <a:xfrm>
            <a:off x="8426520" y="1562040"/>
            <a:ext cx="2676600" cy="267660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文本框 13"/>
          <p:cNvSpPr/>
          <p:nvPr/>
        </p:nvSpPr>
        <p:spPr>
          <a:xfrm>
            <a:off x="8488440" y="2147760"/>
            <a:ext cx="2730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样学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15"/>
          <p:cNvSpPr/>
          <p:nvPr/>
        </p:nvSpPr>
        <p:spPr>
          <a:xfrm>
            <a:off x="9252720" y="162576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虫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矩形 4"/>
          <p:cNvSpPr/>
          <p:nvPr/>
        </p:nvSpPr>
        <p:spPr>
          <a:xfrm>
            <a:off x="0" y="2401920"/>
            <a:ext cx="12192120" cy="3562200"/>
          </a:xfrm>
          <a:prstGeom prst="rect">
            <a:avLst/>
          </a:pr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3" descr=""/>
          <p:cNvPicPr/>
          <p:nvPr/>
        </p:nvPicPr>
        <p:blipFill>
          <a:blip r:embed="rId1"/>
          <a:stretch/>
        </p:blipFill>
        <p:spPr>
          <a:xfrm>
            <a:off x="7310520" y="622440"/>
            <a:ext cx="3876480" cy="59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81" name="矩形 5"/>
          <p:cNvSpPr/>
          <p:nvPr/>
        </p:nvSpPr>
        <p:spPr>
          <a:xfrm>
            <a:off x="127080" y="3092400"/>
            <a:ext cx="695304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《</a:t>
            </a: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上任第一年</a:t>
            </a:r>
            <a:r>
              <a:rPr b="0" lang="en-US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从业务骨干到职业经理人的成功转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达人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素材 成名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6"/>
          <p:cNvSpPr/>
          <p:nvPr/>
        </p:nvSpPr>
        <p:spPr>
          <a:xfrm>
            <a:off x="794520" y="169380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推荐书籍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7"/>
          <p:cNvSpPr/>
          <p:nvPr/>
        </p:nvSpPr>
        <p:spPr>
          <a:xfrm>
            <a:off x="3040920" y="4884840"/>
            <a:ext cx="32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华章经管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机械工业出版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直角三角形 8"/>
          <p:cNvSpPr/>
          <p:nvPr/>
        </p:nvSpPr>
        <p:spPr>
          <a:xfrm flipH="1" flipV="1">
            <a:off x="-22320" y="5934240"/>
            <a:ext cx="835200" cy="341280"/>
          </a:xfrm>
          <a:prstGeom prst="rtTriangl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文本框 4"/>
          <p:cNvSpPr/>
          <p:nvPr/>
        </p:nvSpPr>
        <p:spPr>
          <a:xfrm>
            <a:off x="863640" y="219240"/>
            <a:ext cx="638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个明星员工的升职之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4"/>
          <p:cNvGrpSpPr/>
          <p:nvPr/>
        </p:nvGrpSpPr>
        <p:grpSpPr>
          <a:xfrm>
            <a:off x="1045800" y="3619080"/>
            <a:ext cx="9807480" cy="2670120"/>
            <a:chOff x="1045800" y="3619080"/>
            <a:chExt cx="9807480" cy="2670120"/>
          </a:xfrm>
        </p:grpSpPr>
        <p:sp>
          <p:nvSpPr>
            <p:cNvPr id="56" name="矩形 5"/>
            <p:cNvSpPr/>
            <p:nvPr/>
          </p:nvSpPr>
          <p:spPr>
            <a:xfrm rot="10800000">
              <a:off x="8691840" y="4127760"/>
              <a:ext cx="2161440" cy="216144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矩形 6"/>
            <p:cNvSpPr/>
            <p:nvPr/>
          </p:nvSpPr>
          <p:spPr>
            <a:xfrm rot="10800000">
              <a:off x="6143400" y="4127760"/>
              <a:ext cx="2161440" cy="216144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矩形 7"/>
            <p:cNvSpPr/>
            <p:nvPr/>
          </p:nvSpPr>
          <p:spPr>
            <a:xfrm rot="10800000">
              <a:off x="3594600" y="4127760"/>
              <a:ext cx="2161440" cy="216144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矩形 8"/>
            <p:cNvSpPr/>
            <p:nvPr/>
          </p:nvSpPr>
          <p:spPr>
            <a:xfrm rot="10800000">
              <a:off x="1045800" y="4127760"/>
              <a:ext cx="2161440" cy="216144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下箭头 10"/>
            <p:cNvSpPr/>
            <p:nvPr/>
          </p:nvSpPr>
          <p:spPr>
            <a:xfrm rot="10800000">
              <a:off x="9185400" y="3619080"/>
              <a:ext cx="1326960" cy="5108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下箭头 11"/>
            <p:cNvSpPr/>
            <p:nvPr/>
          </p:nvSpPr>
          <p:spPr>
            <a:xfrm rot="10800000">
              <a:off x="6564240" y="3619080"/>
              <a:ext cx="1326960" cy="5108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下箭头 12"/>
            <p:cNvSpPr/>
            <p:nvPr/>
          </p:nvSpPr>
          <p:spPr>
            <a:xfrm rot="10800000">
              <a:off x="4041720" y="3619080"/>
              <a:ext cx="1326960" cy="5108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下箭头 13"/>
            <p:cNvSpPr/>
            <p:nvPr/>
          </p:nvSpPr>
          <p:spPr>
            <a:xfrm rot="10800000">
              <a:off x="1491120" y="3619080"/>
              <a:ext cx="1326960" cy="5108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矩形 15"/>
          <p:cNvSpPr/>
          <p:nvPr/>
        </p:nvSpPr>
        <p:spPr>
          <a:xfrm>
            <a:off x="1957680" y="441468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89f0"/>
                </a:solidFill>
                <a:latin typeface="微软雅黑"/>
                <a:ea typeface="微软雅黑"/>
              </a:rPr>
              <a:t>聪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6"/>
          <p:cNvSpPr/>
          <p:nvPr/>
        </p:nvSpPr>
        <p:spPr>
          <a:xfrm>
            <a:off x="4461480" y="440064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89f0"/>
                </a:solidFill>
                <a:latin typeface="微软雅黑"/>
                <a:ea typeface="微软雅黑"/>
              </a:rPr>
              <a:t>自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17"/>
          <p:cNvSpPr/>
          <p:nvPr/>
        </p:nvSpPr>
        <p:spPr>
          <a:xfrm>
            <a:off x="6782040" y="445788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9f0"/>
                </a:solidFill>
                <a:latin typeface="微软雅黑"/>
                <a:ea typeface="微软雅黑"/>
              </a:rPr>
              <a:t>有远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18"/>
          <p:cNvSpPr/>
          <p:nvPr/>
        </p:nvSpPr>
        <p:spPr>
          <a:xfrm>
            <a:off x="9098640" y="44877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9f0"/>
                </a:solidFill>
                <a:latin typeface="微软雅黑"/>
                <a:ea typeface="微软雅黑"/>
              </a:rPr>
              <a:t>足智多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9"/>
          <p:cNvSpPr/>
          <p:nvPr/>
        </p:nvSpPr>
        <p:spPr>
          <a:xfrm>
            <a:off x="6875280" y="2054160"/>
            <a:ext cx="73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客户、老板、搭档都喜欢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图片 20" descr=""/>
          <p:cNvPicPr/>
          <p:nvPr/>
        </p:nvPicPr>
        <p:blipFill>
          <a:blip r:embed="rId1"/>
          <a:stretch/>
        </p:blipFill>
        <p:spPr>
          <a:xfrm>
            <a:off x="3498840" y="5195880"/>
            <a:ext cx="1309680" cy="1073160"/>
          </a:xfrm>
          <a:prstGeom prst="rect">
            <a:avLst/>
          </a:prstGeom>
          <a:ln w="0">
            <a:noFill/>
          </a:ln>
        </p:spPr>
      </p:pic>
      <p:pic>
        <p:nvPicPr>
          <p:cNvPr id="70" name="图片 21" descr=""/>
          <p:cNvPicPr/>
          <p:nvPr/>
        </p:nvPicPr>
        <p:blipFill>
          <a:blip r:embed="rId2"/>
          <a:stretch/>
        </p:blipFill>
        <p:spPr>
          <a:xfrm>
            <a:off x="6180120" y="5286240"/>
            <a:ext cx="1065240" cy="900360"/>
          </a:xfrm>
          <a:prstGeom prst="rect">
            <a:avLst/>
          </a:prstGeom>
          <a:ln w="0">
            <a:noFill/>
          </a:ln>
        </p:spPr>
      </p:pic>
      <p:pic>
        <p:nvPicPr>
          <p:cNvPr id="71" name="图片 23" descr=""/>
          <p:cNvPicPr/>
          <p:nvPr/>
        </p:nvPicPr>
        <p:blipFill>
          <a:blip r:embed="rId3"/>
          <a:stretch/>
        </p:blipFill>
        <p:spPr>
          <a:xfrm>
            <a:off x="8636040" y="5338800"/>
            <a:ext cx="1299960" cy="1073160"/>
          </a:xfrm>
          <a:prstGeom prst="rect">
            <a:avLst/>
          </a:prstGeom>
          <a:ln w="0">
            <a:noFill/>
          </a:ln>
        </p:spPr>
      </p:pic>
      <p:pic>
        <p:nvPicPr>
          <p:cNvPr id="72" name="图片 24" descr=""/>
          <p:cNvPicPr/>
          <p:nvPr/>
        </p:nvPicPr>
        <p:blipFill>
          <a:blip r:embed="rId4"/>
          <a:stretch/>
        </p:blipFill>
        <p:spPr>
          <a:xfrm>
            <a:off x="843120" y="1584360"/>
            <a:ext cx="2805120" cy="1727280"/>
          </a:xfrm>
          <a:prstGeom prst="rect">
            <a:avLst/>
          </a:prstGeom>
          <a:ln w="0">
            <a:noFill/>
          </a:ln>
        </p:spPr>
      </p:pic>
      <p:sp>
        <p:nvSpPr>
          <p:cNvPr id="73" name="直接连接符 25"/>
          <p:cNvSpPr/>
          <p:nvPr/>
        </p:nvSpPr>
        <p:spPr>
          <a:xfrm>
            <a:off x="3602160" y="2909880"/>
            <a:ext cx="6912000" cy="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图片 30" descr=""/>
          <p:cNvPicPr/>
          <p:nvPr/>
        </p:nvPicPr>
        <p:blipFill>
          <a:blip r:embed="rId5"/>
          <a:stretch/>
        </p:blipFill>
        <p:spPr>
          <a:xfrm>
            <a:off x="9142560" y="417600"/>
            <a:ext cx="2739960" cy="1914480"/>
          </a:xfrm>
          <a:prstGeom prst="rect">
            <a:avLst/>
          </a:prstGeom>
          <a:ln w="0">
            <a:noFill/>
          </a:ln>
        </p:spPr>
      </p:pic>
      <p:sp>
        <p:nvSpPr>
          <p:cNvPr id="75" name="任意多边形 31"/>
          <p:cNvSpPr/>
          <p:nvPr/>
        </p:nvSpPr>
        <p:spPr>
          <a:xfrm>
            <a:off x="-322200" y="279360"/>
            <a:ext cx="1185840" cy="587520"/>
          </a:xfrm>
          <a:custGeom>
            <a:avLst/>
            <a:gdLst/>
            <a:ahLst/>
            <a:rect l="l" t="t" r="r" b="b"/>
            <a:pathLst>
              <a:path w="1187356" h="586855">
                <a:moveTo>
                  <a:pt x="0" y="0"/>
                </a:moveTo>
                <a:lnTo>
                  <a:pt x="976408" y="0"/>
                </a:lnTo>
                <a:lnTo>
                  <a:pt x="976408" y="8297"/>
                </a:lnTo>
                <a:lnTo>
                  <a:pt x="1020648" y="23060"/>
                </a:lnTo>
                <a:cubicBezTo>
                  <a:pt x="1118615" y="67605"/>
                  <a:pt x="1187356" y="171887"/>
                  <a:pt x="1187356" y="293428"/>
                </a:cubicBezTo>
                <a:cubicBezTo>
                  <a:pt x="1187356" y="414969"/>
                  <a:pt x="1118615" y="519251"/>
                  <a:pt x="1020648" y="563796"/>
                </a:cubicBezTo>
                <a:lnTo>
                  <a:pt x="976408" y="578559"/>
                </a:lnTo>
                <a:lnTo>
                  <a:pt x="976408" y="586854"/>
                </a:lnTo>
                <a:lnTo>
                  <a:pt x="914410" y="586854"/>
                </a:lnTo>
                <a:lnTo>
                  <a:pt x="914401" y="586855"/>
                </a:lnTo>
                <a:lnTo>
                  <a:pt x="914392" y="586854"/>
                </a:lnTo>
                <a:lnTo>
                  <a:pt x="0" y="586854"/>
                </a:lnTo>
                <a:lnTo>
                  <a:pt x="0" y="0"/>
                </a:lnTo>
                <a:close/>
              </a:path>
            </a:pathLst>
          </a:cu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图片 32" descr=""/>
          <p:cNvPicPr/>
          <p:nvPr/>
        </p:nvPicPr>
        <p:blipFill>
          <a:blip r:embed="rId6"/>
          <a:stretch/>
        </p:blipFill>
        <p:spPr>
          <a:xfrm>
            <a:off x="898560" y="5084640"/>
            <a:ext cx="1270080" cy="11494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矩形 5"/>
          <p:cNvSpPr/>
          <p:nvPr/>
        </p:nvSpPr>
        <p:spPr>
          <a:xfrm rot="1892400">
            <a:off x="3544560" y="1428840"/>
            <a:ext cx="4243320" cy="4265640"/>
          </a:xfrm>
          <a:prstGeom prst="rect">
            <a:avLst/>
          </a:pr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3"/>
          <p:cNvSpPr/>
          <p:nvPr/>
        </p:nvSpPr>
        <p:spPr>
          <a:xfrm rot="900000">
            <a:off x="3177720" y="1919160"/>
            <a:ext cx="5835600" cy="41338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4"/>
          <p:cNvSpPr/>
          <p:nvPr/>
        </p:nvSpPr>
        <p:spPr>
          <a:xfrm>
            <a:off x="3330720" y="2798640"/>
            <a:ext cx="59544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那，老板应如何帮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经理成长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6"/>
          <p:cNvSpPr/>
          <p:nvPr/>
        </p:nvSpPr>
        <p:spPr>
          <a:xfrm flipH="1" rot="17008200">
            <a:off x="3263040" y="2002320"/>
            <a:ext cx="719280" cy="720720"/>
          </a:xfrm>
          <a:prstGeom prst="rect">
            <a:avLst/>
          </a:pr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矩形 22"/>
          <p:cNvSpPr/>
          <p:nvPr/>
        </p:nvSpPr>
        <p:spPr>
          <a:xfrm>
            <a:off x="4915080" y="2260440"/>
            <a:ext cx="7277040" cy="329724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文本框 3"/>
          <p:cNvSpPr/>
          <p:nvPr/>
        </p:nvSpPr>
        <p:spPr>
          <a:xfrm>
            <a:off x="6588000" y="2867040"/>
            <a:ext cx="562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帮帮你的</a:t>
            </a:r>
            <a:r>
              <a:rPr b="0" lang="zh-CN" sz="8000" spc="-1" strike="noStrike">
                <a:solidFill>
                  <a:srgbClr val="0089f0"/>
                </a:solidFill>
                <a:latin typeface="微软雅黑"/>
                <a:ea typeface="微软雅黑"/>
              </a:rPr>
              <a:t>新经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图片 7" descr=""/>
          <p:cNvPicPr/>
          <p:nvPr/>
        </p:nvPicPr>
        <p:blipFill>
          <a:blip r:embed="rId1"/>
          <a:stretch/>
        </p:blipFill>
        <p:spPr>
          <a:xfrm>
            <a:off x="0" y="2271600"/>
            <a:ext cx="4919760" cy="3286080"/>
          </a:xfrm>
          <a:prstGeom prst="rect">
            <a:avLst/>
          </a:prstGeom>
          <a:ln w="0">
            <a:noFill/>
          </a:ln>
        </p:spPr>
      </p:pic>
      <p:grpSp>
        <p:nvGrpSpPr>
          <p:cNvPr id="292" name="Group 5"/>
          <p:cNvGrpSpPr/>
          <p:nvPr/>
        </p:nvGrpSpPr>
        <p:grpSpPr>
          <a:xfrm>
            <a:off x="5265720" y="4084560"/>
            <a:ext cx="5675400" cy="522360"/>
            <a:chOff x="5265720" y="4084560"/>
            <a:chExt cx="5675400" cy="522360"/>
          </a:xfrm>
        </p:grpSpPr>
        <p:sp>
          <p:nvSpPr>
            <p:cNvPr id="293" name="矩形 15"/>
            <p:cNvSpPr/>
            <p:nvPr/>
          </p:nvSpPr>
          <p:spPr>
            <a:xfrm>
              <a:off x="5265720" y="4084560"/>
              <a:ext cx="4933800" cy="522360"/>
            </a:xfrm>
            <a:prstGeom prst="rect">
              <a:avLst/>
            </a:prstGeom>
            <a:solidFill>
              <a:srgbClr val="008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矩形 8"/>
            <p:cNvSpPr/>
            <p:nvPr/>
          </p:nvSpPr>
          <p:spPr>
            <a:xfrm>
              <a:off x="5429160" y="4084560"/>
              <a:ext cx="551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新经理有麻烦，老板怎么做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8"/>
          <p:cNvGrpSpPr/>
          <p:nvPr/>
        </p:nvGrpSpPr>
        <p:grpSpPr>
          <a:xfrm>
            <a:off x="10054800" y="1738440"/>
            <a:ext cx="1496160" cy="398880"/>
            <a:chOff x="10054800" y="1738440"/>
            <a:chExt cx="1496160" cy="398880"/>
          </a:xfrm>
        </p:grpSpPr>
        <p:sp>
          <p:nvSpPr>
            <p:cNvPr id="296" name="矩形 21"/>
            <p:cNvSpPr/>
            <p:nvPr/>
          </p:nvSpPr>
          <p:spPr>
            <a:xfrm>
              <a:off x="10054800" y="1738440"/>
              <a:ext cx="149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作者：卡罗尔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•</a:t>
              </a: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沃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直接连接符 26"/>
          <p:cNvSpPr/>
          <p:nvPr/>
        </p:nvSpPr>
        <p:spPr>
          <a:xfrm>
            <a:off x="-36360" y="6581880"/>
            <a:ext cx="3595680" cy="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文本框 27"/>
          <p:cNvSpPr/>
          <p:nvPr/>
        </p:nvSpPr>
        <p:spPr>
          <a:xfrm>
            <a:off x="1960560" y="282600"/>
            <a:ext cx="827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哈佛商业评论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经典文章解读系列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06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预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1"/>
          <p:cNvSpPr/>
          <p:nvPr/>
        </p:nvSpPr>
        <p:spPr>
          <a:xfrm>
            <a:off x="4219560" y="712800"/>
            <a:ext cx="388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明日发布，欢迎关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2"/>
          <p:cNvGrpSpPr/>
          <p:nvPr/>
        </p:nvGrpSpPr>
        <p:grpSpPr>
          <a:xfrm>
            <a:off x="546120" y="496080"/>
            <a:ext cx="9835920" cy="4705920"/>
            <a:chOff x="546120" y="496080"/>
            <a:chExt cx="9835920" cy="4705920"/>
          </a:xfrm>
        </p:grpSpPr>
        <p:sp>
          <p:nvSpPr>
            <p:cNvPr id="78" name="梯形 1"/>
            <p:cNvSpPr/>
            <p:nvPr/>
          </p:nvSpPr>
          <p:spPr>
            <a:xfrm rot="10107000">
              <a:off x="1029240" y="2138040"/>
              <a:ext cx="9229680" cy="2161800"/>
            </a:xfrm>
            <a:custGeom>
              <a:avLst/>
              <a:gdLst/>
              <a:ahLst/>
              <a:rect l="l" t="t" r="r" b="b"/>
              <a:pathLst>
                <a:path w="9102796" h="1624083">
                  <a:moveTo>
                    <a:pt x="0" y="1614111"/>
                  </a:moveTo>
                  <a:lnTo>
                    <a:pt x="392112" y="0"/>
                  </a:lnTo>
                  <a:lnTo>
                    <a:pt x="8745588" y="590697"/>
                  </a:lnTo>
                  <a:lnTo>
                    <a:pt x="9102796" y="1624083"/>
                  </a:lnTo>
                  <a:lnTo>
                    <a:pt x="0" y="1614111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" name="Group 4"/>
            <p:cNvGrpSpPr/>
            <p:nvPr/>
          </p:nvGrpSpPr>
          <p:grpSpPr>
            <a:xfrm>
              <a:off x="546120" y="496080"/>
              <a:ext cx="9645120" cy="4675680"/>
              <a:chOff x="546120" y="496080"/>
              <a:chExt cx="9645120" cy="4675680"/>
            </a:xfrm>
          </p:grpSpPr>
          <p:sp>
            <p:nvSpPr>
              <p:cNvPr id="80" name="等腰三角形 3"/>
              <p:cNvSpPr/>
              <p:nvPr/>
            </p:nvSpPr>
            <p:spPr>
              <a:xfrm rot="19733400">
                <a:off x="1494000" y="851400"/>
                <a:ext cx="1729080" cy="1265040"/>
              </a:xfrm>
              <a:custGeom>
                <a:avLst/>
                <a:gdLst/>
                <a:ahLst/>
                <a:rect l="l" t="t" r="r" b="b"/>
                <a:pathLst>
                  <a:path w="1405240" h="1402127">
                    <a:moveTo>
                      <a:pt x="825229" y="1402127"/>
                    </a:moveTo>
                    <a:lnTo>
                      <a:pt x="0" y="0"/>
                    </a:lnTo>
                    <a:lnTo>
                      <a:pt x="1405240" y="1363006"/>
                    </a:lnTo>
                    <a:lnTo>
                      <a:pt x="825229" y="1402127"/>
                    </a:lnTo>
                    <a:close/>
                  </a:path>
                </a:pathLst>
              </a:custGeom>
              <a:solidFill>
                <a:srgbClr val="0089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直角三角形 2"/>
              <p:cNvSpPr/>
              <p:nvPr/>
            </p:nvSpPr>
            <p:spPr>
              <a:xfrm flipH="1" rot="20853600">
                <a:off x="610560" y="1842840"/>
                <a:ext cx="2938320" cy="918360"/>
              </a:xfrm>
              <a:custGeom>
                <a:avLst/>
                <a:gdLst/>
                <a:ahLst/>
                <a:rect l="l" t="t" r="r" b="b"/>
                <a:pathLst>
                  <a:path w="2207831" h="689727">
                    <a:moveTo>
                      <a:pt x="123375" y="689727"/>
                    </a:moveTo>
                    <a:lnTo>
                      <a:pt x="0" y="0"/>
                    </a:lnTo>
                    <a:lnTo>
                      <a:pt x="2207831" y="682528"/>
                    </a:lnTo>
                    <a:lnTo>
                      <a:pt x="123375" y="689727"/>
                    </a:lnTo>
                    <a:close/>
                  </a:path>
                </a:pathLst>
              </a:custGeom>
              <a:solidFill>
                <a:srgbClr val="0070c0"/>
              </a:solidFill>
              <a:ln w="12600">
                <a:solidFill>
                  <a:srgbClr val="42719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梯形 1"/>
              <p:cNvSpPr/>
              <p:nvPr/>
            </p:nvSpPr>
            <p:spPr>
              <a:xfrm rot="10053600">
                <a:off x="837000" y="2040480"/>
                <a:ext cx="9229680" cy="2162160"/>
              </a:xfrm>
              <a:custGeom>
                <a:avLst/>
                <a:gdLst/>
                <a:ahLst/>
                <a:rect l="l" t="t" r="r" b="b"/>
                <a:pathLst>
                  <a:path w="9102796" h="1624083">
                    <a:moveTo>
                      <a:pt x="0" y="1614111"/>
                    </a:moveTo>
                    <a:lnTo>
                      <a:pt x="392112" y="0"/>
                    </a:lnTo>
                    <a:lnTo>
                      <a:pt x="8905186" y="353869"/>
                    </a:lnTo>
                    <a:lnTo>
                      <a:pt x="9102796" y="1624083"/>
                    </a:lnTo>
                    <a:lnTo>
                      <a:pt x="0" y="1614111"/>
                    </a:lnTo>
                    <a:close/>
                  </a:path>
                </a:pathLst>
              </a:custGeom>
              <a:solidFill>
                <a:srgbClr val="0089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3" name="矩形 4"/>
          <p:cNvSpPr/>
          <p:nvPr/>
        </p:nvSpPr>
        <p:spPr>
          <a:xfrm rot="20922600">
            <a:off x="3321000" y="2215800"/>
            <a:ext cx="4569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升了职，加了薪，做了领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切就万事大吉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1"/>
          <p:cNvSpPr/>
          <p:nvPr/>
        </p:nvSpPr>
        <p:spPr>
          <a:xfrm rot="777000">
            <a:off x="9333000" y="3257280"/>
            <a:ext cx="169704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9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？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2"/>
          <p:cNvSpPr/>
          <p:nvPr/>
        </p:nvSpPr>
        <p:spPr>
          <a:xfrm rot="20638800">
            <a:off x="8402760" y="3960720"/>
            <a:ext cx="10569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？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3"/>
          <p:cNvSpPr/>
          <p:nvPr/>
        </p:nvSpPr>
        <p:spPr>
          <a:xfrm rot="2275200">
            <a:off x="10113840" y="4704480"/>
            <a:ext cx="10569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？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椭圆 13"/>
          <p:cNvSpPr/>
          <p:nvPr/>
        </p:nvSpPr>
        <p:spPr>
          <a:xfrm>
            <a:off x="2922480" y="255600"/>
            <a:ext cx="6346800" cy="63468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椭圆 12"/>
          <p:cNvSpPr/>
          <p:nvPr/>
        </p:nvSpPr>
        <p:spPr>
          <a:xfrm>
            <a:off x="3327480" y="660240"/>
            <a:ext cx="5537160" cy="553752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1"/>
          <p:cNvSpPr/>
          <p:nvPr/>
        </p:nvSpPr>
        <p:spPr>
          <a:xfrm rot="19613400">
            <a:off x="1525680" y="4052520"/>
            <a:ext cx="3814560" cy="2755800"/>
          </a:xfrm>
          <a:prstGeom prst="rect">
            <a:avLst/>
          </a:prstGeom>
          <a:noFill/>
          <a:ln w="76320">
            <a:solidFill>
              <a:srgbClr val="0089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9"/>
          <p:cNvSpPr/>
          <p:nvPr/>
        </p:nvSpPr>
        <p:spPr>
          <a:xfrm rot="727200">
            <a:off x="1244520" y="888480"/>
            <a:ext cx="5040360" cy="2073600"/>
          </a:xfrm>
          <a:prstGeom prst="rect">
            <a:avLst/>
          </a:prstGeom>
          <a:noFill/>
          <a:ln w="76320">
            <a:solidFill>
              <a:srgbClr val="0089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0"/>
          <p:cNvSpPr/>
          <p:nvPr/>
        </p:nvSpPr>
        <p:spPr>
          <a:xfrm rot="294000">
            <a:off x="7095600" y="2355840"/>
            <a:ext cx="5274000" cy="3189240"/>
          </a:xfrm>
          <a:prstGeom prst="rect">
            <a:avLst/>
          </a:prstGeom>
          <a:noFill/>
          <a:ln w="76320">
            <a:solidFill>
              <a:srgbClr val="0089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椭圆 3"/>
          <p:cNvSpPr/>
          <p:nvPr/>
        </p:nvSpPr>
        <p:spPr>
          <a:xfrm>
            <a:off x="3575160" y="907920"/>
            <a:ext cx="5040360" cy="5040360"/>
          </a:xfrm>
          <a:prstGeom prst="ellipse">
            <a:avLst/>
          </a:pr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8"/>
          <p:cNvGrpSpPr/>
          <p:nvPr/>
        </p:nvGrpSpPr>
        <p:grpSpPr>
          <a:xfrm>
            <a:off x="7170840" y="1731600"/>
            <a:ext cx="1353240" cy="3047400"/>
            <a:chOff x="7170840" y="1731600"/>
            <a:chExt cx="1353240" cy="3047400"/>
          </a:xfrm>
        </p:grpSpPr>
        <p:sp>
          <p:nvSpPr>
            <p:cNvPr id="94" name="梯形 4"/>
            <p:cNvSpPr/>
            <p:nvPr/>
          </p:nvSpPr>
          <p:spPr>
            <a:xfrm flipV="1" rot="11359800">
              <a:off x="7344000" y="1798200"/>
              <a:ext cx="1006560" cy="2219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椭圆 5"/>
            <p:cNvSpPr/>
            <p:nvPr/>
          </p:nvSpPr>
          <p:spPr>
            <a:xfrm rot="560400">
              <a:off x="7241040" y="4088160"/>
              <a:ext cx="718920" cy="636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矩形 7"/>
          <p:cNvSpPr/>
          <p:nvPr/>
        </p:nvSpPr>
        <p:spPr>
          <a:xfrm rot="20994000">
            <a:off x="3687480" y="1674720"/>
            <a:ext cx="342828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000000"/>
                </a:solidFill>
                <a:latin typeface="微软雅黑"/>
                <a:ea typeface="微软雅黑"/>
              </a:rPr>
              <a:t>NO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4"/>
          <p:cNvSpPr/>
          <p:nvPr/>
        </p:nvSpPr>
        <p:spPr>
          <a:xfrm>
            <a:off x="2253960" y="5340240"/>
            <a:ext cx="127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亲密伙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再尊重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甚至不喜欢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5"/>
          <p:cNvSpPr/>
          <p:nvPr/>
        </p:nvSpPr>
        <p:spPr>
          <a:xfrm>
            <a:off x="10061280" y="3429000"/>
            <a:ext cx="1643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部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各种麻烦不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仿佛成了火灾现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6"/>
          <p:cNvSpPr/>
          <p:nvPr/>
        </p:nvSpPr>
        <p:spPr>
          <a:xfrm>
            <a:off x="1887840" y="1031760"/>
            <a:ext cx="912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自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近乎崩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各种疑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直接连接符 17"/>
          <p:cNvSpPr/>
          <p:nvPr/>
        </p:nvSpPr>
        <p:spPr>
          <a:xfrm flipH="1">
            <a:off x="9469440" y="3232080"/>
            <a:ext cx="339840" cy="519120"/>
          </a:xfrm>
          <a:prstGeom prst="line">
            <a:avLst/>
          </a:prstGeom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直接连接符 18"/>
          <p:cNvSpPr/>
          <p:nvPr/>
        </p:nvSpPr>
        <p:spPr>
          <a:xfrm flipH="1">
            <a:off x="1547640" y="833400"/>
            <a:ext cx="339840" cy="519120"/>
          </a:xfrm>
          <a:prstGeom prst="line">
            <a:avLst/>
          </a:prstGeom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直接连接符 19"/>
          <p:cNvSpPr/>
          <p:nvPr/>
        </p:nvSpPr>
        <p:spPr>
          <a:xfrm flipH="1">
            <a:off x="1666800" y="5226120"/>
            <a:ext cx="339840" cy="519120"/>
          </a:xfrm>
          <a:prstGeom prst="line">
            <a:avLst/>
          </a:prstGeom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"/>
          <p:cNvSpPr/>
          <p:nvPr/>
        </p:nvSpPr>
        <p:spPr>
          <a:xfrm rot="21082200">
            <a:off x="4572720" y="388152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甚至会这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文本框 1"/>
          <p:cNvSpPr/>
          <p:nvPr/>
        </p:nvSpPr>
        <p:spPr>
          <a:xfrm>
            <a:off x="863640" y="219240"/>
            <a:ext cx="982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往往是在最基本的法则摔跟头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任意多边形 2"/>
          <p:cNvSpPr/>
          <p:nvPr/>
        </p:nvSpPr>
        <p:spPr>
          <a:xfrm>
            <a:off x="-322200" y="279360"/>
            <a:ext cx="1185840" cy="587520"/>
          </a:xfrm>
          <a:custGeom>
            <a:avLst/>
            <a:gdLst/>
            <a:ahLst/>
            <a:rect l="l" t="t" r="r" b="b"/>
            <a:pathLst>
              <a:path w="1187356" h="586855">
                <a:moveTo>
                  <a:pt x="0" y="0"/>
                </a:moveTo>
                <a:lnTo>
                  <a:pt x="976408" y="0"/>
                </a:lnTo>
                <a:lnTo>
                  <a:pt x="976408" y="8297"/>
                </a:lnTo>
                <a:lnTo>
                  <a:pt x="1020648" y="23060"/>
                </a:lnTo>
                <a:cubicBezTo>
                  <a:pt x="1118615" y="67605"/>
                  <a:pt x="1187356" y="171887"/>
                  <a:pt x="1187356" y="293428"/>
                </a:cubicBezTo>
                <a:cubicBezTo>
                  <a:pt x="1187356" y="414969"/>
                  <a:pt x="1118615" y="519251"/>
                  <a:pt x="1020648" y="563796"/>
                </a:cubicBezTo>
                <a:lnTo>
                  <a:pt x="976408" y="578559"/>
                </a:lnTo>
                <a:lnTo>
                  <a:pt x="976408" y="586854"/>
                </a:lnTo>
                <a:lnTo>
                  <a:pt x="914410" y="586854"/>
                </a:lnTo>
                <a:lnTo>
                  <a:pt x="914401" y="586855"/>
                </a:lnTo>
                <a:lnTo>
                  <a:pt x="914392" y="586854"/>
                </a:lnTo>
                <a:lnTo>
                  <a:pt x="0" y="586854"/>
                </a:lnTo>
                <a:lnTo>
                  <a:pt x="0" y="0"/>
                </a:lnTo>
                <a:close/>
              </a:path>
            </a:pathLst>
          </a:cu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4"/>
          <p:cNvGrpSpPr/>
          <p:nvPr/>
        </p:nvGrpSpPr>
        <p:grpSpPr>
          <a:xfrm>
            <a:off x="1855800" y="1606680"/>
            <a:ext cx="9431280" cy="4092840"/>
            <a:chOff x="1855800" y="1606680"/>
            <a:chExt cx="9431280" cy="4092840"/>
          </a:xfrm>
        </p:grpSpPr>
        <p:grpSp>
          <p:nvGrpSpPr>
            <p:cNvPr id="107" name="Group 5"/>
            <p:cNvGrpSpPr/>
            <p:nvPr/>
          </p:nvGrpSpPr>
          <p:grpSpPr>
            <a:xfrm>
              <a:off x="1855800" y="4494960"/>
              <a:ext cx="7356600" cy="1204560"/>
              <a:chOff x="1855800" y="4494960"/>
              <a:chExt cx="7356600" cy="1204560"/>
            </a:xfrm>
          </p:grpSpPr>
          <p:sp>
            <p:nvSpPr>
              <p:cNvPr id="108" name="直角三角形 7"/>
              <p:cNvSpPr/>
              <p:nvPr/>
            </p:nvSpPr>
            <p:spPr>
              <a:xfrm flipV="1" rot="1551600">
                <a:off x="8352360" y="4843440"/>
                <a:ext cx="736920" cy="731520"/>
              </a:xfrm>
              <a:custGeom>
                <a:avLst/>
                <a:gdLst/>
                <a:ahLst/>
                <a:rect l="l" t="t" r="r" b="b"/>
                <a:pathLst>
                  <a:path w="736978" h="543929">
                    <a:moveTo>
                      <a:pt x="136478" y="543929"/>
                    </a:moveTo>
                    <a:lnTo>
                      <a:pt x="0" y="0"/>
                    </a:lnTo>
                    <a:lnTo>
                      <a:pt x="736978" y="543929"/>
                    </a:lnTo>
                    <a:lnTo>
                      <a:pt x="136478" y="543929"/>
                    </a:lnTo>
                    <a:close/>
                  </a:path>
                </a:pathLst>
              </a:cu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矩形 10"/>
              <p:cNvSpPr/>
              <p:nvPr/>
            </p:nvSpPr>
            <p:spPr>
              <a:xfrm>
                <a:off x="1855800" y="4494960"/>
                <a:ext cx="7356600" cy="565200"/>
              </a:xfrm>
              <a:prstGeom prst="rect">
                <a:avLst/>
              </a:prstGeom>
              <a:solidFill>
                <a:srgbClr val="0089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Group 8"/>
            <p:cNvGrpSpPr/>
            <p:nvPr/>
          </p:nvGrpSpPr>
          <p:grpSpPr>
            <a:xfrm>
              <a:off x="1855800" y="2759760"/>
              <a:ext cx="9322200" cy="1221480"/>
              <a:chOff x="1855800" y="2759760"/>
              <a:chExt cx="9322200" cy="1221480"/>
            </a:xfrm>
          </p:grpSpPr>
          <p:sp>
            <p:nvSpPr>
              <p:cNvPr id="111" name="直角三角形 7"/>
              <p:cNvSpPr/>
              <p:nvPr/>
            </p:nvSpPr>
            <p:spPr>
              <a:xfrm flipV="1" rot="1551600">
                <a:off x="10317960" y="3125160"/>
                <a:ext cx="736920" cy="731520"/>
              </a:xfrm>
              <a:custGeom>
                <a:avLst/>
                <a:gdLst/>
                <a:ahLst/>
                <a:rect l="l" t="t" r="r" b="b"/>
                <a:pathLst>
                  <a:path w="736978" h="543929">
                    <a:moveTo>
                      <a:pt x="136478" y="543929"/>
                    </a:moveTo>
                    <a:lnTo>
                      <a:pt x="0" y="0"/>
                    </a:lnTo>
                    <a:lnTo>
                      <a:pt x="736978" y="543929"/>
                    </a:lnTo>
                    <a:lnTo>
                      <a:pt x="136478" y="543929"/>
                    </a:lnTo>
                    <a:close/>
                  </a:path>
                </a:pathLst>
              </a:cu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矩形 4"/>
              <p:cNvSpPr/>
              <p:nvPr/>
            </p:nvSpPr>
            <p:spPr>
              <a:xfrm>
                <a:off x="1855800" y="2759760"/>
                <a:ext cx="9322200" cy="565200"/>
              </a:xfrm>
              <a:prstGeom prst="rect">
                <a:avLst/>
              </a:prstGeom>
              <a:solidFill>
                <a:srgbClr val="0089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矩形 7"/>
            <p:cNvSpPr/>
            <p:nvPr/>
          </p:nvSpPr>
          <p:spPr>
            <a:xfrm>
              <a:off x="1855800" y="1606680"/>
              <a:ext cx="9431280" cy="350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89f0"/>
                  </a:solidFill>
                  <a:latin typeface="微软雅黑"/>
                  <a:ea typeface="微软雅黑"/>
                </a:rPr>
                <a:t>公司：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想当然的认为新经理会在潜移默化中学会管理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89f0"/>
                  </a:solidFill>
                  <a:latin typeface="微软雅黑"/>
                  <a:ea typeface="微软雅黑"/>
                </a:rPr>
                <a:t>新经理：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管理岗位仅仅是技术能力卓越就够了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矩形 4"/>
          <p:cNvSpPr/>
          <p:nvPr/>
        </p:nvSpPr>
        <p:spPr>
          <a:xfrm rot="1402200">
            <a:off x="3692160" y="339840"/>
            <a:ext cx="8366040" cy="68580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5"/>
          <p:cNvSpPr/>
          <p:nvPr/>
        </p:nvSpPr>
        <p:spPr>
          <a:xfrm rot="712800">
            <a:off x="255240" y="846000"/>
            <a:ext cx="2422440" cy="22050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6"/>
          <p:cNvSpPr/>
          <p:nvPr/>
        </p:nvSpPr>
        <p:spPr>
          <a:xfrm rot="21246600">
            <a:off x="482760" y="1233360"/>
            <a:ext cx="3727440" cy="3716640"/>
          </a:xfrm>
          <a:prstGeom prst="rect">
            <a:avLst/>
          </a:pr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图片 3" descr=""/>
          <p:cNvPicPr/>
          <p:nvPr/>
        </p:nvPicPr>
        <p:blipFill>
          <a:blip r:embed="rId1"/>
          <a:stretch/>
        </p:blipFill>
        <p:spPr>
          <a:xfrm rot="21226800">
            <a:off x="614160" y="1391760"/>
            <a:ext cx="3479760" cy="3364200"/>
          </a:xfrm>
          <a:prstGeom prst="rect">
            <a:avLst/>
          </a:prstGeom>
          <a:ln w="0">
            <a:noFill/>
          </a:ln>
        </p:spPr>
      </p:pic>
      <p:sp>
        <p:nvSpPr>
          <p:cNvPr id="118" name="矩形 7"/>
          <p:cNvSpPr/>
          <p:nvPr/>
        </p:nvSpPr>
        <p:spPr>
          <a:xfrm>
            <a:off x="4433760" y="1560600"/>
            <a:ext cx="7758360" cy="15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9f0"/>
                </a:solidFill>
                <a:latin typeface="微软雅黑"/>
                <a:ea typeface="微软雅黑"/>
              </a:rPr>
              <a:t>       </a:t>
            </a:r>
            <a:r>
              <a:rPr b="0" lang="zh-CN" sz="4000" spc="-1" strike="noStrike">
                <a:solidFill>
                  <a:srgbClr val="0089f0"/>
                </a:solidFill>
                <a:latin typeface="微软雅黑"/>
                <a:ea typeface="微软雅黑"/>
              </a:rPr>
              <a:t>当一切都不受你的控制时：就好像你没有孩子却突然间变成了孩子的父母，你必须了解照料小孩的一切知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位新经理的感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文本框 4"/>
          <p:cNvSpPr/>
          <p:nvPr/>
        </p:nvSpPr>
        <p:spPr>
          <a:xfrm>
            <a:off x="863640" y="219240"/>
            <a:ext cx="776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升职，面临的是更大的挑战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任意多边形 15"/>
          <p:cNvSpPr/>
          <p:nvPr/>
        </p:nvSpPr>
        <p:spPr>
          <a:xfrm>
            <a:off x="-322200" y="279360"/>
            <a:ext cx="1185840" cy="587520"/>
          </a:xfrm>
          <a:custGeom>
            <a:avLst/>
            <a:gdLst/>
            <a:ahLst/>
            <a:rect l="l" t="t" r="r" b="b"/>
            <a:pathLst>
              <a:path w="1187356" h="586855">
                <a:moveTo>
                  <a:pt x="0" y="0"/>
                </a:moveTo>
                <a:lnTo>
                  <a:pt x="976408" y="0"/>
                </a:lnTo>
                <a:lnTo>
                  <a:pt x="976408" y="8297"/>
                </a:lnTo>
                <a:lnTo>
                  <a:pt x="1020648" y="23060"/>
                </a:lnTo>
                <a:cubicBezTo>
                  <a:pt x="1118615" y="67605"/>
                  <a:pt x="1187356" y="171887"/>
                  <a:pt x="1187356" y="293428"/>
                </a:cubicBezTo>
                <a:cubicBezTo>
                  <a:pt x="1187356" y="414969"/>
                  <a:pt x="1118615" y="519251"/>
                  <a:pt x="1020648" y="563796"/>
                </a:cubicBezTo>
                <a:lnTo>
                  <a:pt x="976408" y="578559"/>
                </a:lnTo>
                <a:lnTo>
                  <a:pt x="976408" y="586854"/>
                </a:lnTo>
                <a:lnTo>
                  <a:pt x="914410" y="586854"/>
                </a:lnTo>
                <a:lnTo>
                  <a:pt x="914401" y="586855"/>
                </a:lnTo>
                <a:lnTo>
                  <a:pt x="914392" y="586854"/>
                </a:lnTo>
                <a:lnTo>
                  <a:pt x="0" y="586854"/>
                </a:lnTo>
                <a:lnTo>
                  <a:pt x="0" y="0"/>
                </a:lnTo>
                <a:close/>
              </a:path>
            </a:pathLst>
          </a:cu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4"/>
          <p:cNvGrpSpPr/>
          <p:nvPr/>
        </p:nvGrpSpPr>
        <p:grpSpPr>
          <a:xfrm>
            <a:off x="2874960" y="1549440"/>
            <a:ext cx="6937200" cy="3216600"/>
            <a:chOff x="2874960" y="1549440"/>
            <a:chExt cx="6937200" cy="3216600"/>
          </a:xfrm>
        </p:grpSpPr>
        <p:sp>
          <p:nvSpPr>
            <p:cNvPr id="122" name="直角三角形 7"/>
            <p:cNvSpPr/>
            <p:nvPr/>
          </p:nvSpPr>
          <p:spPr>
            <a:xfrm flipV="1" rot="1551600">
              <a:off x="8952480" y="3275640"/>
              <a:ext cx="736920" cy="731520"/>
            </a:xfrm>
            <a:custGeom>
              <a:avLst/>
              <a:gdLst/>
              <a:ahLst/>
              <a:rect l="l" t="t" r="r" b="b"/>
              <a:pathLst>
                <a:path w="736978" h="543929">
                  <a:moveTo>
                    <a:pt x="136478" y="543929"/>
                  </a:moveTo>
                  <a:lnTo>
                    <a:pt x="0" y="0"/>
                  </a:lnTo>
                  <a:lnTo>
                    <a:pt x="736978" y="543929"/>
                  </a:lnTo>
                  <a:lnTo>
                    <a:pt x="136478" y="543929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直角三角形 7"/>
            <p:cNvSpPr/>
            <p:nvPr/>
          </p:nvSpPr>
          <p:spPr>
            <a:xfrm flipV="1" rot="1551600">
              <a:off x="7260120" y="3909960"/>
              <a:ext cx="736920" cy="731520"/>
            </a:xfrm>
            <a:custGeom>
              <a:avLst/>
              <a:gdLst/>
              <a:ahLst/>
              <a:rect l="l" t="t" r="r" b="b"/>
              <a:pathLst>
                <a:path w="736978" h="543929">
                  <a:moveTo>
                    <a:pt x="136478" y="543929"/>
                  </a:moveTo>
                  <a:lnTo>
                    <a:pt x="0" y="0"/>
                  </a:lnTo>
                  <a:lnTo>
                    <a:pt x="736978" y="543929"/>
                  </a:lnTo>
                  <a:lnTo>
                    <a:pt x="136478" y="543929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矩形 6"/>
            <p:cNvSpPr/>
            <p:nvPr/>
          </p:nvSpPr>
          <p:spPr>
            <a:xfrm>
              <a:off x="2874960" y="3566520"/>
              <a:ext cx="5231520" cy="565200"/>
            </a:xfrm>
            <a:prstGeom prst="rect">
              <a:avLst/>
            </a:prstGeom>
            <a:solidFill>
              <a:srgbClr val="008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矩形 9"/>
            <p:cNvSpPr/>
            <p:nvPr/>
          </p:nvSpPr>
          <p:spPr>
            <a:xfrm>
              <a:off x="2874960" y="2912760"/>
              <a:ext cx="6937200" cy="565200"/>
            </a:xfrm>
            <a:prstGeom prst="rect">
              <a:avLst/>
            </a:prstGeom>
            <a:solidFill>
              <a:srgbClr val="008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矩形 1"/>
            <p:cNvSpPr/>
            <p:nvPr/>
          </p:nvSpPr>
          <p:spPr>
            <a:xfrm>
              <a:off x="4208760" y="1549440"/>
              <a:ext cx="4082040" cy="267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0089f0"/>
                  </a:solidFill>
                  <a:latin typeface="微软雅黑"/>
                  <a:ea typeface="微软雅黑"/>
                </a:rPr>
                <a:t>角色转变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他们的任务不再是实现自己的成就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而是使其他人能够有所成就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矩形 2"/>
          <p:cNvSpPr/>
          <p:nvPr/>
        </p:nvSpPr>
        <p:spPr>
          <a:xfrm>
            <a:off x="4704120" y="4195800"/>
            <a:ext cx="1003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bfbfbf"/>
                </a:solidFill>
                <a:latin typeface="微软雅黑"/>
                <a:ea typeface="微软雅黑"/>
              </a:rPr>
              <a:t>建设一个团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bfbfbf"/>
                </a:solidFill>
                <a:latin typeface="微软雅黑"/>
                <a:ea typeface="微软雅黑"/>
              </a:rPr>
              <a:t>往往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bfbfbf"/>
                </a:solidFill>
                <a:latin typeface="微软雅黑"/>
                <a:ea typeface="微软雅黑"/>
              </a:rPr>
              <a:t>做成一笔生意更重要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矩形 3"/>
          <p:cNvSpPr/>
          <p:nvPr/>
        </p:nvSpPr>
        <p:spPr>
          <a:xfrm rot="1402200">
            <a:off x="3692160" y="339840"/>
            <a:ext cx="8366040" cy="68580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7"/>
          <p:cNvSpPr/>
          <p:nvPr/>
        </p:nvSpPr>
        <p:spPr>
          <a:xfrm rot="712800">
            <a:off x="255240" y="846000"/>
            <a:ext cx="2422440" cy="22050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8"/>
          <p:cNvSpPr/>
          <p:nvPr/>
        </p:nvSpPr>
        <p:spPr>
          <a:xfrm rot="21246600">
            <a:off x="493560" y="1275840"/>
            <a:ext cx="2874960" cy="3870360"/>
          </a:xfrm>
          <a:prstGeom prst="rect">
            <a:avLst/>
          </a:pr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1"/>
          <p:cNvSpPr/>
          <p:nvPr/>
        </p:nvSpPr>
        <p:spPr>
          <a:xfrm>
            <a:off x="4224240" y="1658880"/>
            <a:ext cx="7758360" cy="24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9f0"/>
                </a:solidFill>
                <a:latin typeface="微软雅黑"/>
                <a:ea typeface="微软雅黑"/>
              </a:rPr>
              <a:t>那些曾经让你成功的因素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9f0"/>
                </a:solidFill>
                <a:latin typeface="微软雅黑"/>
                <a:ea typeface="微软雅黑"/>
              </a:rPr>
              <a:t>不会让你继续成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9f0"/>
                </a:solidFill>
                <a:latin typeface="微软雅黑"/>
                <a:ea typeface="微软雅黑"/>
              </a:rPr>
              <a:t>——</a:t>
            </a:r>
            <a:r>
              <a:rPr b="0" lang="zh-CN" sz="3200" spc="-1" strike="noStrike">
                <a:solidFill>
                  <a:srgbClr val="0089f0"/>
                </a:solidFill>
                <a:latin typeface="微软雅黑"/>
                <a:ea typeface="微软雅黑"/>
              </a:rPr>
              <a:t>马歇尔</a:t>
            </a:r>
            <a:r>
              <a:rPr b="0" lang="en-US" sz="3200" spc="-1" strike="noStrike">
                <a:solidFill>
                  <a:srgbClr val="0089f0"/>
                </a:solidFill>
                <a:latin typeface="微软雅黑"/>
                <a:ea typeface="微软雅黑"/>
              </a:rPr>
              <a:t>•</a:t>
            </a:r>
            <a:r>
              <a:rPr b="0" lang="zh-CN" sz="3200" spc="-1" strike="noStrike">
                <a:solidFill>
                  <a:srgbClr val="0089f0"/>
                </a:solidFill>
                <a:latin typeface="微软雅黑"/>
                <a:ea typeface="微软雅黑"/>
              </a:rPr>
              <a:t>戈德史密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5"/>
          <p:cNvSpPr/>
          <p:nvPr/>
        </p:nvSpPr>
        <p:spPr>
          <a:xfrm>
            <a:off x="6813720" y="3952800"/>
            <a:ext cx="5168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全球高级领导者教练领域的先驱与权威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福布斯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五位最受尊重的执行教练之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80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来最有影响力的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50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位管理思想家之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图片 4" descr=""/>
          <p:cNvPicPr/>
          <p:nvPr/>
        </p:nvPicPr>
        <p:blipFill>
          <a:blip r:embed="rId1"/>
          <a:stretch/>
        </p:blipFill>
        <p:spPr>
          <a:xfrm rot="21258000">
            <a:off x="609120" y="1371240"/>
            <a:ext cx="2649600" cy="35942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矩形 13"/>
          <p:cNvSpPr/>
          <p:nvPr/>
        </p:nvSpPr>
        <p:spPr>
          <a:xfrm rot="10800000">
            <a:off x="-20880" y="0"/>
            <a:ext cx="12187080" cy="6858000"/>
          </a:xfrm>
          <a:custGeom>
            <a:avLst/>
            <a:gdLst/>
            <a:ahLst/>
            <a:rect l="l" t="t" r="r" b="b"/>
            <a:pathLst>
              <a:path w="12192000" h="5718413">
                <a:moveTo>
                  <a:pt x="1009935" y="27296"/>
                </a:moveTo>
                <a:lnTo>
                  <a:pt x="11154770" y="0"/>
                </a:lnTo>
                <a:lnTo>
                  <a:pt x="12192000" y="5718413"/>
                </a:lnTo>
                <a:lnTo>
                  <a:pt x="0" y="5718413"/>
                </a:lnTo>
                <a:lnTo>
                  <a:pt x="1009935" y="27296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3"/>
          <p:cNvGrpSpPr/>
          <p:nvPr/>
        </p:nvGrpSpPr>
        <p:grpSpPr>
          <a:xfrm>
            <a:off x="2349360" y="1930320"/>
            <a:ext cx="7845480" cy="2477520"/>
            <a:chOff x="2349360" y="1930320"/>
            <a:chExt cx="7845480" cy="2477520"/>
          </a:xfrm>
        </p:grpSpPr>
        <p:sp>
          <p:nvSpPr>
            <p:cNvPr id="136" name="矩形 4"/>
            <p:cNvSpPr/>
            <p:nvPr/>
          </p:nvSpPr>
          <p:spPr>
            <a:xfrm>
              <a:off x="2483280" y="3670920"/>
              <a:ext cx="7575120" cy="736920"/>
            </a:xfrm>
            <a:prstGeom prst="rect">
              <a:avLst/>
            </a:prstGeom>
            <a:solidFill>
              <a:srgbClr val="008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矩形 3"/>
            <p:cNvSpPr/>
            <p:nvPr/>
          </p:nvSpPr>
          <p:spPr>
            <a:xfrm>
              <a:off x="2349360" y="1930320"/>
              <a:ext cx="7845480" cy="24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更可怕的是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一些错误的观点让转型变得更困难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6T06:46:00Z</dcterms:created>
  <dc:creator>xiaoba ba</dc:creator>
  <dc:description/>
  <dc:language>en-US</dc:language>
  <cp:lastModifiedBy>Administrator</cp:lastModifiedBy>
  <dcterms:modified xsi:type="dcterms:W3CDTF">2016-08-02T06:17:17Z</dcterms:modified>
  <cp:revision>36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