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EB03-754A-4FF8-95CB-8C4D8B35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00C-4D68-4461-974D-B0AFC08C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868-2C8C-4C12-893C-68FDC83F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F2A-857C-473D-882B-8925D612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17C-DEA8-4930-B7BF-A0C98D4F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98F-83C2-440F-A0DA-5538F91C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7A7-D65B-4CA3-A908-1A258000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D00-B1B9-4BCD-97FD-4CFD6E07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43C-5475-430E-95F8-C3E6C042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85F-3ADA-41C2-9906-B093D9DE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EB8-620D-40B5-9909-BB2F2D7E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DC8-BE50-43C2-BCA4-F1A512F6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71452-CE71-41CD-9F51-B1CBEBF999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88095-FC1E-4537-B299-CBE86077857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2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8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7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五角星 8"/>
            <p:cNvSpPr/>
            <p:nvPr/>
          </p:nvSpPr>
          <p:spPr>
            <a:xfrm>
              <a:off x="1245960" y="1314360"/>
              <a:ext cx="642960" cy="641160"/>
            </a:xfrm>
            <a:custGeom>
              <a:avLst/>
              <a:gdLst/>
              <a:ahLst/>
              <a:rect l="l" t="t" r="r" b="b"/>
              <a:pathLst>
                <a:path w="642841" h="641452">
                  <a:moveTo>
                    <a:pt x="1" y="245012"/>
                  </a:moveTo>
                  <a:lnTo>
                    <a:pt x="245545" y="245014"/>
                  </a:lnTo>
                  <a:lnTo>
                    <a:pt x="321421" y="0"/>
                  </a:lnTo>
                  <a:lnTo>
                    <a:pt x="397296" y="245014"/>
                  </a:lnTo>
                  <a:lnTo>
                    <a:pt x="642840" y="245012"/>
                  </a:lnTo>
                  <a:lnTo>
                    <a:pt x="444190" y="396437"/>
                  </a:lnTo>
                  <a:lnTo>
                    <a:pt x="520069" y="641450"/>
                  </a:lnTo>
                  <a:lnTo>
                    <a:pt x="321421" y="490022"/>
                  </a:lnTo>
                  <a:lnTo>
                    <a:pt x="122772" y="641450"/>
                  </a:lnTo>
                  <a:lnTo>
                    <a:pt x="198651" y="396437"/>
                  </a:lnTo>
                  <a:lnTo>
                    <a:pt x="1" y="2450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3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7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42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52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53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6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5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Diana</dc:creator>
  <dc:description/>
  <cp:keywords/>
  <dc:language>en-US</dc:language>
  <cp:lastModifiedBy>姜天宝</cp:lastModifiedBy>
  <dcterms:modified xsi:type="dcterms:W3CDTF">2014-11-15T01:50:30Z</dcterms:modified>
  <cp:revision>7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9.1.0.4856</vt:lpwstr>
  </property>
</Properties>
</file>