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767-95EC-42E7-839B-6E6428A9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924-7802-4139-B0E7-8993CCC8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1F8-8A68-40E0-AD73-E8B28BBA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AD3-25BE-478E-9183-D51A119C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151-C884-4545-A597-C4F449F6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97D-C7F3-46E5-A3AA-565A3A27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B62-3062-4259-9C22-06A2D847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FAC-498A-4A5F-98D7-B51C020F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15C-813C-4892-84C4-194D0761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E55-284E-4228-899A-145CD7CF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7B2-D28E-4599-8E83-F8FDEFE5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80B-6E58-4513-9C70-DB2EF273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B0D8-78E9-4564-A795-8C0D9FE43D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524B-F1E9-48A1-A61C-66610A4830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40240" y="3505320"/>
            <a:ext cx="359892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prstGeom prst="pie">
              <a:avLst/>
            </a:pr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prstGeom prst="pie">
              <a:avLst/>
            </a:pr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2240" y="2154600"/>
            <a:ext cx="1233360" cy="930600"/>
          </a:xfrm>
          <a:prstGeom prst="parallelogram">
            <a:avLst>
              <a:gd name="adj" fmla="val 2499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2240" y="3483360"/>
            <a:ext cx="1233360" cy="930600"/>
          </a:xfrm>
          <a:prstGeom prst="parallelogram">
            <a:avLst>
              <a:gd name="adj" fmla="val 2499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2240" y="4810680"/>
            <a:ext cx="1233360" cy="930600"/>
          </a:xfrm>
          <a:prstGeom prst="parallelogram">
            <a:avLst>
              <a:gd name="adj" fmla="val 2499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40240" y="3505320"/>
            <a:ext cx="359892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prstGeom prst="pie">
            <a:avLst/>
          </a:pr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prstGeom prst="pie">
            <a:avLst/>
          </a:pr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prstGeom prst="pie">
            <a:avLst/>
          </a:pr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prstGeom prst="pie">
            <a:avLst/>
          </a:pr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prstGeom prst="pie">
            <a:avLst/>
          </a:pr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prstGeom prst="pie">
            <a:avLst/>
          </a:pr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prstGeom prst="pie">
            <a:avLst/>
          </a:pr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prstGeom prst="pie">
            <a:avLst/>
          </a:pr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5480" y="3088440"/>
            <a:ext cx="1320840" cy="132228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3400" y="3112200"/>
            <a:ext cx="1432080" cy="132228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880" y="4015440"/>
            <a:ext cx="1320480" cy="1322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6320" y="1856520"/>
            <a:ext cx="4508640" cy="388764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9000" y="1640520"/>
            <a:ext cx="5010120" cy="4319280"/>
          </a:xfrm>
          <a:prstGeom prst="hexagon">
            <a:avLst>
              <a:gd name="adj" fmla="val 24998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40240" y="3505320"/>
            <a:ext cx="359892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6440" y="41292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3400" y="54612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800" y="4916880"/>
            <a:ext cx="546120" cy="199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  <a:ea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40240" y="3505320"/>
            <a:ext cx="359892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30760" y="39470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7320" y="1973880"/>
            <a:ext cx="1963440" cy="153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5200" y="1999080"/>
            <a:ext cx="1965240" cy="1528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8360" y="1973880"/>
            <a:ext cx="1963440" cy="153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9520" y="39470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1560" y="39470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7320" y="39470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SJ_one_LR</dc:creator>
  <dc:description/>
  <dc:language>en-US</dc:language>
  <cp:lastModifiedBy>SJ_one_LR</cp:lastModifiedBy>
  <dcterms:modified xsi:type="dcterms:W3CDTF">2015-07-24T18:25:48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