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5716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281A-D417-42CF-A14B-86A1F5C7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75A28-3E26-48F3-B9D2-08EAF927A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EBDC8-4DB9-41AF-9B9B-9D47678E7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70DA-370A-4A75-817C-FD5A77FBB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C070C-9D2E-41D4-84FD-D891F6B7D8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5C00D-8901-4D39-A806-FAF3FB9C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31349-FFE4-4145-BE03-881865368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DB844-0299-4802-9E81-C20C3BF35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D90B8-5D70-46B0-AE31-866D55302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CD49E-7FF7-4D25-9445-63464D3A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472A-7FA3-45C6-B300-38086561C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ECE6-1508-40D2-AE58-7DDAB86E1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D6C50-F4E6-44F3-9444-399B41076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6421F-8329-4D94-B0A8-3D7A4DD2E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6A428-F247-4024-B48C-D8AA32990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4B44E-D1BA-4CBF-B03E-652B38A76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B4B0-BA06-40B6-86DC-DA59DA19D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3CE30C-4F33-482C-8909-66AA7246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FAB726-E7CE-4791-A0D2-4C7A393EF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1531A1-C07D-40DB-95D5-BD520FEA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5C2AA-7844-4D2A-AED0-B93613398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C68D1D-D063-4F91-9786-52457166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134E-3710-494D-814E-32ADAB602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212F47-1E82-472E-8B11-3E4971AC2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CF6BD8-3FEC-4487-8FA4-731852790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69CFFF-681D-4100-A7F4-A647B6613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05567D-DE37-47C7-9D14-EF2BF0747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3F71FF-D288-4814-836D-3F775EBC2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31ED40-525C-4089-8DA1-8905390FB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33344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303720"/>
            <a:ext cx="264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06BBE-E47B-4D5B-9373-E172F2D67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378B-9852-4801-BEAC-B093F7679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09313-25C1-46B1-97D3-A80A0CF16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28600"/>
            <a:ext cx="8229600" cy="441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EA2E-ACAE-4165-8355-5A7BE285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AC6-3603-41E2-B665-B3FACCDDA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30372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D6C8-F344-4BF0-85A2-872A54347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33440"/>
            <a:ext cx="40158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303720"/>
            <a:ext cx="8229600" cy="17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91AB-385E-40A2-A3F9-370FCEE4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233CC-F50C-4F26-9D0D-636A85B15152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BDA25-05C2-403E-9643-E6249A10EA0E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Documents and Settings\Administrator\桌面\莲 2(1).png"/>
          <p:cNvPicPr/>
          <p:nvPr/>
        </p:nvPicPr>
        <p:blipFill>
          <a:blip r:embed="rId2"/>
          <a:stretch/>
        </p:blipFill>
        <p:spPr>
          <a:xfrm>
            <a:off x="549360" y="-1440"/>
            <a:ext cx="1182600" cy="120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C:\Documents and Settings\Administrator\桌面\图片4.png"/>
          <p:cNvPicPr/>
          <p:nvPr/>
        </p:nvPicPr>
        <p:blipFill>
          <a:blip r:embed="rId3"/>
          <a:stretch/>
        </p:blipFill>
        <p:spPr>
          <a:xfrm>
            <a:off x="1116000" y="264960"/>
            <a:ext cx="2879640" cy="4939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C:\Documents and Settings\Administrator\桌面\33.jpg"/>
          <p:cNvPicPr/>
          <p:nvPr/>
        </p:nvPicPr>
        <p:blipFill>
          <a:blip r:embed="rId4"/>
          <a:stretch/>
        </p:blipFill>
        <p:spPr>
          <a:xfrm>
            <a:off x="0" y="-3240"/>
            <a:ext cx="9144000" cy="5718240"/>
          </a:xfrm>
          <a:prstGeom prst="rect">
            <a:avLst/>
          </a:prstGeom>
          <a:ln w="0">
            <a:noFill/>
          </a:ln>
        </p:spPr>
      </p:pic>
      <p:sp>
        <p:nvSpPr>
          <p:cNvPr id="85" name="矩形 7"/>
          <p:cNvSpPr/>
          <p:nvPr/>
        </p:nvSpPr>
        <p:spPr>
          <a:xfrm>
            <a:off x="395280" y="-95400"/>
            <a:ext cx="8353440" cy="5905800"/>
          </a:xfrm>
          <a:prstGeom prst="rect">
            <a:avLst/>
          </a:prstGeom>
          <a:solidFill>
            <a:srgbClr val="ffffff">
              <a:alpha val="60000"/>
            </a:srgbClr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5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333440"/>
            <a:ext cx="8229600" cy="377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40040" indent="-207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455840" indent="-2077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72000" indent="-2077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5297040"/>
            <a:ext cx="289584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5297040"/>
            <a:ext cx="2133720" cy="303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3D24-C508-4A2B-A0D6-869F7F2D48E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30" name="矩形 5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6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33" name="TextBox 39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3095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5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9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750"/>
                            </p:stCondLst>
                            <p:childTnLst>
                              <p:par>
                                <p:cTn id="24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2250"/>
                            </p:stCondLst>
                            <p:childTnLst>
                              <p:par>
                                <p:cTn id="2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25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2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Box 2055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组合 46"/>
          <p:cNvGrpSpPr/>
          <p:nvPr/>
        </p:nvGrpSpPr>
        <p:grpSpPr>
          <a:xfrm>
            <a:off x="2556000" y="3240000"/>
            <a:ext cx="3960720" cy="554040"/>
            <a:chOff x="2556000" y="3240000"/>
            <a:chExt cx="3960720" cy="554040"/>
          </a:xfrm>
        </p:grpSpPr>
        <p:grpSp>
          <p:nvGrpSpPr>
            <p:cNvPr id="136" name="组合 47"/>
            <p:cNvGrpSpPr/>
            <p:nvPr/>
          </p:nvGrpSpPr>
          <p:grpSpPr>
            <a:xfrm>
              <a:off x="2700000" y="3240000"/>
              <a:ext cx="3816720" cy="554040"/>
              <a:chOff x="2700000" y="3240000"/>
              <a:chExt cx="3816720" cy="554040"/>
            </a:xfrm>
          </p:grpSpPr>
          <p:sp>
            <p:nvSpPr>
              <p:cNvPr id="137" name="矩形 49"/>
              <p:cNvSpPr/>
              <p:nvPr/>
            </p:nvSpPr>
            <p:spPr>
              <a:xfrm>
                <a:off x="2700000" y="324000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8" name="Picture 6" descr="C:\Documents and Settings\Administrator\桌面\图片4.png"/>
              <p:cNvPicPr/>
              <p:nvPr/>
            </p:nvPicPr>
            <p:blipFill>
              <a:blip r:embed="rId1"/>
              <a:stretch/>
            </p:blipFill>
            <p:spPr>
              <a:xfrm>
                <a:off x="3636360" y="324000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9" name="矩形 48"/>
            <p:cNvSpPr/>
            <p:nvPr/>
          </p:nvSpPr>
          <p:spPr>
            <a:xfrm>
              <a:off x="2556000" y="324000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51"/>
          <p:cNvGrpSpPr/>
          <p:nvPr/>
        </p:nvGrpSpPr>
        <p:grpSpPr>
          <a:xfrm>
            <a:off x="2556000" y="4032360"/>
            <a:ext cx="3960720" cy="554040"/>
            <a:chOff x="2556000" y="4032360"/>
            <a:chExt cx="3960720" cy="554040"/>
          </a:xfrm>
        </p:grpSpPr>
        <p:grpSp>
          <p:nvGrpSpPr>
            <p:cNvPr id="141" name="组合 52"/>
            <p:cNvGrpSpPr/>
            <p:nvPr/>
          </p:nvGrpSpPr>
          <p:grpSpPr>
            <a:xfrm>
              <a:off x="2700000" y="4032360"/>
              <a:ext cx="3816720" cy="554040"/>
              <a:chOff x="2700000" y="4032360"/>
              <a:chExt cx="3816720" cy="554040"/>
            </a:xfrm>
          </p:grpSpPr>
          <p:sp>
            <p:nvSpPr>
              <p:cNvPr id="142" name="矩形 54"/>
              <p:cNvSpPr/>
              <p:nvPr/>
            </p:nvSpPr>
            <p:spPr>
              <a:xfrm>
                <a:off x="2700000" y="40323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3" name="Picture 6" descr="C:\Documents and Settings\Administrator\桌面\图片4.png"/>
              <p:cNvPicPr/>
              <p:nvPr/>
            </p:nvPicPr>
            <p:blipFill>
              <a:blip r:embed="rId2"/>
              <a:stretch/>
            </p:blipFill>
            <p:spPr>
              <a:xfrm>
                <a:off x="3636360" y="40323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4" name="矩形 53"/>
            <p:cNvSpPr/>
            <p:nvPr/>
          </p:nvSpPr>
          <p:spPr>
            <a:xfrm>
              <a:off x="2556000" y="40323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5" name="组合 56"/>
          <p:cNvGrpSpPr/>
          <p:nvPr/>
        </p:nvGrpSpPr>
        <p:grpSpPr>
          <a:xfrm>
            <a:off x="2556000" y="1676520"/>
            <a:ext cx="3960720" cy="554040"/>
            <a:chOff x="2556000" y="1676520"/>
            <a:chExt cx="3960720" cy="554040"/>
          </a:xfrm>
        </p:grpSpPr>
        <p:grpSp>
          <p:nvGrpSpPr>
            <p:cNvPr id="146" name="组合 57"/>
            <p:cNvGrpSpPr/>
            <p:nvPr/>
          </p:nvGrpSpPr>
          <p:grpSpPr>
            <a:xfrm>
              <a:off x="2700000" y="1676520"/>
              <a:ext cx="3816720" cy="554040"/>
              <a:chOff x="2700000" y="1676520"/>
              <a:chExt cx="3816720" cy="554040"/>
            </a:xfrm>
          </p:grpSpPr>
          <p:sp>
            <p:nvSpPr>
              <p:cNvPr id="147" name="矩形 59"/>
              <p:cNvSpPr/>
              <p:nvPr/>
            </p:nvSpPr>
            <p:spPr>
              <a:xfrm>
                <a:off x="2700000" y="167652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48" name="Picture 6" descr="C:\Documents and Settings\Administrator\桌面\图片4.png"/>
              <p:cNvPicPr/>
              <p:nvPr/>
            </p:nvPicPr>
            <p:blipFill>
              <a:blip r:embed="rId3"/>
              <a:stretch/>
            </p:blipFill>
            <p:spPr>
              <a:xfrm>
                <a:off x="3636360" y="167652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49" name="矩形 58"/>
            <p:cNvSpPr/>
            <p:nvPr/>
          </p:nvSpPr>
          <p:spPr>
            <a:xfrm>
              <a:off x="2556000" y="167652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0" name="组合 61"/>
          <p:cNvGrpSpPr/>
          <p:nvPr/>
        </p:nvGrpSpPr>
        <p:grpSpPr>
          <a:xfrm>
            <a:off x="2556000" y="2498760"/>
            <a:ext cx="3960720" cy="554040"/>
            <a:chOff x="2556000" y="2498760"/>
            <a:chExt cx="3960720" cy="554040"/>
          </a:xfrm>
        </p:grpSpPr>
        <p:grpSp>
          <p:nvGrpSpPr>
            <p:cNvPr id="151" name="组合 62"/>
            <p:cNvGrpSpPr/>
            <p:nvPr/>
          </p:nvGrpSpPr>
          <p:grpSpPr>
            <a:xfrm>
              <a:off x="2700000" y="2498760"/>
              <a:ext cx="3816720" cy="554040"/>
              <a:chOff x="2700000" y="2498760"/>
              <a:chExt cx="3816720" cy="554040"/>
            </a:xfrm>
          </p:grpSpPr>
          <p:sp>
            <p:nvSpPr>
              <p:cNvPr id="152" name="矩形 64"/>
              <p:cNvSpPr/>
              <p:nvPr/>
            </p:nvSpPr>
            <p:spPr>
              <a:xfrm>
                <a:off x="2700000" y="2498760"/>
                <a:ext cx="936720" cy="5540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53" name="Picture 6" descr="C:\Documents and Settings\Administrator\桌面\图片4.png"/>
              <p:cNvPicPr/>
              <p:nvPr/>
            </p:nvPicPr>
            <p:blipFill>
              <a:blip r:embed="rId4"/>
              <a:stretch/>
            </p:blipFill>
            <p:spPr>
              <a:xfrm>
                <a:off x="3636360" y="2498760"/>
                <a:ext cx="2880360" cy="5540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54" name="矩形 63"/>
            <p:cNvSpPr/>
            <p:nvPr/>
          </p:nvSpPr>
          <p:spPr>
            <a:xfrm>
              <a:off x="2556000" y="2498760"/>
              <a:ext cx="75960" cy="5540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Box 66"/>
          <p:cNvSpPr/>
          <p:nvPr/>
        </p:nvSpPr>
        <p:spPr>
          <a:xfrm>
            <a:off x="2755800" y="1692360"/>
            <a:ext cx="37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67"/>
          <p:cNvSpPr/>
          <p:nvPr/>
        </p:nvSpPr>
        <p:spPr>
          <a:xfrm>
            <a:off x="2755800" y="25146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TextBox 68"/>
          <p:cNvSpPr/>
          <p:nvPr/>
        </p:nvSpPr>
        <p:spPr>
          <a:xfrm>
            <a:off x="2755800" y="3254400"/>
            <a:ext cx="376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三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TextBox 69"/>
          <p:cNvSpPr/>
          <p:nvPr/>
        </p:nvSpPr>
        <p:spPr>
          <a:xfrm>
            <a:off x="2755800" y="4046400"/>
            <a:ext cx="373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添加标题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ipe dir="l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5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2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"/>
                            </p:stCondLst>
                            <p:childTnLst>
                              <p:par>
                                <p:cTn id="44" dur="indefinite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7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7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2" dur="7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dur="indefinite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55" dur="7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5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250"/>
                            </p:stCondLst>
                            <p:childTnLst>
                              <p:par>
                                <p:cTn id="63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5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25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9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25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750"/>
                            </p:stCondLst>
                            <p:childTnLst>
                              <p:par>
                                <p:cTn id="75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5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5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TextBox 1"/>
          <p:cNvSpPr/>
          <p:nvPr/>
        </p:nvSpPr>
        <p:spPr>
          <a:xfrm>
            <a:off x="1763640" y="21924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标题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5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6" descr="C:\Documents and Settings\Administrator\桌面\33.jpg"/>
          <p:cNvPicPr/>
          <p:nvPr/>
        </p:nvPicPr>
        <p:blipFill>
          <a:blip r:embed="rId1"/>
          <a:stretch/>
        </p:blipFill>
        <p:spPr>
          <a:xfrm>
            <a:off x="0" y="-63360"/>
            <a:ext cx="9144000" cy="580068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C:\Documents and Settings\Administrator\桌面\莲 (11).png"/>
          <p:cNvPicPr/>
          <p:nvPr/>
        </p:nvPicPr>
        <p:blipFill>
          <a:blip r:embed="rId2"/>
          <a:stretch/>
        </p:blipFill>
        <p:spPr>
          <a:xfrm>
            <a:off x="2448000" y="1128600"/>
            <a:ext cx="6702480" cy="4734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C:\Documents and Settings\Administrator\桌面\莲 2(1).png"/>
          <p:cNvPicPr/>
          <p:nvPr/>
        </p:nvPicPr>
        <p:blipFill>
          <a:blip r:embed="rId3"/>
          <a:stretch/>
        </p:blipFill>
        <p:spPr>
          <a:xfrm>
            <a:off x="3203640" y="22320"/>
            <a:ext cx="5573520" cy="5715000"/>
          </a:xfrm>
          <a:prstGeom prst="rect">
            <a:avLst/>
          </a:prstGeom>
          <a:ln w="0">
            <a:noFill/>
          </a:ln>
        </p:spPr>
      </p:pic>
      <p:sp>
        <p:nvSpPr>
          <p:cNvPr id="163" name="矩形 6"/>
          <p:cNvSpPr/>
          <p:nvPr/>
        </p:nvSpPr>
        <p:spPr>
          <a:xfrm>
            <a:off x="163440" y="669960"/>
            <a:ext cx="412128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矩形 7"/>
          <p:cNvSpPr/>
          <p:nvPr/>
        </p:nvSpPr>
        <p:spPr>
          <a:xfrm>
            <a:off x="0" y="669960"/>
            <a:ext cx="90360" cy="110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5" name="Picture 12" descr="C:\Documents and Settings\Administrator\桌面\2.png"/>
          <p:cNvPicPr/>
          <p:nvPr/>
        </p:nvPicPr>
        <p:blipFill>
          <a:blip r:embed="rId4"/>
          <a:stretch/>
        </p:blipFill>
        <p:spPr>
          <a:xfrm rot="20068800">
            <a:off x="1618920" y="-108000"/>
            <a:ext cx="3017880" cy="3252960"/>
          </a:xfrm>
          <a:prstGeom prst="rect">
            <a:avLst/>
          </a:prstGeom>
          <a:ln w="0">
            <a:noFill/>
          </a:ln>
        </p:spPr>
      </p:pic>
      <p:pic>
        <p:nvPicPr>
          <p:cNvPr id="166" name="TextBox 2" descr=""/>
          <p:cNvPicPr/>
          <p:nvPr/>
        </p:nvPicPr>
        <p:blipFill>
          <a:blip r:embed="rId5"/>
          <a:stretch/>
        </p:blipFill>
        <p:spPr>
          <a:xfrm>
            <a:off x="179280" y="741240"/>
            <a:ext cx="4319640" cy="110808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75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75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750"/>
                            </p:stCondLst>
                            <p:childTnLst>
                              <p:par>
                                <p:cTn id="99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1" dur="25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7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25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750"/>
                            </p:stCondLst>
                            <p:childTnLst>
                              <p:par>
                                <p:cTn id="11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250"/>
                            </p:stCondLst>
                            <p:childTnLst>
                              <p:par>
                                <p:cTn id="117" dur="indefinite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5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8T06:48:50Z</dcterms:created>
  <dc:creator>user</dc:creator>
  <dc:description/>
  <dc:language>en-US</dc:language>
  <cp:lastModifiedBy>Administrator</cp:lastModifiedBy>
  <dcterms:modified xsi:type="dcterms:W3CDTF">2016-04-18T03:13:35Z</dcterms:modified>
  <cp:revision>36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