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AF0-C48B-456A-B6C8-11AA36BD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E96-ADF8-45C9-9203-B9F0377D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FCC-AEA7-42F2-81E0-5AB3B8B5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704-738B-4A3D-B230-06D9EE7D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B82-85A3-4AAE-B78A-EA775292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AA2-711F-4749-AD93-E2F34E41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05E-93D1-4896-8908-D983C1E5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293-BB81-4B4E-949B-2831B4B1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28F-0C69-47CE-A499-28699C54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013-2B46-4629-9654-D073D3F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26A-E5FE-4CFE-8AF9-3EF0E12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2BA-4309-4B76-A55B-31D2F677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8305-F095-405D-B704-C9D87FE0F2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429000" y="46594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71920" y="53672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浪漫爱情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92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927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92796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569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61560" y="905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426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712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961560" y="9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78596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854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6156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42884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212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640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51pptmoban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ANGS</cp:lastModifiedBy>
  <dcterms:modified xsi:type="dcterms:W3CDTF">2014-09-08T14:07:33Z</dcterms:modified>
  <cp:revision>42</cp:revision>
  <dc:subject/>
  <dc:title>幻灯片 1</dc:title>
</cp:coreProperties>
</file>