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805-02EE-4368-8517-5CDD9D35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F53-F803-4DA0-B785-3A3D84B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56C-5D51-4D62-9F68-320906E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EF3-DE0B-4FC2-9B76-5276A5A5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23A-D6FB-42AA-B692-7CD09BB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D566-F0B4-44D5-A93B-37F0F66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E5D-1054-4DD2-8CFF-E1408695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2FE-135A-469F-912F-3B476CEE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0BC-D85D-4846-9432-D9799D8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A15-AFCA-4DF8-A259-5EC80DB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B4D-B485-4DEC-8941-29FCECD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9BF-315B-44EC-A8F8-D4D1AE9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1B8-9D7F-40FC-B09F-4CE5136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E615-01B8-4244-B81F-04539C5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296A-DDE4-4E9C-A42D-0EBDB49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D2AE-0DB0-4EB0-820A-FCDB634A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F94-AC87-4464-B70C-2B48D488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8000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9440" y="69192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8000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9440" y="3738240"/>
            <a:ext cx="25038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19E5-903C-4673-9D5D-A1620CE1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90F-DBE2-4605-BB03-92C6A52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4A3-9E24-4F25-966F-4862A07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71280"/>
            <a:ext cx="7777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88D-27FB-4F5A-AEBB-2FA542F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247-206A-4775-BAC5-F87CD3B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35760" y="373824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BFE-761E-4450-9E44-0354807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5760" y="691920"/>
            <a:ext cx="37951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7777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5F3-6931-431A-B0F4-E498197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80" t="468" r="0" b="1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0F8-054D-4604-8487-B4D79622C311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直接连接符 6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19080">
            <a:solidFill>
              <a:srgbClr val="3c3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"/>
          <p:cNvPicPr/>
          <p:nvPr/>
        </p:nvPicPr>
        <p:blipFill>
          <a:blip r:embed="rId2"/>
          <a:srcRect l="0" t="1716" r="536" b="0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4"/>
          <p:cNvSpPr/>
          <p:nvPr/>
        </p:nvSpPr>
        <p:spPr>
          <a:xfrm>
            <a:off x="3203640" y="3429000"/>
            <a:ext cx="3529080" cy="360360"/>
          </a:xfrm>
          <a:prstGeom prst="roundRect">
            <a:avLst>
              <a:gd name="adj" fmla="val 50000"/>
            </a:avLst>
          </a:prstGeom>
          <a:solidFill>
            <a:srgbClr val="19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380" t="468" r="0" b="1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7"/>
          <p:cNvSpPr/>
          <p:nvPr/>
        </p:nvSpPr>
        <p:spPr>
          <a:xfrm>
            <a:off x="2711520" y="3141720"/>
            <a:ext cx="3240000" cy="287280"/>
          </a:xfrm>
          <a:prstGeom prst="roundRect">
            <a:avLst>
              <a:gd name="adj" fmla="val 50000"/>
            </a:avLst>
          </a:prstGeom>
          <a:solidFill>
            <a:srgbClr val="19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71280"/>
            <a:ext cx="777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C4DD-3F28-4E20-9335-8AA9C59B4915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79640" y="2492280"/>
            <a:ext cx="612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b30"/>
                </a:solidFill>
                <a:latin typeface="微软雅黑"/>
              </a:rPr>
              <a:t>PPT Template</a:t>
            </a:r>
            <a:endParaRPr b="1" lang="en-US" sz="5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56120" y="3428640"/>
            <a:ext cx="35035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10920" y="2349000"/>
            <a:ext cx="381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3b30"/>
                </a:solidFill>
                <a:latin typeface="微软雅黑"/>
              </a:rPr>
              <a:t>Your title</a:t>
            </a:r>
            <a:endParaRPr b="1" lang="en-US" sz="4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95400" y="3120840"/>
            <a:ext cx="3097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7000"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066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b30"/>
                </a:solidFill>
                <a:latin typeface="微软雅黑"/>
              </a:rPr>
              <a:t>Click here to add your title</a:t>
            </a:r>
            <a:endParaRPr b="1" lang="en-US" sz="2400" spc="-1" strike="noStrike">
              <a:solidFill>
                <a:srgbClr val="193b30"/>
              </a:solidFill>
              <a:latin typeface="微软雅黑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691920"/>
            <a:ext cx="8066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5c5c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5c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/>
  <dc:description/>
  <dc:language>en-US</dc:language>
  <cp:lastModifiedBy>ABC</cp:lastModifiedBy>
  <dcterms:modified xsi:type="dcterms:W3CDTF">2013-02-24T07:55:34Z</dcterms:modified>
  <cp:revision>9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IP等级">
    <vt:lpwstr>2</vt:lpwstr>
  </property>
  <property fmtid="{D5CDD505-2E9C-101B-9397-08002B2CF9AE}" pid="4" name="价格">
    <vt:lpwstr>25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梦幻 柔美 花朵 花 植物 自然 清新 简洁 时尚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梦幻柔美花朵</vt:lpwstr>
  </property>
  <property fmtid="{D5CDD505-2E9C-101B-9397-08002B2CF9AE}" pid="12" name="模板ID">
    <vt:lpwstr>A30220130116A07</vt:lpwstr>
  </property>
  <property fmtid="{D5CDD505-2E9C-101B-9397-08002B2CF9AE}" pid="13" name="模板缩略图">
    <vt:lpwstr>A30220130116A07.png</vt:lpwstr>
  </property>
  <property fmtid="{D5CDD505-2E9C-101B-9397-08002B2CF9AE}" pid="14" name="相关案例">
    <vt:lpwstr>854</vt:lpwstr>
  </property>
  <property fmtid="{D5CDD505-2E9C-101B-9397-08002B2CF9AE}" pid="15" name="缩略图标题">
    <vt:lpwstr>梦幻柔美花朵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116A0701</vt:lpwstr>
  </property>
  <property fmtid="{D5CDD505-2E9C-101B-9397-08002B2CF9AE}" pid="18" name="附件缩略图">
    <vt:lpwstr>A30220130116A0701.png</vt:lpwstr>
  </property>
  <property fmtid="{D5CDD505-2E9C-101B-9397-08002B2CF9AE}" pid="19" name="附件路径">
    <vt:lpwstr>A30220130116A0701.pptx</vt:lpwstr>
  </property>
</Properties>
</file>