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EF5F-2C85-4EBB-869F-CCE839EA3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E5DF-93D9-476D-BA13-7194200C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F0CD-D8EB-4ACF-B41B-EA0F14FA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EC22-15FD-45B8-B39B-D61E52AB5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6683-78B6-43E1-A24F-8712BB44C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E544-FED7-4B6B-8DB7-365AF011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DF5E-44D2-4701-965C-114FBC9D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2BDC-C6B9-49BD-A60E-F72006E6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7E7B-AB8A-406A-87D3-01B071CD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ED1D-F04C-433F-8F98-B7FC49E8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722D-F560-4633-8F63-E007A255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47F0-923D-4A68-949E-278253AC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2C70-0E30-4C39-A647-DD04BAC4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01DE-2D46-4B58-BCAD-2ABE4AC0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3FEF-A8BA-4261-9BBF-47B680A6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C9BB-2963-4A64-9EC3-D46BB7151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9615-97F7-47AD-AC1C-9017FF2F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8A2E-AA8A-4061-9C19-E87F1CC4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37CB-7873-41EC-B91C-AE06665A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CF2A-721B-4138-A7D4-6D9FBA6D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030F-6707-4C9D-8B7F-497383E9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00EF-14D7-40F9-B842-50F70969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19E7-2805-402B-8C99-FD3A4B10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E6CB-39DA-4681-B6E4-1081738B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C9B4-6284-44EA-9550-08D5966C2D4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09681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12360" y="1598760"/>
            <a:ext cx="109681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236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3760" y="6244920"/>
            <a:ext cx="38653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4044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2C88-45A7-4836-9AEC-60F7F449A43B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组合 4098"/>
          <p:cNvGrpSpPr/>
          <p:nvPr/>
        </p:nvGrpSpPr>
        <p:grpSpPr>
          <a:xfrm>
            <a:off x="1601640" y="1473120"/>
            <a:ext cx="755640" cy="755640"/>
            <a:chOff x="1601640" y="1473120"/>
            <a:chExt cx="755640" cy="755640"/>
          </a:xfrm>
        </p:grpSpPr>
        <p:sp>
          <p:nvSpPr>
            <p:cNvPr id="84" name="Rectangle 3"/>
            <p:cNvSpPr/>
            <p:nvPr/>
          </p:nvSpPr>
          <p:spPr>
            <a:xfrm>
              <a:off x="1601640" y="1473120"/>
              <a:ext cx="755640" cy="755640"/>
            </a:xfrm>
            <a:prstGeom prst="rect">
              <a:avLst/>
            </a:prstGeom>
            <a:noFill/>
            <a:ln w="1908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4"/>
            <p:cNvSpPr/>
            <p:nvPr/>
          </p:nvSpPr>
          <p:spPr>
            <a:xfrm>
              <a:off x="1601640" y="1473120"/>
              <a:ext cx="400320" cy="400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Rectangle 5"/>
          <p:cNvSpPr/>
          <p:nvPr/>
        </p:nvSpPr>
        <p:spPr>
          <a:xfrm>
            <a:off x="1979640" y="1855800"/>
            <a:ext cx="7845480" cy="1366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014640" y="2030400"/>
            <a:ext cx="60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微软雅黑"/>
              </a:rPr>
              <a:t>在这里键入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4103"/>
          <p:cNvGrpSpPr/>
          <p:nvPr/>
        </p:nvGrpSpPr>
        <p:grpSpPr>
          <a:xfrm>
            <a:off x="9837720" y="3219480"/>
            <a:ext cx="793800" cy="577800"/>
            <a:chOff x="9837720" y="3219480"/>
            <a:chExt cx="793800" cy="577800"/>
          </a:xfrm>
        </p:grpSpPr>
        <p:sp>
          <p:nvSpPr>
            <p:cNvPr id="89" name="Rectangle 8"/>
            <p:cNvSpPr/>
            <p:nvPr/>
          </p:nvSpPr>
          <p:spPr>
            <a:xfrm>
              <a:off x="10198440" y="3580560"/>
              <a:ext cx="216360" cy="216720"/>
            </a:xfrm>
            <a:prstGeom prst="rect">
              <a:avLst/>
            </a:prstGeom>
            <a:solidFill>
              <a:srgbClr val="66cc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9"/>
            <p:cNvSpPr/>
            <p:nvPr/>
          </p:nvSpPr>
          <p:spPr>
            <a:xfrm>
              <a:off x="10415160" y="3363840"/>
              <a:ext cx="216360" cy="216720"/>
            </a:xfrm>
            <a:prstGeom prst="rect">
              <a:avLst/>
            </a:prstGeom>
            <a:solidFill>
              <a:srgbClr val="66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0"/>
            <p:cNvSpPr/>
            <p:nvPr/>
          </p:nvSpPr>
          <p:spPr>
            <a:xfrm>
              <a:off x="9837720" y="3219480"/>
              <a:ext cx="360720" cy="361080"/>
            </a:xfrm>
            <a:prstGeom prst="rect">
              <a:avLst/>
            </a:prstGeom>
            <a:solidFill>
              <a:srgbClr val="33cc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Rectangle 11"/>
          <p:cNvSpPr/>
          <p:nvPr/>
        </p:nvSpPr>
        <p:spPr>
          <a:xfrm>
            <a:off x="2128680" y="1944720"/>
            <a:ext cx="7548840" cy="1187280"/>
          </a:xfrm>
          <a:prstGeom prst="rect">
            <a:avLst/>
          </a:prstGeom>
          <a:noFill/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6560"/>
          </a:xfrm>
          <a:prstGeom prst="rect">
            <a:avLst/>
          </a:prstGeom>
          <a:ln w="0">
            <a:noFill/>
          </a:ln>
        </p:spPr>
      </p:pic>
      <p:pic>
        <p:nvPicPr>
          <p:cNvPr id="94" name="云层" descr=""/>
          <p:cNvPicPr/>
          <p:nvPr/>
        </p:nvPicPr>
        <p:blipFill>
          <a:blip r:embed="rId2"/>
          <a:srcRect l="13813" t="9223" r="29255" b="5969"/>
          <a:stretch/>
        </p:blipFill>
        <p:spPr>
          <a:xfrm rot="238800">
            <a:off x="14245920" y="592200"/>
            <a:ext cx="3968640" cy="1817640"/>
          </a:xfrm>
          <a:prstGeom prst="rect">
            <a:avLst/>
          </a:prstGeom>
          <a:ln w="0">
            <a:noFill/>
          </a:ln>
        </p:spPr>
      </p:pic>
      <p:sp>
        <p:nvSpPr>
          <p:cNvPr id="95" name="文本框 23"/>
          <p:cNvSpPr/>
          <p:nvPr/>
        </p:nvSpPr>
        <p:spPr>
          <a:xfrm>
            <a:off x="5388120" y="1133640"/>
            <a:ext cx="145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5124"/>
          <p:cNvGrpSpPr/>
          <p:nvPr/>
        </p:nvGrpSpPr>
        <p:grpSpPr>
          <a:xfrm>
            <a:off x="5832360" y="2651040"/>
            <a:ext cx="561960" cy="560520"/>
            <a:chOff x="5832360" y="2651040"/>
            <a:chExt cx="561960" cy="560520"/>
          </a:xfrm>
        </p:grpSpPr>
        <p:sp>
          <p:nvSpPr>
            <p:cNvPr id="97" name="椭圆 25"/>
            <p:cNvSpPr/>
            <p:nvPr/>
          </p:nvSpPr>
          <p:spPr>
            <a:xfrm>
              <a:off x="5832360" y="2651040"/>
              <a:ext cx="561960" cy="56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椭圆 26"/>
            <p:cNvSpPr/>
            <p:nvPr/>
          </p:nvSpPr>
          <p:spPr>
            <a:xfrm>
              <a:off x="5857560" y="2676240"/>
              <a:ext cx="511560" cy="510120"/>
            </a:xfrm>
            <a:prstGeom prst="ellipse">
              <a:avLst/>
            </a:prstGeom>
            <a:noFill/>
            <a:ln w="12600">
              <a:solidFill>
                <a:srgbClr val="81d9fa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文本框 28"/>
            <p:cNvSpPr/>
            <p:nvPr/>
          </p:nvSpPr>
          <p:spPr>
            <a:xfrm>
              <a:off x="5946120" y="2731320"/>
              <a:ext cx="33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5128"/>
          <p:cNvGrpSpPr/>
          <p:nvPr/>
        </p:nvGrpSpPr>
        <p:grpSpPr>
          <a:xfrm>
            <a:off x="5857920" y="3522600"/>
            <a:ext cx="560520" cy="560520"/>
            <a:chOff x="5857920" y="3522600"/>
            <a:chExt cx="560520" cy="560520"/>
          </a:xfrm>
        </p:grpSpPr>
        <p:sp>
          <p:nvSpPr>
            <p:cNvPr id="101" name="椭圆 33"/>
            <p:cNvSpPr/>
            <p:nvPr/>
          </p:nvSpPr>
          <p:spPr>
            <a:xfrm>
              <a:off x="5857920" y="3522600"/>
              <a:ext cx="560520" cy="56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椭圆 34"/>
            <p:cNvSpPr/>
            <p:nvPr/>
          </p:nvSpPr>
          <p:spPr>
            <a:xfrm>
              <a:off x="5883120" y="3547800"/>
              <a:ext cx="510120" cy="510120"/>
            </a:xfrm>
            <a:prstGeom prst="ellipse">
              <a:avLst/>
            </a:prstGeom>
            <a:noFill/>
            <a:ln w="12600">
              <a:solidFill>
                <a:srgbClr val="81d9fa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文本框 35"/>
            <p:cNvSpPr/>
            <p:nvPr/>
          </p:nvSpPr>
          <p:spPr>
            <a:xfrm>
              <a:off x="5971320" y="3602880"/>
              <a:ext cx="3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5132"/>
          <p:cNvGrpSpPr/>
          <p:nvPr/>
        </p:nvGrpSpPr>
        <p:grpSpPr>
          <a:xfrm>
            <a:off x="5857920" y="4370400"/>
            <a:ext cx="560520" cy="560520"/>
            <a:chOff x="5857920" y="4370400"/>
            <a:chExt cx="560520" cy="560520"/>
          </a:xfrm>
        </p:grpSpPr>
        <p:sp>
          <p:nvSpPr>
            <p:cNvPr id="105" name="椭圆 37"/>
            <p:cNvSpPr/>
            <p:nvPr/>
          </p:nvSpPr>
          <p:spPr>
            <a:xfrm>
              <a:off x="5857920" y="4370400"/>
              <a:ext cx="560520" cy="56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椭圆 38"/>
            <p:cNvSpPr/>
            <p:nvPr/>
          </p:nvSpPr>
          <p:spPr>
            <a:xfrm>
              <a:off x="5883120" y="4395600"/>
              <a:ext cx="510120" cy="510120"/>
            </a:xfrm>
            <a:prstGeom prst="ellipse">
              <a:avLst/>
            </a:prstGeom>
            <a:noFill/>
            <a:ln w="12600">
              <a:solidFill>
                <a:srgbClr val="81d9fa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文本框 39"/>
            <p:cNvSpPr/>
            <p:nvPr/>
          </p:nvSpPr>
          <p:spPr>
            <a:xfrm>
              <a:off x="5971320" y="4450680"/>
              <a:ext cx="3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16"/>
          <p:cNvSpPr/>
          <p:nvPr/>
        </p:nvSpPr>
        <p:spPr>
          <a:xfrm>
            <a:off x="6483240" y="2676600"/>
            <a:ext cx="30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在这里输入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6483240" y="3529080"/>
            <a:ext cx="30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在这里输入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6483240" y="4383000"/>
            <a:ext cx="30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在这里输入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77556E-017 L -0.83099 2.77556E-017 E">
                                      <p:cBhvr>
                                        <p:cTn id="6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5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2.29167E-006 -4.81481E-006 L -0.15065 -4.81481E-006 E">
                                      <p:cBhvr>
                                        <p:cTn id="34" dur="1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4.58333E-006 3.7037E-007 L -0.15157 3.7037E-007 E">
                                      <p:cBhvr>
                                        <p:cTn id="36" dur="1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4.58333E-006 7.40741E-007 L -0.15261 7.40741E-007 E">
                                      <p:cBhvr>
                                        <p:cTn id="38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3" presetSubtype="52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52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52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35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3.54167E-006 1.11111E-006 L -0.15703 -0.00533 E">
                                      <p:cBhvr>
                                        <p:cTn id="58" dur="75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35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3.54167E-006 4.07407E-006 L -0.15507 -0.00254 E">
                                      <p:cBhvr>
                                        <p:cTn id="60" dur="75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35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3.54167E-006 -2.96296E-006 L -0.15508 -0.00371 E">
                                      <p:cBhvr>
                                        <p:cTn id="62" dur="75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6560"/>
          </a:xfrm>
          <a:prstGeom prst="rect">
            <a:avLst/>
          </a:prstGeom>
          <a:ln w="0">
            <a:noFill/>
          </a:ln>
        </p:spPr>
      </p:pic>
      <p:grpSp>
        <p:nvGrpSpPr>
          <p:cNvPr id="112" name="组合 6146"/>
          <p:cNvGrpSpPr/>
          <p:nvPr/>
        </p:nvGrpSpPr>
        <p:grpSpPr>
          <a:xfrm>
            <a:off x="660600" y="-1409760"/>
            <a:ext cx="1533240" cy="1591920"/>
            <a:chOff x="660600" y="-1409760"/>
            <a:chExt cx="1533240" cy="1591920"/>
          </a:xfrm>
        </p:grpSpPr>
        <p:grpSp>
          <p:nvGrpSpPr>
            <p:cNvPr id="113" name="组合 6147"/>
            <p:cNvGrpSpPr/>
            <p:nvPr/>
          </p:nvGrpSpPr>
          <p:grpSpPr>
            <a:xfrm>
              <a:off x="660600" y="-1409760"/>
              <a:ext cx="1533240" cy="1591920"/>
              <a:chOff x="660600" y="-1409760"/>
              <a:chExt cx="1533240" cy="1591920"/>
            </a:xfrm>
          </p:grpSpPr>
          <p:sp>
            <p:nvSpPr>
              <p:cNvPr id="114" name="任意多边形 4"/>
              <p:cNvSpPr/>
              <p:nvPr/>
            </p:nvSpPr>
            <p:spPr>
              <a:xfrm flipH="1" rot="12492600">
                <a:off x="889560" y="-1270080"/>
                <a:ext cx="589680" cy="1119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任意多边形 5"/>
              <p:cNvSpPr/>
              <p:nvPr/>
            </p:nvSpPr>
            <p:spPr>
              <a:xfrm rot="12492600">
                <a:off x="1374480" y="-1009800"/>
                <a:ext cx="589680" cy="1119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任意多边形 6"/>
              <p:cNvSpPr/>
              <p:nvPr/>
            </p:nvSpPr>
            <p:spPr>
              <a:xfrm rot="12492600">
                <a:off x="1681560" y="-1426320"/>
                <a:ext cx="70920" cy="55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椭圆 7"/>
              <p:cNvSpPr/>
              <p:nvPr/>
            </p:nvSpPr>
            <p:spPr>
              <a:xfrm rot="12492600">
                <a:off x="1606320" y="-983520"/>
                <a:ext cx="70920" cy="234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文本框 9"/>
            <p:cNvSpPr/>
            <p:nvPr/>
          </p:nvSpPr>
          <p:spPr>
            <a:xfrm>
              <a:off x="1336680" y="-1017360"/>
              <a:ext cx="54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任意多边形 13"/>
          <p:cNvSpPr/>
          <p:nvPr/>
        </p:nvSpPr>
        <p:spPr>
          <a:xfrm>
            <a:off x="2063880" y="1008000"/>
            <a:ext cx="8534160" cy="4772160"/>
          </a:xfrm>
          <a:prstGeom prst="pie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927080" y="1128600"/>
            <a:ext cx="420552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ccff"/>
                </a:solidFill>
                <a:latin typeface="微软雅黑"/>
                <a:ea typeface="微软雅黑"/>
              </a:rPr>
              <a:t>[</a:t>
            </a:r>
            <a:r>
              <a:rPr b="0" lang="zh-CN" sz="3600" spc="-1" strike="noStrike">
                <a:solidFill>
                  <a:srgbClr val="01c1ff"/>
                </a:solidFill>
                <a:latin typeface="微软雅黑"/>
                <a:ea typeface="微软雅黑"/>
              </a:rPr>
              <a:t>单击此处添加标题</a:t>
            </a:r>
            <a:r>
              <a:rPr b="1" lang="zh-CN" sz="4200" spc="-1" strike="noStrike">
                <a:solidFill>
                  <a:srgbClr val="33ccff"/>
                </a:solidFill>
                <a:latin typeface="微软雅黑"/>
                <a:ea typeface="微软雅黑"/>
              </a:rPr>
              <a:t>]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5"/>
          <p:cNvSpPr/>
          <p:nvPr/>
        </p:nvSpPr>
        <p:spPr>
          <a:xfrm>
            <a:off x="2193840" y="2309760"/>
            <a:ext cx="8180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875E-006 -1.11111E-006 L 0.00013 0.32986 E">
                                      <p:cBhvr>
                                        <p:cTn id="68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3"/>
          <p:cNvSpPr/>
          <p:nvPr/>
        </p:nvSpPr>
        <p:spPr>
          <a:xfrm>
            <a:off x="4603680" y="2616120"/>
            <a:ext cx="267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5"/>
          <p:cNvSpPr/>
          <p:nvPr/>
        </p:nvSpPr>
        <p:spPr>
          <a:xfrm>
            <a:off x="5491080" y="4046400"/>
            <a:ext cx="84240" cy="209520"/>
          </a:xfrm>
          <a:prstGeom prst="line">
            <a:avLst/>
          </a:prstGeom>
          <a:ln w="12600">
            <a:solidFill>
              <a:srgbClr val="ffffff">
                <a:alpha val="47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6"/>
          <p:cNvSpPr/>
          <p:nvPr/>
        </p:nvSpPr>
        <p:spPr>
          <a:xfrm flipH="1">
            <a:off x="6480000" y="4046400"/>
            <a:ext cx="82800" cy="20952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7"/>
          <p:cNvSpPr/>
          <p:nvPr/>
        </p:nvSpPr>
        <p:spPr>
          <a:xfrm>
            <a:off x="6015600" y="3799080"/>
            <a:ext cx="2160" cy="22680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9" descr=""/>
          <p:cNvPicPr/>
          <p:nvPr/>
        </p:nvPicPr>
        <p:blipFill>
          <a:blip r:embed="rId2"/>
          <a:srcRect l="55276" t="24643" r="37567" b="57364"/>
          <a:stretch/>
        </p:blipFill>
        <p:spPr>
          <a:xfrm>
            <a:off x="4019400" y="2138400"/>
            <a:ext cx="400320" cy="9572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0" descr=""/>
          <p:cNvPicPr/>
          <p:nvPr/>
        </p:nvPicPr>
        <p:blipFill>
          <a:blip r:embed="rId3"/>
          <a:srcRect l="37568" t="57369" r="55280" b="24648"/>
          <a:stretch/>
        </p:blipFill>
        <p:spPr>
          <a:xfrm>
            <a:off x="7400880" y="2955960"/>
            <a:ext cx="399960" cy="955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6" dur="3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175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9" dur="3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175" autoRev="1" fill="hold"/>
                                        <p:tgtEl>
                                          <p:spTgt spid="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92" dur="3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75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3T19:48:00Z</dcterms:created>
  <dc:creator>D13001</dc:creator>
  <dc:description/>
  <cp:keywords/>
  <dc:language>en-US</dc:language>
  <cp:lastModifiedBy>Microsoft</cp:lastModifiedBy>
  <dcterms:modified xsi:type="dcterms:W3CDTF">2016-04-19T05:33:32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