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164-5C2C-4D8E-9E37-00C71745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E63-6DF6-48D7-9CBD-C7DE0D1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E8FF6-CF55-4A57-A953-0886A1B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5EDF6-842C-4CD0-BDAA-08BC351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86F2-29F5-4E5E-BCCE-FB73787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D9BD5-18DB-4342-BED8-2A6756E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DA0BA-08F8-47DC-AD63-372F4BF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50DF3-84DF-42BD-8BF3-78EE848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199C-D37A-42EF-995C-7A370F30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8856-8505-44C7-AB65-90BAB531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0F24D-087D-4054-B09F-7142D1E8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ED30F-0E46-4755-ABE3-D3DA30F8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CDC-0447-4126-BF52-FA9B826F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0B64E-B072-4C00-98E9-E0CF118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C1D5E-8AF8-40B9-82C2-50851BE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B95FA-EFA3-4851-9C0D-C876B65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B50F1-AECB-4D2C-9959-66E579AD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CAE7-7DC2-4EDB-9911-DAF2B2D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DE7CF-B247-4995-A743-F8FD0D6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E439F-D7D1-4BCD-8C9D-4BBD15E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BFF75-1074-4F48-8169-2E61CE6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1839-D288-4D0F-B720-1277508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B5411-74C8-4C41-AFC1-6434E4E4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D50-8AEF-40B4-B24C-8360C6D5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2C5DC-C01A-4C83-8CEC-3CB1F9CD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682A8-1AC3-436F-8527-A93FB2AD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A1C56-6C55-4E32-924D-9BD9065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9928C-1A7D-4D4B-A4BA-760BEEE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4DB8-8247-413A-B30C-7FB900DE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8343-8CB7-4C2E-A04E-CDB07D67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5C4D5-F413-4B99-8D29-7F6621F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3D5A-B50F-4E1A-A06B-3E841C8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50BBE-A2D7-4BB0-924C-1B00528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4EA26-F0B7-4D1A-80EB-4DB017C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F7FA-59BD-4F65-B4D3-DD2E8D60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C1F9-1A53-4376-B724-3E16FC2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F6026-8E6F-4D54-91B0-4591728E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C1AE-34F9-4E48-9AF8-4DEFB504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3CBF-7BA3-4687-A66B-E0B8DD31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2838F-C5CB-4A29-88F9-A898555A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72094-9250-471B-B435-4FF7AF2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1757-A19E-40AE-863F-EADE9A3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23A63-0A39-4109-8E21-F4AB183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024A2-7722-49ED-91F9-B10AC65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07075-3D05-47FB-B795-8934BCC9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156D-26EB-425A-AA1F-89BD9385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408C3-B08F-4139-A6AB-5F321FF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2CFC9-3481-485C-99E1-FF1E4D7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AF4F-F8DF-4C25-B736-D5128BE3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BD581-D936-4287-86F5-EF0FDCD8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E9AF-4CD8-4E2E-A991-A4FAE2C6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BBA-C8DA-45F8-9D6F-74CA02C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1D6-AB36-44D8-BFA8-50FBDF58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082-74AF-462F-B9D6-4B3C339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26C4-691D-42E9-A643-64FD3482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415C-C75A-4F73-9EA8-90E4715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0CB-A1C2-45C8-A655-4B57D35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7514-FC74-4639-A5B4-F39C113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60A-EBEB-4AED-B13A-A9B20ED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B33-6A3C-43C1-A647-88BC267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AED-E3B7-4D4C-8EF1-70CF88E5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C39-BC2A-4818-999A-07E910F5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8CCC-1ACD-468E-B261-42260AA8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FDCC-4F41-4BEA-BC19-06D9161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396C-22D9-4785-9C24-85FD0E1F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0FDE-5BE6-42A3-8732-B429D909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7A03-9F59-49CC-B93B-1C8CD775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F6F-75CE-46CF-9BB9-FF0699F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19CD-1179-478C-90A0-B17C92EF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68B-CD75-41CA-B584-49EC307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4E4D-DF9E-4E48-82E9-109DBAF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2734-F67D-4AF9-BCC9-B29FE39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82DB-A93E-44E5-B459-F1BD10D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7EBC-09B4-4448-8A29-CF50D98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5B0B-051C-41E8-8897-59F2C137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76A2-42CA-4EA3-A187-06902C7E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48D07-D02D-44D6-8433-5755A884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8E33-F8BB-415D-8547-C4CBF9F8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E07-65BC-4574-BACB-3C86CEB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91C8-AF11-4E60-BA7B-1B6E678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153A-DCD1-4318-9961-C8FC32A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3D51-A856-4D7B-A2D3-E94C99B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D632-2DF7-4710-B5D5-F778502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EE2A-3F18-4128-BA25-E5F7087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D308-6480-4040-A1F6-06C6280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C4F5-863E-47A7-9555-8A4023C3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3675-D893-4F0B-8EA1-D4B4DD08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6D85-D1EF-41B9-B15A-3CDBCD62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E688-32F0-4C83-9B88-43FE2612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31-F5E3-4D7A-9568-1215854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FEE1-A716-45EF-889E-F44EAE1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924B-3B7A-4784-829C-0D6966D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FBB8-5E86-478A-8F55-00DFEFD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F4C7-420A-49F6-A460-0766345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41DC1-9505-4053-AC2E-A51D798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836B-BE9E-416D-906B-D63F27D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4691-2E48-43DB-8F64-EC61071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3BD9-D204-436C-A8C6-CD4F1F7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2838-1B38-45E3-BB9B-D277CFF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5DC73-5C16-46D3-8A63-CB48A996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455-1FA3-47E3-AA69-D784E76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55F8-1828-4122-819B-BC370073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A7CC5-5E5E-471B-9A43-980919F9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EFCD-3ABB-4EC2-A649-2D55DF2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0981-A639-4C75-B4B1-CF5BFAE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775F-EE57-4644-87E0-EA21EB46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46D3-6C31-40C6-B9DC-C5071DAE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D738-92B1-4E6E-8C49-26A352A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8021-AAD6-4688-938B-EAD289A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AA5A-C58A-4187-9A02-64DBB6A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306F-1752-487F-A535-EBB1A60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7EB-24D7-44C1-BE37-9B8D097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8736-646B-457C-BA41-7E166852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1B644-69B3-4248-A6FF-06F6DA42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11D2A-5BCA-48D7-A586-24EBC91C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230F-C173-46A6-AB47-A9C6A8C6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4933-24FD-485F-9236-A69B6B9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0680-F826-47E9-9EC0-2E5D52F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EBDB-65D1-4475-B1ED-ECB2BA89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8622-E306-4753-926E-48A443F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3510-4414-4056-962E-54C6F33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5602-1514-402F-95BC-001194E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79B-87D6-42BA-B26B-3277178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5D72B-D5B3-4C15-98C4-1F185B7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9152-4D07-44DB-B89B-83FA412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9DAC-5123-469C-8327-A6B0310E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9F139-4844-4AD4-BB8A-FC047BCC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ECEC-D9FC-483B-BB81-2575A9E8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16BC0-A6B0-4D5E-A245-D3FAACD7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C8B7D-7195-40E8-A471-ADCD2A75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4BFE-3A1A-40E4-8269-62FED6DE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D4295-07DB-402A-85C7-44788DC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BB7E5-F095-49DD-964E-A20610D3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8E1-2ADC-4E35-8825-DD9415F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B670-1380-43CE-BD31-AA3AD29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2E52-0F43-411A-AA08-8168566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9D63-63C3-4EE5-AE0C-0A93C5C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6392-B621-4A45-B09B-1BB56A9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2D43-8408-4E83-B1A5-9AEDCF7F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5622-667F-4281-ADAF-53A4AAEE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1FC1-7C00-486F-910E-67C8F13C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8E6F7-3D35-4201-A947-E282FB12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5237-2D0F-4399-AC45-8944A49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90355-28A0-4DA7-9D90-79C89551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AAFF-0C5D-4E17-B94B-77BAEFB6CC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D7B-EABF-4941-8C57-FBACB7235D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6C6-3DDF-4840-A31F-F0DCF01F18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ACF0-4981-4E9C-A385-EBD4EAE228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A37-B64B-48A3-A103-4745179577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925-FFE2-4EE4-9C80-4B34F673E8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6A9-E934-4D80-831F-9EBEA3CE91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B1B-88DB-4A95-B147-3F9B4CFEA4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E5DF-6AC4-47BD-8E09-1F123F0938B1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229-B3BE-4902-B52B-51017E675AB2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CED-053B-4D15-81DD-45D3D2DE07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768A-B5D5-4920-AE9D-FB9B3E79B0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76B-1C40-4488-B3B5-4CA7C77DB4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7A4-EA86-4A37-BF68-B40093D21B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0041-B4C8-4AE5-AB93-5B6A96661F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7649-518A-49EE-917C-613D1DB86A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643D-4BAB-4B48-9EF3-8F57EDDBDB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55B-3D05-4E58-8A77-61975D61EE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E02-42CF-4842-B5EE-4AA2898F95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C31A-72E9-415B-8F6C-9C5F3F6540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9B0-1351-486B-B031-0925FA23BB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92B-5B82-488E-9756-2D4C02370A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44A-9C88-4687-8F38-F1B662EB92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21D-83B5-41E3-A5DD-476640E642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dc:language>en-US</dc:language>
  <cp:lastModifiedBy>lenovo</cp:lastModifiedBy>
  <dcterms:modified xsi:type="dcterms:W3CDTF">2015-01-06T18:19:10Z</dcterms:modified>
  <cp:revision>366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