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9B4-D831-4067-8709-3AA182F4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76C-8193-499F-BD1F-E8CBB199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495-381B-4533-B7DE-A7D5FD53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474-D4B5-44F2-AD91-A51B716A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C0B-0270-46B2-AE81-AE8D5B99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15C-C204-44A4-8021-67086884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788-DBCB-498C-A111-FB94219F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98E-26FC-477A-BA22-2A2E4EF0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2FE-1355-4BC6-8ACA-13411FD7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D9A-8B40-4824-A373-8540456F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B6E-B45B-4F18-B112-3FDE78A7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FAD-FED2-43F7-9CC2-335F37E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831960" indent="-3200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279800" indent="-255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792080" indent="-255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596CA526-8460-41BA-993E-06D950D6F8B6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D370484-AF97-44CC-A7E6-EF4D2E935066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BB272BBF-1117-4CAF-BAE5-E2834AFB520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21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21" name="Freeform 30"/>
            <p:cNvSpPr/>
            <p:nvPr/>
          </p:nvSpPr>
          <p:spPr>
            <a:xfrm>
              <a:off x="4869360" y="3670200"/>
              <a:ext cx="2711160" cy="718560"/>
            </a:xfrm>
            <a:custGeom>
              <a:avLst/>
              <a:gdLst>
                <a:gd name="textAreaLeft" fmla="*/ 0 w 2711160"/>
                <a:gd name="textAreaRight" fmla="*/ 2711160 w 271116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1"/>
            <p:cNvSpPr/>
            <p:nvPr/>
          </p:nvSpPr>
          <p:spPr>
            <a:xfrm>
              <a:off x="7577280" y="2949480"/>
              <a:ext cx="2710440" cy="718560"/>
            </a:xfrm>
            <a:custGeom>
              <a:avLst/>
              <a:gdLst>
                <a:gd name="textAreaLeft" fmla="*/ 0 w 2710440"/>
                <a:gd name="textAreaRight" fmla="*/ 2710800 w 271044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34"/>
            <p:cNvSpPr/>
            <p:nvPr/>
          </p:nvSpPr>
          <p:spPr>
            <a:xfrm flipH="1">
              <a:off x="2158560" y="4389120"/>
              <a:ext cx="2710440" cy="1440"/>
            </a:xfrm>
            <a:prstGeom prst="line">
              <a:avLst/>
            </a:prstGeom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25" name="Freeform 5"/>
            <p:cNvSpPr/>
            <p:nvPr/>
          </p:nvSpPr>
          <p:spPr>
            <a:xfrm>
              <a:off x="2158920" y="318528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28" name="Freeform 5"/>
            <p:cNvSpPr/>
            <p:nvPr/>
          </p:nvSpPr>
          <p:spPr>
            <a:xfrm>
              <a:off x="5040360" y="241704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31" name="Freeform 5"/>
            <p:cNvSpPr/>
            <p:nvPr/>
          </p:nvSpPr>
          <p:spPr>
            <a:xfrm>
              <a:off x="7824960" y="174384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34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37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40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562CFC87-0A29-4231-A743-0CC328D9C68E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5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0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61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64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67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F4881F97-66AB-4F30-82ED-4F307364364D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任意多边形 21"/>
          <p:cNvSpPr/>
          <p:nvPr/>
        </p:nvSpPr>
        <p:spPr>
          <a:xfrm rot="8017200">
            <a:off x="5154480" y="27860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任意多边形 22"/>
          <p:cNvSpPr/>
          <p:nvPr/>
        </p:nvSpPr>
        <p:spPr>
          <a:xfrm rot="13330800">
            <a:off x="4393800" y="35460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任意多边形 23"/>
          <p:cNvSpPr/>
          <p:nvPr/>
        </p:nvSpPr>
        <p:spPr>
          <a:xfrm rot="2853000">
            <a:off x="4488120" y="20286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任意多边形 24"/>
          <p:cNvSpPr/>
          <p:nvPr/>
        </p:nvSpPr>
        <p:spPr>
          <a:xfrm rot="18918600">
            <a:off x="5781240" y="276192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任意多边形 25"/>
          <p:cNvSpPr/>
          <p:nvPr/>
        </p:nvSpPr>
        <p:spPr>
          <a:xfrm rot="13330800">
            <a:off x="6486120" y="35398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任意多边形 26"/>
          <p:cNvSpPr/>
          <p:nvPr/>
        </p:nvSpPr>
        <p:spPr>
          <a:xfrm rot="2853000">
            <a:off x="6516720" y="21142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9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9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60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60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4A8DE28-A407-49B0-B546-845D3FAF930F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61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39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2E61C28-2A89-4B4E-BADF-46BF4C17576A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5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70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73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76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79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18ED41BE-2C7F-46BE-998C-DB5E4B9F4682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91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8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2006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2009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2012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2015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2018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0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61240D90-9924-48A8-9B78-2E7A49BC6AB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13"/>
          <p:cNvSpPr/>
          <p:nvPr/>
        </p:nvSpPr>
        <p:spPr>
          <a:xfrm>
            <a:off x="7343640" y="5006880"/>
            <a:ext cx="4032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3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1C24C04F-3B6A-4553-98B3-2BBF58C59E0F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8" name="矩形​​ 3"/>
            <p:cNvSpPr/>
            <p:nvPr/>
          </p:nvSpPr>
          <p:spPr>
            <a:xfrm>
              <a:off x="2409840" y="3150720"/>
              <a:ext cx="974880" cy="8179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71" name="矩形​​ 3"/>
            <p:cNvSpPr/>
            <p:nvPr/>
          </p:nvSpPr>
          <p:spPr>
            <a:xfrm>
              <a:off x="2409840" y="4095360"/>
              <a:ext cx="974880" cy="82116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4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2"/>
          <p:cNvSpPr/>
          <p:nvPr/>
        </p:nvSpPr>
        <p:spPr>
          <a:xfrm>
            <a:off x="4796640" y="228456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3"/>
          <p:cNvSpPr/>
          <p:nvPr/>
        </p:nvSpPr>
        <p:spPr>
          <a:xfrm>
            <a:off x="4796640" y="3230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4"/>
          <p:cNvSpPr/>
          <p:nvPr/>
        </p:nvSpPr>
        <p:spPr>
          <a:xfrm>
            <a:off x="4796640" y="4157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5"/>
          <p:cNvSpPr/>
          <p:nvPr/>
        </p:nvSpPr>
        <p:spPr>
          <a:xfrm>
            <a:off x="4796640" y="50450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6" name="矩形​​ 3"/>
            <p:cNvSpPr/>
            <p:nvPr/>
          </p:nvSpPr>
          <p:spPr>
            <a:xfrm>
              <a:off x="2409840" y="2203560"/>
              <a:ext cx="974880" cy="82080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AAC2049-7D03-42DB-938A-C2B26B9E0E8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9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B3918AC-9B28-412E-B5F2-C986EB663E3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B079750-C6B0-4343-A2F7-1F393D0B5B30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12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6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8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31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33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6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8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44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7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D8AE7DC-3C44-42EF-834F-D68D1806C682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6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7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8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73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76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9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82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568809C5-1885-4672-B015-DA478A038D2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95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80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80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1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D474261-645A-4789-9DE4-C86017FFE4C8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24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DC7F955-3102-4863-AF63-E6FCB3583B9D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28"/>
          <p:cNvSpPr/>
          <p:nvPr/>
        </p:nvSpPr>
        <p:spPr>
          <a:xfrm>
            <a:off x="1487520" y="358920"/>
            <a:ext cx="1170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4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0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51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52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55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58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61" name="Freeform 5"/>
            <p:cNvSpPr/>
            <p:nvPr/>
          </p:nvSpPr>
          <p:spPr>
            <a:xfrm>
              <a:off x="5645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64" name="Freeform 5"/>
            <p:cNvSpPr/>
            <p:nvPr/>
          </p:nvSpPr>
          <p:spPr>
            <a:xfrm>
              <a:off x="7661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67" name="Freeform 5"/>
            <p:cNvSpPr/>
            <p:nvPr/>
          </p:nvSpPr>
          <p:spPr>
            <a:xfrm>
              <a:off x="9677520" y="198216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FEF7B63A-D8A4-42CE-8193-271771DF2D56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88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任意多边形 21"/>
          <p:cNvSpPr/>
          <p:nvPr/>
        </p:nvSpPr>
        <p:spPr>
          <a:xfrm rot="8017200">
            <a:off x="3461400" y="276300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任意多边形 22"/>
          <p:cNvSpPr/>
          <p:nvPr/>
        </p:nvSpPr>
        <p:spPr>
          <a:xfrm rot="13330800">
            <a:off x="2700000" y="352116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任意多边形 23"/>
          <p:cNvSpPr/>
          <p:nvPr/>
        </p:nvSpPr>
        <p:spPr>
          <a:xfrm rot="2853000">
            <a:off x="279396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任意多边形 24"/>
          <p:cNvSpPr/>
          <p:nvPr/>
        </p:nvSpPr>
        <p:spPr>
          <a:xfrm rot="18918600">
            <a:off x="7692840" y="26528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任意多边形 25"/>
          <p:cNvSpPr/>
          <p:nvPr/>
        </p:nvSpPr>
        <p:spPr>
          <a:xfrm rot="13330800">
            <a:off x="8397360" y="3430080"/>
            <a:ext cx="1095480" cy="10558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任意多边形 26"/>
          <p:cNvSpPr/>
          <p:nvPr/>
        </p:nvSpPr>
        <p:spPr>
          <a:xfrm rot="2853000">
            <a:off x="842832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97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200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cp:keywords/>
  <dc:language>en-US</dc:language>
  <cp:lastModifiedBy>BST-WLZ</cp:lastModifiedBy>
  <dcterms:modified xsi:type="dcterms:W3CDTF">2015-05-14T06:15:34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