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7406-196C-4F3B-AC63-E8BEF51B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C49D-7E11-43AA-8C4C-5B50984E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26D9-9E29-4F06-8DFD-94C66878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95B4-AF78-4733-AF3D-67DD4F9B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82D1-9BC3-4765-9251-B49A6E93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6ED9-E9EA-4292-8CF6-368D48A2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13F1-8D35-4926-B52D-5CDA8DF9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42F8-6A65-4B6B-BF6C-38152743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6D98-909B-47F1-8486-4A568B87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3A75-0C32-4910-84DF-B71AAFA5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6CA5-DD1B-4825-9A7D-199FB79B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C33D-C15F-43B7-86C4-CDCB36A7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F99E-6BD6-42DD-85A2-7783142BBF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214880" y="78588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857840" y="16430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51984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4640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34977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34261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500040" y="6429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4265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42656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140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519840" y="63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0690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66409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16405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519840" y="711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2426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62838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426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51984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7118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59979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26406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1408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51984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5286240" y="4214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23547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14064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51984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14976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42120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6783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51984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22831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3711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56408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448200" y="63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64267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1783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4212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4500720" y="6597720"/>
            <a:ext cx="46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玩转大学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     </a:t>
            </a:r>
            <a:r>
              <a:rPr b="0" lang="en-US" sz="1000" spc="-1" strike="noStrike">
                <a:solidFill>
                  <a:srgbClr val="800080"/>
                </a:solidFill>
                <a:latin typeface="微软雅黑"/>
                <a:ea typeface="微软雅黑"/>
              </a:rPr>
              <a:t>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cp:keywords/>
  <dc:language>en-US</dc:language>
  <cp:lastModifiedBy>Yehuan Liu</cp:lastModifiedBy>
  <dcterms:modified xsi:type="dcterms:W3CDTF">2014-11-06T10:23:57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