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D53-7442-4483-A067-9608EFAA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830-0D8A-4A70-938F-BCB0BF14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2E6-6146-4EF8-A69E-F3657852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C55-04CC-4D33-B918-DAD7A00D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EAD-128A-4A70-9780-A3291E81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DA7-95E5-45D4-990E-339B1182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A21-2D0E-47F5-939C-327D0C9D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6B6-D4F0-4351-A2A3-96D42655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D7C-1219-460F-A3AD-E75EC7B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8D5-8896-4530-B621-E5BFBAEB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63F-C9A1-4C94-A561-B179A6A3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885-9D1C-458E-89AF-983808D0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5CB1-BA59-4901-A9FF-6090DD424F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62360" y="450720"/>
            <a:ext cx="480060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94240" y="982800"/>
            <a:ext cx="4681440" cy="466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1000" y="2790720"/>
            <a:ext cx="1257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16996"/>
                </a:solidFill>
                <a:latin typeface="Calibri"/>
                <a:ea typeface="微软雅黑"/>
              </a:rPr>
              <a:t>目录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114880" y="3257640"/>
            <a:ext cx="171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6996"/>
                </a:solidFill>
                <a:latin typeface="Arial"/>
                <a:ea typeface="微软雅黑"/>
              </a:rPr>
              <a:t>CONT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390760" y="1571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819440" y="152388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676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不能缺少的要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638360" y="462924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05400" y="56008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展现自己的价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5530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455292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围绕在身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7810560" y="45054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8972640" y="336240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变得简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8400960" y="331488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8620200" y="2076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做个快乐生活的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8048520" y="20289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896160" y="10191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用心去生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305400" y="9716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4280" y="2523960"/>
            <a:ext cx="4095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819680" y="32194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81200" y="552600"/>
            <a:ext cx="170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2371680" y="8380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6240" y="1857240"/>
            <a:ext cx="4924440" cy="4124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43560" y="3152880"/>
            <a:ext cx="5210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活着永远有两个选择：快乐和悲伤，快乐的人活得洒脱活得知足， 悲伤的人活得苦恼活得压抑。 工作的乐趣就在工作是生活中的一部分，用好的心态去对待工作 中的每一件事，快乐地完成它，这样我们就可以享受工作带来的乐趣， 并且可以在整个工作过程中感受到自己成长的幸福。 生活的乐趣本来就是生存中非常重要的内容，但是由于社会竞争 的空前激烈和工作强度的不断提高，现代社会的人性，已经完全被金钱 淹没在无休止的打拼和无尽头的奋斗中了，很多人为了追求金钱和名 誉，把自己的健康、空闲时间、舒畅的心情等等全都牺牲掉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28840" y="973080"/>
            <a:ext cx="53215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4-09-06T14:43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