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5E4-246C-4C88-970F-B6B4E419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2DA-6B73-48BC-8F05-6121135C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CEF-18FE-4C3C-BD80-495C04C7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390-48DD-4CE0-BC50-8C0FCD67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904-3516-42CF-8EE1-9D4235BB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31F-BB38-40EB-89B6-0A96DDC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89E-E26D-40A2-9CE4-2679D8E6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A08-7F96-40A0-90BF-9DEB30F8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81E-3B11-45CE-8BA5-D20653AE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D03-7AF2-4AEE-9523-A7178FC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D9B-EE9C-401E-8250-FDECBB0B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BCD-1D27-46D3-AAAE-0BA6650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A117-5201-4D61-AF81-F09C1CA17A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62360" y="450720"/>
            <a:ext cx="48006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94240" y="982800"/>
            <a:ext cx="4681440" cy="466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1000" y="2790720"/>
            <a:ext cx="1257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16996"/>
                </a:solidFill>
                <a:latin typeface="Calibri"/>
                <a:ea typeface="微软雅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14880" y="3257640"/>
            <a:ext cx="171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6996"/>
                </a:solidFill>
                <a:latin typeface="Arial"/>
                <a:ea typeface="微软雅黑"/>
              </a:rPr>
              <a:t>CONT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390760" y="1571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819440" y="15238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676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不能缺少的要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38360" y="46292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56008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展现自己的价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5530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455292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围绕在身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810560" y="45054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972640" y="336240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变得简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8400960" y="33148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620200" y="2076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做个快乐生活的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048520" y="20289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896160" y="10191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心去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305400" y="9716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4280" y="2523960"/>
            <a:ext cx="4095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819680" y="32194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1200" y="552600"/>
            <a:ext cx="170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371680" y="8380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240" y="1857240"/>
            <a:ext cx="4924440" cy="4124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43560" y="3152880"/>
            <a:ext cx="5210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活着永远有两个选择：快乐和悲伤，快乐的人活得洒脱活得知足， 悲伤的人活得苦恼活得压抑。 工作的乐趣就在工作是生活中的一部分，用好的心态去对待工作 中的每一件事，快乐地完成它，这样我们就可以享受工作带来的乐趣， 并且可以在整个工作过程中感受到自己成长的幸福。 生活的乐趣本来就是生存中非常重要的内容，但是由于社会竞争 的空前激烈和工作强度的不断提高，现代社会的人性，已经完全被金钱 淹没在无休止的打拼和无尽头的奋斗中了，很多人为了追求金钱和名 誉，把自己的健康、空闲时间、舒畅的心情等等全都牺牲掉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28840" y="973080"/>
            <a:ext cx="53215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3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