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5486400" y="2819520"/>
            <a:ext cx="2286000" cy="56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13500000"/>
                </a:gradFill>
                <a:latin typeface="微软雅黑"/>
              </a:rPr>
              <a:t>个人简历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13500000"/>
              </a:gradFill>
              <a:latin typeface="微软雅黑"/>
              <a:ea typeface="微软雅黑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114800" y="3048120"/>
            <a:ext cx="1219320" cy="33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13500000"/>
                </a:gradFill>
                <a:latin typeface="微软雅黑"/>
              </a:rPr>
              <a:t>李某某’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13500000"/>
              </a:gradFill>
              <a:latin typeface="微软雅黑"/>
              <a:ea typeface="微软雅黑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876920" y="3581280"/>
            <a:ext cx="3581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13500000"/>
                </a:gradFill>
                <a:latin typeface="微软雅黑"/>
              </a:rPr>
              <a:t>北京大学艺术学院平面设计专业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13500000"/>
              </a:gradFill>
              <a:latin typeface="微软雅黑"/>
              <a:ea typeface="微软雅黑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876920" y="3886200"/>
            <a:ext cx="3581280" cy="1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13500000"/>
                </a:gradFill>
                <a:latin typeface="微软雅黑"/>
              </a:rPr>
              <a:t>Beijing university, Colleage of Arts design, Graphic Artist Designe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13500000"/>
              </a:gradFill>
              <a:latin typeface="微软雅黑"/>
              <a:ea typeface="微软雅黑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7919640" y="2743200"/>
            <a:ext cx="4680" cy="685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795560" y="3581280"/>
            <a:ext cx="4680" cy="1182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05120" y="4114800"/>
            <a:ext cx="62481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</a:rPr>
              <a:t>姓名：李某某　　　　　性别：女　　身高：</a:t>
            </a:r>
            <a:r>
              <a:rPr b="0" lang="zh-CN" sz="1800" spc="-1" strike="noStrike">
                <a:solidFill>
                  <a:srgbClr val="dddddd"/>
                </a:solidFill>
                <a:latin typeface="Arial"/>
              </a:rPr>
              <a:t>16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</a:rPr>
              <a:t>籍贯：湖北武汉　　　　现居住地：上海市嘉定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</a:rPr>
              <a:t>学历：研究生　　　　　毕业时间：</a:t>
            </a:r>
            <a:r>
              <a:rPr b="0" lang="zh-CN" sz="1800" spc="-1" strike="noStrike">
                <a:solidFill>
                  <a:srgbClr val="dddddd"/>
                </a:solidFill>
                <a:latin typeface="Arial"/>
              </a:rPr>
              <a:t>200X</a:t>
            </a:r>
            <a:r>
              <a:rPr b="0" lang="zh-CN" sz="1800" spc="-1" strike="noStrike">
                <a:solidFill>
                  <a:srgbClr val="dddddd"/>
                </a:solidFill>
                <a:latin typeface="Arial"/>
              </a:rPr>
              <a:t>年</a:t>
            </a:r>
            <a:r>
              <a:rPr b="0" lang="zh-CN" sz="1800" spc="-1" strike="noStrike">
                <a:solidFill>
                  <a:srgbClr val="dddddd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dddddd"/>
                </a:solidFill>
                <a:latin typeface="Arial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</a:rPr>
              <a:t>毕业院校：北京大学　　所学专业：平面设计与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</a:rPr>
              <a:t>联系方式：</a:t>
            </a:r>
            <a:r>
              <a:rPr b="0" lang="zh-CN" sz="1800" spc="-1" strike="noStrike">
                <a:solidFill>
                  <a:srgbClr val="dddddd"/>
                </a:solidFill>
                <a:latin typeface="Arial"/>
              </a:rPr>
              <a:t>021-520520XX    139520520X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0" y="3124080"/>
            <a:ext cx="2286000" cy="5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13500000"/>
                </a:gradFill>
                <a:latin typeface="微软雅黑"/>
              </a:rPr>
              <a:t>基本信息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13500000"/>
              </a:gradFill>
              <a:latin typeface="微软雅黑"/>
              <a:ea typeface="微软雅黑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14400" y="3429000"/>
            <a:ext cx="121932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13500000"/>
                </a:gradFill>
                <a:latin typeface="微软雅黑"/>
              </a:rPr>
              <a:t>Informatio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13500000"/>
              </a:gradFill>
              <a:latin typeface="微软雅黑"/>
              <a:ea typeface="微软雅黑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676520" y="4114800"/>
            <a:ext cx="15840" cy="2286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905120" y="4114800"/>
            <a:ext cx="6858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熟练掌握</a:t>
            </a: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Photoshop / CorelDraw </a:t>
            </a: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等图形设计软件应用。擅常卡通图形绘制，有作品发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接受过正规的美术教育，具有较好的美术功底及艺术素养，能够根据公司的需要进行设计制作，熟练掌握多种电脑制作软件，能够高效率地完成工作。本人性格开朗、思维活跃，极富创造力，易于沟通，具有较好团队的意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86000" y="3124080"/>
            <a:ext cx="2286000" cy="5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13500000"/>
                </a:gradFill>
                <a:latin typeface="微软雅黑"/>
              </a:rPr>
              <a:t>自我评价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13500000"/>
              </a:gradFill>
              <a:latin typeface="微软雅黑"/>
              <a:ea typeface="微软雅黑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14400" y="3505320"/>
            <a:ext cx="121932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13500000"/>
                </a:gradFill>
                <a:latin typeface="微软雅黑"/>
              </a:rPr>
              <a:t>Assessmen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13500000"/>
              </a:gradFill>
              <a:latin typeface="微软雅黑"/>
              <a:ea typeface="微软雅黑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676520" y="4114800"/>
            <a:ext cx="15840" cy="2209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05120" y="4114800"/>
            <a:ext cx="6858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2008.7-2009.9    </a:t>
            </a: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北京某某广告喷绘有限公司    实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2009.9-2010.3    </a:t>
            </a: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北京某某文化传播策划有限公司    助理设计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2010.4-2010.7    </a:t>
            </a: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武汉某某商场有限公司    企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2010.8-2011.3    </a:t>
            </a: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武汉某某广告有限公司    平面设计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2011.4-2011.8    </a:t>
            </a: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上海某某传媒广告有限公司    平面设计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0" y="3124080"/>
            <a:ext cx="2286000" cy="5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13500000"/>
                </a:gradFill>
                <a:latin typeface="微软雅黑"/>
              </a:rPr>
              <a:t>工作经历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13500000"/>
              </a:gradFill>
              <a:latin typeface="微软雅黑"/>
              <a:ea typeface="微软雅黑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14400" y="3429000"/>
            <a:ext cx="121932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13500000"/>
                </a:gradFill>
                <a:latin typeface="微软雅黑"/>
              </a:rPr>
              <a:t>Experienc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13500000"/>
              </a:gradFill>
              <a:latin typeface="微软雅黑"/>
              <a:ea typeface="微软雅黑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676520" y="4114800"/>
            <a:ext cx="15840" cy="2209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05120" y="4114800"/>
            <a:ext cx="6858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200X.9-200X.7    </a:t>
            </a: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某某省某某市实验小学    学习委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200X.9-200X.7    </a:t>
            </a: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某某省某某市初级中学    班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200X.9-200X.7    </a:t>
            </a: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某某省某某市第二中学    宣传委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200X.9-200X.7    </a:t>
            </a: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北京大学艺术设计学院平面设计专业    副班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200X.9-200X.7    </a:t>
            </a: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北京大学艺术设计学院平面设计专业     副班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286000" y="3124080"/>
            <a:ext cx="2286000" cy="5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13500000"/>
                </a:gradFill>
                <a:latin typeface="微软雅黑"/>
              </a:rPr>
              <a:t>教育背景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13500000"/>
              </a:gradFill>
              <a:latin typeface="微软雅黑"/>
              <a:ea typeface="微软雅黑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14400" y="3429000"/>
            <a:ext cx="121932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13500000"/>
                </a:gradFill>
                <a:latin typeface="微软雅黑"/>
              </a:rPr>
              <a:t>Educatio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13500000"/>
              </a:gradFill>
              <a:latin typeface="微软雅黑"/>
              <a:ea typeface="微软雅黑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676520" y="4114800"/>
            <a:ext cx="15840" cy="2209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4114800"/>
            <a:ext cx="6858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2009</a:t>
            </a: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年度    某某公司</a:t>
            </a: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设计、画册、</a:t>
            </a: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VIS</a:t>
            </a: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品牌推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2009</a:t>
            </a: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年度    某某楼盘全程营销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2009</a:t>
            </a: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年度    某某公司画册、</a:t>
            </a: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VIS</a:t>
            </a: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品牌推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2009</a:t>
            </a: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年度    某某公司</a:t>
            </a: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设计、画册、</a:t>
            </a: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VIS</a:t>
            </a: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品牌推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2009</a:t>
            </a:r>
            <a:r>
              <a:rPr b="0" lang="zh-CN" sz="1600" spc="-1" strike="noStrike">
                <a:solidFill>
                  <a:srgbClr val="dddddd"/>
                </a:solidFill>
                <a:latin typeface="Arial"/>
              </a:rPr>
              <a:t>年度    某某楼盘全程营销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0" y="3124080"/>
            <a:ext cx="2286000" cy="5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13500000"/>
                </a:gradFill>
                <a:latin typeface="微软雅黑"/>
              </a:rPr>
              <a:t>成功案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13500000"/>
              </a:gradFill>
              <a:latin typeface="微软雅黑"/>
              <a:ea typeface="微软雅黑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14400" y="3429000"/>
            <a:ext cx="121932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13500000"/>
                </a:gradFill>
                <a:latin typeface="微软雅黑"/>
              </a:rPr>
              <a:t>Scenario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13500000"/>
              </a:gradFill>
              <a:latin typeface="微软雅黑"/>
              <a:ea typeface="微软雅黑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676520" y="4114800"/>
            <a:ext cx="15840" cy="2209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8120" y="1689120"/>
            <a:ext cx="2286000" cy="56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13500000"/>
                </a:gradFill>
                <a:latin typeface="微软雅黑"/>
              </a:rPr>
              <a:t>作品展示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13500000"/>
              </a:gradFill>
              <a:latin typeface="微软雅黑"/>
              <a:ea typeface="微软雅黑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25560" y="1981080"/>
            <a:ext cx="1969920" cy="26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13500000"/>
                </a:gradFill>
                <a:latin typeface="微软雅黑"/>
              </a:rPr>
              <a:t>Works show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13500000"/>
              </a:gradFill>
              <a:latin typeface="微软雅黑"/>
              <a:ea typeface="微软雅黑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514600"/>
            <a:ext cx="28440" cy="4157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62485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ddddd"/>
                </a:solidFill>
                <a:latin typeface="Arial"/>
              </a:rPr>
              <a:t>某某品牌广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62485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ddddd"/>
                </a:solidFill>
                <a:latin typeface="Arial"/>
              </a:rPr>
              <a:t>某某品牌广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86600" y="62485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ddddd"/>
                </a:solidFill>
                <a:latin typeface="Arial"/>
              </a:rPr>
              <a:t>某某品牌广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2159280" cy="143964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286000" y="42670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ddddd"/>
                </a:solidFill>
                <a:latin typeface="Arial"/>
              </a:rPr>
              <a:t>某某品牌广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343400" y="2819520"/>
            <a:ext cx="2158920" cy="143964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4648320" y="42670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ddddd"/>
                </a:solidFill>
                <a:latin typeface="Arial"/>
              </a:rPr>
              <a:t>某某品牌广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705720" y="2819520"/>
            <a:ext cx="2158920" cy="143964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7086600" y="42670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ddddd"/>
                </a:solidFill>
                <a:latin typeface="Arial"/>
              </a:rPr>
              <a:t>某某品牌广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981080" y="4800600"/>
            <a:ext cx="2159280" cy="144000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4343400" y="4800600"/>
            <a:ext cx="2158920" cy="144000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6705720" y="4800600"/>
            <a:ext cx="2158920" cy="144000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638680" y="3429000"/>
            <a:ext cx="1981440" cy="4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13500000"/>
                </a:gradFill>
                <a:latin typeface="微软雅黑"/>
              </a:rPr>
              <a:t>谢谢观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13500000"/>
              </a:gradFill>
              <a:latin typeface="微软雅黑"/>
              <a:ea typeface="微软雅黑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5880" y="2971800"/>
            <a:ext cx="2590920" cy="4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13500000"/>
                </a:gradFill>
                <a:latin typeface="微软雅黑"/>
              </a:rPr>
              <a:t>Thank you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13500000"/>
              </a:gradFill>
              <a:latin typeface="微软雅黑"/>
              <a:ea typeface="微软雅黑"/>
            </a:endParaRPr>
          </a:p>
        </p:txBody>
      </p:sp>
      <p:sp>
        <p:nvSpPr>
          <p:cNvPr id="121" name=""/>
          <p:cNvSpPr/>
          <p:nvPr/>
        </p:nvSpPr>
        <p:spPr>
          <a:xfrm>
            <a:off x="7696080" y="3505320"/>
            <a:ext cx="0" cy="1218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番茄花园</cp:lastModifiedBy>
  <dcterms:modified xsi:type="dcterms:W3CDTF">2011-07-31T04:38:37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