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889-32BE-499A-8ECD-BFE5FD2E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24C-5D39-4EF8-9369-1AE20810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7D9-F40E-4394-8BB6-D187BBFA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16C-D7DB-49AA-A4E2-1A1D01AA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F78-25C5-42F8-B936-2BDC153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E61-A9DE-4AC6-BDCE-8BA9C8D9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41F-163D-40D0-ABFE-D82E21C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8AD-70DD-48A8-9D38-2E4372CF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B7F-4E9E-4ED5-BE12-97F4ED0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FF4-A2E7-4F01-B26E-C59E81B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BFC-3F82-4306-99B5-9C1BD77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C1C-CEA2-4737-BB83-8796D6A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4C9-D4DE-4405-9418-185240F08D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2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45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  <p:pic>
        <p:nvPicPr>
          <p:cNvPr id="66" name="组合 36" descr=""/>
          <p:cNvPicPr/>
          <p:nvPr/>
        </p:nvPicPr>
        <p:blipFill>
          <a:blip r:embed="rId2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2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2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3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4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65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87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15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2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65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8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49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46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0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4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65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7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68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组合 36" descr=""/>
          <p:cNvPicPr/>
          <p:nvPr/>
        </p:nvPicPr>
        <p:blipFill>
          <a:blip r:embed="rId1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0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97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3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07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4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0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3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56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59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7"/>
                </a:lnTo>
                <a:lnTo>
                  <a:pt x="289" y="6"/>
                </a:lnTo>
                <a:lnTo>
                  <a:pt x="289" y="6"/>
                </a:lnTo>
                <a:lnTo>
                  <a:pt x="287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3" y="63"/>
                </a:lnTo>
                <a:lnTo>
                  <a:pt x="145" y="74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3"/>
                </a:lnTo>
                <a:lnTo>
                  <a:pt x="23" y="11"/>
                </a:lnTo>
                <a:lnTo>
                  <a:pt x="23" y="11"/>
                </a:lnTo>
                <a:lnTo>
                  <a:pt x="21" y="13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2" y="87"/>
                </a:lnTo>
                <a:lnTo>
                  <a:pt x="12" y="87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6"/>
                </a:lnTo>
                <a:lnTo>
                  <a:pt x="34" y="148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1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3"/>
                </a:lnTo>
                <a:lnTo>
                  <a:pt x="0" y="215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70"/>
                </a:lnTo>
                <a:lnTo>
                  <a:pt x="267" y="63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1"/>
                </a:lnTo>
                <a:lnTo>
                  <a:pt x="297" y="30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86" y="139"/>
                </a:lnTo>
                <a:lnTo>
                  <a:pt x="98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0" y="191"/>
                </a:lnTo>
                <a:lnTo>
                  <a:pt x="119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15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3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3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66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69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599" h="21599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2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415" y="182"/>
                  </a:lnTo>
                  <a:lnTo>
                    <a:pt x="387" y="15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701"/>
                  </a:lnTo>
                  <a:lnTo>
                    <a:pt x="761" y="69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0:17:35Z</dcterms:created>
  <dc:creator>Administrator</dc:creator>
  <dc:description/>
  <dc:language>en-US</dc:language>
  <cp:lastModifiedBy>HZJ</cp:lastModifiedBy>
  <dcterms:modified xsi:type="dcterms:W3CDTF">2015-09-19T08:20:24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