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5C7-991B-4C27-8EDB-6170B431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259-A7F1-4AA0-B355-8FCE5D3A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CDA-8F73-4BBF-BFBA-A11AF7CB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A4A-909E-47C8-A2D2-C28DDA64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3DD9-B61E-470B-B14F-EF894EF5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19F-E916-408A-8744-63B10721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567-3990-4E6D-95D4-B4BBB39C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D9A-1B21-45FC-B209-2EBB5D5A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908-5D2F-41A9-999F-47AB3C6F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EB1-79F3-4AF3-8115-A258EB72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3E1-2D97-47ED-A7BE-EE385B75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242-9688-461C-B11C-A98B1EC4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7DFE-E2EA-4D8F-BDC6-E2E42C8AD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2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76.png"/><Relationship Id="rId12" Type="http://schemas.openxmlformats.org/officeDocument/2006/relationships/image" Target="../media/image76.png"/><Relationship Id="rId13" Type="http://schemas.openxmlformats.org/officeDocument/2006/relationships/image" Target="../media/image76.png"/><Relationship Id="rId14" Type="http://schemas.openxmlformats.org/officeDocument/2006/relationships/image" Target="../media/image76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" descr="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5" dur="99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13" dur="99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7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7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9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49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9" dur="99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dc:language>en-US</dc:language>
  <cp:lastModifiedBy/>
  <dcterms:modified xsi:type="dcterms:W3CDTF">2014-04-24T11:51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